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6E9-F882-4A1B-A678-67E509DA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D39-2B45-4367-9E91-ED1B9F40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A05-C79D-4A52-AC00-1D50EA1C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7D26-A91A-4FFC-833A-1B302762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F3FE-E681-4237-9A93-B1FDC98C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18D5-9DAC-4564-9B6B-4C920E37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FB8-76B6-42B1-A001-ADA0D085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C5B0-1516-4779-98B8-E4612248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36AE-9289-4CCB-975E-72578C97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AFF-4421-4BD0-A83A-1C6E02BA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544D-2108-4E0C-956E-41A3DF32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37C-7510-4224-AB89-9FE4A4C2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CDE7-8386-4F69-87CB-E2E111C82E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57200" y="1773360"/>
            <a:ext cx="66708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исование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еточки рябин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910280" cy="619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910640" cy="619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094600" cy="6337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"/>
          <p:cNvPicPr/>
          <p:nvPr/>
        </p:nvPicPr>
        <p:blipFill>
          <a:blip r:embed="rId1"/>
          <a:srcRect l="0" t="0" r="-362" b="10256"/>
          <a:stretch/>
        </p:blipFill>
        <p:spPr>
          <a:xfrm>
            <a:off x="193680" y="189000"/>
            <a:ext cx="895032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6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434280" cy="4824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сят на ветке подружки,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жавшись тесно друг к дружке.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"/>
          <p:cNvPicPr/>
          <p:nvPr/>
        </p:nvPicPr>
        <p:blipFill>
          <a:blip r:embed="rId1"/>
          <a:stretch/>
        </p:blipFill>
        <p:spPr>
          <a:xfrm>
            <a:off x="49320" y="235080"/>
            <a:ext cx="9094680" cy="662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8" descr=""/>
          <p:cNvPicPr/>
          <p:nvPr/>
        </p:nvPicPr>
        <p:blipFill>
          <a:blip r:embed="rId1"/>
          <a:srcRect l="0" t="-1294" r="12753" b="0"/>
          <a:stretch/>
        </p:blipFill>
        <p:spPr>
          <a:xfrm>
            <a:off x="2340000" y="420840"/>
            <a:ext cx="4262400" cy="5832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42560" y="549000"/>
            <a:ext cx="360036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"/>
          <p:cNvPicPr/>
          <p:nvPr/>
        </p:nvPicPr>
        <p:blipFill>
          <a:blip r:embed="rId1"/>
          <a:stretch/>
        </p:blipFill>
        <p:spPr>
          <a:xfrm>
            <a:off x="2556000" y="393840"/>
            <a:ext cx="4187880" cy="5852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26920" y="188640"/>
            <a:ext cx="410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480360" cy="6480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5589720"/>
            <a:ext cx="7417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ванов Сергей  «Рябин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62000" y="189000"/>
            <a:ext cx="8982000" cy="6669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66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шков Игорь «Яблоки и рябин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181440" y="571464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рипченко Людмила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тюрморт с рябиной и яблоками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201080" cy="6481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0:47:32Z</dcterms:created>
  <dc:creator>валя</dc:creator>
  <dc:description/>
  <dc:language>en-US</dc:language>
  <cp:lastModifiedBy>User Windows</cp:lastModifiedBy>
  <dcterms:modified xsi:type="dcterms:W3CDTF">2020-10-04T10:21:05Z</dcterms:modified>
  <cp:revision>40</cp:revision>
  <dc:subject/>
  <dc:title>Слайд 1</dc:title>
</cp:coreProperties>
</file>