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8B8-79E4-4EDB-B606-1692CB0C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62F-73DA-4B40-BC71-79DE607C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305-2C6D-46B2-BA34-0F2D9F3D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F7A-E8E9-48E4-9040-DD7F21C0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E43-E688-4215-83EA-9CDEF58D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001-A3EF-4C73-AB40-81A18160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C47-D9E9-4620-B592-000C6272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1DA-55CD-4F67-8756-6F3B2448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8C8-E326-4FD0-BC9D-B9087BF0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1C0-9B6F-4596-9740-CA06B04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147-8C3B-4F80-838D-B633328F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822-E84B-44F2-8516-A3BE193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B1FA-027E-43E0-AA4D-E662A723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27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65964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64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596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101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23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543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415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535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922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8341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0360" y="2168640"/>
            <a:ext cx="2808360" cy="2093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58920" y="3992400"/>
            <a:ext cx="28814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1055520" cy="2768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765000"/>
            <a:ext cx="2633400" cy="4553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20720" y="3357720"/>
            <a:ext cx="574560" cy="158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3800" y="2781360"/>
            <a:ext cx="1149120" cy="31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2349360"/>
            <a:ext cx="1152000" cy="44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6560" y="1773360"/>
            <a:ext cx="1729440" cy="57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7800" y="1608120"/>
            <a:ext cx="1580760" cy="67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3" y="36"/>
                </a:moveTo>
                <a:arcTo wR="10800" hR="10800" stAng="-5118543" swAng="5118543"/>
                <a:lnTo>
                  <a:pt x="10800" y="10800"/>
                </a:lnTo>
                <a:close/>
              </a:path>
              <a:path fill="none" w="21600" h="21600">
                <a:moveTo>
                  <a:pt x="11683" y="36"/>
                </a:moveTo>
                <a:arcTo wR="10800" hR="10800" stAng="-5118543" swAng="511854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2637000"/>
            <a:ext cx="1584000" cy="44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692360" y="2565360"/>
            <a:ext cx="2015280" cy="44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770920" y="2205000"/>
            <a:ext cx="2016360" cy="47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284720" y="1773360"/>
            <a:ext cx="1294560" cy="57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508720" y="1773360"/>
            <a:ext cx="1151280" cy="60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804000" y="2133720"/>
            <a:ext cx="2161440" cy="590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1660680"/>
            <a:ext cx="4465800" cy="4060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333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очему звенит звон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27640" y="170028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27842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7640" y="170028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2784240" cy="331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48360" y="2781360"/>
            <a:ext cx="4312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5640" y="2206800"/>
            <a:ext cx="1008720" cy="273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3409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34095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6160" y="1557360"/>
            <a:ext cx="1437120" cy="57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78560" y="981000"/>
            <a:ext cx="2161440" cy="73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316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103640" cy="3732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4941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Звук появляется только тогда, когда предмет колебл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624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4292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Звук – это невидимая вол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882880" cy="410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80000" y="4437000"/>
            <a:ext cx="2995560" cy="1866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92360" y="1773360"/>
            <a:ext cx="54738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лександр Грэхем Бе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июня 187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7:01:08Z</dcterms:created>
  <dc:creator>User</dc:creator>
  <dc:description/>
  <dc:language>en-US</dc:language>
  <cp:lastModifiedBy>Your User Name</cp:lastModifiedBy>
  <dcterms:modified xsi:type="dcterms:W3CDTF">2010-02-16T16:59:22Z</dcterms:modified>
  <cp:revision>10</cp:revision>
  <dc:subject/>
  <dc:title>Слайд 1</dc:title>
</cp:coreProperties>
</file>