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1AA-460F-4DBF-A1E6-6040B3BE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51F-7040-4AEB-8B57-CDAD43C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DA1-686E-4B19-B312-32630F0B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F96-ADA1-4819-95C8-7E4187F8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945-9209-4FE8-8EA3-FB85DC29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153-09CD-4F0C-A594-29647A8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24D-416B-4715-8B6B-9793FFA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086-2E5B-4C54-B22E-F2739E6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716-7C78-4573-9038-E7B71EC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98B-5880-431B-972D-B7001B9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495-D8E8-41B0-BA0D-1F2585FB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1C6-4DDC-4539-9654-CAA1CAB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531-55E1-412B-BFE4-C1665819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5964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4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96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3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543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15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35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22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834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0360" y="2168640"/>
            <a:ext cx="2808360" cy="2093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58920" y="3992400"/>
            <a:ext cx="2881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1055520" cy="276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2633400" cy="4553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20720" y="3357720"/>
            <a:ext cx="57456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3800" y="2781360"/>
            <a:ext cx="114912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349360"/>
            <a:ext cx="115200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6560" y="1773360"/>
            <a:ext cx="172944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7800" y="1608120"/>
            <a:ext cx="1580760" cy="67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3" y="36"/>
                </a:moveTo>
                <a:arcTo wR="10800" hR="10800" stAng="-5118543" swAng="5118543"/>
                <a:lnTo>
                  <a:pt x="10800" y="10800"/>
                </a:lnTo>
                <a:close/>
              </a:path>
              <a:path fill="none" w="21600" h="21600">
                <a:moveTo>
                  <a:pt x="11683" y="36"/>
                </a:moveTo>
                <a:arcTo wR="10800" hR="10800" stAng="-5118543" swAng="51185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2637000"/>
            <a:ext cx="158400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92360" y="2565360"/>
            <a:ext cx="2015280" cy="44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70920" y="2205000"/>
            <a:ext cx="2016360" cy="47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284720" y="1773360"/>
            <a:ext cx="129456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08720" y="1773360"/>
            <a:ext cx="1151280" cy="60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04000" y="2133720"/>
            <a:ext cx="2161440" cy="59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1660680"/>
            <a:ext cx="4465800" cy="406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чему звенит звон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784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784240" cy="33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360" y="2781360"/>
            <a:ext cx="4312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5640" y="2206800"/>
            <a:ext cx="1008720" cy="273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3409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3409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6160" y="1557360"/>
            <a:ext cx="1437120" cy="57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8560" y="981000"/>
            <a:ext cx="2161440" cy="73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316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103640" cy="3732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941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Звук появляется только тогда, когда предмет колебл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292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Звук – это невидимая вол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882880" cy="41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2995560" cy="186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1773360"/>
            <a:ext cx="54738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ександр Грэхем Б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июня 187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01:08Z</dcterms:created>
  <dc:creator>User</dc:creator>
  <dc:description/>
  <dc:language>en-US</dc:language>
  <cp:lastModifiedBy>Your User Name</cp:lastModifiedBy>
  <dcterms:modified xsi:type="dcterms:W3CDTF">2010-02-16T16:59:22Z</dcterms:modified>
  <cp:revision>10</cp:revision>
  <dc:subject/>
  <dc:title>Слайд 1</dc:title>
</cp:coreProperties>
</file>