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DF1A-CCA9-49CB-ACEC-B186BD1F8C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7D80-84A8-41A0-9839-25BD63238E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510-9C71-459E-80AC-8DDF3F1B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7B3-8088-4235-A8D4-EC54499C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5FA-5077-40B4-AF7E-F1897E90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E41-297F-4C0A-A3EB-13BC0D64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4D7-0984-4CEE-A847-89C52FA0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B3D-D397-4576-88E1-368616F1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938-8FD7-4261-A00C-6B6FAEBA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604-0A18-49CF-BA98-0C8E36B5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5AC-6BE6-4EF6-A78B-E6FC5808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9B9-14B5-4CE4-9775-1E38360F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07D-1CD1-425C-963C-302C09ED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AD0-3FD5-4696-BD8B-887823C7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4585-CB10-4A31-94D8-2836C404A53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D9B1-42A1-4693-B1B0-59D8D1A168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7176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заданий и детские работ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23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1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упражнения карандашом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развитие координации глаза и руки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азбукой орнамента (основой для составления любой орнаментальной компози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ф6.jpg"/>
          <p:cNvPicPr/>
          <p:nvPr/>
        </p:nvPicPr>
        <p:blipFill>
          <a:blip r:embed="rId1"/>
          <a:stretch/>
        </p:blipFill>
        <p:spPr>
          <a:xfrm>
            <a:off x="3786120" y="357120"/>
            <a:ext cx="2286000" cy="3357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714760"/>
            <a:ext cx="300816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1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ямые линии, круги  не пересекающие друг  друга. Волнообразные линии (воланы), завитки ( волютообразные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работы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ертить четыре прямоугольника 15-18 см. В первом прямоугольнике ,из нескольких точек в разных направления нарисовать линии  и по этим линиям вернуть карандаш назад в точку не отрывая карандаш от бумаги. Плотно заполнить линиями весь прямоугольник. Во втором варианте, нарисовать круги разных размеров ,касающихся друг друга ,но не пересекающихся. Круги разного  размера. В третьем прямоугольнике нарисовать воланы разного размера. В четвертом прямоугольнике из завитков нарисовать ветку . весь прямоугольник плотно заполнен завитками разного размер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андаш, фломастер, гелиевая руч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ф6.jpg"/>
          <p:cNvPicPr/>
          <p:nvPr/>
        </p:nvPicPr>
        <p:blipFill>
          <a:blip r:embed="rId2"/>
          <a:stretch/>
        </p:blipFill>
        <p:spPr>
          <a:xfrm>
            <a:off x="6643800" y="571680"/>
            <a:ext cx="1714320" cy="28573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4" descr="ф6.jpg"/>
          <p:cNvPicPr/>
          <p:nvPr/>
        </p:nvPicPr>
        <p:blipFill>
          <a:blip r:embed="rId3"/>
          <a:stretch/>
        </p:blipFill>
        <p:spPr>
          <a:xfrm>
            <a:off x="3929040" y="3786120"/>
            <a:ext cx="22147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4" descr="ф6.jpg"/>
          <p:cNvPicPr/>
          <p:nvPr/>
        </p:nvPicPr>
        <p:blipFill>
          <a:blip r:embed="rId4"/>
          <a:stretch/>
        </p:blipFill>
        <p:spPr>
          <a:xfrm>
            <a:off x="6429240" y="3786120"/>
            <a:ext cx="2071800" cy="214308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IMG_1131.JPG"/>
          <p:cNvPicPr/>
          <p:nvPr/>
        </p:nvPicPr>
        <p:blipFill>
          <a:blip r:embed="rId1"/>
          <a:stretch/>
        </p:blipFill>
        <p:spPr>
          <a:xfrm>
            <a:off x="785880" y="500040"/>
            <a:ext cx="771516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300816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в первоначальной основой техники орнаментального рисования , работая над каждым элементом технических упражнений карандашом, учащийся может приступить к изучению основ орнаментальной композиции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95586123b706c4667862a25a50f1b63e.jpg"/>
          <p:cNvPicPr/>
          <p:nvPr/>
        </p:nvPicPr>
        <p:blipFill>
          <a:blip r:embed="rId1"/>
          <a:stretch/>
        </p:blipFill>
        <p:spPr>
          <a:xfrm>
            <a:off x="4214880" y="3786120"/>
            <a:ext cx="2190600" cy="1785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300816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озиции из одного элемен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работ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рямоугольники 15-18 см  и элементов капля нарисовать композиции : ветка, цветок, рыба, птица. Из элемента сердечко нарисовать цветущую ветку. Из элемента орнамента завиток нарисовать перо птиц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андаш, фломастер, гелиевая руч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4" descr="95586123b706c4667862a25a50f1b63e.jpg"/>
          <p:cNvPicPr/>
          <p:nvPr/>
        </p:nvPicPr>
        <p:blipFill>
          <a:blip r:embed="rId2"/>
          <a:stretch/>
        </p:blipFill>
        <p:spPr>
          <a:xfrm>
            <a:off x="4000680" y="571680"/>
            <a:ext cx="2357280" cy="292860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4" descr="ф6.jpg"/>
          <p:cNvPicPr/>
          <p:nvPr/>
        </p:nvPicPr>
        <p:blipFill>
          <a:blip r:embed="rId3"/>
          <a:stretch/>
        </p:blipFill>
        <p:spPr>
          <a:xfrm>
            <a:off x="6643800" y="2928960"/>
            <a:ext cx="2173320" cy="278604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4" descr="ф6.jpg"/>
          <p:cNvPicPr/>
          <p:nvPr/>
        </p:nvPicPr>
        <p:blipFill>
          <a:blip r:embed="rId4"/>
          <a:stretch/>
        </p:blipFill>
        <p:spPr>
          <a:xfrm>
            <a:off x="6500880" y="785880"/>
            <a:ext cx="2214360" cy="189864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IMG_1136.JPG"/>
          <p:cNvPicPr/>
          <p:nvPr/>
        </p:nvPicPr>
        <p:blipFill>
          <a:blip r:embed="rId1"/>
          <a:stretch/>
        </p:blipFill>
        <p:spPr>
          <a:xfrm>
            <a:off x="571680" y="714240"/>
            <a:ext cx="4138560" cy="5500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IMG_1135.JPG"/>
          <p:cNvPicPr/>
          <p:nvPr/>
        </p:nvPicPr>
        <p:blipFill>
          <a:blip r:embed="rId2"/>
          <a:stretch/>
        </p:blipFill>
        <p:spPr>
          <a:xfrm>
            <a:off x="5072040" y="785880"/>
            <a:ext cx="3500640" cy="544500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315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7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ция симметричная и ассиметричная  из геометрических фигур (круги треугольник) в квадрате и круг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научиться , из простых элементов создавать сложные композиции; усвоить понятие симметрии и асимметрии в орнаментальной композици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0_4a6d0_c77358b4_L.jpg"/>
          <p:cNvPicPr/>
          <p:nvPr/>
        </p:nvPicPr>
        <p:blipFill>
          <a:blip r:embed="rId1"/>
          <a:stretch/>
        </p:blipFill>
        <p:spPr>
          <a:xfrm>
            <a:off x="4286160" y="272880"/>
            <a:ext cx="3929040" cy="6229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642840"/>
            <a:ext cx="300816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работ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готовить квадрат 15-15 см и круг диаметром 15 см. Разработать композиции симметричную  ( в круге и квадрате) и асимметричную (в круге и квадрате) с использованием геометрических форм круга и треугольни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р черный, туш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IMG_20151008_165431.jpg"/>
          <p:cNvPicPr/>
          <p:nvPr/>
        </p:nvPicPr>
        <p:blipFill>
          <a:blip r:embed="rId1"/>
          <a:stretch/>
        </p:blipFill>
        <p:spPr>
          <a:xfrm>
            <a:off x="1285920" y="357120"/>
            <a:ext cx="2984400" cy="30006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IMG_20151008_165431.jpg"/>
          <p:cNvPicPr/>
          <p:nvPr/>
        </p:nvPicPr>
        <p:blipFill>
          <a:blip r:embed="rId2"/>
          <a:stretch/>
        </p:blipFill>
        <p:spPr>
          <a:xfrm>
            <a:off x="1357200" y="3429000"/>
            <a:ext cx="2889360" cy="27860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IMG_20151008_165431.jpg"/>
          <p:cNvPicPr/>
          <p:nvPr/>
        </p:nvPicPr>
        <p:blipFill>
          <a:blip r:embed="rId3"/>
          <a:stretch/>
        </p:blipFill>
        <p:spPr>
          <a:xfrm>
            <a:off x="5357880" y="3429000"/>
            <a:ext cx="2963880" cy="28576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IMG_20151008_165439.jpg"/>
          <p:cNvPicPr/>
          <p:nvPr/>
        </p:nvPicPr>
        <p:blipFill>
          <a:blip r:embed="rId4"/>
          <a:stretch/>
        </p:blipFill>
        <p:spPr>
          <a:xfrm>
            <a:off x="5357880" y="285840"/>
            <a:ext cx="3071880" cy="3071880"/>
          </a:xfrm>
          <a:prstGeom prst="rect">
            <a:avLst/>
          </a:prstGeom>
          <a:ln w="0">
            <a:noFill/>
          </a:ln>
        </p:spPr>
      </p:pic>
      <p:sp>
        <p:nvSpPr>
          <p:cNvPr id="7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11:58:33Z</dcterms:created>
  <dc:creator>Наталья</dc:creator>
  <dc:description/>
  <dc:language>en-US</dc:language>
  <cp:lastModifiedBy>VISNA</cp:lastModifiedBy>
  <dcterms:modified xsi:type="dcterms:W3CDTF">2020-11-26T08:14:48Z</dcterms:modified>
  <cp:revision>39</cp:revision>
  <dc:subject/>
  <dc:title>Слайд 1</dc:title>
</cp:coreProperties>
</file>