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7.png" ContentType="image/png"/>
  <Override PartName="/ppt/media/image1.jpeg" ContentType="image/jpeg"/>
  <Override PartName="/ppt/media/image18.jpeg" ContentType="image/jpeg"/>
  <Override PartName="/ppt/media/image16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D5947-D65B-4799-8AC7-7D8FB6B3C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9AE5B-6A94-4412-AB17-DB5170952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3745D-9E94-439F-8197-8CE50FB4F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2CD44-414B-4854-AC1C-34C2AB102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54B99-D38F-414F-BBE7-EE429E4D2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77D50-0A78-422F-ADE1-2B77190C7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DBBE9-A7E7-4DCA-95B6-CC609B1F8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D1310-B069-4207-A2F3-B76E00464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1E655-6BF1-4D1F-8736-6CE4C13D4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4BA2E-81CD-4AD4-99A1-AAECDC8A4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946A9-1F29-40D3-B438-F7EA2C8C4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1C13F-98FC-4377-AF15-4C8C9FD1F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20109-A128-4FC7-9977-C6793B650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36BE0-B1E3-4401-AA71-A97ACDCB0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D115D-D26C-4D7E-9271-236EB8DEF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5F74E-DB57-4D0A-A09A-5F191FC01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C48C8-3483-47E8-9DF7-DF8F73995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8DE7BF-2BF2-44D5-9011-4B1EF143E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423825-07EC-4777-B3F3-D65312ABF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009EA8-CA48-4E8B-84AC-56B60384C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02B6B6-EB4F-4BBD-AE84-3704BA989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AEC9E5-C8AD-46F2-88A1-60BEC583E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A8DA1-C0F0-45E3-AA64-1745B8ADE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7909E3-9D9F-4AE9-825F-544F70129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CBE1EE-C2B5-4FE4-92F8-D348D9114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0ECE8B-D82D-4A79-8092-5428E2455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E450F4-A5DC-4038-9101-292DC14B7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59D08C-6CCA-406E-8394-DF1A2D299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881862-66CB-4D8E-AC65-CEF57DCE5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1008FD-3DAD-46E0-99A3-97C1F5F3F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6F58AE-40C1-4F0A-9378-2BCA51648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D0AB39-54F6-4ECD-8083-90D991D75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3FAD93-01CC-4E91-9788-99F94A1E2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6C14C-1B74-446D-AC0E-48EF73256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0D7BDE-B0BD-44C2-81F7-286F5432A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C7273A-96A3-4870-8E5B-65545EF48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9C924A-CE92-4799-AAB0-6481017BD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65A085-7F46-42DF-99E6-19BD94DFB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798199-4BFC-4530-8317-CF54BC34B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D2EBC4-8233-4D62-99FB-33E9E84DF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D8767D-3F98-4F99-A6BF-8987FE339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E75523-7857-4C21-9992-CD78DE18D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9EEE4C-26F1-42F2-84C6-265605080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4E2908-0513-4608-93DF-A99D6E53B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33DD3-C18A-40F2-96EA-876478EE9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F4667D-6865-43A1-BE75-C4C4FDCC2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20BB9D-B537-420F-84A5-68A814119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636BD0-258F-41F4-BAAB-68139CB17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15C002-95C0-427C-BD2C-91D4327D1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38BAB0-B42A-437D-BDC0-12649AD37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A2F997-AF7E-4AAC-B73E-6019C6298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597A24-CA1B-467E-BB5E-47535BFD2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1858CA-DE4C-4642-8D65-821CB7AE1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E4B0AE-50C5-47D0-AD10-A4469EAA1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32E066-96EC-4C28-B900-9C7E6561E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D9946-BC0F-49A3-86A0-82E311BE9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7CC922-3494-4762-B5B4-FB8AD75B7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26DA8-1A62-43C5-A9FF-F0F586648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A7107-8D61-4E41-8C6F-0DA7F989C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5D70E-CC62-4DA5-B409-533DA92E7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49.xml"/><Relationship Id="rId9" Type="http://schemas.openxmlformats.org/officeDocument/2006/relationships/slideLayout" Target="../slideLayouts/slideLayout50.xml"/><Relationship Id="rId10" Type="http://schemas.openxmlformats.org/officeDocument/2006/relationships/slideLayout" Target="../slideLayouts/slideLayout51.xml"/><Relationship Id="rId11" Type="http://schemas.openxmlformats.org/officeDocument/2006/relationships/slideLayout" Target="../slideLayouts/slideLayout52.xml"/><Relationship Id="rId12" Type="http://schemas.openxmlformats.org/officeDocument/2006/relationships/slideLayout" Target="../slideLayouts/slideLayout53.xml"/><Relationship Id="rId13" Type="http://schemas.openxmlformats.org/officeDocument/2006/relationships/slideLayout" Target="../slideLayouts/slideLayout54.xml"/><Relationship Id="rId14" Type="http://schemas.openxmlformats.org/officeDocument/2006/relationships/slideLayout" Target="../slideLayouts/slideLayout55.xml"/><Relationship Id="rId15" Type="http://schemas.openxmlformats.org/officeDocument/2006/relationships/slideLayout" Target="../slideLayouts/slideLayout56.xml"/><Relationship Id="rId16" Type="http://schemas.openxmlformats.org/officeDocument/2006/relationships/slideLayout" Target="../slideLayouts/slideLayout57.xml"/><Relationship Id="rId17" Type="http://schemas.openxmlformats.org/officeDocument/2006/relationships/slideLayout" Target="../slideLayouts/slideLayout58.xml"/><Relationship Id="rId18" Type="http://schemas.openxmlformats.org/officeDocument/2006/relationships/slideLayout" Target="../slideLayouts/slideLayout59.xml"/><Relationship Id="rId19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A0678-03F4-4211-BA60-030F6832675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Рамка 6"/>
          <p:cNvGrpSpPr/>
          <p:nvPr/>
        </p:nvGrpSpPr>
        <p:grpSpPr>
          <a:xfrm>
            <a:off x="-55440" y="-30240"/>
            <a:ext cx="9254880" cy="5254560"/>
            <a:chOff x="-55440" y="-30240"/>
            <a:chExt cx="9254880" cy="5254560"/>
          </a:xfrm>
        </p:grpSpPr>
        <p:pic>
          <p:nvPicPr>
            <p:cNvPr id="6" name="Рамка 6" descr=""/>
            <p:cNvPicPr/>
            <p:nvPr/>
          </p:nvPicPr>
          <p:blipFill>
            <a:blip r:embed="rId3"/>
            <a:stretch/>
          </p:blipFill>
          <p:spPr>
            <a:xfrm>
              <a:off x="-55440" y="-30240"/>
              <a:ext cx="9254880" cy="525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" name=""/>
            <p:cNvSpPr/>
            <p:nvPr/>
          </p:nvSpPr>
          <p:spPr>
            <a:xfrm>
              <a:off x="104760" y="104760"/>
              <a:ext cx="8934480" cy="49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" name="Рисунок 8" descr="Butterflies-and-rainbows-butterflies-16556640-400-332.gif"/>
          <p:cNvPicPr/>
          <p:nvPr/>
        </p:nvPicPr>
        <p:blipFill>
          <a:blip r:embed="rId4"/>
          <a:stretch/>
        </p:blipFill>
        <p:spPr>
          <a:xfrm>
            <a:off x="7929720" y="142920"/>
            <a:ext cx="1044360" cy="866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Рамка 6"/>
          <p:cNvGrpSpPr/>
          <p:nvPr/>
        </p:nvGrpSpPr>
        <p:grpSpPr>
          <a:xfrm>
            <a:off x="-55440" y="-30240"/>
            <a:ext cx="9254880" cy="5254560"/>
            <a:chOff x="-55440" y="-30240"/>
            <a:chExt cx="9254880" cy="5254560"/>
          </a:xfrm>
        </p:grpSpPr>
        <p:pic>
          <p:nvPicPr>
            <p:cNvPr id="46" name="Рамка 6" descr=""/>
            <p:cNvPicPr/>
            <p:nvPr/>
          </p:nvPicPr>
          <p:blipFill>
            <a:blip r:embed="rId3"/>
            <a:stretch/>
          </p:blipFill>
          <p:spPr>
            <a:xfrm>
              <a:off x="-55440" y="-30240"/>
              <a:ext cx="9254880" cy="525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"/>
            <p:cNvSpPr/>
            <p:nvPr/>
          </p:nvSpPr>
          <p:spPr>
            <a:xfrm>
              <a:off x="104760" y="104760"/>
              <a:ext cx="8934480" cy="49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8" name="Рисунок 8" descr="Butterflies-and-rainbows-butterflies-16556640-400-332.gif"/>
          <p:cNvPicPr/>
          <p:nvPr/>
        </p:nvPicPr>
        <p:blipFill>
          <a:blip r:embed="rId4"/>
          <a:stretch/>
        </p:blipFill>
        <p:spPr>
          <a:xfrm>
            <a:off x="7929720" y="142920"/>
            <a:ext cx="1044360" cy="86688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9" descr="f9f7a5d2.png"/>
          <p:cNvPicPr/>
          <p:nvPr/>
        </p:nvPicPr>
        <p:blipFill>
          <a:blip r:embed="rId5"/>
          <a:stretch/>
        </p:blipFill>
        <p:spPr>
          <a:xfrm>
            <a:off x="0" y="3114720"/>
            <a:ext cx="1890720" cy="202896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C8244-A1D0-4CB2-B2CE-DECA3DBC141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Рамка 6"/>
          <p:cNvGrpSpPr/>
          <p:nvPr/>
        </p:nvGrpSpPr>
        <p:grpSpPr>
          <a:xfrm>
            <a:off x="-55440" y="-30240"/>
            <a:ext cx="9254880" cy="5254560"/>
            <a:chOff x="-55440" y="-30240"/>
            <a:chExt cx="9254880" cy="5254560"/>
          </a:xfrm>
        </p:grpSpPr>
        <p:pic>
          <p:nvPicPr>
            <p:cNvPr id="92" name="Рамка 6" descr=""/>
            <p:cNvPicPr/>
            <p:nvPr/>
          </p:nvPicPr>
          <p:blipFill>
            <a:blip r:embed="rId3"/>
            <a:stretch/>
          </p:blipFill>
          <p:spPr>
            <a:xfrm>
              <a:off x="-55440" y="-30240"/>
              <a:ext cx="9254880" cy="525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104760" y="104760"/>
              <a:ext cx="8934480" cy="49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4" name="Рисунок 8" descr="Butterflies-and-rainbows-butterflies-16556640-400-332.gif"/>
          <p:cNvPicPr/>
          <p:nvPr/>
        </p:nvPicPr>
        <p:blipFill>
          <a:blip r:embed="rId4"/>
          <a:stretch/>
        </p:blipFill>
        <p:spPr>
          <a:xfrm>
            <a:off x="7929720" y="142920"/>
            <a:ext cx="1044360" cy="866880"/>
          </a:xfrm>
          <a:prstGeom prst="rect">
            <a:avLst/>
          </a:prstGeom>
          <a:ln w="0">
            <a:noFill/>
          </a:ln>
        </p:spPr>
      </p:pic>
      <p:pic>
        <p:nvPicPr>
          <p:cNvPr id="95" name="Рисунок 9" descr="globe-and-leaf.png"/>
          <p:cNvPicPr/>
          <p:nvPr/>
        </p:nvPicPr>
        <p:blipFill>
          <a:blip r:embed="rId5"/>
          <a:stretch/>
        </p:blipFill>
        <p:spPr>
          <a:xfrm>
            <a:off x="0" y="3643200"/>
            <a:ext cx="1071720" cy="150048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90537-9C32-4935-A4FB-C0821607CEA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Рамка 6"/>
          <p:cNvGrpSpPr/>
          <p:nvPr/>
        </p:nvGrpSpPr>
        <p:grpSpPr>
          <a:xfrm>
            <a:off x="-55440" y="-30240"/>
            <a:ext cx="9254880" cy="5254560"/>
            <a:chOff x="-55440" y="-30240"/>
            <a:chExt cx="9254880" cy="5254560"/>
          </a:xfrm>
        </p:grpSpPr>
        <p:pic>
          <p:nvPicPr>
            <p:cNvPr id="138" name="Рамка 6" descr=""/>
            <p:cNvPicPr/>
            <p:nvPr/>
          </p:nvPicPr>
          <p:blipFill>
            <a:blip r:embed="rId3"/>
            <a:stretch/>
          </p:blipFill>
          <p:spPr>
            <a:xfrm>
              <a:off x="-55440" y="-30240"/>
              <a:ext cx="9254880" cy="525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"/>
            <p:cNvSpPr/>
            <p:nvPr/>
          </p:nvSpPr>
          <p:spPr>
            <a:xfrm>
              <a:off x="104760" y="104760"/>
              <a:ext cx="8934480" cy="49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0" name="Рисунок 8" descr="Butterflies-and-rainbows-butterflies-16556640-400-332.gif"/>
          <p:cNvPicPr/>
          <p:nvPr/>
        </p:nvPicPr>
        <p:blipFill>
          <a:blip r:embed="rId4"/>
          <a:stretch/>
        </p:blipFill>
        <p:spPr>
          <a:xfrm>
            <a:off x="7929720" y="142920"/>
            <a:ext cx="1044360" cy="866880"/>
          </a:xfrm>
          <a:prstGeom prst="rect">
            <a:avLst/>
          </a:prstGeom>
          <a:ln w="0">
            <a:noFill/>
          </a:ln>
        </p:spPr>
      </p:pic>
      <p:pic>
        <p:nvPicPr>
          <p:cNvPr id="141" name="Рисунок 9" descr="890_8.png"/>
          <p:cNvPicPr/>
          <p:nvPr/>
        </p:nvPicPr>
        <p:blipFill>
          <a:blip r:embed="rId5"/>
          <a:stretch/>
        </p:blipFill>
        <p:spPr>
          <a:xfrm rot="19670400">
            <a:off x="-304920" y="3338640"/>
            <a:ext cx="1785960" cy="178596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dt" idx="10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ftr" idx="11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sldNum" idx="12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EB6C9-AE01-4250-B8A2-F36F373321C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3" name="Рамка 6"/>
          <p:cNvGrpSpPr/>
          <p:nvPr/>
        </p:nvGrpSpPr>
        <p:grpSpPr>
          <a:xfrm>
            <a:off x="-55440" y="-30240"/>
            <a:ext cx="9254880" cy="5254560"/>
            <a:chOff x="-55440" y="-30240"/>
            <a:chExt cx="9254880" cy="5254560"/>
          </a:xfrm>
        </p:grpSpPr>
        <p:pic>
          <p:nvPicPr>
            <p:cNvPr id="184" name="Рамка 6" descr=""/>
            <p:cNvPicPr/>
            <p:nvPr/>
          </p:nvPicPr>
          <p:blipFill>
            <a:blip r:embed="rId3"/>
            <a:stretch/>
          </p:blipFill>
          <p:spPr>
            <a:xfrm>
              <a:off x="-55440" y="-30240"/>
              <a:ext cx="9254880" cy="525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"/>
            <p:cNvSpPr/>
            <p:nvPr/>
          </p:nvSpPr>
          <p:spPr>
            <a:xfrm>
              <a:off x="104760" y="104760"/>
              <a:ext cx="8934480" cy="49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6" name="Рисунок 8" descr="Butterflies-and-rainbows-butterflies-16556640-400-332.gif"/>
          <p:cNvPicPr/>
          <p:nvPr/>
        </p:nvPicPr>
        <p:blipFill>
          <a:blip r:embed="rId4"/>
          <a:stretch/>
        </p:blipFill>
        <p:spPr>
          <a:xfrm>
            <a:off x="7929720" y="142920"/>
            <a:ext cx="1044360" cy="866880"/>
          </a:xfrm>
          <a:prstGeom prst="rect">
            <a:avLst/>
          </a:prstGeom>
          <a:ln w="0">
            <a:noFill/>
          </a:ln>
        </p:spPr>
      </p:pic>
      <p:pic>
        <p:nvPicPr>
          <p:cNvPr id="187" name="Рисунок 9" descr="90747779_023326200.png"/>
          <p:cNvPicPr/>
          <p:nvPr/>
        </p:nvPicPr>
        <p:blipFill>
          <a:blip r:embed="rId5"/>
          <a:stretch/>
        </p:blipFill>
        <p:spPr>
          <a:xfrm>
            <a:off x="3143160" y="4513320"/>
            <a:ext cx="3003480" cy="630360"/>
          </a:xfrm>
          <a:prstGeom prst="rect">
            <a:avLst/>
          </a:prstGeom>
          <a:ln w="0">
            <a:noFill/>
          </a:ln>
        </p:spPr>
      </p:pic>
      <p:pic>
        <p:nvPicPr>
          <p:cNvPr id="188" name="Рисунок 10" descr="90747779_023326200.png"/>
          <p:cNvPicPr/>
          <p:nvPr/>
        </p:nvPicPr>
        <p:blipFill>
          <a:blip r:embed="rId6"/>
          <a:stretch/>
        </p:blipFill>
        <p:spPr>
          <a:xfrm>
            <a:off x="6000840" y="4513320"/>
            <a:ext cx="3003480" cy="630360"/>
          </a:xfrm>
          <a:prstGeom prst="rect">
            <a:avLst/>
          </a:prstGeom>
          <a:ln w="0">
            <a:noFill/>
          </a:ln>
        </p:spPr>
      </p:pic>
      <p:pic>
        <p:nvPicPr>
          <p:cNvPr id="189" name="Рисунок 11" descr="90747779_023326200.png"/>
          <p:cNvPicPr/>
          <p:nvPr/>
        </p:nvPicPr>
        <p:blipFill>
          <a:blip r:embed="rId7"/>
          <a:stretch/>
        </p:blipFill>
        <p:spPr>
          <a:xfrm>
            <a:off x="142920" y="4513320"/>
            <a:ext cx="3003480" cy="630360"/>
          </a:xfrm>
          <a:prstGeom prst="rect">
            <a:avLst/>
          </a:prstGeom>
          <a:ln w="0">
            <a:noFill/>
          </a:ln>
        </p:spPr>
      </p:pic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594FB-D6DC-4519-AD3A-1D4CAABBEF8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8"/>
    <p:sldLayoutId id="2147483702" r:id="rId9"/>
    <p:sldLayoutId id="2147483703" r:id="rId10"/>
    <p:sldLayoutId id="2147483704" r:id="rId11"/>
    <p:sldLayoutId id="2147483705" r:id="rId12"/>
    <p:sldLayoutId id="2147483706" r:id="rId13"/>
    <p:sldLayoutId id="2147483707" r:id="rId14"/>
    <p:sldLayoutId id="2147483708" r:id="rId15"/>
    <p:sldLayoutId id="2147483709" r:id="rId16"/>
    <p:sldLayoutId id="2147483710" r:id="rId17"/>
    <p:sldLayoutId id="2147483711" r:id="rId18"/>
    <p:sldLayoutId id="2147483712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0040" y="357120"/>
            <a:ext cx="7958160" cy="250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Бережем планету вместе»</a:t>
            </a:r>
            <a:br>
              <a:rPr sz="5400"/>
            </a:b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</a:t>
            </a:r>
            <a:br>
              <a:rPr sz="5400"/>
            </a:b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Вторая жизнь мусора</a:t>
            </a: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1619280" y="4516560"/>
            <a:ext cx="6337440" cy="41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3" name="Detskie_pesni_-_Eta_pesnya_kazhdoe_utro_igrala_po_radio_Mayak_kogda_mama_odevala_menya_v_sadik._Detska_(iPlayer.fm).mp3" descr=""/>
          <p:cNvPicPr/>
          <p:nvPr/>
        </p:nvPicPr>
        <p:blipFill>
          <a:blip r:embed="rId1"/>
          <a:stretch/>
        </p:blipFill>
        <p:spPr>
          <a:xfrm>
            <a:off x="4419720" y="2419200"/>
            <a:ext cx="81000" cy="81000"/>
          </a:xfrm>
          <a:prstGeom prst="rect">
            <a:avLst/>
          </a:prstGeom>
          <a:ln w="0">
            <a:noFill/>
          </a:ln>
        </p:spPr>
      </p:pic>
      <p:pic>
        <p:nvPicPr>
          <p:cNvPr id="234" name="Скругленный прямоугольник 7" descr=""/>
          <p:cNvPicPr/>
          <p:nvPr/>
        </p:nvPicPr>
        <p:blipFill>
          <a:blip r:embed="rId2"/>
          <a:stretch/>
        </p:blipFill>
        <p:spPr>
          <a:xfrm>
            <a:off x="1560600" y="3773520"/>
            <a:ext cx="7297560" cy="1316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" dur="295560" fill="hold"/>
                                        <p:tgtEl>
                                          <p:spTgt spid="2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/>
          </p:nvPr>
        </p:nvSpPr>
        <p:spPr>
          <a:xfrm>
            <a:off x="142560" y="699840"/>
            <a:ext cx="3429000" cy="396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Снеговик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а выполнена из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иэтиленового пакета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тон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1" name="Picture 4" descr=""/>
          <p:cNvPicPr/>
          <p:nvPr/>
        </p:nvPicPr>
        <p:blipFill>
          <a:blip r:embed="rId1"/>
          <a:stretch/>
        </p:blipFill>
        <p:spPr>
          <a:xfrm>
            <a:off x="5076720" y="843120"/>
            <a:ext cx="2576520" cy="309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8" dur="200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1" dur="2000"/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4" dur="2000"/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9" dur="2000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 txBox="1"/>
          <p:nvPr/>
        </p:nvSpPr>
        <p:spPr>
          <a:xfrm>
            <a:off x="456840" y="1203120"/>
            <a:ext cx="4040280" cy="339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Панно из цветов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а выполнена из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лфеток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/>
          </p:nvPr>
        </p:nvSpPr>
        <p:spPr>
          <a:xfrm>
            <a:off x="4644720" y="1150920"/>
            <a:ext cx="4041720" cy="4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4" name="Picture 8" descr=""/>
          <p:cNvPicPr/>
          <p:nvPr/>
        </p:nvPicPr>
        <p:blipFill>
          <a:blip r:embed="rId1"/>
          <a:stretch/>
        </p:blipFill>
        <p:spPr>
          <a:xfrm>
            <a:off x="4788000" y="627120"/>
            <a:ext cx="2592360" cy="3073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0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6" dur="2000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9" dur="2000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4" dur="2000"/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428760" y="843120"/>
            <a:ext cx="3571920" cy="375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Игрушка-машинка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а выполнена из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маги, коробки из под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лок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6" name="Picture 6" descr=""/>
          <p:cNvPicPr/>
          <p:nvPr/>
        </p:nvPicPr>
        <p:blipFill>
          <a:blip r:embed="rId1"/>
          <a:stretch/>
        </p:blipFill>
        <p:spPr>
          <a:xfrm>
            <a:off x="5003640" y="627120"/>
            <a:ext cx="2365560" cy="3303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0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1" dur="200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4" dur="2000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7" dur="2000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0" dur="2000"/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/>
          </p:nvPr>
        </p:nvSpPr>
        <p:spPr>
          <a:xfrm>
            <a:off x="456840" y="1150920"/>
            <a:ext cx="4040280" cy="480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« Ёжики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6840" y="1630080"/>
            <a:ext cx="3754440" cy="296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елка выполнена из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татков тест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644720" y="1150920"/>
            <a:ext cx="4041720" cy="4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0" name="Picture 14" descr=""/>
          <p:cNvPicPr/>
          <p:nvPr/>
        </p:nvPicPr>
        <p:blipFill>
          <a:blip r:embed="rId1"/>
          <a:stretch/>
        </p:blipFill>
        <p:spPr>
          <a:xfrm>
            <a:off x="4643280" y="771480"/>
            <a:ext cx="2238480" cy="280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0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7" dur="2000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0" dur="2000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/>
          </p:nvPr>
        </p:nvSpPr>
        <p:spPr>
          <a:xfrm>
            <a:off x="456840" y="1150920"/>
            <a:ext cx="4040280" cy="480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«Сумочка для куклы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6840" y="1630080"/>
            <a:ext cx="4040280" cy="296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елка выполне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пластмассовой крышк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 шампуня и кусочка ткан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644720" y="1150920"/>
            <a:ext cx="4041720" cy="4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4" name="Picture 8" descr=""/>
          <p:cNvPicPr/>
          <p:nvPr/>
        </p:nvPicPr>
        <p:blipFill>
          <a:blip r:embed="rId1"/>
          <a:stretch/>
        </p:blipFill>
        <p:spPr>
          <a:xfrm>
            <a:off x="4643280" y="555480"/>
            <a:ext cx="2521080" cy="3225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0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7" dur="2000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0" dur="2000"/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5" dur="2000"/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357120" y="285840"/>
            <a:ext cx="3500640" cy="430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Цветок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а выполнена из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стмассовой трубочки и полиэтиленовых пакет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6" name="Picture 4" descr=""/>
          <p:cNvPicPr/>
          <p:nvPr/>
        </p:nvPicPr>
        <p:blipFill>
          <a:blip r:embed="rId1"/>
          <a:stretch/>
        </p:blipFill>
        <p:spPr>
          <a:xfrm>
            <a:off x="4859280" y="771480"/>
            <a:ext cx="2335320" cy="3014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0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2" dur="2000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5" dur="2000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8" dur="2000"/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/>
          </p:nvPr>
        </p:nvSpPr>
        <p:spPr>
          <a:xfrm>
            <a:off x="457200" y="411120"/>
            <a:ext cx="3827520" cy="418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 Веселые ложки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делие выполнен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пластмассовы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жек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8" name="Picture 7" descr=""/>
          <p:cNvPicPr/>
          <p:nvPr/>
        </p:nvPicPr>
        <p:blipFill>
          <a:blip r:embed="rId1"/>
          <a:stretch/>
        </p:blipFill>
        <p:spPr>
          <a:xfrm>
            <a:off x="4427640" y="268200"/>
            <a:ext cx="3673440" cy="4606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0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5" dur="2000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0" dur="2000"/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5" dur="2000"/>
                                        <p:tgtEl>
                                          <p:spTgt spid="2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0" dur="2000"/>
                                        <p:tgtEl>
                                          <p:spTgt spid="2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900000" y="428400"/>
            <a:ext cx="7786800" cy="416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воды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ологически полезная утилизация бытовых отходов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получение нужной вещи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работа выполнена своими руками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оделка легка в изготовлении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минимальная затрата времени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минимальные финансовые затраты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развитие фантазии и творчеств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0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200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2000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2000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2000"/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2000"/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2000"/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2000"/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2000"/>
                                        <p:tgtEl>
                                          <p:spTgt spid="2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 txBox="1"/>
          <p:nvPr/>
        </p:nvSpPr>
        <p:spPr>
          <a:xfrm>
            <a:off x="357120" y="428400"/>
            <a:ext cx="8329680" cy="416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ультаты проект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результате проведённого проекта у детей сформировались представления о возможности использования бросового материала в полезных целях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тавка работ показала значимость проведённого проекта: дети испытывали чувство радости, успеха и самореализаци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0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5" dur="2000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8" dur="2000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1" dur="2000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13840" y="642960"/>
            <a:ext cx="8286840" cy="16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осовый материал - это все то, что можно было без жалости выкинуть, а можно и использовать, дав волю безграничной детской фантазии. </a:t>
            </a:r>
            <a:br>
              <a:rPr sz="3600"/>
            </a:br>
            <a:br>
              <a:rPr sz="3600"/>
            </a:b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. Шлосс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900000" y="339480"/>
            <a:ext cx="7886880" cy="423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 проекта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знать всё о способах утилизации мусора, научиться через практическую работу находить полезное применение бытовому мусору, тем самым внести свой посильный вклад в частичную утилизацию и сокращению мусорных свалок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формировать у детей ответственное и бережное отношение к окружающему миру в цело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аучиться через практическую работу находить полезное применение бытовому мусор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357120" y="357120"/>
            <a:ext cx="8329680" cy="423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 проекта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ознакомиться со способами «борьбы» с бытовым мусором, а именно с самым безопасным - способом утилизации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Как можно вторично использовать мусор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Изготовить полезные изделия из  бытового мусор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f0426"/>
                </a:solidFill>
                <a:latin typeface="Times New Roman"/>
                <a:ea typeface="Times New Roman"/>
              </a:rPr>
              <a:t>Новое – это хорошо </a:t>
            </a:r>
            <a:br>
              <a:rPr sz="2800"/>
            </a:br>
            <a:r>
              <a:rPr b="1" i="1" lang="ru-RU" sz="2800" spc="-1" strike="noStrike">
                <a:solidFill>
                  <a:srgbClr val="0f0426"/>
                </a:solidFill>
                <a:latin typeface="Times New Roman"/>
                <a:ea typeface="Times New Roman"/>
              </a:rPr>
              <a:t>переделанное старое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071360"/>
            <a:ext cx="8229600" cy="35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Segoe Script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Segoe Script"/>
              </a:rPr>
              <a:t>Никогда ничего не выкидывай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Segoe Script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Segoe Script"/>
              </a:rPr>
              <a:t>если не знаешь, откуда это взялось.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Segoe Script"/>
              </a:rPr>
              <a:t>©Хью Роусо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каждой вещью прячется своя уникальная история, связанная с творчеством, работой или увлечениями, дарите своим вещам вторую жизнь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едуйте трем простым принципам: уменьшать, использовать повторно, перерабатывать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бы решить проблему свалок и снизить количество отходов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регите природу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ши работы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644720" y="1630080"/>
            <a:ext cx="4319640" cy="296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Корабль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елка выполнена из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нопласта, пластиковой бутылки, крышки о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тылок, бумаг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2" name="Picture 5" descr=""/>
          <p:cNvPicPr/>
          <p:nvPr/>
        </p:nvPicPr>
        <p:blipFill>
          <a:blip r:embed="rId1"/>
          <a:stretch/>
        </p:blipFill>
        <p:spPr>
          <a:xfrm>
            <a:off x="1187280" y="1347840"/>
            <a:ext cx="2252880" cy="266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5" descr=""/>
          <p:cNvPicPr/>
          <p:nvPr/>
        </p:nvPicPr>
        <p:blipFill>
          <a:blip r:embed="rId1"/>
          <a:stretch/>
        </p:blipFill>
        <p:spPr>
          <a:xfrm>
            <a:off x="900000" y="987480"/>
            <a:ext cx="3114720" cy="280836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4859280" y="987120"/>
            <a:ext cx="3827520" cy="360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Букет цветов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этой поделки были использованы пластмассовые трубочки, салфетки, оберточная бумаг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5" dur="20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8" dur="2000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792440" y="3600360"/>
            <a:ext cx="5486400" cy="425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« Цветочная поляна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971640" y="4025880"/>
            <a:ext cx="6307200" cy="60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ппликация из мандариновых корок и бумаг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7" name="Picture 7" descr=""/>
          <p:cNvPicPr/>
          <p:nvPr/>
        </p:nvPicPr>
        <p:blipFill>
          <a:blip r:embed="rId1"/>
          <a:srcRect l="0" t="28910" r="0" b="28910"/>
          <a:stretch/>
        </p:blipFill>
        <p:spPr>
          <a:xfrm>
            <a:off x="2771640" y="771480"/>
            <a:ext cx="3892680" cy="2087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5" dur="20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/>
          </p:nvPr>
        </p:nvSpPr>
        <p:spPr>
          <a:xfrm>
            <a:off x="571680" y="843120"/>
            <a:ext cx="378432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Карандашница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работе использовали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обку из под сока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маг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9" name="Picture 4" descr=""/>
          <p:cNvPicPr/>
          <p:nvPr/>
        </p:nvPicPr>
        <p:blipFill>
          <a:blip r:embed="rId1"/>
          <a:stretch/>
        </p:blipFill>
        <p:spPr>
          <a:xfrm>
            <a:off x="5148360" y="843120"/>
            <a:ext cx="2016000" cy="2809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0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20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2000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2000"/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2000"/>
                                        <p:tgtEl>
                                          <p:spTgt spid="2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5-13T06:27:23Z</dcterms:created>
  <dc:creator>Lenovo</dc:creator>
  <dc:description/>
  <dc:language>en-US</dc:language>
  <cp:lastModifiedBy>Пользователь</cp:lastModifiedBy>
  <dcterms:modified xsi:type="dcterms:W3CDTF">2020-11-26T14:06:24Z</dcterms:modified>
  <cp:revision>82</cp:revision>
  <dc:subject/>
  <dc:title>Слайд 1</dc:title>
</cp:coreProperties>
</file>