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20B1-49C0-40D9-9D9A-31C46E1E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593F-1835-4084-B48F-93EE17A5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655-65D4-4542-B2DF-37841AD2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C4E-23E8-44C5-92FB-1114F964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DB4A-0EC2-4687-8589-8B5314CF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5671-B433-4401-9228-FCF525EF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9EF4-5483-461C-8C61-CF236073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0611-F350-476D-88FE-D44298A2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7A49-7439-4223-9229-C61292C5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9D45-C5D6-405D-9AF0-AE14749A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F254-773F-4576-BA2A-2CCEAA1D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B8DA-83AC-48AA-878C-4483E528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E627-3F58-4DE4-8504-AB2DE1EE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17BD-5D31-4B76-876F-8024E80D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21E1-B4D2-4D31-91DF-C0E0F3A7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B43F-9490-4D3D-96D6-8C9F01FB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79AC-6CB5-496B-96B9-DC2043C1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60FB5-CBBD-4720-9D31-13328A10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AA9B4-EF98-41B2-8AC4-5F0467F6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EC327-7D74-488C-8861-97A2C121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3832D-DA2F-4CF9-82D2-EB7F4C80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35398-8C7E-47B8-BCFF-9B4C3E6B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FC0-83C5-4782-8DDD-187831F9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6CE02-9803-4D4F-B8E2-5298DB57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DC770-86CC-4CCF-A394-D334B10E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08CA3-1858-4A2F-B29F-49C8A185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5C132-C9F2-4BD5-95BE-66C51C1E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41C2B-A8D3-4259-8E62-19310B18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3E344-A4D5-4FD3-AFA5-6385F701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C805C-03C0-4EC5-BDD0-B0A135CA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92EAC-0CDC-4D22-9550-2B3B8DFE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A556C-2672-40A2-B429-4F345495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99CAC-02D1-4C2B-9F61-096D88C9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EFB-0DFA-4095-976E-7344C109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9CB25-B607-485C-85CC-5ABC3968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6F194-C23C-4B96-9DB1-A4DCCC30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9A530-F2B1-478B-937A-DD28280E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A6AC7-3655-4E1F-9CCD-CBBF3077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95324-0F6F-42B6-8F33-D8BF5184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CE5BF-60E7-4A0D-87F1-A9F6D113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ACB41-3232-4A06-9FF7-FD26AF8B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B4696-2A4F-4957-AA57-79676E24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BB2E7-23D1-4650-A9D1-2A3ADB63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C4188-BAC4-4741-838D-9AAD0C68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F8C-9826-47DB-ADC8-6763B39B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D98EC-FFE0-4DE2-8815-A1F72952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295FF-AE21-44FF-AA5F-D940C67D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97ABD-8A1A-4898-8E97-3CC16638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99BD0-03CD-4B0C-9A00-F557A19B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D9C61-4440-4DAF-B658-8AD7130A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5D89C-846D-403A-9A87-DE58B857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E92D2-8BA8-4DD4-8AA4-0E7C6FE2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AB14A-4112-4AB9-9D98-FD59CF4C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740F8-AEE0-4554-A3D2-BFECC20A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706DF-9060-479D-A6EB-9FAF0633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CDE-6CCE-4238-83F9-7DB181A3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3F4C6-0FA7-4C50-BA9F-54C14D94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562C-171A-475F-84EA-DB8D128D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B7AE-C70C-41FE-AAD6-5F8473BA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972-EB2D-48A8-A7E5-2E032AB2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B94A-F242-4C4C-A8E3-A99DF61AA7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6" name="Рамка 6" descr=""/>
            <p:cNvPicPr/>
            <p:nvPr/>
          </p:nvPicPr>
          <p:blipFill>
            <a:blip r:embed="rId3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Рисунок 8" descr="Butterflies-and-rainbows-butterflies-16556640-400-332.gif"/>
          <p:cNvPicPr/>
          <p:nvPr/>
        </p:nvPicPr>
        <p:blipFill>
          <a:blip r:embed="rId4"/>
          <a:stretch/>
        </p:blipFill>
        <p:spPr>
          <a:xfrm>
            <a:off x="7929720" y="142920"/>
            <a:ext cx="104436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46" name="Рамка 6" descr=""/>
            <p:cNvPicPr/>
            <p:nvPr/>
          </p:nvPicPr>
          <p:blipFill>
            <a:blip r:embed="rId3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8" descr="Butterflies-and-rainbows-butterflies-16556640-400-332.gif"/>
          <p:cNvPicPr/>
          <p:nvPr/>
        </p:nvPicPr>
        <p:blipFill>
          <a:blip r:embed="rId4"/>
          <a:stretch/>
        </p:blipFill>
        <p:spPr>
          <a:xfrm>
            <a:off x="7929720" y="142920"/>
            <a:ext cx="1044360" cy="8668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f9f7a5d2.png"/>
          <p:cNvPicPr/>
          <p:nvPr/>
        </p:nvPicPr>
        <p:blipFill>
          <a:blip r:embed="rId5"/>
          <a:stretch/>
        </p:blipFill>
        <p:spPr>
          <a:xfrm>
            <a:off x="0" y="3114720"/>
            <a:ext cx="1890720" cy="2028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DEBD-91EA-43FD-9773-FECEA33BA6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92" name="Рамка 6" descr=""/>
            <p:cNvPicPr/>
            <p:nvPr/>
          </p:nvPicPr>
          <p:blipFill>
            <a:blip r:embed="rId3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Рисунок 8" descr="Butterflies-and-rainbows-butterflies-16556640-400-332.gif"/>
          <p:cNvPicPr/>
          <p:nvPr/>
        </p:nvPicPr>
        <p:blipFill>
          <a:blip r:embed="rId4"/>
          <a:stretch/>
        </p:blipFill>
        <p:spPr>
          <a:xfrm>
            <a:off x="7929720" y="142920"/>
            <a:ext cx="1044360" cy="8668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9" descr="globe-and-leaf.png"/>
          <p:cNvPicPr/>
          <p:nvPr/>
        </p:nvPicPr>
        <p:blipFill>
          <a:blip r:embed="rId5"/>
          <a:stretch/>
        </p:blipFill>
        <p:spPr>
          <a:xfrm>
            <a:off x="0" y="3643200"/>
            <a:ext cx="1071720" cy="1500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D4CE-DD95-4B83-B1EF-381AF66013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138" name="Рамка 6" descr=""/>
            <p:cNvPicPr/>
            <p:nvPr/>
          </p:nvPicPr>
          <p:blipFill>
            <a:blip r:embed="rId3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Рисунок 8" descr="Butterflies-and-rainbows-butterflies-16556640-400-332.gif"/>
          <p:cNvPicPr/>
          <p:nvPr/>
        </p:nvPicPr>
        <p:blipFill>
          <a:blip r:embed="rId4"/>
          <a:stretch/>
        </p:blipFill>
        <p:spPr>
          <a:xfrm>
            <a:off x="7929720" y="142920"/>
            <a:ext cx="1044360" cy="8668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890_8.png"/>
          <p:cNvPicPr/>
          <p:nvPr/>
        </p:nvPicPr>
        <p:blipFill>
          <a:blip r:embed="rId5"/>
          <a:stretch/>
        </p:blipFill>
        <p:spPr>
          <a:xfrm rot="19670400">
            <a:off x="-304920" y="333864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9535-95BD-4A9C-B783-10C4C4A0B8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184" name="Рамка 6" descr=""/>
            <p:cNvPicPr/>
            <p:nvPr/>
          </p:nvPicPr>
          <p:blipFill>
            <a:blip r:embed="rId3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Рисунок 8" descr="Butterflies-and-rainbows-butterflies-16556640-400-332.gif"/>
          <p:cNvPicPr/>
          <p:nvPr/>
        </p:nvPicPr>
        <p:blipFill>
          <a:blip r:embed="rId4"/>
          <a:stretch/>
        </p:blipFill>
        <p:spPr>
          <a:xfrm>
            <a:off x="7929720" y="142920"/>
            <a:ext cx="1044360" cy="86688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9" descr="90747779_023326200.png"/>
          <p:cNvPicPr/>
          <p:nvPr/>
        </p:nvPicPr>
        <p:blipFill>
          <a:blip r:embed="rId5"/>
          <a:stretch/>
        </p:blipFill>
        <p:spPr>
          <a:xfrm>
            <a:off x="3143160" y="4513320"/>
            <a:ext cx="3003480" cy="6303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0" descr="90747779_023326200.png"/>
          <p:cNvPicPr/>
          <p:nvPr/>
        </p:nvPicPr>
        <p:blipFill>
          <a:blip r:embed="rId6"/>
          <a:stretch/>
        </p:blipFill>
        <p:spPr>
          <a:xfrm>
            <a:off x="6000840" y="4513320"/>
            <a:ext cx="3003480" cy="63036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1" descr="90747779_023326200.png"/>
          <p:cNvPicPr/>
          <p:nvPr/>
        </p:nvPicPr>
        <p:blipFill>
          <a:blip r:embed="rId7"/>
          <a:stretch/>
        </p:blipFill>
        <p:spPr>
          <a:xfrm>
            <a:off x="142920" y="4513320"/>
            <a:ext cx="3003480" cy="6303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24AA-D7B3-4DBF-8E63-6FD00CBD0A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795816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режем планету вместе»</a:t>
            </a:r>
            <a:br>
              <a:rPr sz="5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br>
              <a:rPr sz="54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торая жизнь мусора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19280" y="4516560"/>
            <a:ext cx="6337440" cy="41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Detskie_pesni_-_Eta_pesnya_kazhdoe_utro_igrala_po_radio_Mayak_kogda_mama_odevala_menya_v_sadik._Detska_(iPlayer.fm).mp3" descr=""/>
          <p:cNvPicPr/>
          <p:nvPr/>
        </p:nvPicPr>
        <p:blipFill>
          <a:blip r:embed="rId1"/>
          <a:stretch/>
        </p:blipFill>
        <p:spPr>
          <a:xfrm>
            <a:off x="4419720" y="2419200"/>
            <a:ext cx="81000" cy="81000"/>
          </a:xfrm>
          <a:prstGeom prst="rect">
            <a:avLst/>
          </a:prstGeom>
          <a:ln w="0">
            <a:noFill/>
          </a:ln>
        </p:spPr>
      </p:pic>
      <p:pic>
        <p:nvPicPr>
          <p:cNvPr id="234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1560600" y="3773520"/>
            <a:ext cx="7297560" cy="131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95560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42560" y="699840"/>
            <a:ext cx="342900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неговик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ыполнена из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этиленового пакет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5076720" y="843120"/>
            <a:ext cx="257652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6840" y="1203120"/>
            <a:ext cx="404028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анно из цветов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ыполнена из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фе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644720" y="1150920"/>
            <a:ext cx="4041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8" descr=""/>
          <p:cNvPicPr/>
          <p:nvPr/>
        </p:nvPicPr>
        <p:blipFill>
          <a:blip r:embed="rId1"/>
          <a:stretch/>
        </p:blipFill>
        <p:spPr>
          <a:xfrm>
            <a:off x="4788000" y="627120"/>
            <a:ext cx="2592360" cy="30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28760" y="843120"/>
            <a:ext cx="3571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грушка-машин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ыполнена из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ги, коробки из п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1"/>
          <a:stretch/>
        </p:blipFill>
        <p:spPr>
          <a:xfrm>
            <a:off x="5003640" y="627120"/>
            <a:ext cx="2365560" cy="33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6840" y="1150920"/>
            <a:ext cx="404028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 Ёжи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30080"/>
            <a:ext cx="375444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ка выполнена из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ков те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44720" y="1150920"/>
            <a:ext cx="4041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4" descr=""/>
          <p:cNvPicPr/>
          <p:nvPr/>
        </p:nvPicPr>
        <p:blipFill>
          <a:blip r:embed="rId1"/>
          <a:stretch/>
        </p:blipFill>
        <p:spPr>
          <a:xfrm>
            <a:off x="4643280" y="771480"/>
            <a:ext cx="223848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6840" y="1150920"/>
            <a:ext cx="404028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Сумочка для кукл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30080"/>
            <a:ext cx="40402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ка выполн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ластмассовой крыш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шампуня и кусочка тка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44720" y="1150920"/>
            <a:ext cx="4041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8" descr=""/>
          <p:cNvPicPr/>
          <p:nvPr/>
        </p:nvPicPr>
        <p:blipFill>
          <a:blip r:embed="rId1"/>
          <a:stretch/>
        </p:blipFill>
        <p:spPr>
          <a:xfrm>
            <a:off x="4643280" y="555480"/>
            <a:ext cx="2521080" cy="322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2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2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2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57120" y="285840"/>
            <a:ext cx="350064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вет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ыполнена из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массовой трубочки и полиэтиленовых пак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4859280" y="771480"/>
            <a:ext cx="2335320" cy="30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2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411120"/>
            <a:ext cx="382752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Веселые ложк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елие выполне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ластмассов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7" descr=""/>
          <p:cNvPicPr/>
          <p:nvPr/>
        </p:nvPicPr>
        <p:blipFill>
          <a:blip r:embed="rId1"/>
          <a:stretch/>
        </p:blipFill>
        <p:spPr>
          <a:xfrm>
            <a:off x="4427640" y="268200"/>
            <a:ext cx="3673440" cy="46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900000" y="428400"/>
            <a:ext cx="77868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 полезная утилизация бытовых отходо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олучение нужной вещ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абота выполнена своими рукам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елка легка в изготовлени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минимальная затрата времен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минимальные финансовые затрат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азвитие фантазии и творче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2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2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2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2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2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57120" y="428400"/>
            <a:ext cx="832968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проведённого проекта у детей сформировались представления о возможности использования бросового материала в полезных целя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работ показала значимость проведённого проекта: дети испытывали чувство радости, успеха и самореал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3840" y="642960"/>
            <a:ext cx="82868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совый материал - это все то, что можно было без жалости выкинуть, а можно и использовать, дав волю безграничной детской фантазии. 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 Шлос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900000" y="339480"/>
            <a:ext cx="7886880" cy="42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всё о способах утилизации мусора, научиться через практическую работу находить полезное применение бытовому мусору, тем самым внести свой посильный вклад в частичную утилизацию и сокращению мусорных свал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формировать у детей ответственное и бережное отношение к окружающему миру в це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учиться через практическую работу находить полезное применение бытовому мусо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57120" y="357120"/>
            <a:ext cx="832968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комиться со способами «борьбы» с бытовым мусором, а именно с самым безопасным - способом утилиз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можно вторично использовать мусо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готовить полезные изделия из  бытового мус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f0426"/>
                </a:solidFill>
                <a:latin typeface="Times New Roman"/>
                <a:ea typeface="Times New Roman"/>
              </a:rPr>
              <a:t>Новое – это хорошо </a:t>
            </a:r>
            <a:br>
              <a:rPr sz="2800"/>
            </a:br>
            <a:r>
              <a:rPr b="1" i="1" lang="ru-RU" sz="2800" spc="-1" strike="noStrike">
                <a:solidFill>
                  <a:srgbClr val="0f0426"/>
                </a:solidFill>
                <a:latin typeface="Times New Roman"/>
                <a:ea typeface="Times New Roman"/>
              </a:rPr>
              <a:t>переделанное старо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071360"/>
            <a:ext cx="8229600" cy="35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Никогда ничего не выкидыва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если не знаешь, откуда это взялось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©Хью Роус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ждой вещью прячется своя уникальная история, связанная с творчеством, работой или увлечениями, дарите своим вещам вторую жизн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йте трем простым принципам: уменьшать, использовать повторно, перерабатыва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решить проблему свалок и снизить количество отходо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ите природ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44720" y="1630080"/>
            <a:ext cx="431964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рабль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ка выполнена и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опласта, пластиковой бутылки, крышки 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ылок, бума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1187280" y="1347840"/>
            <a:ext cx="225288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900000" y="987480"/>
            <a:ext cx="3114720" cy="2808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859280" y="987120"/>
            <a:ext cx="3827520" cy="36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укет цветов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й поделки были использованы пластмассовые трубочки, салфетки, оберточная бума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440" y="3600360"/>
            <a:ext cx="5486400" cy="4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Цветочная полян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71640" y="4025880"/>
            <a:ext cx="630720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ликация из мандариновых корок и бумаг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rcRect l="0" t="28910" r="0" b="28910"/>
          <a:stretch/>
        </p:blipFill>
        <p:spPr>
          <a:xfrm>
            <a:off x="2771640" y="771480"/>
            <a:ext cx="389268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71680" y="843120"/>
            <a:ext cx="37843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рандашниц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использов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бку из под со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г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148360" y="843120"/>
            <a:ext cx="2016000" cy="28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3T06:27:23Z</dcterms:created>
  <dc:creator>Lenovo</dc:creator>
  <dc:description/>
  <dc:language>en-US</dc:language>
  <cp:lastModifiedBy>Пользователь</cp:lastModifiedBy>
  <dcterms:modified xsi:type="dcterms:W3CDTF">2020-11-26T14:06:24Z</dcterms:modified>
  <cp:revision>82</cp:revision>
  <dc:subject/>
  <dc:title>Слайд 1</dc:title>
</cp:coreProperties>
</file>