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gif" ContentType="image/gif"/>
  <Override PartName="/ppt/media/image9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D978-4E52-4DA1-888C-06EFDE76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78A7-BE1A-43BF-BAD6-FCB0E333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8EF8-74F3-41A9-B606-00035DA8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5D3-A501-44EE-A685-FF3F39FE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3E7C-5B0A-4939-8DF7-4394B3F5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5851-F339-4A83-ABE7-BFC1F24B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2DB1-365C-4B4E-AC1F-AC0EC461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28EA-DC81-4817-B09E-3080556D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33C8-0879-46B7-9211-AF71E63E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D1FF-35F3-4ED3-9916-DF2EE95D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F462-E6BE-4669-B0C4-C299D9D8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3C0D-21E3-48F4-A871-83BE3E24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C463-4B5B-4907-9D41-4A2E18B6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2F6C-46A1-4912-80F7-09C90AAC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8F22-7514-4886-960E-920B0C1D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2F15-0590-43DF-90A6-15BF7147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A5B0-D51B-4EB4-B948-E850198A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A0B2-14B5-4D9F-8BF4-4BCF19F9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C3A0-2E2F-40D5-8C31-5F432657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5ACD-FB93-455E-84EE-47008861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F54D-A666-4DF4-AEEC-A9EC95F2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E210-1D71-4FEB-A91D-5D78DD7E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4AD0-ACC0-44EE-90E4-893D9892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7B7C-3976-4486-BEF4-77801AA2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AF28-A8B8-4323-B2A8-B88E221C80C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4F8B-7404-4242-AD15-4D46685D1CD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Роль книги в развитии интеллектуальных умений ребёнка.</a:t>
            </a:r>
            <a:br>
              <a:rPr sz="2800"/>
            </a:br>
            <a:br>
              <a:rPr sz="2800"/>
            </a:br>
            <a:br>
              <a:rPr sz="20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500720" y="393372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сё, чего я достиг в жизни, стало возможным, благодаря книге.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ичард Бах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6" descr="j0299125"/>
          <p:cNvPicPr/>
          <p:nvPr/>
        </p:nvPicPr>
        <p:blipFill>
          <a:blip r:embed="rId1"/>
          <a:stretch/>
        </p:blipFill>
        <p:spPr>
          <a:xfrm>
            <a:off x="900000" y="3141720"/>
            <a:ext cx="230364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Рекомендации родителям по развитию читательского интереса у детей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екомендуйте своему ребёнку книги своего детства, делитесь своими детскими впечатлениями от чтения той или иной книги, сопоставляйте ваши и его впечатле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страивайте дома дискуссии по прочитанным книга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купайте , по возможности, книги полюбившихся ребёнку авторов, оформляйте его личную библиотек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оспитывайте бережное отношение к книге, демонстрируя книжные реликвии своей семь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арите ребёнку книги с дарственной надписью, тёплыми пожеланиями. Спустя годы это станет счастливым напоминанием о родном доме, его традициях, дорогих и близких людя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9" name="Picture 5" descr="j0299125"/>
          <p:cNvPicPr/>
          <p:nvPr/>
        </p:nvPicPr>
        <p:blipFill>
          <a:blip r:embed="rId1"/>
          <a:stretch/>
        </p:blipFill>
        <p:spPr>
          <a:xfrm>
            <a:off x="7885080" y="2602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56800" y="937800"/>
            <a:ext cx="6667560" cy="13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нига в вашем доме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042560" y="26370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процессе чтения совершенствуется оперативная память и устойчивость внимания, от которых зависит умственная работоспособност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Чтобы процесс чтения стал для детей личной необходимостью, очень полезны игр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громную роль играют и вечера семейных чтений, наполненные живым, умным слово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лохо читающие ученики обречены на неуспеваемость в средних и старших класса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ля формирования у ребёнка потребности в чтение и письменной речи педагоги и психологи предлагают использовать жизненно важную переписк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2" name="Picture 6" descr="j0299125"/>
          <p:cNvPicPr/>
          <p:nvPr/>
        </p:nvPicPr>
        <p:blipFill>
          <a:blip r:embed="rId1"/>
          <a:stretch/>
        </p:blipFill>
        <p:spPr>
          <a:xfrm>
            <a:off x="7854840" y="1666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к повысить технику чтения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бота над техникой чтения – процесс достаточно длительный и не всегда привлекательный для дет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уществуют разные точки зрения на необходимую скорость чтения в конце начального обучен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программе начальных классов она составляет 100 слов в минут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к показывает опыт, большинству учеников вполне доступна скорость чтения 120 слов в минуту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56360" y="1340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Как этого добиться?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 надо заставлять ребёнка подолгу читать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Хорошие результаты даёт чтение перед сно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сли ребёнок не любит читать, необходим режим щадящего чт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до почаще измерять скорость чт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обходимо отмечать рост в овладении техникой чт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учившись читать, ребёнок открывает для себя мир большой литературы. Особое место в нём  занимают сказки. Сказка – первая ступенька вхождения в страну знаний, в мир культуры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азвивать чувство языка, вкус к слову,умение говорить выразительно, точно, ярко помогают стих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Чтобы ребёнок полюбил чтение, очень важно создать его собственную домашнюю библиотеку. Здесь могут быть два подход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ервый подход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– это рабочая библиоте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торой подход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– приобретение любимых кни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одителям необходимо хорошо знать детскую литератур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7" name="Picture 5" descr="j0299125"/>
          <p:cNvPicPr/>
          <p:nvPr/>
        </p:nvPicPr>
        <p:blipFill>
          <a:blip r:embed="rId1"/>
          <a:stretch/>
        </p:blipFill>
        <p:spPr>
          <a:xfrm>
            <a:off x="7824960" y="54000"/>
            <a:ext cx="10998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етская литератур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тская классика: К.Чуковский, С.Маршак, А.Барто, В.Берестов, Б.Заходер, Н.Носов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учно популярная литература: М.Пришвин, Е.Чарушин, В.Бианки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ниги энциклопедического характера: «Я познаю мир», »Всё обо всём», «Моя первая энциклопедия»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0" name="Picture 4" descr="j0299125"/>
          <p:cNvPicPr/>
          <p:nvPr/>
        </p:nvPicPr>
        <p:blipFill>
          <a:blip r:embed="rId1"/>
          <a:stretch/>
        </p:blipFill>
        <p:spPr>
          <a:xfrm>
            <a:off x="7812000" y="189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ные качества чтения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Сознательность (понимание)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Правильность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Беглость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ыразительность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3" name="Рисунок 3" descr=""/>
          <p:cNvPicPr/>
          <p:nvPr/>
        </p:nvPicPr>
        <p:blipFill>
          <a:blip r:embed="rId1"/>
          <a:stretch/>
        </p:blipFill>
        <p:spPr>
          <a:xfrm>
            <a:off x="6000840" y="3424320"/>
            <a:ext cx="31431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естница приоритетов чт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5" name="Содержимое 3" descr=""/>
          <p:cNvPicPr/>
          <p:nvPr/>
        </p:nvPicPr>
        <p:blipFill>
          <a:blip r:embed="rId1"/>
          <a:stretch/>
        </p:blipFill>
        <p:spPr>
          <a:xfrm>
            <a:off x="281160" y="1494000"/>
            <a:ext cx="8369280" cy="47973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5"/>
          <p:cNvSpPr/>
          <p:nvPr/>
        </p:nvSpPr>
        <p:spPr>
          <a:xfrm>
            <a:off x="7079040" y="278604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нания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уховност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Овал 6"/>
          <p:cNvSpPr/>
          <p:nvPr/>
        </p:nvSpPr>
        <p:spPr>
          <a:xfrm>
            <a:off x="6215040" y="2286000"/>
            <a:ext cx="914400" cy="9144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8" name="Рисунок 7" descr=""/>
          <p:cNvPicPr/>
          <p:nvPr/>
        </p:nvPicPr>
        <p:blipFill>
          <a:blip r:embed="rId2"/>
          <a:stretch/>
        </p:blipFill>
        <p:spPr>
          <a:xfrm>
            <a:off x="6429240" y="4143240"/>
            <a:ext cx="25434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то мешает ребенку читать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гресс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алое поле зр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лабая артикуляц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умение найти главно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сутствие внима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лабая оперативная память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аленький словарный запа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1" name="Рисунок 3" descr=""/>
          <p:cNvPicPr/>
          <p:nvPr/>
        </p:nvPicPr>
        <p:blipFill>
          <a:blip r:embed="rId1"/>
          <a:stretch/>
        </p:blipFill>
        <p:spPr>
          <a:xfrm>
            <a:off x="6286680" y="2004840"/>
            <a:ext cx="28573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оветы родителям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сли до школы есть желание и возможность заниматься с ребёнком, пусть он придёт в школу, умея читать. В 4-5 лет учиться читать легче, чем в 7-8 лет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ерпеливо помогать ребёнку, если у него недостаточная скорость чт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бучая детей чтению, опираться на их интерес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ольше играть с деть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ссказывать детям сказки, это успокаивает их, помогает снять напряжен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аще устраивать семейные чтени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Picture 4" descr="j0299125"/>
          <p:cNvPicPr/>
          <p:nvPr/>
        </p:nvPicPr>
        <p:blipFill>
          <a:blip r:embed="rId1"/>
          <a:stretch/>
        </p:blipFill>
        <p:spPr>
          <a:xfrm>
            <a:off x="7812000" y="189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оветы родителям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Читать самим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Не всегда спешить сразу отвечать на детские вопросы, лучше посоветовать поискать ответы в книгах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Собирать дома различные словари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Стараться приобретать и дарить детям хорошие книги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Вместе покупать, читать, ремонтировать книги, обсуждать прочитанное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Обязательно записать ребёнка в библиотеку. Время от времени ходить туда вместе с ним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7" name="Picture 4" descr="j0299125"/>
          <p:cNvPicPr/>
          <p:nvPr/>
        </p:nvPicPr>
        <p:blipFill>
          <a:blip r:embed="rId1"/>
          <a:stretch/>
        </p:blipFill>
        <p:spPr>
          <a:xfrm>
            <a:off x="7885080" y="189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ы для обсуждения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Значение книги в жизни младшего школьник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ак развивать читательский интерес ребёнка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ак повысить технику чтения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4" descr="j0299125"/>
          <p:cNvPicPr/>
          <p:nvPr/>
        </p:nvPicPr>
        <p:blipFill>
          <a:blip r:embed="rId1"/>
          <a:stretch/>
        </p:blipFill>
        <p:spPr>
          <a:xfrm>
            <a:off x="8043840" y="11592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683280" y="908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Норма техники чтения на конец год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ценка «5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 класс – 25-40 слов и боле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 класс – 50-70 слов и боле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 класс – 75-95 слов и боле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4 класс – 100-130 слов и боле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0" name="Picture 6" descr="j0299125"/>
          <p:cNvPicPr/>
          <p:nvPr/>
        </p:nvPicPr>
        <p:blipFill>
          <a:blip r:embed="rId1"/>
          <a:stretch/>
        </p:blipFill>
        <p:spPr>
          <a:xfrm>
            <a:off x="8043840" y="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328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Норма техники чтения на конец год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ценка «2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 класс – меньше 20 сл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 класс – меньше 30 сл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 класс – меньше 50 сл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4 класс – меньше 75 сл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3" name="Picture 4" descr="j0299125"/>
          <p:cNvPicPr/>
          <p:nvPr/>
        </p:nvPicPr>
        <p:blipFill>
          <a:blip r:embed="rId1"/>
          <a:stretch/>
        </p:blipFill>
        <p:spPr>
          <a:xfrm>
            <a:off x="8043840" y="11592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чение книги в жизни младшего школьника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век компьютеров и высоких технологий человек не может обойтись без чт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медленность процесса чтения, отсутствие интереса к чтению приводит к тому, что процессы интеллектуальной деятельности тоже замедляютс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Желание читать, стойкий интерес к чтению формируется в семье и основа его – привычка ребёнка читать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4" descr="j0299125"/>
          <p:cNvPicPr/>
          <p:nvPr/>
        </p:nvPicPr>
        <p:blipFill>
          <a:blip r:embed="rId1"/>
          <a:stretch/>
        </p:blipFill>
        <p:spPr>
          <a:xfrm>
            <a:off x="8043840" y="11592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1"/>
          <p:cNvSpPr/>
          <p:nvPr/>
        </p:nvSpPr>
        <p:spPr>
          <a:xfrm>
            <a:off x="1187280" y="260280"/>
            <a:ext cx="6985080" cy="3024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7" name="Group 7"/>
          <p:cNvGrpSpPr/>
          <p:nvPr/>
        </p:nvGrpSpPr>
        <p:grpSpPr>
          <a:xfrm>
            <a:off x="3635280" y="4941720"/>
            <a:ext cx="2399760" cy="1054080"/>
            <a:chOff x="3635280" y="4941720"/>
            <a:chExt cx="2399760" cy="1054080"/>
          </a:xfrm>
        </p:grpSpPr>
        <p:sp>
          <p:nvSpPr>
            <p:cNvPr id="108" name="Freeform 8"/>
            <p:cNvSpPr/>
            <p:nvPr/>
          </p:nvSpPr>
          <p:spPr>
            <a:xfrm>
              <a:off x="3668400" y="4962240"/>
              <a:ext cx="2325600" cy="1009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ea00"/>
                </a:gs>
              </a:gsLst>
              <a:lin ang="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Freeform 9"/>
            <p:cNvSpPr/>
            <p:nvPr/>
          </p:nvSpPr>
          <p:spPr>
            <a:xfrm>
              <a:off x="4811040" y="4983120"/>
              <a:ext cx="47880" cy="98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Freeform 10"/>
            <p:cNvSpPr/>
            <p:nvPr/>
          </p:nvSpPr>
          <p:spPr>
            <a:xfrm>
              <a:off x="3635280" y="5219280"/>
              <a:ext cx="1175760" cy="77652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Freeform 11"/>
            <p:cNvSpPr/>
            <p:nvPr/>
          </p:nvSpPr>
          <p:spPr>
            <a:xfrm>
              <a:off x="4861800" y="5217120"/>
              <a:ext cx="1173240" cy="77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3757680" y="5114880"/>
              <a:ext cx="1053000" cy="781920"/>
            </a:xfrm>
            <a:prstGeom prst="pi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Freeform 13"/>
            <p:cNvSpPr/>
            <p:nvPr/>
          </p:nvSpPr>
          <p:spPr>
            <a:xfrm>
              <a:off x="4861800" y="5113440"/>
              <a:ext cx="1052280" cy="78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Freeform 14"/>
            <p:cNvSpPr/>
            <p:nvPr/>
          </p:nvSpPr>
          <p:spPr>
            <a:xfrm>
              <a:off x="3878640" y="4943520"/>
              <a:ext cx="932040" cy="8492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4861800" y="4941720"/>
              <a:ext cx="932040" cy="85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6" name="AutoShape 16"/>
          <p:cNvSpPr/>
          <p:nvPr/>
        </p:nvSpPr>
        <p:spPr>
          <a:xfrm>
            <a:off x="324000" y="2781360"/>
            <a:ext cx="2438280" cy="1465560"/>
          </a:xfrm>
          <a:prstGeom prst="wedgeRectCallout">
            <a:avLst>
              <a:gd name="adj1" fmla="val 90356"/>
              <a:gd name="adj2" fmla="val 7833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99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овместное чтение и обсуждение прочитанной книги укрепляет семейные связ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AutoShape 17"/>
          <p:cNvSpPr/>
          <p:nvPr/>
        </p:nvSpPr>
        <p:spPr>
          <a:xfrm>
            <a:off x="6372360" y="3141720"/>
            <a:ext cx="2361960" cy="2837160"/>
          </a:xfrm>
          <a:prstGeom prst="wedgeRectCallout">
            <a:avLst>
              <a:gd name="adj1" fmla="val -83250"/>
              <a:gd name="adj2" fmla="val -22143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99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бенок может спросить взрослого о непонятых местах в книге, задать вопросы по прочитанному. Это повышает у ребенка авторитет родителей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19"/>
          <p:cNvSpPr/>
          <p:nvPr/>
        </p:nvSpPr>
        <p:spPr>
          <a:xfrm>
            <a:off x="6516720" y="620640"/>
            <a:ext cx="2362320" cy="1739880"/>
          </a:xfrm>
          <a:prstGeom prst="wedgeRectCallout">
            <a:avLst>
              <a:gd name="adj1" fmla="val -92324"/>
              <a:gd name="adj2" fmla="val 88060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99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Чтение ребенком книги вслух для всей семьи улучшает у него технику и скорость чтени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AutoShape 20"/>
          <p:cNvSpPr/>
          <p:nvPr/>
        </p:nvSpPr>
        <p:spPr>
          <a:xfrm>
            <a:off x="250920" y="549360"/>
            <a:ext cx="2438280" cy="1465560"/>
          </a:xfrm>
          <a:prstGeom prst="wedgeRectCallout">
            <a:avLst>
              <a:gd name="adj1" fmla="val 100513"/>
              <a:gd name="adj2" fmla="val 114092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99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емейное чтение способствует привитию ребенку любви к чтению без принуждени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700360" y="549000"/>
            <a:ext cx="3672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5 причин, по которым читать книги нужно всей семь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24" descr=""/>
          <p:cNvPicPr/>
          <p:nvPr/>
        </p:nvPicPr>
        <p:blipFill>
          <a:blip r:embed="rId1"/>
          <a:stretch/>
        </p:blipFill>
        <p:spPr>
          <a:xfrm>
            <a:off x="3851280" y="3357720"/>
            <a:ext cx="1668600" cy="147456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25"/>
          <p:cNvSpPr/>
          <p:nvPr/>
        </p:nvSpPr>
        <p:spPr>
          <a:xfrm>
            <a:off x="324000" y="4941720"/>
            <a:ext cx="2735280" cy="1465560"/>
          </a:xfrm>
          <a:prstGeom prst="wedgeRectCallout">
            <a:avLst>
              <a:gd name="adj1" fmla="val 75870"/>
              <a:gd name="adj2" fmla="val -54981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99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емейное чтение позволяет взрослому участвовать в жизни ребенка, познать мир его интересо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4"/>
          <p:cNvGrpSpPr/>
          <p:nvPr/>
        </p:nvGrpSpPr>
        <p:grpSpPr>
          <a:xfrm>
            <a:off x="2771640" y="1844640"/>
            <a:ext cx="3810240" cy="3504960"/>
            <a:chOff x="2771640" y="1844640"/>
            <a:chExt cx="3810240" cy="3504960"/>
          </a:xfrm>
        </p:grpSpPr>
        <p:sp>
          <p:nvSpPr>
            <p:cNvPr id="124" name="AutoShape 5"/>
            <p:cNvSpPr/>
            <p:nvPr/>
          </p:nvSpPr>
          <p:spPr>
            <a:xfrm>
              <a:off x="2771640" y="1844640"/>
              <a:ext cx="3810240" cy="3504960"/>
            </a:xfrm>
            <a:custGeom>
              <a:avLst/>
              <a:gdLst>
                <a:gd name="textAreaLeft" fmla="*/ 869760 w 3810240"/>
                <a:gd name="textAreaRight" fmla="*/ 2940480 w 3810240"/>
                <a:gd name="textAreaTop" fmla="*/ 799920 h 3504960"/>
                <a:gd name="textAreaBottom" fmla="*/ 2705040 h 350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ee7f2"/>
                </a:gs>
                <a:gs pos="100000">
                  <a:srgbClr val="666699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Rectangle 6"/>
            <p:cNvSpPr/>
            <p:nvPr/>
          </p:nvSpPr>
          <p:spPr>
            <a:xfrm>
              <a:off x="3533760" y="2759040"/>
              <a:ext cx="228600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5 причин, по которым надо читать книги</a:t>
              </a:r>
              <a:br>
                <a:rPr sz="2800"/>
              </a:b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6" name="Group 13"/>
          <p:cNvGrpSpPr/>
          <p:nvPr/>
        </p:nvGrpSpPr>
        <p:grpSpPr>
          <a:xfrm>
            <a:off x="4746600" y="3225240"/>
            <a:ext cx="3263040" cy="3322440"/>
            <a:chOff x="4746600" y="3225240"/>
            <a:chExt cx="3263040" cy="3322440"/>
          </a:xfrm>
        </p:grpSpPr>
        <p:sp>
          <p:nvSpPr>
            <p:cNvPr id="127" name="Freeform 14"/>
            <p:cNvSpPr/>
            <p:nvPr/>
          </p:nvSpPr>
          <p:spPr>
            <a:xfrm rot="18670800">
              <a:off x="5053680" y="3877200"/>
              <a:ext cx="2648880" cy="2018160"/>
            </a:xfrm>
            <a:prstGeom prst="pie">
              <a:avLst/>
            </a:prstGeom>
            <a:gradFill rotWithShape="0">
              <a:gsLst>
                <a:gs pos="0">
                  <a:srgbClr val="2fd137"/>
                </a:gs>
                <a:gs pos="100000">
                  <a:srgbClr val="bbffbb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Rectangle 15"/>
            <p:cNvSpPr/>
            <p:nvPr/>
          </p:nvSpPr>
          <p:spPr>
            <a:xfrm rot="18670800">
              <a:off x="6429240" y="5541840"/>
              <a:ext cx="1463040" cy="69120"/>
            </a:xfrm>
            <a:prstGeom prst="rect">
              <a:avLst/>
            </a:prstGeom>
            <a:gradFill rotWithShape="0">
              <a:gsLst>
                <a:gs pos="0">
                  <a:srgbClr val="2fd137"/>
                </a:gs>
                <a:gs pos="100000">
                  <a:srgbClr val="bbffbb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Freeform 16"/>
            <p:cNvSpPr/>
            <p:nvPr/>
          </p:nvSpPr>
          <p:spPr>
            <a:xfrm rot="18670800">
              <a:off x="5259240" y="5481720"/>
              <a:ext cx="581040" cy="114120"/>
            </a:xfrm>
            <a:prstGeom prst="pie">
              <a:avLst/>
            </a:prstGeom>
            <a:gradFill rotWithShape="0">
              <a:gsLst>
                <a:gs pos="0">
                  <a:srgbClr val="2fd137"/>
                </a:gs>
                <a:gs pos="100000">
                  <a:srgbClr val="bbffbb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Freeform 17"/>
            <p:cNvSpPr/>
            <p:nvPr/>
          </p:nvSpPr>
          <p:spPr>
            <a:xfrm rot="18670800">
              <a:off x="6618960" y="3917880"/>
              <a:ext cx="593640" cy="114480"/>
            </a:xfrm>
            <a:prstGeom prst="pie">
              <a:avLst/>
            </a:prstGeom>
            <a:gradFill rotWithShape="0">
              <a:gsLst>
                <a:gs pos="0">
                  <a:srgbClr val="2fd137"/>
                </a:gs>
                <a:gs pos="100000">
                  <a:srgbClr val="bbffbb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1" name="Group 18"/>
          <p:cNvGrpSpPr/>
          <p:nvPr/>
        </p:nvGrpSpPr>
        <p:grpSpPr>
          <a:xfrm>
            <a:off x="3564000" y="404640"/>
            <a:ext cx="2204640" cy="1958760"/>
            <a:chOff x="3564000" y="404640"/>
            <a:chExt cx="2204640" cy="1958760"/>
          </a:xfrm>
        </p:grpSpPr>
        <p:sp>
          <p:nvSpPr>
            <p:cNvPr id="132" name="Freeform 19"/>
            <p:cNvSpPr/>
            <p:nvPr/>
          </p:nvSpPr>
          <p:spPr>
            <a:xfrm>
              <a:off x="3567600" y="470880"/>
              <a:ext cx="2194560" cy="1892520"/>
            </a:xfrm>
            <a:prstGeom prst="pie">
              <a:avLst/>
            </a:prstGeom>
            <a:gradFill rotWithShape="0">
              <a:gsLst>
                <a:gs pos="0">
                  <a:srgbClr val="2fd137"/>
                </a:gs>
                <a:gs pos="100000">
                  <a:srgbClr val="bbffbb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Rectangle 20"/>
            <p:cNvSpPr/>
            <p:nvPr/>
          </p:nvSpPr>
          <p:spPr>
            <a:xfrm>
              <a:off x="4055760" y="404640"/>
              <a:ext cx="1212120" cy="64800"/>
            </a:xfrm>
            <a:prstGeom prst="rect">
              <a:avLst/>
            </a:prstGeom>
            <a:gradFill rotWithShape="0">
              <a:gsLst>
                <a:gs pos="0">
                  <a:srgbClr val="2fd137"/>
                </a:gs>
                <a:gs pos="100000">
                  <a:srgbClr val="bbffbb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Freeform 21"/>
            <p:cNvSpPr/>
            <p:nvPr/>
          </p:nvSpPr>
          <p:spPr>
            <a:xfrm>
              <a:off x="3564000" y="1545480"/>
              <a:ext cx="481320" cy="104400"/>
            </a:xfrm>
            <a:prstGeom prst="pie">
              <a:avLst/>
            </a:prstGeom>
            <a:gradFill rotWithShape="0">
              <a:gsLst>
                <a:gs pos="0">
                  <a:srgbClr val="2fd137"/>
                </a:gs>
                <a:gs pos="100000">
                  <a:srgbClr val="bbffbb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Freeform 22"/>
            <p:cNvSpPr/>
            <p:nvPr/>
          </p:nvSpPr>
          <p:spPr>
            <a:xfrm>
              <a:off x="5276880" y="1545480"/>
              <a:ext cx="491760" cy="104400"/>
            </a:xfrm>
            <a:prstGeom prst="pie">
              <a:avLst/>
            </a:prstGeom>
            <a:gradFill rotWithShape="0">
              <a:gsLst>
                <a:gs pos="0">
                  <a:srgbClr val="2fd137"/>
                </a:gs>
                <a:gs pos="100000">
                  <a:srgbClr val="bbffbb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6" name="Group 23"/>
          <p:cNvGrpSpPr/>
          <p:nvPr/>
        </p:nvGrpSpPr>
        <p:grpSpPr>
          <a:xfrm>
            <a:off x="935640" y="946080"/>
            <a:ext cx="3015720" cy="2813040"/>
            <a:chOff x="935640" y="946080"/>
            <a:chExt cx="3015720" cy="2813040"/>
          </a:xfrm>
        </p:grpSpPr>
        <p:sp>
          <p:nvSpPr>
            <p:cNvPr id="137" name="Freeform 24"/>
            <p:cNvSpPr/>
            <p:nvPr/>
          </p:nvSpPr>
          <p:spPr>
            <a:xfrm rot="1467000">
              <a:off x="1240560" y="1353960"/>
              <a:ext cx="2405160" cy="1996560"/>
            </a:xfrm>
            <a:prstGeom prst="pie">
              <a:avLst/>
            </a:prstGeom>
            <a:gradFill rotWithShape="0">
              <a:gsLst>
                <a:gs pos="0">
                  <a:srgbClr val="bbffbb"/>
                </a:gs>
                <a:gs pos="100000">
                  <a:srgbClr val="2fd137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Freeform 25"/>
            <p:cNvSpPr/>
            <p:nvPr/>
          </p:nvSpPr>
          <p:spPr>
            <a:xfrm rot="1467000">
              <a:off x="912600" y="2652120"/>
              <a:ext cx="1611720" cy="122040"/>
            </a:xfrm>
            <a:prstGeom prst="pie">
              <a:avLst/>
            </a:prstGeom>
            <a:gradFill rotWithShape="0">
              <a:gsLst>
                <a:gs pos="0">
                  <a:srgbClr val="bbffbb"/>
                </a:gs>
                <a:gs pos="100000">
                  <a:srgbClr val="2fd137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Freeform 26"/>
            <p:cNvSpPr/>
            <p:nvPr/>
          </p:nvSpPr>
          <p:spPr>
            <a:xfrm rot="1467000">
              <a:off x="2259000" y="2943720"/>
              <a:ext cx="108720" cy="553680"/>
            </a:xfrm>
            <a:prstGeom prst="pie">
              <a:avLst/>
            </a:prstGeom>
            <a:gradFill rotWithShape="0">
              <a:gsLst>
                <a:gs pos="0">
                  <a:srgbClr val="bbffbb"/>
                </a:gs>
                <a:gs pos="100000">
                  <a:srgbClr val="2fd137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Freeform 27"/>
            <p:cNvSpPr/>
            <p:nvPr/>
          </p:nvSpPr>
          <p:spPr>
            <a:xfrm rot="1467000">
              <a:off x="1212120" y="1273680"/>
              <a:ext cx="111960" cy="1242360"/>
            </a:xfrm>
            <a:prstGeom prst="pie">
              <a:avLst/>
            </a:prstGeom>
            <a:gradFill rotWithShape="0">
              <a:gsLst>
                <a:gs pos="0">
                  <a:srgbClr val="bbffbb"/>
                </a:gs>
                <a:gs pos="100000">
                  <a:srgbClr val="2fd137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Freeform 28"/>
            <p:cNvSpPr/>
            <p:nvPr/>
          </p:nvSpPr>
          <p:spPr>
            <a:xfrm rot="1467000">
              <a:off x="2926800" y="1524240"/>
              <a:ext cx="108720" cy="442800"/>
            </a:xfrm>
            <a:prstGeom prst="pie">
              <a:avLst/>
            </a:prstGeom>
            <a:gradFill rotWithShape="0">
              <a:gsLst>
                <a:gs pos="0">
                  <a:srgbClr val="bbffbb"/>
                </a:gs>
                <a:gs pos="100000">
                  <a:srgbClr val="2fd137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2" name="Group 29"/>
          <p:cNvGrpSpPr/>
          <p:nvPr/>
        </p:nvGrpSpPr>
        <p:grpSpPr>
          <a:xfrm>
            <a:off x="1239120" y="3248640"/>
            <a:ext cx="3324960" cy="3253680"/>
            <a:chOff x="1239120" y="3248640"/>
            <a:chExt cx="3324960" cy="3253680"/>
          </a:xfrm>
        </p:grpSpPr>
        <p:sp>
          <p:nvSpPr>
            <p:cNvPr id="143" name="Freeform 30"/>
            <p:cNvSpPr/>
            <p:nvPr/>
          </p:nvSpPr>
          <p:spPr>
            <a:xfrm rot="2427600">
              <a:off x="1575720" y="3867840"/>
              <a:ext cx="2651400" cy="2014920"/>
            </a:xfrm>
            <a:prstGeom prst="pie">
              <a:avLst/>
            </a:prstGeom>
            <a:gradFill rotWithShape="0">
              <a:gsLst>
                <a:gs pos="0">
                  <a:srgbClr val="bbffbb"/>
                </a:gs>
                <a:gs pos="100000">
                  <a:srgbClr val="2fd137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Rectangle 31"/>
            <p:cNvSpPr/>
            <p:nvPr/>
          </p:nvSpPr>
          <p:spPr>
            <a:xfrm rot="2427600">
              <a:off x="1488240" y="5633640"/>
              <a:ext cx="1464480" cy="69120"/>
            </a:xfrm>
            <a:prstGeom prst="rect">
              <a:avLst/>
            </a:prstGeom>
            <a:gradFill rotWithShape="0">
              <a:gsLst>
                <a:gs pos="0">
                  <a:srgbClr val="bbffbb"/>
                </a:gs>
                <a:gs pos="100000">
                  <a:srgbClr val="2fd137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Freeform 32"/>
            <p:cNvSpPr/>
            <p:nvPr/>
          </p:nvSpPr>
          <p:spPr>
            <a:xfrm rot="2427600">
              <a:off x="1944720" y="3997800"/>
              <a:ext cx="581400" cy="113760"/>
            </a:xfrm>
            <a:prstGeom prst="pie">
              <a:avLst/>
            </a:prstGeom>
            <a:gradFill rotWithShape="0">
              <a:gsLst>
                <a:gs pos="0">
                  <a:srgbClr val="bbffbb"/>
                </a:gs>
                <a:gs pos="100000">
                  <a:srgbClr val="2fd137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Freeform 33"/>
            <p:cNvSpPr/>
            <p:nvPr/>
          </p:nvSpPr>
          <p:spPr>
            <a:xfrm rot="2427600">
              <a:off x="3518280" y="5343480"/>
              <a:ext cx="594360" cy="114120"/>
            </a:xfrm>
            <a:prstGeom prst="pie">
              <a:avLst/>
            </a:prstGeom>
            <a:gradFill rotWithShape="0">
              <a:gsLst>
                <a:gs pos="0">
                  <a:srgbClr val="bbffbb"/>
                </a:gs>
                <a:gs pos="100000">
                  <a:srgbClr val="2fd137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7" name="Group 34"/>
          <p:cNvGrpSpPr/>
          <p:nvPr/>
        </p:nvGrpSpPr>
        <p:grpSpPr>
          <a:xfrm>
            <a:off x="5171040" y="689760"/>
            <a:ext cx="3308040" cy="3440160"/>
            <a:chOff x="5171040" y="689760"/>
            <a:chExt cx="3308040" cy="3440160"/>
          </a:xfrm>
        </p:grpSpPr>
        <p:sp>
          <p:nvSpPr>
            <p:cNvPr id="148" name="Freeform 35"/>
            <p:cNvSpPr/>
            <p:nvPr/>
          </p:nvSpPr>
          <p:spPr>
            <a:xfrm rot="14415600">
              <a:off x="5499720" y="1261800"/>
              <a:ext cx="2650680" cy="2295360"/>
            </a:xfrm>
            <a:prstGeom prst="pie">
              <a:avLst/>
            </a:prstGeom>
            <a:gradFill rotWithShape="0">
              <a:gsLst>
                <a:gs pos="0">
                  <a:srgbClr val="2fd137"/>
                </a:gs>
                <a:gs pos="100000">
                  <a:srgbClr val="bbffbb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Rectangle 36"/>
            <p:cNvSpPr/>
            <p:nvPr/>
          </p:nvSpPr>
          <p:spPr>
            <a:xfrm rot="14415600">
              <a:off x="7124400" y="1779120"/>
              <a:ext cx="1464120" cy="78840"/>
            </a:xfrm>
            <a:prstGeom prst="rect">
              <a:avLst/>
            </a:prstGeom>
            <a:gradFill rotWithShape="0">
              <a:gsLst>
                <a:gs pos="0">
                  <a:srgbClr val="2fd137"/>
                </a:gs>
                <a:gs pos="100000">
                  <a:srgbClr val="bbffbb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Freeform 37"/>
            <p:cNvSpPr/>
            <p:nvPr/>
          </p:nvSpPr>
          <p:spPr>
            <a:xfrm rot="14415600">
              <a:off x="6855120" y="3352320"/>
              <a:ext cx="582120" cy="129600"/>
            </a:xfrm>
            <a:prstGeom prst="pie">
              <a:avLst/>
            </a:prstGeom>
            <a:gradFill rotWithShape="0">
              <a:gsLst>
                <a:gs pos="0">
                  <a:srgbClr val="2fd137"/>
                </a:gs>
                <a:gs pos="100000">
                  <a:srgbClr val="bbffbb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Freeform 38"/>
            <p:cNvSpPr/>
            <p:nvPr/>
          </p:nvSpPr>
          <p:spPr>
            <a:xfrm rot="14415600">
              <a:off x="5820120" y="1550880"/>
              <a:ext cx="594000" cy="129600"/>
            </a:xfrm>
            <a:prstGeom prst="pie">
              <a:avLst/>
            </a:prstGeom>
            <a:gradFill rotWithShape="0">
              <a:gsLst>
                <a:gs pos="0">
                  <a:srgbClr val="2fd137"/>
                </a:gs>
                <a:gs pos="100000">
                  <a:srgbClr val="bbffbb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2" name="Rectangle 39"/>
          <p:cNvSpPr/>
          <p:nvPr/>
        </p:nvSpPr>
        <p:spPr>
          <a:xfrm>
            <a:off x="6156360" y="5157720"/>
            <a:ext cx="273672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99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Ребенок учится, сопереживает, развивается эмоционально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40"/>
          <p:cNvSpPr/>
          <p:nvPr/>
        </p:nvSpPr>
        <p:spPr>
          <a:xfrm>
            <a:off x="2382840" y="260280"/>
            <a:ext cx="44100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99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Чтение содействует успешном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своению грамотного письма детьми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Rectangle 41"/>
          <p:cNvSpPr/>
          <p:nvPr/>
        </p:nvSpPr>
        <p:spPr>
          <a:xfrm>
            <a:off x="250920" y="1484280"/>
            <a:ext cx="190476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99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Успешность ребенка в учебе находится в прямой зависимости от его начитанности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Rectangle 42"/>
          <p:cNvSpPr/>
          <p:nvPr/>
        </p:nvSpPr>
        <p:spPr>
          <a:xfrm>
            <a:off x="6804000" y="1557360"/>
            <a:ext cx="2087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99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Читая книги, ребенок обогащает словарный запас, развивает память и воображение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43"/>
          <p:cNvSpPr/>
          <p:nvPr/>
        </p:nvSpPr>
        <p:spPr>
          <a:xfrm>
            <a:off x="324000" y="5084640"/>
            <a:ext cx="270036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99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бщение с книгой выступает мощным источником развития интеллекта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Рисунок 3" descr="C:\Program Files\Microsoft Office\Clipart\standard\stddir1\bd07213_.wmf"/>
          <p:cNvPicPr/>
          <p:nvPr/>
        </p:nvPicPr>
        <p:blipFill>
          <a:blip r:embed="rId1"/>
          <a:stretch/>
        </p:blipFill>
        <p:spPr>
          <a:xfrm>
            <a:off x="3924360" y="4941720"/>
            <a:ext cx="1547640" cy="146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</a:rPr>
              <a:t>Как стать родителем читающего ребёнк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427640" y="1773360"/>
            <a:ext cx="4346640" cy="368280"/>
          </a:xfrm>
          <a:prstGeom prst="rect">
            <a:avLst/>
          </a:prstGeom>
          <a:gradFill rotWithShape="0">
            <a:gsLst>
              <a:gs pos="0">
                <a:srgbClr val="ffabab"/>
              </a:gs>
              <a:gs pos="50000">
                <a:srgbClr val="ffffff"/>
              </a:gs>
              <a:gs pos="100000">
                <a:srgbClr val="ffab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SzPct val="13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Читайте с ребёнком каждый день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830760" y="2336760"/>
            <a:ext cx="5008320" cy="64260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fffff"/>
              </a:gs>
              <a:gs pos="100000">
                <a:srgbClr val="99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SzPct val="13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Выбирайте для чтения книги, которые интересны ребёнку, а не Вам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276720" y="3141720"/>
            <a:ext cx="5546520" cy="4597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50000">
                <a:srgbClr val="ffffff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Окружайте ребёнка книгам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2637000" y="3660840"/>
            <a:ext cx="6202080" cy="3682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SzPct val="13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Читайте медленно и громко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133720" y="4184640"/>
            <a:ext cx="6705360" cy="459720"/>
          </a:xfrm>
          <a:prstGeom prst="rect">
            <a:avLst/>
          </a:prstGeom>
          <a:gradFill rotWithShape="0">
            <a:gsLst>
              <a:gs pos="0">
                <a:srgbClr val="00d600"/>
              </a:gs>
              <a:gs pos="50000">
                <a:srgbClr val="ffffff"/>
              </a:gs>
              <a:gs pos="100000">
                <a:srgbClr val="00d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Читайте книги снова и снова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1619280" y="4869000"/>
            <a:ext cx="723276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Не давите на ребёнка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900000" y="5516640"/>
            <a:ext cx="792504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SzPct val="13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Показывайте свою заинтересованность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152280" y="6105600"/>
            <a:ext cx="8686800" cy="368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SzPct val="13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Подавайте ребенку пример, читая книги, газеты, журналы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8" name="Picture 13" descr="AG00315_"/>
          <p:cNvPicPr/>
          <p:nvPr/>
        </p:nvPicPr>
        <p:blipFill>
          <a:blip r:embed="rId1"/>
          <a:stretch/>
        </p:blipFill>
        <p:spPr>
          <a:xfrm>
            <a:off x="900000" y="4508640"/>
            <a:ext cx="638280" cy="720720"/>
          </a:xfrm>
          <a:prstGeom prst="rect">
            <a:avLst/>
          </a:prstGeom>
          <a:ln w="0">
            <a:noFill/>
          </a:ln>
        </p:spPr>
      </p:pic>
      <p:sp>
        <p:nvSpPr>
          <p:cNvPr id="169" name="Line 14"/>
          <p:cNvSpPr/>
          <p:nvPr/>
        </p:nvSpPr>
        <p:spPr>
          <a:xfrm>
            <a:off x="152280" y="5943600"/>
            <a:ext cx="6098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 flipV="1">
            <a:off x="762120" y="5410080"/>
            <a:ext cx="0" cy="533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>
            <a:off x="762120" y="5410080"/>
            <a:ext cx="7617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 flipV="1">
            <a:off x="1523880" y="4876560"/>
            <a:ext cx="0" cy="533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Line 18"/>
          <p:cNvSpPr/>
          <p:nvPr/>
        </p:nvSpPr>
        <p:spPr>
          <a:xfrm>
            <a:off x="1523880" y="487692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 flipV="1">
            <a:off x="1981080" y="411444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>
            <a:off x="1981080" y="411480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 flipV="1">
            <a:off x="2514600" y="3581280"/>
            <a:ext cx="0" cy="533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2514600" y="358128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Line 23"/>
          <p:cNvSpPr/>
          <p:nvPr/>
        </p:nvSpPr>
        <p:spPr>
          <a:xfrm flipV="1">
            <a:off x="3124080" y="3047760"/>
            <a:ext cx="0" cy="533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Line 24"/>
          <p:cNvSpPr/>
          <p:nvPr/>
        </p:nvSpPr>
        <p:spPr>
          <a:xfrm>
            <a:off x="3124080" y="304812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Line 25"/>
          <p:cNvSpPr/>
          <p:nvPr/>
        </p:nvSpPr>
        <p:spPr>
          <a:xfrm flipV="1">
            <a:off x="3657600" y="2209320"/>
            <a:ext cx="0" cy="838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Line 26"/>
          <p:cNvSpPr/>
          <p:nvPr/>
        </p:nvSpPr>
        <p:spPr>
          <a:xfrm>
            <a:off x="3657600" y="220968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Line 27"/>
          <p:cNvSpPr/>
          <p:nvPr/>
        </p:nvSpPr>
        <p:spPr>
          <a:xfrm flipV="1">
            <a:off x="4284720" y="1413000"/>
            <a:ext cx="0" cy="761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Рисунок 9" descr="http://im7-tub.yandex.net/i?id=48918494-04&amp;tov=7"/>
          <p:cNvPicPr/>
          <p:nvPr/>
        </p:nvPicPr>
        <p:blipFill>
          <a:blip r:embed="rId2"/>
          <a:stretch/>
        </p:blipFill>
        <p:spPr>
          <a:xfrm>
            <a:off x="468360" y="1628640"/>
            <a:ext cx="1728720" cy="167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Рекомендации родителям по развитию читательского интереса у детей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255320" y="2442960"/>
            <a:ext cx="718812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ививайте ребёнку интерес к чтению с раннего детств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купайте книги яркие по оформлению и интересные по содержани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истематически читайте ребёнку. Это сформирует у него привычку ежедневного общения с книг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бсуждайте прочитанную книгу среди членов  своей семь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ассказывайте ребёнку об авторе прочитанной книг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Если вы читаете ребёнку книгу, старайтесь прервать чтение на самом увлекательном эпизод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споминая с ребёнком содержание ранее прочитанного, намеренно его искажайте, чтобы проверить, как он запомнил ранее прочитанный текс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6" name="Picture 5" descr="j0299125"/>
          <p:cNvPicPr/>
          <p:nvPr/>
        </p:nvPicPr>
        <p:blipFill>
          <a:blip r:embed="rId1"/>
          <a:stretch/>
        </p:blipFill>
        <p:spPr>
          <a:xfrm>
            <a:off x="7885080" y="189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09:11:39Z</dcterms:created>
  <dc:creator>1</dc:creator>
  <dc:description/>
  <dc:language>en-US</dc:language>
  <cp:lastModifiedBy>Олег</cp:lastModifiedBy>
  <dcterms:modified xsi:type="dcterms:W3CDTF">2015-01-28T22:03:28Z</dcterms:modified>
  <cp:revision>17</cp:revision>
  <dc:subject/>
  <dc:title>Роль книги в развитии интеллектуальных умений ребёнка.</dc:title>
</cp:coreProperties>
</file>