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209A-24B4-4AEC-A67B-371A251E8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2CA5-14D8-4086-A128-C62745718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83A6E8-3D04-4520-81E9-E7F0B80A5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FFFB29-5025-4B1B-8CCE-2446CA2FF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FAF8E8-35EE-40D8-9DC9-C4D7CF7CE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093280-1529-4CEB-AB14-1A2C2F1B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CBFE5F-7D24-4846-96B5-691B5C80C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10C6D7-8C71-4F45-8ECA-D2D45CD2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8130F0-5B85-4490-BBEE-77002F9F5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C90D82-20AA-48E9-9BD3-B1DE86AC2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49725C-890A-4BE3-A444-8C62AA8AE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736697-E687-49B4-8D3A-96DFA3ADF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F158-4F21-416B-828F-0B8169814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3E651F-4621-403A-92AC-9A4F6080C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4ED081-43CE-44ED-8545-1C3858097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3DF774-AB6B-4249-B538-FFC9B2B88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7489D4-68C1-4AA8-B102-3E3BD530E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C99E9B-E539-4DB8-BBD2-C8A4E2CC1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78E044-B76B-4A5F-84A2-2D849D73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2B3DBB-5725-491E-B2E2-DA0681A97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4BB1E7-EA85-427F-AD63-B14846455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4E74F7-F45E-4829-B096-AD9A9B0E4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BF72EC-4740-4745-898A-968F17ADA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76F2-C6FA-4760-9C4A-DEA3FD47B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E5A997-0A47-44FC-BACE-2A7330C27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399A7D-0BD2-4C5C-B7E2-C2D183271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7D6232-73FF-486E-8AD7-32881DE76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EB2336-4F0A-48A2-B92B-5DB6CB73F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B7B1C2-BDE8-4A3F-AC4C-D893B5F21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4506D1-60D9-4941-9D38-B325D548A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E1DA25-D2A5-4840-919A-860C4AA04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7732DE-24C5-4345-8239-DF677693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026604-3A8E-483D-BCC5-30FD5C52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32E644-5AA6-4A48-9825-1546BB5DC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E1E15-942F-4B43-9D80-6533D3A4F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11F815-0542-4854-B47E-75F549DD5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74E477-8357-4021-9974-BC7254047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9E6485-BE02-439E-8710-DFA045022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D79D41-2ECD-4196-A313-860B34523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53CDFB-D564-4FAB-9A72-8CDB6A744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22BA80-74C0-4B36-B9BE-2584B9283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D9AA0D-9B3E-4291-BBF4-F9044A893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7877F4-DA0C-4B1E-BDF7-91C9FD2D8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910C3C-E93F-4239-A990-671B8E0E6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F255CD-B5D0-4752-98DF-5DE00480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57BD4-68D9-4AD0-A78C-F9133D71F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14BC40-2791-4699-B445-9061F361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503BA6-6C7C-451C-A3F0-9FBBD491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D0AD67-82AC-4E02-8959-78893B385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6C6E62-7E16-41E4-9F7B-998D06190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27EEAB-D0AC-430E-9947-27312E2E8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2B86C6-539E-40FE-9A97-25E7973F5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D8FEE6-0ECF-4736-AE8D-C5F4B8170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FE464B-5B75-4C8B-8630-A7B9AB3ED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A5F555-525D-4644-92E5-C19F5D2C1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AE6CF8-6E1D-420A-A73D-9D74C96C5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65C0F-E0A1-41A4-A052-C00B38C4C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C897FC-70F4-4361-9C9E-FF40BAFBC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7F122D-9477-4FA4-8CCF-B6584FC86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528116-8FBE-4532-A4AB-47B0232A5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D6718A-9383-426F-8F8B-3A6E224B3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34DC87-1927-401F-BD26-E82FF3D4C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1CD569-0C3C-468A-B23B-7F600B119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1EB22E-6DDB-40BA-8913-C4426E397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F1ED1A-F0BD-4177-B754-2DA6EF532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C3929B-B022-4B04-8C15-E9BB82546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C8DE53-20F6-4CBD-9000-F40CD909A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C5584-DFD3-4BA6-AA90-9259E6C22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C130C7-4192-4142-8F69-7BE957E64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286390-5845-404C-9488-E455BE6C6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A4D74E-E931-4C60-87D6-B9C698397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184BA7-AD9C-40DC-BB4A-F992335D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228BF2-F7AC-4ED6-875A-42A1E9A2B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E235A8-5A3C-4800-BB87-F6B347944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388865-B561-4131-8437-829C4137F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FCF48B-B240-44A0-A2EB-EFCEFD89C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2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F53B81-AF3F-40DA-A6BC-6E7D4C9A0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C7693F-6201-4260-86AF-945CBC002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5998E-7426-4EC5-9744-D3705BD21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BDC939-E703-43BA-8CF4-4813A66E6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B179AE-7795-437D-9D7B-142C25BC7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4153F7-2486-43A6-A4FA-FA93A4039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663725-B730-4E73-8E75-5F2DC5614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A65FB9-7445-4EB9-BAE1-CA906CA2A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24C232-D624-44F8-8B9E-C03EF13CB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7AC6D8-AE50-4DB6-8BC5-A719B9C3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C467AE-5886-4FC6-8877-E88C8E22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7C345A-A0C9-4643-8365-81CAB9022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242AAE-9CA1-4C22-8CE9-7B3070D20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93FF4-454B-47B1-9D47-FB42C9B95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082D63-7A37-457A-9C03-7CD0F6C52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36EE49-89CA-4FAF-9501-8ECD9BC75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B35870-2347-4585-B129-1D67B2929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6BCAA4-D300-417B-B12C-06CA84A1A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B98FAD-7A01-412F-A5CE-8948824E5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F10F89-D703-4B05-BF35-DDB54D585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DC3228-32F4-44AF-8AF0-E5B9F24A9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480264-B317-4653-8045-6A66E296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AAD615-9861-41F6-80B1-BEDBDDCF0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F62003-E737-499A-B541-BBE903F3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1A391-990B-4DB0-9566-9BADA36F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FFE7A2-6253-4CF0-BB5B-4FBFECC38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BEECF5-E578-444E-B752-92DF073F1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B3F049-6020-4F17-A7C2-0E2E50B6F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88BA57-22CF-4EFB-A7E3-3FB77D231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ED7BD5-B603-4480-A200-AE81C0F64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F55B86-0857-4BDD-8EC4-960CADB51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656CC4-2EBB-49AE-BC98-EDDF54173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B72602-7987-49EB-812F-B087418AE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FF51D0-03F4-4365-AA58-C20F731D1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D7682C-B3E3-4B5F-B8FF-89D2DDCE5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9B48-E935-496B-B14A-574B60A9F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79180-5AF9-4D30-8B87-6AED98577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19D568-1872-4C97-9746-286B1BAA8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B43A27-47F8-48BF-BD55-D68D8376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58747E-81AD-4E3F-A251-4AAFF97DD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6D5570-E858-43A0-886C-8786E1E24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40061B-F724-4FCF-BC01-610BB0836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F13638-72BB-4ECC-A376-E4CEF384A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4B73B6-B5BA-49B0-9A2B-29425067B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799B46-29BD-4A39-AC0B-E4B18BCFA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90E20E-7B9D-42AA-BBEA-2B69296AD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3C1131-D061-4E4C-9C02-0C3D442FD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FC7A3-EA49-4DE6-9339-A0F4CA8A4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5F4380-8117-49F1-9AFD-50AB7D4E3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870885-51D2-4827-A696-5686E1818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47B1F8-0749-4D0D-BA3A-83F0F8F5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728635-2B2C-46CE-AB9A-26C625BF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92D41F-ED75-445E-A693-FEA7895CF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1F3F4C-394C-4DEC-BB23-4D2A24E0F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675FEE-0D79-4FF1-A063-78497C7E2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51291-ABAA-4A80-8D22-CC5C2EC29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2CAE2-6F28-4CDA-8E43-C3FC59D0B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94716-27BD-4740-88D7-0CDAA9942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A9186-BA81-42CE-B203-78DA94BD6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88168-32E9-417F-BE60-41E9069A8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BCD3B-71BB-4010-ACB9-8A312996A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17328-C88B-4CA9-B2ED-C48297AAC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04C1C-6F65-497C-9FA4-2772F74C6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E815-AFBC-4A28-BB14-6B6D79902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093F4-9674-4F70-8408-EF6B337A3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EBCEA-6B92-4B2C-A933-A3BD59EFA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400CE-EEE7-4F78-A920-EE7CE713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4A602-9688-4756-8B4B-07598881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2EDAA-8152-4F90-B28C-0525B2539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3AE40-D214-4837-8ECD-9344CAF8D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3038B-939C-4F26-A5E6-19BEDAE29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BDA2D-2793-4B95-9B4A-6FBB11B79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B5341-3E1F-4D02-89C8-F3B2CAC62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E9614-560D-4904-B626-7474B8ACD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B08B-09E2-491D-BCD2-D60357823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612E2-A354-48ED-B069-CF4420F89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EFEE2-3454-4FFD-9DE6-F62AE8CE2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218C1-7019-4B23-9DB5-27A727C8E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D5B69-4488-42FD-B7A3-A9760A569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ED17B-7E46-4F2C-B127-D491FCA95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62B63-4401-4CE8-AE9A-91698A80C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427A4-DF6E-43E9-9742-B3E09AEDE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3078E-CBEC-484F-9EA8-586BE1B08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CF2C8-D560-41C2-859B-12040483B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E567E-61D1-4457-9D87-EC9766B2C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93C5-A398-4C3C-97F9-9207C2E5F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DF87BD-B877-41A4-A611-325F091C0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FE04CF-B481-4CE7-9B99-10AC36A69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91DB9-FB1D-491B-BDF3-C6627BE8B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3C28E-3DE9-47D8-B927-169BBC0A2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EA7CED-724C-41E3-ACB5-71701298B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FB42F-CD7A-4854-8964-580FC2303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5135A5-683F-4BC6-B093-6F216B9B1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24CDC0-5459-4C76-9356-2E759D2EB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5C3E3-9AF3-4028-861D-DC9661813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A3B4E-AEE4-4650-95C3-7DCFFB12C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F025-93A7-4240-852D-4F5A221CD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E064DD-8143-455E-A55E-AEF202DF8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2AA238-7994-4DAE-85B7-A236818BE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CCDDD2-5A42-4566-A9F0-80539E23E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DE5D20-B5B8-44A8-AEA9-167AB3A48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66A42B-1979-4488-85BA-CBEFF631F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F333DF-79B0-474A-9D8C-D28615BC7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A1C1CC-0061-4070-A684-A04CB4CDF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5751F0-1A6A-49BE-908B-335576574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C67E63-36C2-4498-9E48-C5B144AF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E10CC5-202A-4D24-90A5-93D2E8F74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4AB1-E8C9-4974-ABFD-DCD151976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2D38F-1C1D-40BA-8790-55CB2AEDC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F81F5E-9D18-4540-ABFA-84D4B1071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42811C-FE5E-480D-B9CB-BF3CFED2C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C8FD97-C88A-4371-AA4C-CA9DFAF8D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CDD6FA-CB71-4062-965D-13C5B0277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E542BD-A0FB-4014-A02F-9E93789F4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B82B80-37CD-4C27-B591-55C653E06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FB6203-E86A-4696-82E4-0E1D53663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B6BC12-2F0C-46C2-A9F6-3F3273B1B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25D080-BFA0-4FC6-BBAC-3B27E11CC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8D9A-4DFB-4A54-BD48-365A26E7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29FDB8-B953-4FC1-9FB2-D080F9AFD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C98E91-F771-4C8E-A62A-4DB3CCEA4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E5AA23-E39B-49E8-BC2D-271B1D186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732D6A-DE9D-441A-9CDE-DD37072D8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EFBA6E-5E21-4EA2-B2EB-9C9E57CBB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73BEFF-D931-4188-ADE8-D77DC18CA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73D70B-B15E-40AB-9411-93D338DEE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2219CB-CD65-4152-B0CF-C6142C56B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40311E-905D-4AFC-AE08-EE8F9AC50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3AAB88-7F08-46D3-B558-540DF6BB1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9CF9-30C6-484F-BC1F-297D395D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BF9DB9-25E8-4369-9E39-ADC57CF9F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B5755C-4135-46BF-B56F-C4D7FD798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FE3090-06EC-46E9-87DD-7852AA82B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71EB27-B73A-4F96-8D55-4B959601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752917-C8E7-4EF9-AC9F-423DA6070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3927F0-3386-4B14-9ADB-1B24CF181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D7BFBD-01B0-43E6-B0F7-941F29202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A07142-763C-421D-8F14-609759C70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DC0A59-FC08-49A5-9C47-79188B98B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804572-F300-4957-9F38-6B2B47F1D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E550E-691F-49DC-A771-D6B02BAF232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1CF50-5EAF-4968-B7C8-F54F7A4DACE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450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3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4D2DD-67A2-4F07-828A-E6E2553BB86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3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94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97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00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ftr" idx="35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sldNum" idx="3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3EEA7-BBAD-4FD2-A99E-E61EA7B921A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3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54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dt" idx="3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ftr" idx="3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 type="sldNum" idx="3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5F8EA-0223-461A-A986-A3F6DF04425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7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588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9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dt" idx="4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 type="ftr" idx="4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 type="sldNum" idx="42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915E0-9F20-4958-B66A-E0E37449F65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dt" idx="4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 type="ftr" idx="4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 type="sldNum" idx="4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BFE68-C121-416C-B1ED-3414D832277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673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4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 type="dt" idx="4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 type="ftr" idx="4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 type="sldNum" idx="4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04C9B-489F-461C-A567-05670728AA1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 type="dt" idx="4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 type="ftr" idx="5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 type="sldNum" idx="5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DD771-49DA-405E-AF10-D2D5C077A2E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 type="dt" idx="5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 type="ftr" idx="5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 type="sldNum" idx="5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63029-38AC-4E7B-AD71-7CB0167793E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CC8DE-951C-4D40-B8CD-B44F7D2F7B2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5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6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10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EC110-FD52-4D04-9F9A-6E822C25EDE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4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4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5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CA284-AA87-4E1F-BED0-7FB1CB3CBAE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9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D2EC6-E998-443F-A8C2-9BFB85E84E4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3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59ECE-B652-4E42-80C7-3DBF863594E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24751-FC78-43F3-BE8C-31057E7C6A0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32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B9526-365F-4FEB-913B-E53C5B552FF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4519C-C841-4CD1-8F13-BAB81D01E80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Группа 17"/>
          <p:cNvGrpSpPr/>
          <p:nvPr/>
        </p:nvGrpSpPr>
        <p:grpSpPr>
          <a:xfrm>
            <a:off x="3071880" y="1857240"/>
            <a:ext cx="2786040" cy="1951200"/>
            <a:chOff x="3071880" y="1857240"/>
            <a:chExt cx="2786040" cy="1951200"/>
          </a:xfrm>
        </p:grpSpPr>
        <p:pic>
          <p:nvPicPr>
            <p:cNvPr id="799" name="Picture 2" descr="H:\segerstromHall.jpg"/>
            <p:cNvPicPr/>
            <p:nvPr/>
          </p:nvPicPr>
          <p:blipFill>
            <a:blip r:embed="rId1"/>
            <a:stretch/>
          </p:blipFill>
          <p:spPr>
            <a:xfrm>
              <a:off x="3071880" y="1857240"/>
              <a:ext cx="2786040" cy="195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0" name="Прямоугольник 15"/>
            <p:cNvSpPr/>
            <p:nvPr/>
          </p:nvSpPr>
          <p:spPr>
            <a:xfrm>
              <a:off x="3152520" y="3143160"/>
              <a:ext cx="2637720" cy="581400"/>
            </a:xfrm>
            <a:prstGeom prst="rect">
              <a:avLst/>
            </a:prstGeom>
            <a:noFill/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a </a:t>
              </a:r>
              <a:r>
                <a:rPr b="1" lang="ru-RU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concert hal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1" name="TextBox 16"/>
          <p:cNvSpPr/>
          <p:nvPr/>
        </p:nvSpPr>
        <p:spPr>
          <a:xfrm>
            <a:off x="3286080" y="1000080"/>
            <a:ext cx="714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2" name="Группа 19"/>
          <p:cNvGrpSpPr/>
          <p:nvPr/>
        </p:nvGrpSpPr>
        <p:grpSpPr>
          <a:xfrm>
            <a:off x="214200" y="1000080"/>
            <a:ext cx="2714760" cy="2428920"/>
            <a:chOff x="214200" y="1000080"/>
            <a:chExt cx="2714760" cy="2428920"/>
          </a:xfrm>
        </p:grpSpPr>
        <p:pic>
          <p:nvPicPr>
            <p:cNvPr id="803" name="Picture 7" descr="H:\zoo_fn.jpg"/>
            <p:cNvPicPr/>
            <p:nvPr/>
          </p:nvPicPr>
          <p:blipFill>
            <a:blip r:embed="rId2"/>
            <a:stretch/>
          </p:blipFill>
          <p:spPr>
            <a:xfrm>
              <a:off x="214200" y="1000080"/>
              <a:ext cx="2714760" cy="24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4" name="Прямоугольник 10"/>
            <p:cNvSpPr/>
            <p:nvPr/>
          </p:nvSpPr>
          <p:spPr>
            <a:xfrm>
              <a:off x="928440" y="2714760"/>
              <a:ext cx="1571760" cy="581400"/>
            </a:xfrm>
            <a:prstGeom prst="rect">
              <a:avLst/>
            </a:prstGeom>
            <a:noFill/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a </a:t>
              </a:r>
              <a:r>
                <a:rPr b="1" lang="ru-RU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zo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TextBox 18"/>
            <p:cNvSpPr/>
            <p:nvPr/>
          </p:nvSpPr>
          <p:spPr>
            <a:xfrm>
              <a:off x="2357640" y="1071360"/>
              <a:ext cx="500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00"/>
                  </a:solidFill>
                  <a:latin typeface="Arial"/>
                </a:rPr>
                <a:t>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Группа 21"/>
          <p:cNvGrpSpPr/>
          <p:nvPr/>
        </p:nvGrpSpPr>
        <p:grpSpPr>
          <a:xfrm>
            <a:off x="5143680" y="-357120"/>
            <a:ext cx="3792240" cy="2786040"/>
            <a:chOff x="5143680" y="-357120"/>
            <a:chExt cx="3792240" cy="2786040"/>
          </a:xfrm>
        </p:grpSpPr>
        <p:pic>
          <p:nvPicPr>
            <p:cNvPr id="807" name="Picture 6" descr="H:\Tommys_Beverly_7.jpg"/>
            <p:cNvPicPr/>
            <p:nvPr/>
          </p:nvPicPr>
          <p:blipFill>
            <a:blip r:embed="rId3"/>
            <a:stretch/>
          </p:blipFill>
          <p:spPr>
            <a:xfrm>
              <a:off x="5143680" y="174600"/>
              <a:ext cx="3792240" cy="225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8" name="Прямоугольник 12"/>
            <p:cNvSpPr/>
            <p:nvPr/>
          </p:nvSpPr>
          <p:spPr>
            <a:xfrm>
              <a:off x="5929200" y="1214640"/>
              <a:ext cx="2368440" cy="1068840"/>
            </a:xfrm>
            <a:prstGeom prst="rect">
              <a:avLst/>
            </a:prstGeom>
            <a:noFill/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а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fast food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restauran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TextBox 20"/>
            <p:cNvSpPr/>
            <p:nvPr/>
          </p:nvSpPr>
          <p:spPr>
            <a:xfrm>
              <a:off x="5572080" y="-357120"/>
              <a:ext cx="7142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1" lang="en-US" sz="4400" spc="-1" strike="noStrike">
                  <a:solidFill>
                    <a:srgbClr val="ffff00"/>
                  </a:solidFill>
                  <a:latin typeface="Arial"/>
                </a:rPr>
                <a:t>C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0" name="Группа 23"/>
          <p:cNvGrpSpPr/>
          <p:nvPr/>
        </p:nvGrpSpPr>
        <p:grpSpPr>
          <a:xfrm>
            <a:off x="214200" y="3143160"/>
            <a:ext cx="3113280" cy="2928960"/>
            <a:chOff x="214200" y="3143160"/>
            <a:chExt cx="3113280" cy="2928960"/>
          </a:xfrm>
        </p:grpSpPr>
        <p:pic>
          <p:nvPicPr>
            <p:cNvPr id="811" name="Picture 3" descr="H:\national-portrait-gallery.jpg"/>
            <p:cNvPicPr/>
            <p:nvPr/>
          </p:nvPicPr>
          <p:blipFill>
            <a:blip r:embed="rId4"/>
            <a:stretch/>
          </p:blipFill>
          <p:spPr>
            <a:xfrm>
              <a:off x="214200" y="3857400"/>
              <a:ext cx="3113280" cy="221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2" name="Прямоугольник 14"/>
            <p:cNvSpPr/>
            <p:nvPr/>
          </p:nvSpPr>
          <p:spPr>
            <a:xfrm>
              <a:off x="437040" y="5357880"/>
              <a:ext cx="2638800" cy="581400"/>
            </a:xfrm>
            <a:prstGeom prst="rect">
              <a:avLst/>
            </a:prstGeom>
            <a:noFill/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an </a:t>
              </a:r>
              <a:r>
                <a:rPr b="1" lang="ru-RU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art galle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TextBox 22"/>
            <p:cNvSpPr/>
            <p:nvPr/>
          </p:nvSpPr>
          <p:spPr>
            <a:xfrm>
              <a:off x="214200" y="3143160"/>
              <a:ext cx="7142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1" lang="en-US" sz="44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Группа 25"/>
          <p:cNvGrpSpPr/>
          <p:nvPr/>
        </p:nvGrpSpPr>
        <p:grpSpPr>
          <a:xfrm>
            <a:off x="5929200" y="2143080"/>
            <a:ext cx="2978280" cy="2928960"/>
            <a:chOff x="5929200" y="2143080"/>
            <a:chExt cx="2978280" cy="2928960"/>
          </a:xfrm>
        </p:grpSpPr>
        <p:grpSp>
          <p:nvGrpSpPr>
            <p:cNvPr id="815" name="Группа 11"/>
            <p:cNvGrpSpPr/>
            <p:nvPr/>
          </p:nvGrpSpPr>
          <p:grpSpPr>
            <a:xfrm>
              <a:off x="5929200" y="2500200"/>
              <a:ext cx="2978280" cy="2571840"/>
              <a:chOff x="5929200" y="2500200"/>
              <a:chExt cx="2978280" cy="2571840"/>
            </a:xfrm>
          </p:grpSpPr>
          <p:sp>
            <p:nvSpPr>
              <p:cNvPr id="816" name="TextBox 9"/>
              <p:cNvSpPr/>
              <p:nvPr/>
            </p:nvSpPr>
            <p:spPr>
              <a:xfrm>
                <a:off x="6572160" y="2582640"/>
                <a:ext cx="2000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d3b9b3"/>
                    </a:solidFill>
                    <a:latin typeface="Times New Roman"/>
                    <a:ea typeface="Times New Roman"/>
                  </a:rPr>
                  <a:t>Crazy Rid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17" name="Picture 4" descr="H:\theme_parks_13.jpg"/>
              <p:cNvPicPr/>
              <p:nvPr/>
            </p:nvPicPr>
            <p:blipFill>
              <a:blip r:embed="rId5"/>
              <a:stretch/>
            </p:blipFill>
            <p:spPr>
              <a:xfrm>
                <a:off x="5929200" y="2500200"/>
                <a:ext cx="2978280" cy="2571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18" name="Прямоугольник 13"/>
            <p:cNvSpPr/>
            <p:nvPr/>
          </p:nvSpPr>
          <p:spPr>
            <a:xfrm>
              <a:off x="6149520" y="3857760"/>
              <a:ext cx="2681640" cy="1068840"/>
            </a:xfrm>
            <a:prstGeom prst="rect">
              <a:avLst/>
            </a:prstGeom>
            <a:noFill/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an </a:t>
              </a:r>
              <a:r>
                <a:rPr b="1" lang="ru-RU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adventure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par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TextBox 24"/>
            <p:cNvSpPr/>
            <p:nvPr/>
          </p:nvSpPr>
          <p:spPr>
            <a:xfrm>
              <a:off x="8143920" y="2143080"/>
              <a:ext cx="7142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1" lang="en-US" sz="4400" spc="-1" strike="noStrike">
                  <a:solidFill>
                    <a:srgbClr val="ffff00"/>
                  </a:solidFill>
                  <a:latin typeface="Arial"/>
                </a:rPr>
                <a:t>D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Группа 27"/>
          <p:cNvGrpSpPr/>
          <p:nvPr/>
        </p:nvGrpSpPr>
        <p:grpSpPr>
          <a:xfrm>
            <a:off x="3429000" y="4429080"/>
            <a:ext cx="3143160" cy="2166840"/>
            <a:chOff x="3429000" y="4429080"/>
            <a:chExt cx="3143160" cy="2166840"/>
          </a:xfrm>
        </p:grpSpPr>
        <p:pic>
          <p:nvPicPr>
            <p:cNvPr id="821" name="Picture 8" descr="H:\0_770d7_416146b2_XL.jpg"/>
            <p:cNvPicPr/>
            <p:nvPr/>
          </p:nvPicPr>
          <p:blipFill>
            <a:blip r:embed="rId6"/>
            <a:stretch/>
          </p:blipFill>
          <p:spPr>
            <a:xfrm>
              <a:off x="3429000" y="4429080"/>
              <a:ext cx="3143160" cy="21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2" name="Прямоугольник 11"/>
            <p:cNvSpPr/>
            <p:nvPr/>
          </p:nvSpPr>
          <p:spPr>
            <a:xfrm>
              <a:off x="4146480" y="5902200"/>
              <a:ext cx="1834560" cy="581400"/>
            </a:xfrm>
            <a:prstGeom prst="rect">
              <a:avLst/>
            </a:prstGeom>
            <a:noFill/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a </a:t>
              </a:r>
              <a:r>
                <a:rPr b="1" lang="ru-RU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heat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TextBox 26"/>
            <p:cNvSpPr/>
            <p:nvPr/>
          </p:nvSpPr>
          <p:spPr>
            <a:xfrm>
              <a:off x="3643200" y="4473360"/>
              <a:ext cx="714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1" lang="en-US" sz="4400" spc="-1" strike="noStrike">
                  <a:solidFill>
                    <a:srgbClr val="ffff00"/>
                  </a:solidFill>
                  <a:latin typeface="Arial"/>
                </a:rPr>
                <a:t>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24" name="TextBox 28" descr=""/>
          <p:cNvPicPr/>
          <p:nvPr/>
        </p:nvPicPr>
        <p:blipFill>
          <a:blip r:embed="rId7"/>
          <a:stretch/>
        </p:blipFill>
        <p:spPr>
          <a:xfrm>
            <a:off x="378000" y="-133200"/>
            <a:ext cx="5790960" cy="1590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1"/>
          <p:cNvSpPr/>
          <p:nvPr/>
        </p:nvSpPr>
        <p:spPr>
          <a:xfrm>
            <a:off x="250920" y="140400"/>
            <a:ext cx="8064360" cy="39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730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What can you do at the zo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730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What can you do at an art galle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730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What can you do at a theat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730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What can you do at a fast food restaur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730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What can you do at an adventure par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730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What can you do at a concert ha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730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Bookman Old Style"/>
              <a:buChar char="-"/>
              <a:tabLst>
                <a:tab algn="l" pos="1730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6" name="Picture 3" descr="D:\Мамина папка\Анимационные картинки, рамки и картинки о школе\c31415.jpg"/>
          <p:cNvPicPr/>
          <p:nvPr/>
        </p:nvPicPr>
        <p:blipFill>
          <a:blip r:embed="rId1"/>
          <a:stretch/>
        </p:blipFill>
        <p:spPr>
          <a:xfrm>
            <a:off x="6948360" y="189000"/>
            <a:ext cx="1650960" cy="1582560"/>
          </a:xfrm>
          <a:prstGeom prst="rect">
            <a:avLst/>
          </a:prstGeom>
          <a:ln w="0">
            <a:noFill/>
          </a:ln>
        </p:spPr>
      </p:pic>
      <p:sp>
        <p:nvSpPr>
          <p:cNvPr id="827" name="Прямоугольник 3"/>
          <p:cNvSpPr/>
          <p:nvPr/>
        </p:nvSpPr>
        <p:spPr>
          <a:xfrm>
            <a:off x="179280" y="3933720"/>
            <a:ext cx="1368360" cy="719280"/>
          </a:xfrm>
          <a:prstGeom prst="rect">
            <a:avLst/>
          </a:prstGeom>
          <a:solidFill>
            <a:srgbClr val="eee0db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I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Прямоугольник 4"/>
          <p:cNvSpPr/>
          <p:nvPr/>
        </p:nvSpPr>
        <p:spPr>
          <a:xfrm>
            <a:off x="1692360" y="3213000"/>
            <a:ext cx="2879640" cy="2952720"/>
          </a:xfrm>
          <a:prstGeom prst="rect">
            <a:avLst/>
          </a:prstGeom>
          <a:solidFill>
            <a:srgbClr val="eee0db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see wild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listen to mus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look at pain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watch a 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eat a bur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go on a roller coa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Прямоугольник 5"/>
          <p:cNvSpPr/>
          <p:nvPr/>
        </p:nvSpPr>
        <p:spPr>
          <a:xfrm>
            <a:off x="4643280" y="3645000"/>
            <a:ext cx="2521080" cy="1584360"/>
          </a:xfrm>
          <a:prstGeom prst="rect">
            <a:avLst/>
          </a:prstGeom>
          <a:solidFill>
            <a:srgbClr val="eee0db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Franklin Gothic Book"/>
              </a:rPr>
              <a:t>at…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на открытой местности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Franklin Gothic Book"/>
              </a:rPr>
              <a:t>in…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(внутр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Прямоугольник 6"/>
          <p:cNvSpPr/>
          <p:nvPr/>
        </p:nvSpPr>
        <p:spPr>
          <a:xfrm>
            <a:off x="7308720" y="2637000"/>
            <a:ext cx="1584360" cy="1079280"/>
          </a:xfrm>
          <a:prstGeom prst="rect">
            <a:avLst/>
          </a:prstGeom>
          <a:solidFill>
            <a:srgbClr val="d9d9d9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Franklin Gothic Book"/>
              </a:rPr>
              <a:t>at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the bus stop (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на автобусной остановке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Прямоугольник 7"/>
          <p:cNvSpPr/>
          <p:nvPr/>
        </p:nvSpPr>
        <p:spPr>
          <a:xfrm>
            <a:off x="7380360" y="5013360"/>
            <a:ext cx="1584360" cy="1368360"/>
          </a:xfrm>
          <a:prstGeom prst="rect">
            <a:avLst/>
          </a:prstGeom>
          <a:solidFill>
            <a:srgbClr val="d9d9d9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Franklin Gothic Book"/>
              </a:rPr>
              <a:t>In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a fast food restaurant (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в ресторане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TextBox 1"/>
          <p:cNvSpPr/>
          <p:nvPr/>
        </p:nvSpPr>
        <p:spPr>
          <a:xfrm>
            <a:off x="428760" y="285840"/>
            <a:ext cx="328608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Gramm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Box 2"/>
          <p:cNvSpPr/>
          <p:nvPr/>
        </p:nvSpPr>
        <p:spPr>
          <a:xfrm>
            <a:off x="1928880" y="1000080"/>
            <a:ext cx="392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must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ust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Box 3"/>
          <p:cNvSpPr/>
          <p:nvPr/>
        </p:nvSpPr>
        <p:spPr>
          <a:xfrm>
            <a:off x="324000" y="1916280"/>
            <a:ext cx="5257800" cy="1191240"/>
          </a:xfrm>
          <a:prstGeom prst="rect">
            <a:avLst/>
          </a:prstGeom>
          <a:solidFill>
            <a:srgbClr val="fbeec9"/>
          </a:solidFill>
          <a:ln w="93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mu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e quiet in here.  (ru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mustn’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uch the paintings. (prohibition/you aren’t allowed to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5" name="Picture 2" descr="H:\130x130_L-0621.jpg"/>
          <p:cNvPicPr/>
          <p:nvPr/>
        </p:nvPicPr>
        <p:blipFill>
          <a:blip r:embed="rId1"/>
          <a:stretch/>
        </p:blipFill>
        <p:spPr>
          <a:xfrm>
            <a:off x="1042920" y="3500280"/>
            <a:ext cx="2448000" cy="1768680"/>
          </a:xfrm>
          <a:prstGeom prst="rect">
            <a:avLst/>
          </a:prstGeom>
          <a:ln w="0">
            <a:noFill/>
          </a:ln>
        </p:spPr>
      </p:pic>
      <p:sp>
        <p:nvSpPr>
          <p:cNvPr id="836" name="Прямоугольник 5"/>
          <p:cNvSpPr/>
          <p:nvPr/>
        </p:nvSpPr>
        <p:spPr>
          <a:xfrm>
            <a:off x="468360" y="5373720"/>
            <a:ext cx="34560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mustn’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mok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prohibition/you aren’t allowed to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7" name="Picture 9" descr="traffic-light-red-clip-art_430854"/>
          <p:cNvPicPr/>
          <p:nvPr/>
        </p:nvPicPr>
        <p:blipFill>
          <a:blip r:embed="rId2"/>
          <a:stretch/>
        </p:blipFill>
        <p:spPr>
          <a:xfrm>
            <a:off x="6156360" y="2492280"/>
            <a:ext cx="1735200" cy="2044800"/>
          </a:xfrm>
          <a:prstGeom prst="rect">
            <a:avLst/>
          </a:prstGeom>
          <a:ln w="0">
            <a:noFill/>
          </a:ln>
        </p:spPr>
      </p:pic>
      <p:sp>
        <p:nvSpPr>
          <p:cNvPr id="838" name="Rectangle 10"/>
          <p:cNvSpPr/>
          <p:nvPr/>
        </p:nvSpPr>
        <p:spPr>
          <a:xfrm>
            <a:off x="5149080" y="4797360"/>
            <a:ext cx="37954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c4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mu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op 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d traffic light. (ru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Box 6"/>
          <p:cNvSpPr/>
          <p:nvPr/>
        </p:nvSpPr>
        <p:spPr>
          <a:xfrm>
            <a:off x="4211640" y="333360"/>
            <a:ext cx="475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e and celebrate our town’s 50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)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birth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een Palace 1)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a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Friday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17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ar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ry for everybod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ldren must be with an 5)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adul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 Box 7"/>
          <p:cNvSpPr/>
          <p:nvPr/>
        </p:nvSpPr>
        <p:spPr>
          <a:xfrm>
            <a:off x="1042920" y="5013360"/>
            <a:ext cx="439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8"/>
          <p:cNvSpPr/>
          <p:nvPr/>
        </p:nvSpPr>
        <p:spPr>
          <a:xfrm>
            <a:off x="4067280" y="3860640"/>
            <a:ext cx="4897440" cy="2806200"/>
          </a:xfrm>
          <a:prstGeom prst="rect">
            <a:avLst/>
          </a:prstGeom>
          <a:solidFill>
            <a:srgbClr val="ffffff"/>
          </a:solidFill>
          <a:ln w="93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Georgia"/>
              </a:rPr>
              <a:t>Answer the 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re does it take pla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n is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time does it start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much does it co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2" name="Группа 5"/>
          <p:cNvGrpSpPr/>
          <p:nvPr/>
        </p:nvGrpSpPr>
        <p:grpSpPr>
          <a:xfrm>
            <a:off x="179280" y="476280"/>
            <a:ext cx="3600720" cy="4896000"/>
            <a:chOff x="179280" y="476280"/>
            <a:chExt cx="3600720" cy="4896000"/>
          </a:xfrm>
        </p:grpSpPr>
        <p:pic>
          <p:nvPicPr>
            <p:cNvPr id="843" name="Picture 2" descr="H:\mzl_pzjinkjm_480x480-75.jpg"/>
            <p:cNvPicPr/>
            <p:nvPr/>
          </p:nvPicPr>
          <p:blipFill>
            <a:blip r:embed="rId1"/>
            <a:stretch/>
          </p:blipFill>
          <p:spPr>
            <a:xfrm>
              <a:off x="279720" y="1452960"/>
              <a:ext cx="3413880" cy="39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4" name="TextBox 4" descr=""/>
            <p:cNvPicPr/>
            <p:nvPr/>
          </p:nvPicPr>
          <p:blipFill>
            <a:blip r:embed="rId2"/>
            <a:stretch/>
          </p:blipFill>
          <p:spPr>
            <a:xfrm>
              <a:off x="179280" y="476280"/>
              <a:ext cx="3600720" cy="1730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7T10:06:18Z</dcterms:created>
  <dc:creator>Home</dc:creator>
  <dc:description/>
  <dc:language>en-US</dc:language>
  <cp:lastModifiedBy>Наталья</cp:lastModifiedBy>
  <dcterms:modified xsi:type="dcterms:W3CDTF">2020-11-26T15:29:47Z</dcterms:modified>
  <cp:revision>115</cp:revision>
  <dc:subject/>
  <dc:title>Слайд 1</dc:title>
</cp:coreProperties>
</file>