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1E0-5EDF-44CB-B5E0-E28A270B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673-7511-48C5-8541-A566869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AEC5F-9307-421A-A3A6-25AC67C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F5E53-BCC4-49E6-97B8-424F368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0700E-C824-4383-BACB-46A0CA4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6F661-65B4-4794-8AB9-547467C1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A9384-B323-4F96-AE00-839711F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2F7C8-FABF-44E1-87E3-276B919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74B83-CF9C-4A1A-9F14-C1414444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75E2B-409B-427E-BD2F-E4059882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4C9AA-13F6-47EC-9C41-7E85FD2E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A491F-569B-42DE-B052-CC3F92D0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370-1F38-43CB-B166-AAA37A3A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C230B-7ECC-4A2F-839E-2B9681F9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2318B-1843-4072-94DF-D9A223FD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46B3E-5059-47DF-A4B2-87FAE793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AF7E3-781C-4028-9B97-3A3ACC70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538CE-75CD-4079-BE9C-A8320159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87579-D512-4EFC-A2DA-7D47890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41DF3-A296-44FE-ABC8-28A5E18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D9D04-953B-4AA6-8F14-E9E38A63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04D09-CC3F-418C-9F69-D61748A2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B3E83-436B-4260-A4F2-788ED272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3BB-CCCE-4DE5-A8E7-346F2CF0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CB9C9-4AA6-42CB-B348-4D967C02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EB2EA-82BA-48DB-999C-903BED7A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FB2BC-30D5-4A10-A321-10F889F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028B0-9EF7-4708-BBAF-028BEB4C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98FF6-3E94-4DCC-A48D-2DC8D05B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3F003-FEBC-4420-8262-70A47B0E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A871A-4C74-40CF-B9E8-C2699DFC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E48D5-0EB8-42AA-91CE-E9ED135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D78EF-4995-4207-B062-F100A8B7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25956-3437-4E65-9C8A-A396DD13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1BED-7BE5-4F1F-86E2-94137EBC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476AB-AFB0-40C2-9E17-4780D79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3B47A-E64A-4EC1-98B8-58970375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991B8-FFE2-4E3E-A4CA-DC38849E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16D59-A1D2-4722-BAA9-60D33D65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31951-EE4A-45B7-8068-A4F0A84F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6655A-30C8-4970-8145-63F8300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363B1-C962-4542-915A-14E36BA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34639-0735-4DC2-A6B8-365CCE97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F25E2-BDA0-435C-803A-3A66D64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CF32A-E8F2-4CEE-87AB-ADF33814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36E0-C01B-4601-AFCE-EFFA33A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9E21E-6F2C-49D6-9758-5C5AFACA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8D481-8E2F-4370-A13C-CCB9A4B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E889B-A9EC-47B1-B059-0CC2F43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D6A5C-A70C-4ED7-A80C-36C39BA4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A28EC-2D91-4998-B54E-AB978B1A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814CE-89FB-400E-A262-01DFCCE4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68E71-FB73-49E9-951E-9A6BFA8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01905-8C4C-4616-A34C-9D8F2227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3A824-7ECA-489D-81F5-E01CC3D3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3F27E-A86E-4881-85D1-1E09A65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C5F-5C06-459A-A15F-460EFB8D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C40AB-CC92-4C21-B71E-6B8959F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57980-11AC-43AE-BEE7-1554A2C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A51F4-1B0C-4426-824D-62A8D5B5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911A6-E52D-4838-9606-1AC54236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F6A66-7A73-4B96-905E-55726D5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514BD-CE93-4C62-AD27-704E6A4D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651D7-ED37-4CD9-A963-03DBAEEC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FDBD0-F78D-4C61-A815-0CCBFED9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252B9-AE1C-4859-98F5-D59A3D0D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77CF9-FC21-40C5-9383-15539D7D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9ECB-DEBE-4EFF-B2B1-E8077A33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B7B1C-53AC-4417-B8A3-5A88482C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06AC5-6DE9-4E20-9A32-4505305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1C118-70F7-48BA-BA1D-AE3C1D89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29BB7-D2CE-4BCE-B42D-EE0CE8E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263B6-E3FF-4064-85A4-14F4295F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5211F-ACBA-4798-8669-35B64A0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3CC7B-12AE-46BE-B99B-483D668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E9D0B-F62B-4089-AEF2-825D3F4C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6B894-55E9-44BC-8723-1058949E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32C29-2424-4C93-A1CC-74BD7408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F38B-8F5B-477A-AAAD-39F4AFE2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CACFA-4CC3-49B7-9107-D00885CB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B39C8-25BA-4EC8-869C-8B86C067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CB078-E94D-4339-B137-32080325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C309D-FB0D-43E7-BC63-3DC1801D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81676-FE2B-482D-9177-801411AC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B5DA5-BAF6-4E24-BA30-D8A2502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31584-8D72-4160-B5CA-C70141E6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1218F-5A23-40E4-BD97-66E0E2C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1A953-0A7E-4568-94C2-C94E6B7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DB171-E6EA-4B66-AB09-B3E2B1A9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1264-8F8A-436A-9745-34DD4F14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D46C6-7299-438A-9D16-742EEBD4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83F67-6B4B-48AA-8A8F-FA0002C6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BB6DD-A42A-4636-B580-9E7277C7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FF7F7-0D09-431F-B670-7B911FFA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3479F-40A4-4C88-BA75-0ADC9B9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4B893-23A2-4372-9A06-089F7B6B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21DEF-85C7-4E48-A4D3-94D20C9A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E12F9-8210-4A2B-9147-10DC38A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EBC0F-F1E8-45D4-BFCC-2EF4A59C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2B223-43E1-4E61-BA99-CBC4EAB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5E0C-02A3-420A-B00D-B6CFCC2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EBA32-31A4-430F-B6BC-1175251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E51CB-F6CF-4518-8022-FE893280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67342-B2EB-41C6-81D0-A3187A51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7B7C8D-8012-4714-931C-6726F531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9E04E-19E2-4653-A3E5-155EF0DF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070289-64AF-4742-A9B0-7E60935E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18927-B13C-4AD1-9F95-772E71C9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F9ECB-2130-410E-AE46-9108B2A1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A158B-0C17-4548-AB18-C6920498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6DF7C-3805-433D-A820-A4E0ABB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9A5-B5CE-4323-82D0-185868CA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BFBB-08DA-49A5-A41B-EEE2A53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DCC38-8A1A-4236-8116-A190B4A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ECE4D-2DD0-402E-9782-A5535C7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04F65-CCA6-418C-827B-FEEDEB52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90F60-5893-48CA-8CD5-598885EC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682F7-909A-4DE7-AE61-167C4603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D6C57-35D9-489D-954C-883DF75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73A91-48B6-494A-9E22-05B68C5B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B30FF-5E08-4E97-852F-838D613F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F1E90-5DD2-4607-8D0F-D81198E9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8FD61-BD15-42A3-AA55-4A1E91AE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B7B-9C13-42C9-A3E6-26AC16F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EF339-3615-428B-9BB0-DEB0860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36DA9-D81F-49AB-8EE4-F7A4AF3B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0A026-11BD-4A5E-8321-81272448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C5F2D-5DA4-4013-88F5-A5072AD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8E12C-7236-4A8C-BE62-C8C8BA43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681F3-C77A-4531-A45A-60A1B0BE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90540-3885-4966-BBD9-2F7F6D46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8CDA-AB8B-4CAA-8EB4-8AD3330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440F-FC37-412B-88AB-F0936EBB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E784-2408-4077-B664-49E644D9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9AFF-393A-4981-B252-8C3EFCEA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5E33-CB05-4A26-8FDC-8CC292F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CA11-7EE4-4019-BF39-DAB5995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CCBF-3EA1-45F0-A67A-28DDEC0B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1519-AE99-4B52-910C-C18ACFF3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C9A-7810-4C1F-A3ED-E5BECF8C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5870-D1DA-431F-8676-617691C1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EDFF-FA6E-4014-BE16-BF8CCDF9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3EA1-B232-44D3-93A4-133621F2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66DD-1799-4D89-B77D-4C53FBE1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5D7B-8BA9-46AF-A4FD-8AC0A7A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C026-42AF-4B86-B06A-CE8A8F26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E9A1-352E-4333-AC5F-F4E0CC76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A464-B0EE-4128-A5E3-DFB47B31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A40E-B222-4E4B-8CC4-5ADDE050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BF08-91D6-4682-9967-AA5B3D3B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DE0-A070-4BB2-B728-4A56AAB6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424E-2E76-499B-8AA3-A43DCFCA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9DAC-B956-4430-905D-7112C1E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7410-303E-4657-97F1-FE3509E1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2DD4-8DDF-4FF5-89FD-B9436E93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8D24-C1CD-42F7-837A-22152D7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AC79-73FA-4FF6-9B2D-65942E4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2A69-C6C5-41ED-B258-1EF4E211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25E3-CEB2-4E51-8B94-983F4D2E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489F2-0B9C-4A51-BD15-165E64FB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07FA-2436-4BA5-B8E2-7E640AFC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4E9-FE8C-4004-976E-EB9CCED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5852-98FC-4132-9ECD-5E97310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315C-F489-4D14-828D-BF7027AE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C5EEA-6420-4F8D-B4D1-23077981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331AC-AC9F-4FCE-9D54-413E0A4E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315D-9502-4D1C-9E67-77AA68A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69D9-7F1E-44E6-A5D2-E415557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DB24-9640-4499-8A3C-1BB4D2D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F13D-43CE-4794-8FB7-B995B8B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525E-8217-44AF-A00F-6CB0FACC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73F3-5F61-4407-A1EA-DAEA8108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311-92B9-445E-B819-CC3BFC5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E488A-FB38-4B0F-8623-024D5566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9B37-0355-45AF-AE1A-75DA2DEF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94B06-3907-4014-AF5A-24AA64EA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2D1E-6C1E-42C4-B37D-B070813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BD3C-FA92-4482-99BB-372C554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2BDC-B11F-4CCB-AB5A-2A59BF2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EDF1B-7935-40AA-84EB-92F7FFD3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3FEA-7C4A-452F-9F49-F5A20D0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5D3C-2472-4919-9293-46E0D80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CBD0C-E53D-4269-8961-2E06D13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540-E095-40FF-B4DA-4F2DBFD6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44D53-D698-4B1D-A095-BA7950B6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70B0C-517B-48BA-9D78-C8CFD4FE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EB933-D6C8-433B-87D0-EDA703E3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2954-EF2C-4349-BA3C-255FEE2F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31F1-7B86-4BA1-AD46-F17DC00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A643-2F25-49D6-82B8-170D986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B30C-5B84-4682-9DFB-CC1E686D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5D54-C503-4CB2-AF55-C8A8B0D7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63D9F-D883-4154-92EF-7CED75F2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DE11-E5D2-4D07-9566-C83D5BA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54B-9A0B-4ADC-9625-BBF9018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4AFD-CEF2-487F-AE44-E942F8B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DA3A-337A-4E88-B3EB-A34F4F41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FECF2-41E0-4790-BC71-AAC301F3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75040-B62F-4C4A-9B9B-520BD1D4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F6979-F90D-4EFD-A201-A452EC7C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9ACB-3BA2-48A1-8EAA-2EA5F358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FFB6-C168-461E-A2AE-2EEED9BC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1C7B2-391B-4444-96F4-F06321C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30AD-1662-4F82-93CF-4C21287F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A533A-645F-43D8-832F-F924E733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693-658A-4097-BE66-F38B5AF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68264-60E7-4634-BE9A-337A3B0E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C4B95-E4B9-4FA4-AB7D-1263381E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D9D9-DDA2-497E-B010-2149DAC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441A7-A22F-4D2B-B3D1-11789BF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2385-3B51-4F2A-83D1-035ABE64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7AC2A-2B34-4E56-B6DB-8C5613BC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3CA9-F0B7-4275-8C1D-0BCF238C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F3CDD-B84B-46F3-BA33-578BC80D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37628-F933-4AEA-A7FA-FA952369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0B1E1-EBF9-48DE-93CB-F3023CE1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CAF1-652F-4012-BF4C-00037F24EA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B043-D5D2-4730-BE2F-197C4D0928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5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EBD-278C-47D1-A2EB-EEDBA968AE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43C-2B0A-47CD-9214-8C742838C9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4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80A-6014-4776-AB96-C937024D2D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58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4D0-965B-4270-BCA5-85211A33BA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1422-CD39-40C8-8D64-04666DC4D9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67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13B7-37FD-47F6-9B88-A54FAA20C2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DDC5-D22B-4E06-B8DA-12F7DF9633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68D-34EE-44A6-885D-83928E4841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5D4-F17C-4336-83C3-AF17237698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2793-730C-42BC-A1D6-4982AE40EA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F11-DE02-49A6-9332-CE4FC0124A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644-1F9A-4163-830D-1D6002075B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81C-AAD0-42BB-BC75-DFA3327FE1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61B-B108-4796-9012-2533B0AF0F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45DB-F443-4C53-80F9-A2D895FF2C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96C3-0877-4D40-999C-5481A9F22F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Группа 17"/>
          <p:cNvGrpSpPr/>
          <p:nvPr/>
        </p:nvGrpSpPr>
        <p:grpSpPr>
          <a:xfrm>
            <a:off x="3071880" y="1857240"/>
            <a:ext cx="2786040" cy="1951200"/>
            <a:chOff x="3071880" y="1857240"/>
            <a:chExt cx="2786040" cy="1951200"/>
          </a:xfrm>
        </p:grpSpPr>
        <p:pic>
          <p:nvPicPr>
            <p:cNvPr id="799" name="Picture 2" descr="H:\segerstromHall.jpg"/>
            <p:cNvPicPr/>
            <p:nvPr/>
          </p:nvPicPr>
          <p:blipFill>
            <a:blip r:embed="rId1"/>
            <a:stretch/>
          </p:blipFill>
          <p:spPr>
            <a:xfrm>
              <a:off x="3071880" y="1857240"/>
              <a:ext cx="27860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Прямоугольник 15"/>
            <p:cNvSpPr/>
            <p:nvPr/>
          </p:nvSpPr>
          <p:spPr>
            <a:xfrm>
              <a:off x="3152520" y="3143160"/>
              <a:ext cx="263772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oncert h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Box 16"/>
          <p:cNvSpPr/>
          <p:nvPr/>
        </p:nvSpPr>
        <p:spPr>
          <a:xfrm>
            <a:off x="3286080" y="1000080"/>
            <a:ext cx="7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9"/>
          <p:cNvGrpSpPr/>
          <p:nvPr/>
        </p:nvGrpSpPr>
        <p:grpSpPr>
          <a:xfrm>
            <a:off x="214200" y="1000080"/>
            <a:ext cx="2714760" cy="2428920"/>
            <a:chOff x="214200" y="1000080"/>
            <a:chExt cx="2714760" cy="2428920"/>
          </a:xfrm>
        </p:grpSpPr>
        <p:pic>
          <p:nvPicPr>
            <p:cNvPr id="803" name="Picture 7" descr="H:\zoo_fn.jpg"/>
            <p:cNvPicPr/>
            <p:nvPr/>
          </p:nvPicPr>
          <p:blipFill>
            <a:blip r:embed="rId2"/>
            <a:stretch/>
          </p:blipFill>
          <p:spPr>
            <a:xfrm>
              <a:off x="214200" y="1000080"/>
              <a:ext cx="271476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Прямоугольник 10"/>
            <p:cNvSpPr/>
            <p:nvPr/>
          </p:nvSpPr>
          <p:spPr>
            <a:xfrm>
              <a:off x="928440" y="2714760"/>
              <a:ext cx="157176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zo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18"/>
            <p:cNvSpPr/>
            <p:nvPr/>
          </p:nvSpPr>
          <p:spPr>
            <a:xfrm>
              <a:off x="2357640" y="107136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Группа 21"/>
          <p:cNvGrpSpPr/>
          <p:nvPr/>
        </p:nvGrpSpPr>
        <p:grpSpPr>
          <a:xfrm>
            <a:off x="5143680" y="-357120"/>
            <a:ext cx="3792240" cy="2786040"/>
            <a:chOff x="5143680" y="-357120"/>
            <a:chExt cx="3792240" cy="2786040"/>
          </a:xfrm>
        </p:grpSpPr>
        <p:pic>
          <p:nvPicPr>
            <p:cNvPr id="807" name="Picture 6" descr="H:\Tommys_Beverly_7.jpg"/>
            <p:cNvPicPr/>
            <p:nvPr/>
          </p:nvPicPr>
          <p:blipFill>
            <a:blip r:embed="rId3"/>
            <a:stretch/>
          </p:blipFill>
          <p:spPr>
            <a:xfrm>
              <a:off x="5143680" y="174600"/>
              <a:ext cx="379224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Прямоугольник 12"/>
            <p:cNvSpPr/>
            <p:nvPr/>
          </p:nvSpPr>
          <p:spPr>
            <a:xfrm>
              <a:off x="5929200" y="1214640"/>
              <a:ext cx="2368440" cy="106884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fast foo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estaur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20"/>
            <p:cNvSpPr/>
            <p:nvPr/>
          </p:nvSpPr>
          <p:spPr>
            <a:xfrm>
              <a:off x="5572080" y="-357120"/>
              <a:ext cx="714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Группа 23"/>
          <p:cNvGrpSpPr/>
          <p:nvPr/>
        </p:nvGrpSpPr>
        <p:grpSpPr>
          <a:xfrm>
            <a:off x="214200" y="3143160"/>
            <a:ext cx="3113280" cy="2928960"/>
            <a:chOff x="214200" y="3143160"/>
            <a:chExt cx="3113280" cy="2928960"/>
          </a:xfrm>
        </p:grpSpPr>
        <p:pic>
          <p:nvPicPr>
            <p:cNvPr id="811" name="Picture 3" descr="H:\national-portrait-gallery.jpg"/>
            <p:cNvPicPr/>
            <p:nvPr/>
          </p:nvPicPr>
          <p:blipFill>
            <a:blip r:embed="rId4"/>
            <a:stretch/>
          </p:blipFill>
          <p:spPr>
            <a:xfrm>
              <a:off x="214200" y="3857400"/>
              <a:ext cx="3113280" cy="22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Прямоугольник 14"/>
            <p:cNvSpPr/>
            <p:nvPr/>
          </p:nvSpPr>
          <p:spPr>
            <a:xfrm>
              <a:off x="437040" y="5357880"/>
              <a:ext cx="263880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n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rt galle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Box 22"/>
            <p:cNvSpPr/>
            <p:nvPr/>
          </p:nvSpPr>
          <p:spPr>
            <a:xfrm>
              <a:off x="214200" y="3143160"/>
              <a:ext cx="714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Группа 25"/>
          <p:cNvGrpSpPr/>
          <p:nvPr/>
        </p:nvGrpSpPr>
        <p:grpSpPr>
          <a:xfrm>
            <a:off x="5929200" y="2143080"/>
            <a:ext cx="2978280" cy="2928960"/>
            <a:chOff x="5929200" y="2143080"/>
            <a:chExt cx="2978280" cy="2928960"/>
          </a:xfrm>
        </p:grpSpPr>
        <p:grpSp>
          <p:nvGrpSpPr>
            <p:cNvPr id="815" name="Группа 11"/>
            <p:cNvGrpSpPr/>
            <p:nvPr/>
          </p:nvGrpSpPr>
          <p:grpSpPr>
            <a:xfrm>
              <a:off x="5929200" y="2500200"/>
              <a:ext cx="2978280" cy="2571840"/>
              <a:chOff x="5929200" y="2500200"/>
              <a:chExt cx="2978280" cy="2571840"/>
            </a:xfrm>
          </p:grpSpPr>
          <p:sp>
            <p:nvSpPr>
              <p:cNvPr id="816" name="TextBox 9"/>
              <p:cNvSpPr/>
              <p:nvPr/>
            </p:nvSpPr>
            <p:spPr>
              <a:xfrm>
                <a:off x="6572160" y="2582640"/>
                <a:ext cx="200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3b9b3"/>
                    </a:solidFill>
                    <a:latin typeface="Times New Roman"/>
                    <a:ea typeface="Times New Roman"/>
                  </a:rPr>
                  <a:t>Crazy Rid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7" name="Picture 4" descr="H:\theme_parks_13.jpg"/>
              <p:cNvPicPr/>
              <p:nvPr/>
            </p:nvPicPr>
            <p:blipFill>
              <a:blip r:embed="rId5"/>
              <a:stretch/>
            </p:blipFill>
            <p:spPr>
              <a:xfrm>
                <a:off x="5929200" y="2500200"/>
                <a:ext cx="297828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8" name="Прямоугольник 13"/>
            <p:cNvSpPr/>
            <p:nvPr/>
          </p:nvSpPr>
          <p:spPr>
            <a:xfrm>
              <a:off x="6149520" y="3857760"/>
              <a:ext cx="2681640" cy="106884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n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ventu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ar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24"/>
            <p:cNvSpPr/>
            <p:nvPr/>
          </p:nvSpPr>
          <p:spPr>
            <a:xfrm>
              <a:off x="8143920" y="2143080"/>
              <a:ext cx="714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Группа 27"/>
          <p:cNvGrpSpPr/>
          <p:nvPr/>
        </p:nvGrpSpPr>
        <p:grpSpPr>
          <a:xfrm>
            <a:off x="3429000" y="4429080"/>
            <a:ext cx="3143160" cy="2166840"/>
            <a:chOff x="3429000" y="4429080"/>
            <a:chExt cx="3143160" cy="2166840"/>
          </a:xfrm>
        </p:grpSpPr>
        <p:pic>
          <p:nvPicPr>
            <p:cNvPr id="821" name="Picture 8" descr="H:\0_770d7_416146b2_XL.jpg"/>
            <p:cNvPicPr/>
            <p:nvPr/>
          </p:nvPicPr>
          <p:blipFill>
            <a:blip r:embed="rId6"/>
            <a:stretch/>
          </p:blipFill>
          <p:spPr>
            <a:xfrm>
              <a:off x="3429000" y="4429080"/>
              <a:ext cx="314316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Прямоугольник 11"/>
            <p:cNvSpPr/>
            <p:nvPr/>
          </p:nvSpPr>
          <p:spPr>
            <a:xfrm>
              <a:off x="4146480" y="5902200"/>
              <a:ext cx="1834560" cy="5814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heat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Box 26"/>
            <p:cNvSpPr/>
            <p:nvPr/>
          </p:nvSpPr>
          <p:spPr>
            <a:xfrm>
              <a:off x="3643200" y="4473360"/>
              <a:ext cx="71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4" name="TextBox 28" descr=""/>
          <p:cNvPicPr/>
          <p:nvPr/>
        </p:nvPicPr>
        <p:blipFill>
          <a:blip r:embed="rId7"/>
          <a:stretch/>
        </p:blipFill>
        <p:spPr>
          <a:xfrm>
            <a:off x="378000" y="-133200"/>
            <a:ext cx="5790960" cy="159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"/>
          <p:cNvSpPr/>
          <p:nvPr/>
        </p:nvSpPr>
        <p:spPr>
          <a:xfrm>
            <a:off x="250920" y="140400"/>
            <a:ext cx="8064360" cy="39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the z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n art gall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 thea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 fast food restaur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n adventur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at can you do at a concert h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73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3" descr="D:\Мамина папка\Анимационные картинки, рамки и картинки о школе\c31415.jpg"/>
          <p:cNvPicPr/>
          <p:nvPr/>
        </p:nvPicPr>
        <p:blipFill>
          <a:blip r:embed="rId1"/>
          <a:stretch/>
        </p:blipFill>
        <p:spPr>
          <a:xfrm>
            <a:off x="6948360" y="189000"/>
            <a:ext cx="1650960" cy="1582560"/>
          </a:xfrm>
          <a:prstGeom prst="rect">
            <a:avLst/>
          </a:prstGeom>
          <a:ln w="0">
            <a:noFill/>
          </a:ln>
        </p:spPr>
      </p:pic>
      <p:sp>
        <p:nvSpPr>
          <p:cNvPr id="827" name="Прямоугольник 3"/>
          <p:cNvSpPr/>
          <p:nvPr/>
        </p:nvSpPr>
        <p:spPr>
          <a:xfrm>
            <a:off x="179280" y="3933720"/>
            <a:ext cx="1368360" cy="719280"/>
          </a:xfrm>
          <a:prstGeom prst="rect">
            <a:avLst/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4"/>
          <p:cNvSpPr/>
          <p:nvPr/>
        </p:nvSpPr>
        <p:spPr>
          <a:xfrm>
            <a:off x="1692360" y="3213000"/>
            <a:ext cx="2879640" cy="2952720"/>
          </a:xfrm>
          <a:prstGeom prst="rect">
            <a:avLst/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ee wil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isten to mu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look at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watch a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at a bu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go on a roller co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5"/>
          <p:cNvSpPr/>
          <p:nvPr/>
        </p:nvSpPr>
        <p:spPr>
          <a:xfrm>
            <a:off x="4643280" y="3645000"/>
            <a:ext cx="2521080" cy="1584360"/>
          </a:xfrm>
          <a:prstGeom prst="rect">
            <a:avLst/>
          </a:prstGeom>
          <a:solidFill>
            <a:srgbClr val="eee0d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at…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 открытой местност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in…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(внут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6"/>
          <p:cNvSpPr/>
          <p:nvPr/>
        </p:nvSpPr>
        <p:spPr>
          <a:xfrm>
            <a:off x="7308720" y="2637000"/>
            <a:ext cx="1584360" cy="1079280"/>
          </a:xfrm>
          <a:prstGeom prst="rect">
            <a:avLst/>
          </a:prstGeom>
          <a:solidFill>
            <a:srgbClr val="d9d9d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the bus stop 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 автобусной остановке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380360" y="5013360"/>
            <a:ext cx="1584360" cy="1368360"/>
          </a:xfrm>
          <a:prstGeom prst="rect">
            <a:avLst/>
          </a:prstGeom>
          <a:solidFill>
            <a:srgbClr val="d9d9d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a fast food restaurant (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ресторане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Box 1"/>
          <p:cNvSpPr/>
          <p:nvPr/>
        </p:nvSpPr>
        <p:spPr>
          <a:xfrm>
            <a:off x="428760" y="285840"/>
            <a:ext cx="3286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"/>
          <p:cNvSpPr/>
          <p:nvPr/>
        </p:nvSpPr>
        <p:spPr>
          <a:xfrm>
            <a:off x="1928880" y="100008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us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st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"/>
          <p:cNvSpPr/>
          <p:nvPr/>
        </p:nvSpPr>
        <p:spPr>
          <a:xfrm>
            <a:off x="324000" y="1916280"/>
            <a:ext cx="5257800" cy="1191240"/>
          </a:xfrm>
          <a:prstGeom prst="rect">
            <a:avLst/>
          </a:prstGeom>
          <a:solidFill>
            <a:srgbClr val="fbeec9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quiet in here.  (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ust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uch the paintings. (prohibition/you aren’t allowed to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" descr="H:\130x130_L-0621.jpg"/>
          <p:cNvPicPr/>
          <p:nvPr/>
        </p:nvPicPr>
        <p:blipFill>
          <a:blip r:embed="rId1"/>
          <a:stretch/>
        </p:blipFill>
        <p:spPr>
          <a:xfrm>
            <a:off x="1042920" y="3500280"/>
            <a:ext cx="2448000" cy="1768680"/>
          </a:xfrm>
          <a:prstGeom prst="rect">
            <a:avLst/>
          </a:prstGeom>
          <a:ln w="0">
            <a:noFill/>
          </a:ln>
        </p:spPr>
      </p:pic>
      <p:sp>
        <p:nvSpPr>
          <p:cNvPr id="836" name="Прямоугольник 5"/>
          <p:cNvSpPr/>
          <p:nvPr/>
        </p:nvSpPr>
        <p:spPr>
          <a:xfrm>
            <a:off x="468360" y="5373720"/>
            <a:ext cx="345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ust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mo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ohibition/you aren’t allowed 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9" descr="traffic-light-red-clip-art_430854"/>
          <p:cNvPicPr/>
          <p:nvPr/>
        </p:nvPicPr>
        <p:blipFill>
          <a:blip r:embed="rId2"/>
          <a:stretch/>
        </p:blipFill>
        <p:spPr>
          <a:xfrm>
            <a:off x="6156360" y="2492280"/>
            <a:ext cx="1735200" cy="20448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0"/>
          <p:cNvSpPr/>
          <p:nvPr/>
        </p:nvSpPr>
        <p:spPr>
          <a:xfrm>
            <a:off x="5149080" y="4797360"/>
            <a:ext cx="37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p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traffic light. (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6"/>
          <p:cNvSpPr/>
          <p:nvPr/>
        </p:nvSpPr>
        <p:spPr>
          <a:xfrm>
            <a:off x="4211640" y="33336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 and celebrate our town’s 5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)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rth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 Palace 1)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rida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 for every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ren must be with an 5)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104292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4067280" y="3860640"/>
            <a:ext cx="4897440" cy="280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eorgia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does it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ime does it sta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uch does i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Группа 5"/>
          <p:cNvGrpSpPr/>
          <p:nvPr/>
        </p:nvGrpSpPr>
        <p:grpSpPr>
          <a:xfrm>
            <a:off x="179280" y="476280"/>
            <a:ext cx="3600720" cy="4896000"/>
            <a:chOff x="179280" y="476280"/>
            <a:chExt cx="3600720" cy="4896000"/>
          </a:xfrm>
        </p:grpSpPr>
        <p:pic>
          <p:nvPicPr>
            <p:cNvPr id="843" name="Picture 2" descr="H:\mzl_pzjinkjm_480x480-75.jpg"/>
            <p:cNvPicPr/>
            <p:nvPr/>
          </p:nvPicPr>
          <p:blipFill>
            <a:blip r:embed="rId1"/>
            <a:stretch/>
          </p:blipFill>
          <p:spPr>
            <a:xfrm>
              <a:off x="279720" y="1452960"/>
              <a:ext cx="3413880" cy="39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TextBox 4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3600720" cy="173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0:06:18Z</dcterms:created>
  <dc:creator>Home</dc:creator>
  <dc:description/>
  <dc:language>en-US</dc:language>
  <cp:lastModifiedBy>Наталья</cp:lastModifiedBy>
  <dcterms:modified xsi:type="dcterms:W3CDTF">2020-11-26T15:29:47Z</dcterms:modified>
  <cp:revision>115</cp:revision>
  <dc:subject/>
  <dc:title>Слайд 1</dc:title>
</cp:coreProperties>
</file>