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06F-3552-470C-BB74-5DF987DF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DCC-E451-4D93-9B50-1AE779BA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4E5-00EF-4ECF-B285-B96BF9A6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98E-4DF7-4279-B468-AACF204E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3B8D-8BF6-4CE5-8411-AE8FF89C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EA45-9B0B-4D22-BD71-8126B1F8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3F6E-CAFA-4756-868D-5E61E7A5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3F6D-2CAE-4EA4-9FAA-CBC37AF9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4420-E09D-4352-8466-B683F340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3B5E-D00C-4C08-A996-673CA003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E4C1-8729-4B7F-B8CE-2E3DA100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F17-1C4C-4F3B-AB2D-4CEEBE45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659D-D124-4E1F-A88C-6C47341C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8223-5748-4CBB-884D-7ED53C32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C398-AF8B-482D-9C02-AE483189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FE96-E610-45BE-9D11-2FEE25CD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EA40-15DC-43E9-934A-3DB38F2A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1E72-54F7-4D24-9F36-E913B869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CEA-7EA1-4EE8-80A5-BCA3109A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FED-FE00-496B-BCBD-E5D09253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1F3-E9B6-4E4B-9ABD-AF880F9E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26A0-2739-49EB-ADF5-923E6E9E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4D45-6D0A-46D7-93A2-155DC207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A193-8FBC-4EFE-A675-2BBC3081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EBE9-AD2D-4083-8B02-FD8771862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E47C-2254-4684-B136-8E20939388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сюжетно – ролевые игры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или воспитатель старшей группы №5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латова Оксана Сергее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ПАТРИОТИЧЕСКИЕ СЮЖЕТНО-РОЛЕВЫЕ ИГРЫ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«Армия»</a:t>
            </a:r>
            <a:br>
              <a:rPr sz="24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ФОРМИРУЕТ У ДЕТЕЙ ПАТРИОТИЧЕСКИЕ ЧУВСТВА, ЗАКРЕПЛЯЕТ ЗНАНИЯ О НАШЕЙ РОДИНЕ</a:t>
            </a:r>
            <a:br>
              <a:rPr sz="1800"/>
            </a:b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038480" cy="3389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«ПОЧТА РОССИИ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76160" y="1600200"/>
            <a:ext cx="3399120" cy="4530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АСИБО ЗА ВНИМ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Игры на бытовые сюжеты: в «дом», «семью», «праздники», «дни рождения»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дачи: побуждать детей творчески воспроизводить в играх быт семьи. Учить готовить обстановку для игры, подбирать предметы-заместители и атрибуты. Формировать положительные взаимоотношения между деть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202200" cy="2303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208480" y="394344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Игра «Семья»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чит детей выполнять домашние обязанности, помогает осознать значение труда родителей по дому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73080" y="1871640"/>
            <a:ext cx="3029040" cy="4041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43680" y="1871640"/>
            <a:ext cx="30333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гра «Театр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ль: Расширять у детей представления о труде работников теат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звивать воображение, мышление, речь. Умение совместно развертывать игру, договариваться и обсуждать действия всех играющи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6360" cy="2185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15920" y="3943440"/>
            <a:ext cx="2919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Игры на производственные и общественные темы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«СУПЕРМАРКЕТ»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16160" y="1600200"/>
            <a:ext cx="2911680" cy="2185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митируются производственные сюжеты, ситуа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одели профессионального повед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одели межличностных профессиональных отнош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амое главное – в игре ребенок воплощает свой взгляд, свои представления, свое отношение к тому событию, которое разыгрыва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Игра «Строитель».</a:t>
            </a:r>
            <a:br>
              <a:rPr sz="32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Цель: развивать умение использовать в игре постройки разной конструктивной сложности из строительного материала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6360" cy="218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15920" y="3943440"/>
            <a:ext cx="2919600" cy="2187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967280" y="1655640"/>
            <a:ext cx="3386160" cy="44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южетно-ролевая игра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ДОКТОР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55640" y="160020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655640" y="3941640"/>
            <a:ext cx="1641600" cy="21891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ель: расширять знания детей  профессии врача: что делает врач, кого он лечит, чем он лечит. Учить проявлять заботливое отношение к игрушк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«ЭКСКУРСИЯ В БИБЛИОТЕКУ»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В центре юного читателя ждет вас радость и мечта: строчки азбуки волшебной, сказок дивных красота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76160" y="1600200"/>
            <a:ext cx="3399120" cy="453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«ПАРИКМАХЕРСКАЯ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76160" y="1600200"/>
            <a:ext cx="3399120" cy="45306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звивать интерес и уважение к профессии парикмахера; знакомить с правилами поведения в парикмахерс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ормировать умение самостоятельно развивать сюжет игры; согласовывать  тему; распределять рол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7T20:59:43Z</dcterms:created>
  <dc:creator>Алексей</dc:creator>
  <dc:description/>
  <dc:language>en-US</dc:language>
  <cp:lastModifiedBy>Алексей</cp:lastModifiedBy>
  <dcterms:modified xsi:type="dcterms:W3CDTF">2020-11-26T17:20:24Z</dcterms:modified>
  <cp:revision>10</cp:revision>
  <dc:subject/>
  <dc:title>   Сюжетно – ролевые игры</dc:title>
</cp:coreProperties>
</file>