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78F-3141-41E9-89B0-B388B738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E32-310E-4EC3-BDFB-D8AB188D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A15-D3F9-4AD8-87C9-24119798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4E6-47FE-45F6-96EB-599D0571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A6E2-1B25-40B3-BDCE-8EA327E5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537C-FADB-487E-88F9-EDC2AE6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95C-A157-4A79-BCC4-D834A2C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C8F0-A469-43E1-A515-A3DEF166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1CD-8E86-4829-9254-A8BC3C8A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4E71-F278-4089-8735-D022E50D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45F5-35D2-4BCA-A9E2-848236D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303-9591-41E3-8058-12F06E8C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1377-1793-4EDB-A289-27EB8DD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FF92-EF23-4C69-8547-5287A30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23A7-9D97-4AC8-8B26-AA77CE57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80FA-0C92-416C-9DDD-88DA20B4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FEE-35F1-404A-A934-91CFDAAE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955-8A86-4326-A699-F2A0F49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38C-46DA-4D71-907B-2C8504D0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93E-6014-4C11-9377-974D87A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56F-227C-484E-9C5A-AC77D53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54F-B923-40C5-BFE9-3E972A1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0ED-A1ED-4614-9E75-AEA6B75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085-8571-4234-9BF2-903B6DE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445-4D0E-4C81-B6A3-19F8D1D40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7209-E9A1-44E6-8F66-709935283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южетно – ролевые игр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и воспитатель старшей группы №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латова Оксана Серге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АТРИОТИЧЕСКИЕ СЮЖЕТНО-РОЛЕВЫЕ ИГРЫ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Армия»</a:t>
            </a:r>
            <a:br>
              <a:rPr sz="24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ФОРМИРУЕТ У ДЕТЕЙ ПАТРИОТИЧЕСКИЕ ЧУВСТВА, ЗАКРЕПЛЯЕТ ЗНАНИЯ О НАШЕЙ РОДИНЕ</a:t>
            </a:r>
            <a:br>
              <a:rPr sz="1800"/>
            </a:b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3389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ПОЧТА РОСС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гры на бытовые сюжеты: в «дом», «семью», «праздники», «дни рождения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чи: побуждать детей творчески воспроизводить в играх быт семьи. Учить готовить обстановку для игры, подбирать предметы-заместители и атрибуты. Формировать положительные взаимоотношения между дет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20220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08480" y="394344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Игра «Семья»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чит детей выполнять домашние обязанности, помогает осознать значение труда родителей по дому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3080" y="1871640"/>
            <a:ext cx="3029040" cy="4041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43680" y="1871640"/>
            <a:ext cx="3033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«Театр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: Расширять у детей представления о труде работников теа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вать воображение, мышление, речь. Умение совместно развертывать игру, договариваться и обсуждать действия всех играю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15920" y="3943440"/>
            <a:ext cx="291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гры на производственные и общественные темы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СУПЕРМАРКЕТ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16160" y="1600200"/>
            <a:ext cx="2911680" cy="218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митируются производственные сюжеты, ситу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дели профессионального повед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дели межличностных профессиональных отно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ое главное – в игре ребенок воплощает свой взгляд, свои представления, свое отношение к тому событию, которое разыгрыв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гра «Строитель».</a:t>
            </a:r>
            <a:br>
              <a:rPr sz="32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Цель: развивать умение использовать в игре постройки разной конструктивной сложности из строительного материал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15920" y="3943440"/>
            <a:ext cx="2919600" cy="218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67280" y="1655640"/>
            <a:ext cx="338616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южетно-ролевая игра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ДОКТОР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55640" y="160020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55640" y="3941640"/>
            <a:ext cx="1641600" cy="2189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: расширять знания детей  профессии врача: что делает врач, кого он лечит, чем он лечит. Учить проявлять заботливое отношение к игруш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ЭКСКУРСИЯ В БИБЛИОТЕКУ»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В центре юного читателя ждет вас радость и мечта: строчки азбуки волшебной, сказок дивных красот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ПАРИКМАХЕРСКАЯ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вать интерес и уважение к профессии парикмахера; знакомить с правилами поведения в парикмахерс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овать умение самостоятельно развивать сюжет игры; согласовывать  тему; распределять ро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7T20:59:43Z</dcterms:created>
  <dc:creator>Алексей</dc:creator>
  <dc:description/>
  <dc:language>en-US</dc:language>
  <cp:lastModifiedBy>Алексей</cp:lastModifiedBy>
  <dcterms:modified xsi:type="dcterms:W3CDTF">2020-11-26T17:20:24Z</dcterms:modified>
  <cp:revision>10</cp:revision>
  <dc:subject/>
  <dc:title>   Сюжетно – ролевые игры</dc:title>
</cp:coreProperties>
</file>