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FB11-4B55-469D-A0FC-D2746B2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E4BA-CF0C-4158-A2BB-F1BBBD6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B768-D1F6-4C06-AE28-D0FC4DD5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8FE2-E462-4A8E-880D-0759B304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F7F-D2F6-4C1C-AA1C-065CD671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B42B-CB89-4260-AC5F-A2098BB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7F6-C16E-4873-ACBF-19C71DBB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4122-1920-4A85-A076-41C4812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65FB-F1DB-4136-B8A9-CF8E56D6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D6F-59A4-4536-A02F-AA92588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DE3-920E-481F-AD67-4110C02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4FEF-96C5-4B3C-8427-9E5D724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532-0156-4794-9A72-115BD3A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483-C00A-434F-883F-6130D6C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7AE7-4E96-4F8E-BB2D-927CFE3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A59-57EE-4818-9682-E1A843A2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E005-BE27-407A-B0D1-93C83FCF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B5E7-01B9-41A4-A56F-C24688F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7B8F-116F-4972-B777-0C750C19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AF5F-BC00-48DB-9A76-9B44BA8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C95B-C036-4BCD-B37F-4AF4E997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DF4E-BF14-4606-A57B-6A10FC4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F6E1-E73F-400D-A6DE-749AE8C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8F5C-5B3E-49A6-81D1-75FAB49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81D-C3F4-489A-86E0-74817DF72B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D1CB-C44B-4518-9C57-473875B00C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Учебная 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687400" cy="372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88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 – это смысл поведения и деятельности человека, или же всё то, ради чего происходит а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И.Бож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763640" y="5805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орытникова Елена Юрьевна,                       учитель начальных классов                                   МБОУ «СОШ №17» г.Усолье-Сиби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есоответствие рисунков теме указыв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мотивационную незрелость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негатив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нимание и неверное истолкован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Высокая учебная мотив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26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26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http://psy.1september.ru/2001/09/8_9.ht9.jpg"/>
          <p:cNvPicPr/>
          <p:nvPr/>
        </p:nvPicPr>
        <p:blipFill>
          <a:blip r:embed="rId1"/>
          <a:stretch/>
        </p:blipFill>
        <p:spPr>
          <a:xfrm>
            <a:off x="4716360" y="1916280"/>
            <a:ext cx="3706920" cy="201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psy.1september.ru/2001/09/8_9.ht93.jpg"/>
          <p:cNvPicPr/>
          <p:nvPr/>
        </p:nvPicPr>
        <p:blipFill>
          <a:blip r:embed="rId2"/>
          <a:stretch/>
        </p:blipFill>
        <p:spPr>
          <a:xfrm>
            <a:off x="684360" y="1916280"/>
            <a:ext cx="3600360" cy="1944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1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 txBox="1"/>
          <p:nvPr/>
        </p:nvSpPr>
        <p:spPr>
          <a:xfrm>
            <a:off x="4568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8" descr="http://psy.1september.ru/2001/09/8_9.ht91.jpg"/>
          <p:cNvPicPr/>
          <p:nvPr/>
        </p:nvPicPr>
        <p:blipFill>
          <a:blip r:embed="rId3"/>
          <a:stretch/>
        </p:blipFill>
        <p:spPr>
          <a:xfrm>
            <a:off x="611280" y="4076640"/>
            <a:ext cx="367344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35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6" descr="http://psy.1september.ru/2001/09/8_9.ht92.jpg"/>
          <p:cNvPicPr/>
          <p:nvPr/>
        </p:nvPicPr>
        <p:blipFill>
          <a:blip r:embed="rId4"/>
          <a:stretch/>
        </p:blipFill>
        <p:spPr>
          <a:xfrm>
            <a:off x="4716360" y="4076640"/>
            <a:ext cx="367200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ри соответствии рисунков теме учитывается их сюж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туации не учебного характера с внешними   школьными атрибу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вые ситуации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19392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Анк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Тебе нравится в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ра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тром, когда ты просыпаешься, ты всегда с радостью идешь в школу или тебе часто хочется остаться дома? (подчеркну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Метод неоконченных             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думаю о школ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иду в школ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звенит звон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вижу учител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получаю «двойку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547640" y="3716280"/>
            <a:ext cx="61930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7d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7d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88764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нова Е. В. Формирование учебной мотивации младших школьников.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онова Н. А. Изучение мотивационной сферы младших школьников.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юхина М.В. Мотивация учения младших школьников. - М.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а А.К. и др. Мотивация учения и ёё воспитание у школьников. - М.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а А.К. и др. Формирование мотивации учения: Кн. для учителя. - М.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4960" y="546120"/>
            <a:ext cx="80614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собенности мотивации младших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рекословное выполнение требований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числа детей, мотивированных чувством д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числа дете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щихся к учёб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тер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иятие отметки как оценки своих стараний, а не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3-4 клас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ится мот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бегания наказ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33130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6"/>
          <p:cNvGrpSpPr/>
          <p:nvPr/>
        </p:nvGrpSpPr>
        <p:grpSpPr>
          <a:xfrm>
            <a:off x="469800" y="695160"/>
            <a:ext cx="7966440" cy="5610600"/>
            <a:chOff x="469800" y="695160"/>
            <a:chExt cx="7966440" cy="561060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45120" y="2034720"/>
              <a:ext cx="680400" cy="2113560"/>
            </a:xfrm>
            <a:prstGeom prst="bentConnector3">
              <a:avLst>
                <a:gd name="adj1" fmla="val 16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056040" y="2058840"/>
              <a:ext cx="680400" cy="2065680"/>
            </a:xfrm>
            <a:prstGeom prst="bentConnector3">
              <a:avLst>
                <a:gd name="adj1" fmla="val 16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267640" y="695160"/>
              <a:ext cx="4318200" cy="2056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ДЕЯТЕЛЬ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69800" y="3431880"/>
              <a:ext cx="3788280" cy="2873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ОТИВ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то побу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ятельности, то, ра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чего учащийся соверш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у или иную деятельнос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644000" y="3431880"/>
              <a:ext cx="3792240" cy="2873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едставляемый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сознаваемый 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6"/>
          <p:cNvGrpSpPr/>
          <p:nvPr/>
        </p:nvGrpSpPr>
        <p:grpSpPr>
          <a:xfrm>
            <a:off x="395280" y="260280"/>
            <a:ext cx="8250840" cy="6192720"/>
            <a:chOff x="395280" y="260280"/>
            <a:chExt cx="8250840" cy="6192720"/>
          </a:xfrm>
        </p:grpSpPr>
        <p:cxnSp>
          <p:nvCxnSpPr>
            <p:cNvPr id="120" name="_s2052"/>
            <p:cNvCxnSpPr>
              <a:stCxn id="121" idx="0"/>
              <a:endCxn id="122" idx="2"/>
            </p:cNvCxnSpPr>
            <p:nvPr/>
          </p:nvCxnSpPr>
          <p:spPr>
            <a:xfrm flipH="1" flipV="1" rot="5400000">
              <a:off x="3084120" y="1262520"/>
              <a:ext cx="650160" cy="224064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2053"/>
            <p:cNvSpPr/>
            <p:nvPr/>
          </p:nvSpPr>
          <p:spPr>
            <a:xfrm>
              <a:off x="2635200" y="260280"/>
              <a:ext cx="3787920" cy="1797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РЕБЁНОК</a:t>
              </a:r>
              <a:br>
                <a:rPr sz="3300"/>
              </a:b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РЕШАЕТ</a:t>
              </a:r>
              <a:br>
                <a:rPr sz="3300"/>
              </a:br>
              <a:r>
                <a:rPr b="1" lang="en-US" sz="3300" spc="-1" strike="noStrike">
                  <a:solidFill>
                    <a:srgbClr val="000000"/>
                  </a:solidFill>
                  <a:latin typeface="Verdana"/>
                </a:rPr>
                <a:t>ЗАДАЧУ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4"/>
            <p:cNvSpPr/>
            <p:nvPr/>
          </p:nvSpPr>
          <p:spPr>
            <a:xfrm>
              <a:off x="395280" y="2707920"/>
              <a:ext cx="3787920" cy="3745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000000"/>
                  </a:solidFill>
                  <a:latin typeface="Verdana"/>
                </a:rPr>
                <a:t>ЦЕЛЬ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найти реш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>
              <a:off x="4858200" y="2707920"/>
              <a:ext cx="3787920" cy="37450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000000"/>
                  </a:solidFill>
                  <a:latin typeface="Verdana"/>
                </a:rPr>
                <a:t>МОТИВ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а) научиться решать задач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б) не огорчать учителя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) порадовать родителей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хорошей отмет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5" descr=""/>
            <p:cNvPicPr/>
            <p:nvPr/>
          </p:nvPicPr>
          <p:blipFill>
            <a:blip r:embed="rId1"/>
            <a:stretch/>
          </p:blipFill>
          <p:spPr>
            <a:xfrm>
              <a:off x="6011640" y="4798440"/>
              <a:ext cx="1626480" cy="157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5" name="_s2057"/>
            <p:cNvCxnSpPr>
              <a:stCxn id="123" idx="0"/>
              <a:endCxn id="122" idx="2"/>
            </p:cNvCxnSpPr>
            <p:nvPr/>
          </p:nvCxnSpPr>
          <p:spPr>
            <a:xfrm flipV="1" rot="16200000">
              <a:off x="5315400" y="1270800"/>
              <a:ext cx="650160" cy="222372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pic>
        <p:nvPicPr>
          <p:cNvPr id="126" name="Picture 14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230364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6"/>
          <p:cNvGrpSpPr/>
          <p:nvPr/>
        </p:nvGrpSpPr>
        <p:grpSpPr>
          <a:xfrm>
            <a:off x="395280" y="553680"/>
            <a:ext cx="8496720" cy="5968800"/>
            <a:chOff x="395280" y="553680"/>
            <a:chExt cx="8496720" cy="5968800"/>
          </a:xfrm>
        </p:grpSpPr>
        <p:cxnSp>
          <p:nvCxnSpPr>
            <p:cNvPr id="128" name="_s307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05760" y="1078560"/>
              <a:ext cx="748800" cy="2272320"/>
            </a:xfrm>
            <a:prstGeom prst="bentConnector3">
              <a:avLst>
                <a:gd name="adj1" fmla="val 151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3126960" y="1072080"/>
              <a:ext cx="748800" cy="2286000"/>
            </a:xfrm>
            <a:prstGeom prst="bentConnector3">
              <a:avLst>
                <a:gd name="adj1" fmla="val 151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78"/>
            <p:cNvSpPr/>
            <p:nvPr/>
          </p:nvSpPr>
          <p:spPr>
            <a:xfrm>
              <a:off x="2799360" y="553680"/>
              <a:ext cx="3689280" cy="12873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МОТИ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79"/>
            <p:cNvSpPr/>
            <p:nvPr/>
          </p:nvSpPr>
          <p:spPr>
            <a:xfrm>
              <a:off x="395280" y="2589480"/>
              <a:ext cx="3928320" cy="3933000"/>
            </a:xfrm>
            <a:custGeom>
              <a:avLst/>
              <a:gdLst>
                <a:gd name="textAreaLeft" fmla="*/ 191520 w 3928320"/>
                <a:gd name="textAreaRight" fmla="*/ 3736800 w 3928320"/>
                <a:gd name="textAreaTop" fmla="*/ 191520 h 3933000"/>
                <a:gd name="textAreaBottom" fmla="*/ 3741480 h 3933000"/>
              </a:gdLst>
              <a:ahLst/>
              <a:rect l="textAreaLeft" t="textAreaTop" r="textAreaRight" b="textAreaBottom"/>
              <a:pathLst>
                <a:path w="21600" h="21626">
                  <a:moveTo>
                    <a:pt x="3600" y="0"/>
                  </a:moveTo>
                  <a:arcTo wR="3600" hR="3600" stAng="16200000" swAng="-5400000"/>
                  <a:lnTo>
                    <a:pt x="0" y="18026"/>
                  </a:lnTo>
                  <a:arcTo wR="3600" hR="3600" stAng="10800000" swAng="-5400000"/>
                  <a:lnTo>
                    <a:pt x="18000" y="216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Verdana"/>
                </a:rPr>
                <a:t>ШИРОКИЕ СОЦИА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тремление хорош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окончить школ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поступить в ВУЗ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хорошо работать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в будуще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0"/>
            <p:cNvSpPr/>
            <p:nvPr/>
          </p:nvSpPr>
          <p:spPr>
            <a:xfrm>
              <a:off x="4938480" y="2589480"/>
              <a:ext cx="3953520" cy="3911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ru-RU" sz="1700" spc="-1" strike="noStrike" u="sng">
                  <a:solidFill>
                    <a:srgbClr val="000000"/>
                  </a:solidFill>
                  <a:uFillTx/>
                  <a:latin typeface="Verdana"/>
                </a:rPr>
                <a:t>УЗКОЛИ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получить хорошую отметк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избежать неприятност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выделиться среди других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занять определённ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место в класс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2"/>
          <p:cNvGrpSpPr/>
          <p:nvPr/>
        </p:nvGrpSpPr>
        <p:grpSpPr>
          <a:xfrm>
            <a:off x="395280" y="553680"/>
            <a:ext cx="8496720" cy="5968440"/>
            <a:chOff x="395280" y="553680"/>
            <a:chExt cx="8496720" cy="5968440"/>
          </a:xfrm>
        </p:grpSpPr>
        <p:cxnSp>
          <p:nvCxnSpPr>
            <p:cNvPr id="134" name="_s4100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527080" y="677520"/>
              <a:ext cx="428040" cy="2194920"/>
            </a:xfrm>
            <a:prstGeom prst="bentConnector3">
              <a:avLst>
                <a:gd name="adj1" fmla="val 265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4101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3287520" y="632160"/>
              <a:ext cx="428040" cy="2286000"/>
            </a:xfrm>
            <a:prstGeom prst="bentConnector3">
              <a:avLst>
                <a:gd name="adj1" fmla="val 266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4102"/>
            <p:cNvSpPr/>
            <p:nvPr/>
          </p:nvSpPr>
          <p:spPr>
            <a:xfrm>
              <a:off x="2799360" y="553680"/>
              <a:ext cx="3689280" cy="1008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ето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отивацио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стимулиро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4103"/>
            <p:cNvSpPr/>
            <p:nvPr/>
          </p:nvSpPr>
          <p:spPr>
            <a:xfrm>
              <a:off x="395280" y="1989360"/>
              <a:ext cx="3928320" cy="4532760"/>
            </a:xfrm>
            <a:custGeom>
              <a:avLst/>
              <a:gdLst>
                <a:gd name="textAreaLeft" fmla="*/ 191520 w 3928320"/>
                <a:gd name="textAreaRight" fmla="*/ 3736800 w 3928320"/>
                <a:gd name="textAreaTop" fmla="*/ 191520 h 4532760"/>
                <a:gd name="textAreaBottom" fmla="*/ 4341240 h 4532760"/>
              </a:gdLst>
              <a:ahLst/>
              <a:rect l="textAreaLeft" t="textAreaTop" r="textAreaRight" b="textAreaBottom"/>
              <a:pathLst>
                <a:path w="21600" h="24923">
                  <a:moveTo>
                    <a:pt x="3600" y="0"/>
                  </a:moveTo>
                  <a:arcTo wR="3600" hR="3600" stAng="16200000" swAng="-5400000"/>
                  <a:lnTo>
                    <a:pt x="0" y="21323"/>
                  </a:lnTo>
                  <a:arcTo wR="3600" hR="3600" stAng="10800000" swAng="-5400000"/>
                  <a:lnTo>
                    <a:pt x="18000" y="24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Verdana"/>
                </a:rPr>
                <a:t>ЭМОЦИОНАЛЬ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поощр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оздание ситу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спе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удовлетворение жел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быть значимым в клас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04"/>
            <p:cNvSpPr/>
            <p:nvPr/>
          </p:nvSpPr>
          <p:spPr>
            <a:xfrm>
              <a:off x="4789440" y="1989360"/>
              <a:ext cx="4102560" cy="4532760"/>
            </a:xfrm>
            <a:custGeom>
              <a:avLst/>
              <a:gdLst>
                <a:gd name="textAreaLeft" fmla="*/ 200160 w 4102560"/>
                <a:gd name="textAreaRight" fmla="*/ 3902400 w 4102560"/>
                <a:gd name="textAreaTop" fmla="*/ 200160 h 4532760"/>
                <a:gd name="textAreaBottom" fmla="*/ 4332600 h 4532760"/>
              </a:gdLst>
              <a:ahLst/>
              <a:rect l="textAreaLeft" t="textAreaTop" r="textAreaRight" b="textAreaBottom"/>
              <a:pathLst>
                <a:path w="21600" h="23865">
                  <a:moveTo>
                    <a:pt x="3600" y="0"/>
                  </a:moveTo>
                  <a:arcTo wR="3600" hR="3600" stAng="16200000" swAng="-5400000"/>
                  <a:lnTo>
                    <a:pt x="0" y="20265"/>
                  </a:lnTo>
                  <a:arcTo wR="3600" hR="3600" stAng="10800000" swAng="-5400000"/>
                  <a:lnTo>
                    <a:pt x="18000" y="23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ПОЗНАВ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опора на жизненный опы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буждение к поиск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альтернативных реш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здание проблем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иту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ыполнение творческ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зад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«мозговая атак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2"/>
          <p:cNvGrpSpPr/>
          <p:nvPr/>
        </p:nvGrpSpPr>
        <p:grpSpPr>
          <a:xfrm>
            <a:off x="395280" y="553680"/>
            <a:ext cx="8496720" cy="5968440"/>
            <a:chOff x="395280" y="553680"/>
            <a:chExt cx="8496720" cy="5968440"/>
          </a:xfrm>
        </p:grpSpPr>
        <p:cxnSp>
          <p:nvCxnSpPr>
            <p:cNvPr id="140" name="_s5124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5489640" y="1356840"/>
              <a:ext cx="581040" cy="2272320"/>
            </a:xfrm>
            <a:prstGeom prst="bentConnector3">
              <a:avLst>
                <a:gd name="adj1" fmla="val 19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125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3210840" y="1350360"/>
              <a:ext cx="581040" cy="2286000"/>
            </a:xfrm>
            <a:prstGeom prst="bentConnector3">
              <a:avLst>
                <a:gd name="adj1" fmla="val 197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5126"/>
            <p:cNvSpPr/>
            <p:nvPr/>
          </p:nvSpPr>
          <p:spPr>
            <a:xfrm>
              <a:off x="2799360" y="553680"/>
              <a:ext cx="3689280" cy="1649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ето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мотивационн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стимулиро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5127"/>
            <p:cNvSpPr/>
            <p:nvPr/>
          </p:nvSpPr>
          <p:spPr>
            <a:xfrm>
              <a:off x="395280" y="2783520"/>
              <a:ext cx="3928320" cy="3738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Verdana"/>
                </a:rPr>
                <a:t>ВОЛЕВ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Что ты сам думаешь об этом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Тебе нравится твоя работа?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очему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Как бы ты оценил эту работу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Что тебе в этой рабо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удалось больше всег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128"/>
            <p:cNvSpPr/>
            <p:nvPr/>
          </p:nvSpPr>
          <p:spPr>
            <a:xfrm>
              <a:off x="4938480" y="2783520"/>
              <a:ext cx="3953520" cy="37386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СОЦИ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азвитие жел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быть полез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здание ситу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заимопомощ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отрудни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оективная методик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«Рисунок шко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43000" y="211464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29000" y="2114640"/>
          <a:ext cx="4572000" cy="3650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изкая учебная 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52640" y="3997440"/>
            <a:ext cx="4033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3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http://psy.1september.ru/2001/09/8_9.ht8.jpg"/>
          <p:cNvPicPr/>
          <p:nvPr/>
        </p:nvPicPr>
        <p:blipFill>
          <a:blip r:embed="rId1"/>
          <a:stretch/>
        </p:blipFill>
        <p:spPr>
          <a:xfrm>
            <a:off x="684360" y="1916280"/>
            <a:ext cx="3905280" cy="21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1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 txBox="1"/>
          <p:nvPr/>
        </p:nvSpPr>
        <p:spPr>
          <a:xfrm>
            <a:off x="4652640" y="1980720"/>
            <a:ext cx="403380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0" descr="http://psy.1september.ru/2001/09/8_9.ht5.jpg"/>
          <p:cNvPicPr/>
          <p:nvPr/>
        </p:nvPicPr>
        <p:blipFill>
          <a:blip r:embed="rId2"/>
          <a:stretch/>
        </p:blipFill>
        <p:spPr>
          <a:xfrm>
            <a:off x="4643280" y="1916280"/>
            <a:ext cx="3816360" cy="20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37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8" descr="http://psy.1september.ru/2001/09/8_9.ht7.jpg"/>
          <p:cNvPicPr/>
          <p:nvPr/>
        </p:nvPicPr>
        <p:blipFill>
          <a:blip r:embed="rId3"/>
          <a:stretch/>
        </p:blipFill>
        <p:spPr>
          <a:xfrm>
            <a:off x="684360" y="4076640"/>
            <a:ext cx="3887640" cy="21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45"/>
          <p:cNvSpPr/>
          <p:nvPr/>
        </p:nvSpPr>
        <p:spPr>
          <a:xfrm>
            <a:off x="0" y="0"/>
            <a:ext cx="457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6" descr="http://psy.1september.ru/2001/09/8_9.ht6.jpg"/>
          <p:cNvPicPr/>
          <p:nvPr/>
        </p:nvPicPr>
        <p:blipFill>
          <a:blip r:embed="rId4"/>
          <a:stretch/>
        </p:blipFill>
        <p:spPr>
          <a:xfrm>
            <a:off x="4716360" y="4076640"/>
            <a:ext cx="376236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286000" y="0"/>
          <a:ext cx="4572000" cy="517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09:17Z</dcterms:created>
  <dc:creator>Пользователь User</dc:creator>
  <dc:description/>
  <dc:language>en-US</dc:language>
  <cp:lastModifiedBy>Admin</cp:lastModifiedBy>
  <dcterms:modified xsi:type="dcterms:W3CDTF">2018-01-28T15:41:10Z</dcterms:modified>
  <cp:revision>9</cp:revision>
  <dc:subject/>
  <dc:title>Слайд 1</dc:title>
</cp:coreProperties>
</file>