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B0872-74DC-43F0-8699-7820EB0F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A119A-9394-4E34-A297-9BC54E8E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3FE75-37DB-4963-8687-27EEB88A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FBEAC-9A4A-4F28-A3C7-565D0562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7851-EB85-4871-836E-A321CEC6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45D5-DD6A-4312-94FC-49DF4F9D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5738-381C-47A4-934A-BCE54104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DB5A-F837-4446-9A10-CF113C29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B9B8-C499-42BC-921A-AFA98217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5DE9-4539-4ADC-B677-EDF5037E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3B35-3A80-4990-B3FB-17DC6A26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BD381-22E4-4A78-89D4-97B48306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8749-ABF9-46DE-9F35-340BDB4B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C1BE-B760-4C57-B266-F81F63E8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B6F4-2CA7-4495-B522-349D485A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421A-60B2-4264-AD59-87C1CCE4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601A-D646-431B-A305-CF679B79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7EEBD-0E0E-4D39-92D1-B5083116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CA622-5559-461C-8E1C-EEC45006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CB645-82C2-4614-A474-27955391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ECBDE-12D4-4D31-A1EC-DB03C991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B0E6F-7EE7-4058-8A7D-01E376B1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4A895-6C08-4015-A2CD-92C8171D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FBED-1C27-41C2-B097-0892DCB9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5885-3F7A-4D03-8F09-1203EFD956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5C01-01E5-487E-BC28-DAD0D69115A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Учебная мотив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2687400" cy="37209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688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тив – это смысл поведения и деятельности человека, или же всё то, ради чего происходит актив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И.Бож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763640" y="580536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орытникова Елена Юрьевна,                       учитель начальных классов                                   МБОУ «СОШ №17» г.Усолье-Сибир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Несоответствие рисунков теме указыва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мотивационную незрелость ребе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ский негативиз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онимание и неверное истолкование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Высокая учебная мотив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980720"/>
            <a:ext cx="4033800" cy="18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52640" y="1980720"/>
            <a:ext cx="4033800" cy="18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52640" y="3997440"/>
            <a:ext cx="4033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http://psy.1september.ru/2001/09/8_9.ht9.jpg"/>
          <p:cNvPicPr/>
          <p:nvPr/>
        </p:nvPicPr>
        <p:blipFill>
          <a:blip r:embed="rId1"/>
          <a:stretch/>
        </p:blipFill>
        <p:spPr>
          <a:xfrm>
            <a:off x="4716360" y="1916280"/>
            <a:ext cx="3706920" cy="2017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http://psy.1september.ru/2001/09/8_9.ht93.jpg"/>
          <p:cNvPicPr/>
          <p:nvPr/>
        </p:nvPicPr>
        <p:blipFill>
          <a:blip r:embed="rId2"/>
          <a:stretch/>
        </p:blipFill>
        <p:spPr>
          <a:xfrm>
            <a:off x="684360" y="1916280"/>
            <a:ext cx="3600360" cy="19443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8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0"/>
          <a:ext cx="9144000" cy="517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Rectangle 17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0"/>
          <a:ext cx="9144000" cy="517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 txBox="1"/>
          <p:nvPr/>
        </p:nvSpPr>
        <p:spPr>
          <a:xfrm>
            <a:off x="456840" y="3997440"/>
            <a:ext cx="4033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7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8" descr="http://psy.1september.ru/2001/09/8_9.ht91.jpg"/>
          <p:cNvPicPr/>
          <p:nvPr/>
        </p:nvPicPr>
        <p:blipFill>
          <a:blip r:embed="rId3"/>
          <a:stretch/>
        </p:blipFill>
        <p:spPr>
          <a:xfrm>
            <a:off x="611280" y="4076640"/>
            <a:ext cx="3673440" cy="20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2286000" y="0"/>
          <a:ext cx="4572000" cy="5176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35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6" descr="http://psy.1september.ru/2001/09/8_9.ht92.jpg"/>
          <p:cNvPicPr/>
          <p:nvPr/>
        </p:nvPicPr>
        <p:blipFill>
          <a:blip r:embed="rId4"/>
          <a:stretch/>
        </p:blipFill>
        <p:spPr>
          <a:xfrm>
            <a:off x="4716360" y="4076640"/>
            <a:ext cx="3672000" cy="20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"/>
          <p:cNvGraphicFramePr/>
          <p:nvPr/>
        </p:nvGraphicFramePr>
        <p:xfrm>
          <a:off x="2286000" y="0"/>
          <a:ext cx="4572000" cy="5176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При соответствии рисунков теме учитывается их сюж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844640"/>
            <a:ext cx="769608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ые ситу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туации не учебного характера с внешними   школьными атрибу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овые ситуации в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3193920" cy="24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5400" spc="-1" strike="noStrike">
                <a:solidFill>
                  <a:srgbClr val="00007d"/>
                </a:solidFill>
                <a:latin typeface="Arial"/>
              </a:rPr>
              <a:t>Анке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Тебе нравится в шко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рав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нрав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Утром, когда ты просыпаешься, ты всегда с радостью идешь в школу или тебе часто хочется остаться дома? (подчеркну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Метод неоконченных              предлож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я думаю о школ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я иду в школ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звенит звон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я вижу учител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я получаю «двойку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1547640" y="3716280"/>
            <a:ext cx="619308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7d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7d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2700360" y="692280"/>
            <a:ext cx="388764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унова Е. В. Формирование учебной мотивации младших школьников. 200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онова Н. А. Изучение мотивационной сферы младших школьников. 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юхина М.В. Мотивация учения младших школьников. - М., 198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кова А.К. и др. Мотивация учения и ёё воспитание у школьников. - М., 198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кова А.К. и др. Формирование мотивации учения: Кн. для учителя. - М., 198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4960" y="546120"/>
            <a:ext cx="80614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Особенности мотивации младших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578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рекословное выполнение требований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т числа детей, мотивированных чувством дол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е числа детей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сящихся к учёб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нтере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риятие отметки как оценки своих стараний, а не качества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3-4 клас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овится мот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збегания наказ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716360" y="4221000"/>
            <a:ext cx="331308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Organization Chart 6"/>
          <p:cNvGrpSpPr/>
          <p:nvPr/>
        </p:nvGrpSpPr>
        <p:grpSpPr>
          <a:xfrm>
            <a:off x="469800" y="695160"/>
            <a:ext cx="7966440" cy="5610600"/>
            <a:chOff x="469800" y="695160"/>
            <a:chExt cx="7966440" cy="5610600"/>
          </a:xfrm>
        </p:grpSpPr>
        <p:cxnSp>
          <p:nvCxnSpPr>
            <p:cNvPr id="114" name="_s1028"/>
            <p:cNvCxnSpPr>
              <a:stCxn id="115" idx="0"/>
              <a:endCxn id="116" idx="2"/>
            </p:cNvCxnSpPr>
            <p:nvPr/>
          </p:nvCxnSpPr>
          <p:spPr>
            <a:xfrm flipV="1" rot="16200000">
              <a:off x="5145120" y="2034720"/>
              <a:ext cx="680400" cy="2113560"/>
            </a:xfrm>
            <a:prstGeom prst="bentConnector3">
              <a:avLst>
                <a:gd name="adj1" fmla="val 167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029"/>
            <p:cNvCxnSpPr>
              <a:stCxn id="118" idx="0"/>
              <a:endCxn id="116" idx="2"/>
            </p:cNvCxnSpPr>
            <p:nvPr/>
          </p:nvCxnSpPr>
          <p:spPr>
            <a:xfrm flipH="1" flipV="1" rot="5400000">
              <a:off x="3056040" y="2058840"/>
              <a:ext cx="680400" cy="2065680"/>
            </a:xfrm>
            <a:prstGeom prst="bentConnector3">
              <a:avLst>
                <a:gd name="adj1" fmla="val 167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6" name="_s1030"/>
            <p:cNvSpPr/>
            <p:nvPr/>
          </p:nvSpPr>
          <p:spPr>
            <a:xfrm>
              <a:off x="2267640" y="695160"/>
              <a:ext cx="4318200" cy="2056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ДЕЯТЕЛЬНОС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1"/>
            <p:cNvSpPr/>
            <p:nvPr/>
          </p:nvSpPr>
          <p:spPr>
            <a:xfrm>
              <a:off x="469800" y="3431880"/>
              <a:ext cx="3788280" cy="28738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ОТИВ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-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то побужд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ятельности, то, рад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чего учащийся соверша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у или иную деятельность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2"/>
            <p:cNvSpPr/>
            <p:nvPr/>
          </p:nvSpPr>
          <p:spPr>
            <a:xfrm>
              <a:off x="4644000" y="3431880"/>
              <a:ext cx="3792240" cy="28738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ЦЕЛЬ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едставляемый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осознаваемый результа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еятель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Organization Chart 6"/>
          <p:cNvGrpSpPr/>
          <p:nvPr/>
        </p:nvGrpSpPr>
        <p:grpSpPr>
          <a:xfrm>
            <a:off x="395280" y="260280"/>
            <a:ext cx="8250840" cy="6192720"/>
            <a:chOff x="395280" y="260280"/>
            <a:chExt cx="8250840" cy="6192720"/>
          </a:xfrm>
        </p:grpSpPr>
        <p:cxnSp>
          <p:nvCxnSpPr>
            <p:cNvPr id="120" name="_s2052"/>
            <p:cNvCxnSpPr>
              <a:stCxn id="121" idx="0"/>
              <a:endCxn id="122" idx="2"/>
            </p:cNvCxnSpPr>
            <p:nvPr/>
          </p:nvCxnSpPr>
          <p:spPr>
            <a:xfrm flipH="1" flipV="1" rot="5400000">
              <a:off x="3084120" y="1262520"/>
              <a:ext cx="650160" cy="2240640"/>
            </a:xfrm>
            <a:prstGeom prst="bentConnector3">
              <a:avLst>
                <a:gd name="adj1" fmla="val 175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2" name="_s2053"/>
            <p:cNvSpPr/>
            <p:nvPr/>
          </p:nvSpPr>
          <p:spPr>
            <a:xfrm>
              <a:off x="2635200" y="260280"/>
              <a:ext cx="3787920" cy="1797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Verdana"/>
                </a:rPr>
                <a:t>РЕБЁНОК</a:t>
              </a:r>
              <a:br>
                <a:rPr sz="3300"/>
              </a:br>
              <a:r>
                <a:rPr b="1" lang="en-US" sz="3300" spc="-1" strike="noStrike">
                  <a:solidFill>
                    <a:srgbClr val="000000"/>
                  </a:solidFill>
                  <a:latin typeface="Verdana"/>
                </a:rPr>
                <a:t>РЕШАЕТ</a:t>
              </a:r>
              <a:br>
                <a:rPr sz="3300"/>
              </a:br>
              <a:r>
                <a:rPr b="1" lang="en-US" sz="3300" spc="-1" strike="noStrike">
                  <a:solidFill>
                    <a:srgbClr val="000000"/>
                  </a:solidFill>
                  <a:latin typeface="Verdana"/>
                </a:rPr>
                <a:t>ЗАДАЧУ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054"/>
            <p:cNvSpPr/>
            <p:nvPr/>
          </p:nvSpPr>
          <p:spPr>
            <a:xfrm>
              <a:off x="395280" y="2707920"/>
              <a:ext cx="3787920" cy="37450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300" spc="-1" strike="noStrike">
                  <a:solidFill>
                    <a:srgbClr val="000000"/>
                  </a:solidFill>
                  <a:latin typeface="Verdana"/>
                </a:rPr>
                <a:t>ЦЕЛЬ: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найти реш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55"/>
            <p:cNvSpPr/>
            <p:nvPr/>
          </p:nvSpPr>
          <p:spPr>
            <a:xfrm>
              <a:off x="4858200" y="2707920"/>
              <a:ext cx="3787920" cy="37450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300" spc="-1" strike="noStrike">
                  <a:solidFill>
                    <a:srgbClr val="000000"/>
                  </a:solidFill>
                  <a:latin typeface="Verdana"/>
                </a:rPr>
                <a:t>МОТИВ: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а) научиться решать задач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б) не огорчать учителя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) порадовать родителей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хорошей отметк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15" descr=""/>
            <p:cNvPicPr/>
            <p:nvPr/>
          </p:nvPicPr>
          <p:blipFill>
            <a:blip r:embed="rId1"/>
            <a:stretch/>
          </p:blipFill>
          <p:spPr>
            <a:xfrm>
              <a:off x="6011640" y="4798440"/>
              <a:ext cx="1626480" cy="1575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5" name="_s2057"/>
            <p:cNvCxnSpPr>
              <a:stCxn id="123" idx="0"/>
              <a:endCxn id="122" idx="2"/>
            </p:cNvCxnSpPr>
            <p:nvPr/>
          </p:nvCxnSpPr>
          <p:spPr>
            <a:xfrm flipV="1" rot="16200000">
              <a:off x="5315400" y="1270800"/>
              <a:ext cx="650160" cy="2223720"/>
            </a:xfrm>
            <a:prstGeom prst="bentConnector3">
              <a:avLst>
                <a:gd name="adj1" fmla="val 17562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pic>
        <p:nvPicPr>
          <p:cNvPr id="126" name="Picture 14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2303640" cy="16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Organization Chart 6"/>
          <p:cNvGrpSpPr/>
          <p:nvPr/>
        </p:nvGrpSpPr>
        <p:grpSpPr>
          <a:xfrm>
            <a:off x="395280" y="553680"/>
            <a:ext cx="8496720" cy="5968800"/>
            <a:chOff x="395280" y="553680"/>
            <a:chExt cx="8496720" cy="5968800"/>
          </a:xfrm>
        </p:grpSpPr>
        <p:cxnSp>
          <p:nvCxnSpPr>
            <p:cNvPr id="128" name="_s3076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405760" y="1078560"/>
              <a:ext cx="748800" cy="2272320"/>
            </a:xfrm>
            <a:prstGeom prst="bentConnector3">
              <a:avLst>
                <a:gd name="adj1" fmla="val 151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3077"/>
            <p:cNvCxnSpPr>
              <a:stCxn id="132" idx="0"/>
              <a:endCxn id="130" idx="2"/>
            </p:cNvCxnSpPr>
            <p:nvPr/>
          </p:nvCxnSpPr>
          <p:spPr>
            <a:xfrm flipH="1" flipV="1" rot="5400000">
              <a:off x="3126960" y="1072080"/>
              <a:ext cx="748800" cy="2286000"/>
            </a:xfrm>
            <a:prstGeom prst="bentConnector3">
              <a:avLst>
                <a:gd name="adj1" fmla="val 151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0" name="_s3078"/>
            <p:cNvSpPr/>
            <p:nvPr/>
          </p:nvSpPr>
          <p:spPr>
            <a:xfrm>
              <a:off x="2799360" y="553680"/>
              <a:ext cx="3689280" cy="12873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МОТИВ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3079"/>
            <p:cNvSpPr/>
            <p:nvPr/>
          </p:nvSpPr>
          <p:spPr>
            <a:xfrm>
              <a:off x="395280" y="2589480"/>
              <a:ext cx="3928320" cy="3933000"/>
            </a:xfrm>
            <a:custGeom>
              <a:avLst/>
              <a:gdLst>
                <a:gd name="textAreaLeft" fmla="*/ 191520 w 3928320"/>
                <a:gd name="textAreaRight" fmla="*/ 3736800 w 3928320"/>
                <a:gd name="textAreaTop" fmla="*/ 191520 h 3933000"/>
                <a:gd name="textAreaBottom" fmla="*/ 3741480 h 3933000"/>
              </a:gdLst>
              <a:ahLst/>
              <a:rect l="textAreaLeft" t="textAreaTop" r="textAreaRight" b="textAreaBottom"/>
              <a:pathLst>
                <a:path w="21600" h="21626">
                  <a:moveTo>
                    <a:pt x="3600" y="0"/>
                  </a:moveTo>
                  <a:arcTo wR="3600" hR="3600" stAng="16200000" swAng="-5400000"/>
                  <a:lnTo>
                    <a:pt x="0" y="18026"/>
                  </a:lnTo>
                  <a:arcTo wR="3600" hR="3600" stAng="10800000" swAng="-5400000"/>
                  <a:lnTo>
                    <a:pt x="18000" y="216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 u="sng">
                  <a:solidFill>
                    <a:srgbClr val="000000"/>
                  </a:solidFill>
                  <a:uFillTx/>
                  <a:latin typeface="Verdana"/>
                </a:rPr>
                <a:t>ШИРОКИЕ СОЦИАЛЬ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тремление хорош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окончить школу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поступить в ВУЗ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хорошо работать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в будущем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3080"/>
            <p:cNvSpPr/>
            <p:nvPr/>
          </p:nvSpPr>
          <p:spPr>
            <a:xfrm>
              <a:off x="4938480" y="2589480"/>
              <a:ext cx="3953520" cy="3911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ru-RU" sz="1700" spc="-1" strike="noStrike" u="sng">
                  <a:solidFill>
                    <a:srgbClr val="000000"/>
                  </a:solidFill>
                  <a:uFillTx/>
                  <a:latin typeface="Verdana"/>
                </a:rPr>
                <a:t>УЗКОЛИ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получить хорошую отметку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избежать неприятносте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выделиться среди других,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занять определённое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место в класс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Organization Chart 2"/>
          <p:cNvGrpSpPr/>
          <p:nvPr/>
        </p:nvGrpSpPr>
        <p:grpSpPr>
          <a:xfrm>
            <a:off x="395280" y="553680"/>
            <a:ext cx="8496720" cy="5968440"/>
            <a:chOff x="395280" y="553680"/>
            <a:chExt cx="8496720" cy="5968440"/>
          </a:xfrm>
        </p:grpSpPr>
        <p:cxnSp>
          <p:nvCxnSpPr>
            <p:cNvPr id="134" name="_s4100"/>
            <p:cNvCxnSpPr>
              <a:stCxn id="135" idx="0"/>
              <a:endCxn id="136" idx="2"/>
            </p:cNvCxnSpPr>
            <p:nvPr/>
          </p:nvCxnSpPr>
          <p:spPr>
            <a:xfrm flipV="1" rot="16200000">
              <a:off x="5527080" y="677520"/>
              <a:ext cx="428040" cy="2194920"/>
            </a:xfrm>
            <a:prstGeom prst="bentConnector3">
              <a:avLst>
                <a:gd name="adj1" fmla="val 265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4101"/>
            <p:cNvCxnSpPr>
              <a:stCxn id="138" idx="0"/>
              <a:endCxn id="136" idx="2"/>
            </p:cNvCxnSpPr>
            <p:nvPr/>
          </p:nvCxnSpPr>
          <p:spPr>
            <a:xfrm flipH="1" flipV="1" rot="5400000">
              <a:off x="3287520" y="632160"/>
              <a:ext cx="428040" cy="2286000"/>
            </a:xfrm>
            <a:prstGeom prst="bentConnector3">
              <a:avLst>
                <a:gd name="adj1" fmla="val 266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6" name="_s4102"/>
            <p:cNvSpPr/>
            <p:nvPr/>
          </p:nvSpPr>
          <p:spPr>
            <a:xfrm>
              <a:off x="2799360" y="553680"/>
              <a:ext cx="3689280" cy="1008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Метод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мотивационног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стимулирова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4103"/>
            <p:cNvSpPr/>
            <p:nvPr/>
          </p:nvSpPr>
          <p:spPr>
            <a:xfrm>
              <a:off x="395280" y="1989360"/>
              <a:ext cx="3928320" cy="4532760"/>
            </a:xfrm>
            <a:custGeom>
              <a:avLst/>
              <a:gdLst>
                <a:gd name="textAreaLeft" fmla="*/ 191520 w 3928320"/>
                <a:gd name="textAreaRight" fmla="*/ 3736800 w 3928320"/>
                <a:gd name="textAreaTop" fmla="*/ 191520 h 4532760"/>
                <a:gd name="textAreaBottom" fmla="*/ 4341240 h 4532760"/>
              </a:gdLst>
              <a:ahLst/>
              <a:rect l="textAreaLeft" t="textAreaTop" r="textAreaRight" b="textAreaBottom"/>
              <a:pathLst>
                <a:path w="21600" h="24923">
                  <a:moveTo>
                    <a:pt x="3600" y="0"/>
                  </a:moveTo>
                  <a:arcTo wR="3600" hR="3600" stAng="16200000" swAng="-5400000"/>
                  <a:lnTo>
                    <a:pt x="0" y="21323"/>
                  </a:lnTo>
                  <a:arcTo wR="3600" hR="3600" stAng="10800000" swAng="-5400000"/>
                  <a:lnTo>
                    <a:pt x="18000" y="249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000000"/>
                  </a:solidFill>
                  <a:uFillTx/>
                  <a:latin typeface="Verdana"/>
                </a:rPr>
                <a:t>ЭМОЦИОНАЛЬНЫ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поощр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оздание ситу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успех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удовлетворение жела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быть значимым в класс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4104"/>
            <p:cNvSpPr/>
            <p:nvPr/>
          </p:nvSpPr>
          <p:spPr>
            <a:xfrm>
              <a:off x="4789440" y="1989360"/>
              <a:ext cx="4102560" cy="4532760"/>
            </a:xfrm>
            <a:custGeom>
              <a:avLst/>
              <a:gdLst>
                <a:gd name="textAreaLeft" fmla="*/ 200160 w 4102560"/>
                <a:gd name="textAreaRight" fmla="*/ 3902400 w 4102560"/>
                <a:gd name="textAreaTop" fmla="*/ 200160 h 4532760"/>
                <a:gd name="textAreaBottom" fmla="*/ 4332600 h 4532760"/>
              </a:gdLst>
              <a:ahLst/>
              <a:rect l="textAreaLeft" t="textAreaTop" r="textAreaRight" b="textAreaBottom"/>
              <a:pathLst>
                <a:path w="21600" h="23865">
                  <a:moveTo>
                    <a:pt x="3600" y="0"/>
                  </a:moveTo>
                  <a:arcTo wR="3600" hR="3600" stAng="16200000" swAng="-5400000"/>
                  <a:lnTo>
                    <a:pt x="0" y="20265"/>
                  </a:lnTo>
                  <a:arcTo wR="3600" hR="3600" stAng="10800000" swAng="-5400000"/>
                  <a:lnTo>
                    <a:pt x="18000" y="238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Verdana"/>
                </a:rPr>
                <a:t>ПОЗНАВА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опора на жизненный опы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обуждение к поиск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альтернативных реш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оздание проблемн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иту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ыполнение творчески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зада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«мозговая атака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Organization Chart 2"/>
          <p:cNvGrpSpPr/>
          <p:nvPr/>
        </p:nvGrpSpPr>
        <p:grpSpPr>
          <a:xfrm>
            <a:off x="395280" y="553680"/>
            <a:ext cx="8496720" cy="5968440"/>
            <a:chOff x="395280" y="553680"/>
            <a:chExt cx="8496720" cy="5968440"/>
          </a:xfrm>
        </p:grpSpPr>
        <p:cxnSp>
          <p:nvCxnSpPr>
            <p:cNvPr id="140" name="_s5124"/>
            <p:cNvCxnSpPr>
              <a:stCxn id="141" idx="0"/>
              <a:endCxn id="142" idx="2"/>
            </p:cNvCxnSpPr>
            <p:nvPr/>
          </p:nvCxnSpPr>
          <p:spPr>
            <a:xfrm flipV="1" rot="16200000">
              <a:off x="5489640" y="1356840"/>
              <a:ext cx="581040" cy="2272320"/>
            </a:xfrm>
            <a:prstGeom prst="bentConnector3">
              <a:avLst>
                <a:gd name="adj1" fmla="val 197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5125"/>
            <p:cNvCxnSpPr>
              <a:stCxn id="144" idx="0"/>
              <a:endCxn id="142" idx="2"/>
            </p:cNvCxnSpPr>
            <p:nvPr/>
          </p:nvCxnSpPr>
          <p:spPr>
            <a:xfrm flipH="1" flipV="1" rot="5400000">
              <a:off x="3210840" y="1350360"/>
              <a:ext cx="581040" cy="2286000"/>
            </a:xfrm>
            <a:prstGeom prst="bentConnector3">
              <a:avLst>
                <a:gd name="adj1" fmla="val 197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2" name="_s5126"/>
            <p:cNvSpPr/>
            <p:nvPr/>
          </p:nvSpPr>
          <p:spPr>
            <a:xfrm>
              <a:off x="2799360" y="553680"/>
              <a:ext cx="3689280" cy="1649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Метод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мотивационног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стимулирова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5127"/>
            <p:cNvSpPr/>
            <p:nvPr/>
          </p:nvSpPr>
          <p:spPr>
            <a:xfrm>
              <a:off x="395280" y="2783520"/>
              <a:ext cx="3928320" cy="37386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000000"/>
                  </a:solidFill>
                  <a:uFillTx/>
                  <a:latin typeface="Verdana"/>
                </a:rPr>
                <a:t>ВОЛЕВЫ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Что ты сам думаешь об этом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Тебе нравится твоя работа?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Как бы ты оценил эту работу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Что тебе в этой работ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удалось больше всего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5128"/>
            <p:cNvSpPr/>
            <p:nvPr/>
          </p:nvSpPr>
          <p:spPr>
            <a:xfrm>
              <a:off x="4938480" y="2783520"/>
              <a:ext cx="3953520" cy="37386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Verdana"/>
                </a:rPr>
                <a:t>СОЦИ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азвитие жел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быть полезны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оздание ситу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заимопомощ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отрудниче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роективная методика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«Рисунок школ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143000" y="211464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429000" y="2114640"/>
          <a:ext cx="4572000" cy="3650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Низкая учебная мотив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980720"/>
            <a:ext cx="4033800" cy="18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3997440"/>
            <a:ext cx="4033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52640" y="3997440"/>
            <a:ext cx="4033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0" y="0"/>
          <a:ext cx="4572000" cy="5176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Rectangle 13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4" descr="http://psy.1september.ru/2001/09/8_9.ht8.jpg"/>
          <p:cNvPicPr/>
          <p:nvPr/>
        </p:nvPicPr>
        <p:blipFill>
          <a:blip r:embed="rId1"/>
          <a:stretch/>
        </p:blipFill>
        <p:spPr>
          <a:xfrm>
            <a:off x="684360" y="1916280"/>
            <a:ext cx="3905280" cy="21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2286000" y="0"/>
          <a:ext cx="4572000" cy="5176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Rectangle 21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86000" y="0"/>
          <a:ext cx="4572000" cy="5176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 txBox="1"/>
          <p:nvPr/>
        </p:nvSpPr>
        <p:spPr>
          <a:xfrm>
            <a:off x="4652640" y="1980720"/>
            <a:ext cx="4033800" cy="18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9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0" descr="http://psy.1september.ru/2001/09/8_9.ht5.jpg"/>
          <p:cNvPicPr/>
          <p:nvPr/>
        </p:nvPicPr>
        <p:blipFill>
          <a:blip r:embed="rId2"/>
          <a:stretch/>
        </p:blipFill>
        <p:spPr>
          <a:xfrm>
            <a:off x="4643280" y="1916280"/>
            <a:ext cx="3816360" cy="201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2286000" y="0"/>
          <a:ext cx="4572000" cy="5176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37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8" descr="http://psy.1september.ru/2001/09/8_9.ht7.jpg"/>
          <p:cNvPicPr/>
          <p:nvPr/>
        </p:nvPicPr>
        <p:blipFill>
          <a:blip r:embed="rId3"/>
          <a:stretch/>
        </p:blipFill>
        <p:spPr>
          <a:xfrm>
            <a:off x="684360" y="4076640"/>
            <a:ext cx="3887640" cy="21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2286000" y="0"/>
          <a:ext cx="4572000" cy="5176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Rectangle 45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6" descr="http://psy.1september.ru/2001/09/8_9.ht6.jpg"/>
          <p:cNvPicPr/>
          <p:nvPr/>
        </p:nvPicPr>
        <p:blipFill>
          <a:blip r:embed="rId4"/>
          <a:stretch/>
        </p:blipFill>
        <p:spPr>
          <a:xfrm>
            <a:off x="4716360" y="4076640"/>
            <a:ext cx="3762360" cy="216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2286000" y="0"/>
          <a:ext cx="4572000" cy="5176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3:09:17Z</dcterms:created>
  <dc:creator>Пользователь User</dc:creator>
  <dc:description/>
  <dc:language>en-US</dc:language>
  <cp:lastModifiedBy>Admin</cp:lastModifiedBy>
  <dcterms:modified xsi:type="dcterms:W3CDTF">2018-01-28T15:41:10Z</dcterms:modified>
  <cp:revision>9</cp:revision>
  <dc:subject/>
  <dc:title>Слайд 1</dc:title>
</cp:coreProperties>
</file>