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8FCF-45B1-43EC-A62D-933DDE37E4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AC88-7146-46CE-9B6C-BE03F782AB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ДОУ детский сад №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развития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азвитие фонематического слуха у детей дошкольного возра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и провела: Т.В. Кузнецова – учитель-дефектол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Гус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тябрь, 2016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6CC2-6746-48FA-856A-BD997336A6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онематическая лестни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095-9200-4838-B0C8-B64162BB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4B8-5ADE-43BA-9C00-930C051F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7E3-7D04-49AD-9C49-997D72D5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D59-F4EF-44EA-95FA-9FA24628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343E-2DC3-4FD2-84C5-B9B74BA2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4B0-805D-4FF5-9984-A4A6548B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130-6273-4074-9C73-2ABC3C6D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9E5-3AC5-4416-890D-6B89FD38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613-2E33-46F7-BD7A-8368423D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143-8CCC-4EB6-A85A-7F7B1C2B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1D7-7CEC-4DA3-A08A-9941CFD2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0737-9EB1-4B7E-A3B5-9B816ECE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F002-5345-4EE6-9EF7-56B5871EB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6d8150254540e6b8c4cb379b189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1143000" y="304920"/>
            <a:ext cx="678168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Д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Детский сад «Василёк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азвит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нематического слуха у детей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ила и провел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.В. Зайцева – учитель-логоп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Ладушк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veselyie-rebyata-shablon-prevyu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304920" y="93240"/>
            <a:ext cx="845820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imes New Roman"/>
              </a:rPr>
              <a:t>6-я «ступенька» - анализ звукового состава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Термином «фонематический (звуковой) анализ» определяют как элементарные, так и сложные формы звукового анализа. Элементарные – это выделение звука на фоне слова. Вычленение первого и последнего звука из слова и определение его места (начало, середина или конец слова) относится сложной формы. Самым сложным звуковым анализом является определение последовательности звуков в слове, их количества, места по отношению к другим звукам (после какого звука и перед каки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Работа начинается с анализа гласных зву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1. Лучше всего дети слышат и выделяют ударный гласный из начала слова: Назови первый звук в слове:  аист, Ира, Оля, ут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2. Дать ребенку несколько одинаковых кружков (красного цвета). Взрослый произносит один, два и три гласных звука: а, ау, ауи. Ребенок откладывает на столе столько кружков, сколько звуков произнес взросл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гра «Пропустим мы во двор слов особенных набо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зрослый предлагает детям изобразить закрытые ворота: ладони повернуты к лицу, соединить средние пальцы, большие пальцы обеих рук поднять вверх: «Во двор мы будем «пропускать» только слова с заданным звуком». Малыши открывают ворота (ставят ладони параллельно друг другу), если слышат в слове заданный звук. Если в слове нет указанного звука, ворота захлопываются. По окончании игры можно предложить детям вспомнить все слова, которые они «пропустили во дво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veselyie-rebyata-shablon-prevyu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304920" y="443520"/>
            <a:ext cx="845820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Приступаем к анализу согласных звуков. При этом должна соблюдаться последовательность: сначала учат выделять в слове последний согласный звук.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Подберите картинки так, чтобы слово оканчивалось на согласный звук, положите в конверт. Ребенок вынимает картинки по одной, громко их называет, выделяя последний звук. Затем малыш называет звук отдельно (жук, лук, ко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гра «Мяч не трогать иль поймать – постарайся отгад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зрослый предлагает ребенку ловить мяч, если он услышит в конце слова заданный звук, либо прятать руки за спину, если звука не окаж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Только после того, как малыш научится без труда выполнять такие задания, можно переходить к сложным формам звукового анализа: это определение места звука в слове (начало, середина, конец); определение последовательности звуков в слове, их коли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veselyie-rebyata-shablon-prevyu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open-door-clip-art-1898756"/>
          <p:cNvPicPr/>
          <p:nvPr/>
        </p:nvPicPr>
        <p:blipFill>
          <a:blip r:embed="rId2"/>
          <a:stretch/>
        </p:blipFill>
        <p:spPr>
          <a:xfrm>
            <a:off x="152280" y="152280"/>
            <a:ext cx="912960" cy="17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axresdefault"/>
          <p:cNvPicPr/>
          <p:nvPr/>
        </p:nvPicPr>
        <p:blipFill>
          <a:blip r:embed="rId3"/>
          <a:stretch/>
        </p:blipFill>
        <p:spPr>
          <a:xfrm>
            <a:off x="1371600" y="533520"/>
            <a:ext cx="2286000" cy="128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image002"/>
          <p:cNvPicPr/>
          <p:nvPr/>
        </p:nvPicPr>
        <p:blipFill>
          <a:blip r:embed="rId4"/>
          <a:stretch/>
        </p:blipFill>
        <p:spPr>
          <a:xfrm>
            <a:off x="3581280" y="228600"/>
            <a:ext cx="2076480" cy="158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17694401"/>
          <p:cNvPicPr/>
          <p:nvPr/>
        </p:nvPicPr>
        <p:blipFill>
          <a:blip r:embed="rId5"/>
          <a:stretch/>
        </p:blipFill>
        <p:spPr>
          <a:xfrm>
            <a:off x="3809880" y="1828800"/>
            <a:ext cx="161460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104832273_rad3"/>
          <p:cNvPicPr/>
          <p:nvPr/>
        </p:nvPicPr>
        <p:blipFill>
          <a:blip r:embed="rId6"/>
          <a:stretch/>
        </p:blipFill>
        <p:spPr>
          <a:xfrm>
            <a:off x="3200400" y="4114800"/>
            <a:ext cx="2019240" cy="1716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w_99d73ec4"/>
          <p:cNvPicPr/>
          <p:nvPr/>
        </p:nvPicPr>
        <p:blipFill>
          <a:blip r:embed="rId7"/>
          <a:stretch/>
        </p:blipFill>
        <p:spPr>
          <a:xfrm>
            <a:off x="0" y="3733920"/>
            <a:ext cx="2057400" cy="185256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2"/>
          <p:cNvSpPr/>
          <p:nvPr/>
        </p:nvSpPr>
        <p:spPr>
          <a:xfrm>
            <a:off x="5791320" y="533520"/>
            <a:ext cx="977760" cy="485640"/>
          </a:xfrm>
          <a:prstGeom prst="rightArrow">
            <a:avLst>
              <a:gd name="adj1" fmla="val 50000"/>
              <a:gd name="adj2" fmla="val 5033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5562720" y="2666880"/>
            <a:ext cx="977760" cy="486000"/>
          </a:xfrm>
          <a:prstGeom prst="rightArrow">
            <a:avLst>
              <a:gd name="adj1" fmla="val 50000"/>
              <a:gd name="adj2" fmla="val 5029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5410080" y="4648320"/>
            <a:ext cx="978120" cy="485640"/>
          </a:xfrm>
          <a:prstGeom prst="rightArrow">
            <a:avLst>
              <a:gd name="adj1" fmla="val 50000"/>
              <a:gd name="adj2" fmla="val 5035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6896520" y="5328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6755760" y="259020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музык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6554880" y="472356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фоне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43337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2514600" y="266040"/>
            <a:ext cx="61722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Фонематический слух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– это способность человека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к анализу и синтезу речевых звуков, т.е. слух, обеспечивающий восприятие фонем родного языка.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514600" y="2663640"/>
            <a:ext cx="6400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Работа по развитию фонематического слуха начинается на материале неречевых звуков и постепенно охватывает все звуки речи. Упражнения и игры предлагаются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Times New Roman"/>
              </a:rPr>
              <a:t>в строгой последовательности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и  условно, если мы представим себе лестницу, по которой мы поднимаемся вверх, подразделяются  на шесть «ступенек»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veselyie-rebyata-shablon-prevyu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0" y="4572000"/>
            <a:ext cx="2514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1. Узнавание неречевых зву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219320" y="3733920"/>
            <a:ext cx="2590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2. Различение высоты, силы, тембра гол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0" y="2895480"/>
            <a:ext cx="29718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3. Различение слов, близких по звуковому соста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886200" y="2133720"/>
            <a:ext cx="2514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4. Различение сл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5181480" y="1523880"/>
            <a:ext cx="2590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5. Различение зву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6400800" y="762120"/>
            <a:ext cx="251460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6. Анализ звукового состава сл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762120" y="457200"/>
            <a:ext cx="32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«Фонематическая лестни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56ef35e1f18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228600" y="-237960"/>
            <a:ext cx="861048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imes New Roman"/>
              </a:rPr>
              <a:t>1-я «ступенька» - узнавание неречевых зву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Цель первого этапа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- развитие слухового внимания и слуховой памяти, что особенно важно для успешного развития фонематического восприятия вообще. Неумение вслушиваться в речь окружающих часто является одной из причин неправильного произношения, поэтому нужно научить ребенка слышать звуки, уметь их сравни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гры и упраж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Солнце или дожд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Большой – малень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Жмурки с колокольчиком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«Угадай по звуку, что дела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veselyie-rebyata-shablon-prevyu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veselyie-rebyata-shablon-prevyu-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228600" y="574560"/>
            <a:ext cx="845820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imes New Roman"/>
              </a:rPr>
              <a:t>2-я  «ступенька» - различение высоты, силы, тембра гол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На этом этапе необходимо научить ребенка понимать интонацию речи и самому владеть теми средствами, которыми выражаются эмоциональные оттенки 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гры и упраж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Далек – близ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Угадай, как надо дела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гры - драмат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43337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3048120" y="534600"/>
            <a:ext cx="586728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imes New Roman"/>
              </a:rPr>
              <a:t>3-я «ступенька» – различение слов, близких по звуковому соста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Овладение ребенком речью связано с его повышенным интересом к звучащему слову. Малыш к концу второго года жизни становится настоящим выдумщиком, сочиняя целые песенки, состоящие из набора разных звуков и слов, близких по звучанию. Он вслушивается в их сочетание, наслаждаясь звучанием. Тем самым, ребенок производит большую мыслительную работу над звуковой стороной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гры и упраж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Не ошиби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Подбери риф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Доскажи словеч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Добавлялк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veselyie-rebyata-shablon-prevyu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228600" y="358200"/>
            <a:ext cx="868680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imes New Roman"/>
              </a:rPr>
              <a:t>4-я «ступенька»- различение сл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Слог является минимальной единицей речевого потока. Удачно для игр на различение слогов брать звукоподражания. В такие игры с интересом будут играть как совсем малыши, так и детки постар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гры и упраж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Кто как кричи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Будь внимателе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43337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2971800" y="903960"/>
            <a:ext cx="586728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imes New Roman"/>
              </a:rPr>
              <a:t>5-я «ступенька»- различение зву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 любом языке существует определенное количество звуков, которые создают звуковой облик слова. Звук вне речи не имеет значения, он приобретает его лишь в структуре слова, помогая отличать одно слово от другого (дом, ком, сом, лом, том). Такой звук - называется фонемой (отсюда и «фонематический слух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гры и упраж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Прогулка на велосипед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Жук или комар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«Угадай, кто пое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1T13:54:21Z</dcterms:created>
  <dc:creator>Александр</dc:creator>
  <dc:description/>
  <dc:language>en-US</dc:language>
  <cp:lastModifiedBy>USER</cp:lastModifiedBy>
  <dcterms:modified xsi:type="dcterms:W3CDTF">2020-11-17T21:30:1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