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CC30-6814-441D-9050-33F947EF627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шки одеваются в теплые комбинезонч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м тоже холодно. Они заранее еще осенью сбрасывают листья и "засыпают" на зи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очки и сосны не расстаются со своими иголками. (Только елки и сосны стоят зеленые, потому что у них специальные свернутые в трубочку листью. Такие листья не замерзают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хорошо выделяются среди коричневых и серых деревьев своим зеленым наря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отные тоже меняют свои шубки на более пушистые и тепл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меняют и цвет своего меха: у заяца беляка летом мех серый, а зимой - белый, чтобы лучше прятаться в белом сне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животные прячутся в теплые норки и берлоги и всю зиму спят. Одни из этих соней - медвед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часто идет снег. Он укрывает землю, деревья, кусты, крыши домов толстым белым покрыва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нег бывает разный. Иногда это легкие красив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это маленькие комочки снега. Такой снег называется "крупа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к снегопаду присоединяется ветер, который не дает снегу опуститься на землю, кружит 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льшой ветер со снегом называется поземкой. Когда ветер становиться сильным, то он называется метел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ермя сильной метели, ничего не видно и можно потеряться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дети и взрослые кататься на санках, коньках и лыж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снега можно слепить много интересного: куличики, снеговика, креп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СИЛИЙ ИВАН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Р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ятие зимнего горо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</a:t>
            </a:r>
            <a:r>
              <a:rPr b="1" lang="en-US" sz="10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а в лесу. И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бужинский Домик в петербург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ванов Сем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рымовНикифор Зимний пейз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ЕНТИ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ЕКСАНДР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в Абрамцев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ки и сосны стоят зеленые, потому что у них специальные свернутые в трубочку листью. Такие листья не замерзают.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262-AE16-4811-8F9A-24AA41EE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3A0-F3A0-4E5A-B67B-B733AA22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6CA-F212-4689-BE25-AFA79E86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86F-8523-406E-A694-CBD774A3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6BD-D42C-45C8-96D2-55C10FB2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61E-DCB8-4483-BBD0-1CC1CBCB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DC9-9AB3-4FE3-8BFB-6CEE878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0B0-6203-4757-A4D5-F546CDA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BB7-A59E-4CED-8FCA-028229C1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7BF-2F01-46A3-A353-2FAA34A4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93B-71DE-45E3-AC4A-174D7862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CE0-DAAE-4D11-B1E1-78D31BBB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2ECE-29D5-4A7D-BD51-6313372152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ЗИ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Зимой" descr=""/>
          <p:cNvPicPr/>
          <p:nvPr/>
        </p:nvPicPr>
        <p:blipFill>
          <a:blip r:embed="rId1"/>
          <a:stretch/>
        </p:blipFill>
        <p:spPr>
          <a:xfrm>
            <a:off x="249120" y="428760"/>
            <a:ext cx="4322880" cy="6000480"/>
          </a:xfrm>
          <a:prstGeom prst="rect">
            <a:avLst/>
          </a:prstGeom>
          <a:ln w="0">
            <a:noFill/>
          </a:ln>
        </p:spPr>
      </p:pic>
      <p:pic>
        <p:nvPicPr>
          <p:cNvPr id="50" name="зима2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2882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 снегу на сан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анки" descr=""/>
          <p:cNvPicPr/>
          <p:nvPr/>
        </p:nvPicPr>
        <p:blipFill>
          <a:blip r:embed="rId1"/>
          <a:stretch/>
        </p:blipFill>
        <p:spPr>
          <a:xfrm>
            <a:off x="1219320" y="173160"/>
            <a:ext cx="5943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ыжах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лыжи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снега можно слепить много интересног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Надюха%20зимой%201" descr=""/>
          <p:cNvPicPr/>
          <p:nvPr/>
        </p:nvPicPr>
        <p:blipFill>
          <a:blip r:embed="rId1"/>
          <a:srcRect l="12566" t="19671" r="0" b="12259"/>
          <a:stretch/>
        </p:blipFill>
        <p:spPr>
          <a:xfrm>
            <a:off x="2209680" y="76320"/>
            <a:ext cx="4749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овика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има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пость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354" t="2740" r="27541" b="0"/>
          <a:stretch/>
        </p:blipFill>
        <p:spPr>
          <a:xfrm>
            <a:off x="990720" y="255600"/>
            <a:ext cx="71625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часто идет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укрывает землю, деревья, кусты, крыши домов толстым белым покрывалом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обужинский%20Домик%20в%20петербурге%201" descr=""/>
          <p:cNvPicPr/>
          <p:nvPr/>
        </p:nvPicPr>
        <p:blipFill>
          <a:blip r:embed="rId1"/>
          <a:stretch/>
        </p:blipFill>
        <p:spPr>
          <a:xfrm>
            <a:off x="304920" y="0"/>
            <a:ext cx="807696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улице становиться холодно. Люди одевают теплые шубы, пальто, курт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Иванов%20Семья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4312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м и кустам тоже холодн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заранее еще осенью сбрасывают листья и "засыпают"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КрымовНикифор%20Зимний%20пейзаж%201" descr=""/>
          <p:cNvPicPr/>
          <p:nvPr/>
        </p:nvPicPr>
        <p:blipFill>
          <a:blip r:embed="rId1"/>
          <a:srcRect l="0" t="10995" r="0" b="0"/>
          <a:stretch/>
        </p:blipFill>
        <p:spPr>
          <a:xfrm>
            <a:off x="533520" y="0"/>
            <a:ext cx="80769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кам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хорошо выделяются среди коричневых и серых деревьев своим зеленым наря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2554" t="15900" r="22420" b="39418"/>
          <a:stretch/>
        </p:blipFill>
        <p:spPr>
          <a:xfrm>
            <a:off x="1600200" y="380880"/>
            <a:ext cx="5943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вотным и птицам тоже холодн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ие птицы осенью улетают в более теплые ме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которые животные чтобы не мерзнуть прячутся в теплые норки и берлоги. И спят там всю зиму. Одни из этих соней - медвед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вотные, остающиеся бодрствовать, меняют свои летние шубки на более пушистые и теплы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ая пушистая шубка у ли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og&amp;Wolf135" descr=""/>
          <p:cNvPicPr/>
          <p:nvPr/>
        </p:nvPicPr>
        <p:blipFill>
          <a:blip r:embed="rId1"/>
          <a:stretch/>
        </p:blipFill>
        <p:spPr>
          <a:xfrm>
            <a:off x="800280" y="76320"/>
            <a:ext cx="75816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Некоторые звери меняют цвет своего меха, чтобы лучше было прятаться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зайца беляка летом мех серый, а зимой – белый как снег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6278" descr=""/>
          <p:cNvPicPr/>
          <p:nvPr/>
        </p:nvPicPr>
        <p:blipFill>
          <a:blip r:embed="rId1"/>
          <a:srcRect l="0" t="15127" r="5229" b="11255"/>
          <a:stretch/>
        </p:blipFill>
        <p:spPr>
          <a:xfrm>
            <a:off x="228600" y="228600"/>
            <a:ext cx="4861080" cy="5638680"/>
          </a:xfrm>
          <a:prstGeom prst="rect">
            <a:avLst/>
          </a:prstGeom>
          <a:ln w="0">
            <a:noFill/>
          </a:ln>
        </p:spPr>
      </p:pic>
      <p:pic>
        <p:nvPicPr>
          <p:cNvPr id="64" name="Rab&amp;Squir061" descr=""/>
          <p:cNvPicPr/>
          <p:nvPr/>
        </p:nvPicPr>
        <p:blipFill>
          <a:blip r:embed="rId2"/>
          <a:srcRect l="15391" t="0" r="15391" b="0"/>
          <a:stretch/>
        </p:blipFill>
        <p:spPr>
          <a:xfrm>
            <a:off x="5562720" y="228600"/>
            <a:ext cx="327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У горностая летняя  шубка коричневая, а зимняя тоже бел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ab&amp;Squir033" descr=""/>
          <p:cNvPicPr/>
          <p:nvPr/>
        </p:nvPicPr>
        <p:blipFill>
          <a:blip r:embed="rId1"/>
          <a:srcRect l="5846" t="0" r="5650" b="0"/>
          <a:stretch/>
        </p:blipFill>
        <p:spPr>
          <a:xfrm>
            <a:off x="228600" y="228600"/>
            <a:ext cx="488304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Горностай%202" descr=""/>
          <p:cNvPicPr/>
          <p:nvPr/>
        </p:nvPicPr>
        <p:blipFill>
          <a:blip r:embed="rId2"/>
          <a:srcRect l="25048" t="15528" r="17032" b="12019"/>
          <a:stretch/>
        </p:blipFill>
        <p:spPr>
          <a:xfrm>
            <a:off x="5334120" y="228600"/>
            <a:ext cx="35812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мороза вода в речках, прудах и озерах покрывае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льду очень весело кататься на коньк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28817" r="28820" b="0"/>
          <a:stretch/>
        </p:blipFill>
        <p:spPr>
          <a:xfrm>
            <a:off x="533520" y="380880"/>
            <a:ext cx="81342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52:11Z</dcterms:modified>
  <cp:revision>54</cp:revision>
  <dc:subject/>
  <dc:title>ЗИМА</dc:title>
</cp:coreProperties>
</file>