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FC1-AE84-4677-B54D-BF69D2A0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939-2F45-41C7-8D27-BBD9AED9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623-7E8B-478C-8A50-9F2FDE34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34A-23C0-4142-98D6-59FD7596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A4EE-FA7C-40C8-8276-E75E9EEA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93CA-F6C8-4564-8E2F-B7C09A81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0793-984A-45C1-9198-9DB0590A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B939-AC4C-423B-A1A2-D205376F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BAAC-EAC6-4CC6-8325-660DC596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72D3-E092-4D36-B3B6-F02361B1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AB9D-CB6E-46A1-B4A8-0F28E88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03C-24CC-47D6-B799-76B0ACDD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AA1E-0410-4557-9CA8-73AC15A4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DC89-73A8-4B08-9BF6-0058632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EB8F-7D45-43E6-8FC7-73C2332B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EE74-D304-4490-AC6B-E1416A4B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6925-6E8E-44E3-9654-FD292B67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DE4-DCD1-454E-A3E7-1C23D80E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B18-5F93-48B7-BF64-0BCEA04D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F26-CA4C-4DE8-B64C-99FAC146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C06-80D4-420F-9F07-E9A4011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B1F-9428-4DD1-8ABE-4435A04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28E-FDC8-44BD-8696-4E18B355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5E4-1D26-43AB-8E40-FDFD78B4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B973-6841-4AC5-BF10-CBEEC97CC0F9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BBCF-3E87-493A-8724-67B0C373E05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85440" y="2286000"/>
            <a:ext cx="81010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London</a:t>
            </a:r>
            <a:endParaRPr b="0" lang="en-US" sz="15000" spc="-1" strike="noStrike">
              <a:solidFill>
                <a:srgbClr val="8383ad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077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To know:</a:t>
            </a:r>
            <a:endParaRPr b="0" lang="en-US" sz="6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1" name="Picture 4" descr="kniga_6"/>
          <p:cNvPicPr/>
          <p:nvPr/>
        </p:nvPicPr>
        <p:blipFill>
          <a:blip r:embed="rId1"/>
          <a:stretch/>
        </p:blipFill>
        <p:spPr>
          <a:xfrm>
            <a:off x="571680" y="357120"/>
            <a:ext cx="2000160" cy="1487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Vocabulary on the topic;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me CF (conversational formulas);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formation &amp; the usage of Present Simple &amp; Present Continuous.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713880"/>
            <a:ext cx="807732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                </a:t>
            </a:r>
            <a:r>
              <a:rPr b="1" lang="en-US" sz="6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To be able t</a:t>
            </a:r>
            <a:r>
              <a:rPr b="0" lang="en-US" sz="6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o</a:t>
            </a:r>
            <a:r>
              <a:rPr b="1" lang="en-US" sz="60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ive the English equivalents;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ll in the gaps.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5" name="Picture 4" descr="writingonbook"/>
          <p:cNvPicPr/>
          <p:nvPr/>
        </p:nvPicPr>
        <p:blipFill>
          <a:blip r:embed="rId1"/>
          <a:stretch/>
        </p:blipFill>
        <p:spPr>
          <a:xfrm>
            <a:off x="285840" y="357120"/>
            <a:ext cx="25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Find the odd wor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800" y="16426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857160" y="1643040"/>
            <a:ext cx="242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hat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857160" y="2357280"/>
            <a:ext cx="2500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857160" y="3071880"/>
            <a:ext cx="2500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here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857160" y="3857760"/>
            <a:ext cx="2500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hy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Прямоугольник 8"/>
          <p:cNvSpPr/>
          <p:nvPr/>
        </p:nvSpPr>
        <p:spPr>
          <a:xfrm>
            <a:off x="857160" y="4572000"/>
            <a:ext cx="2500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hom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857160" y="5429160"/>
            <a:ext cx="2500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whe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Прямоугольник 11"/>
          <p:cNvSpPr/>
          <p:nvPr/>
        </p:nvSpPr>
        <p:spPr>
          <a:xfrm>
            <a:off x="4143240" y="1714680"/>
            <a:ext cx="171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do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Прямоугольник 12"/>
          <p:cNvSpPr/>
          <p:nvPr/>
        </p:nvSpPr>
        <p:spPr>
          <a:xfrm>
            <a:off x="6357960" y="1643040"/>
            <a:ext cx="1928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e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Прямоугольник 13"/>
          <p:cNvSpPr/>
          <p:nvPr/>
        </p:nvSpPr>
        <p:spPr>
          <a:xfrm>
            <a:off x="4071960" y="2357280"/>
            <a:ext cx="1785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help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Прямоугольник 14"/>
          <p:cNvSpPr/>
          <p:nvPr/>
        </p:nvSpPr>
        <p:spPr>
          <a:xfrm>
            <a:off x="6429240" y="23572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Прямоугольник 15"/>
          <p:cNvSpPr/>
          <p:nvPr/>
        </p:nvSpPr>
        <p:spPr>
          <a:xfrm>
            <a:off x="4071960" y="3071880"/>
            <a:ext cx="1714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me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Прямоугольник 16"/>
          <p:cNvSpPr/>
          <p:nvPr/>
        </p:nvSpPr>
        <p:spPr>
          <a:xfrm>
            <a:off x="6429240" y="3071880"/>
            <a:ext cx="1857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its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0" name="Прямоугольник 17"/>
          <p:cNvSpPr/>
          <p:nvPr/>
        </p:nvSpPr>
        <p:spPr>
          <a:xfrm>
            <a:off x="3929040" y="3786120"/>
            <a:ext cx="1714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watch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1" name="Прямоугольник 18"/>
          <p:cNvSpPr/>
          <p:nvPr/>
        </p:nvSpPr>
        <p:spPr>
          <a:xfrm>
            <a:off x="6429240" y="3857760"/>
            <a:ext cx="1714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2" name="Прямоугольник 19"/>
          <p:cNvSpPr/>
          <p:nvPr/>
        </p:nvSpPr>
        <p:spPr>
          <a:xfrm>
            <a:off x="3857760" y="4643280"/>
            <a:ext cx="2071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visi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3857760" y="53578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come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6286680" y="4643280"/>
            <a:ext cx="1785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e18"/>
                </a:solidFill>
                <a:latin typeface="Times New Roman"/>
              </a:rPr>
              <a:t>sh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Прямоугольник 22"/>
          <p:cNvSpPr/>
          <p:nvPr/>
        </p:nvSpPr>
        <p:spPr>
          <a:xfrm>
            <a:off x="6215040" y="5357880"/>
            <a:ext cx="1928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e18"/>
                </a:solidFill>
                <a:latin typeface="Times New Roman"/>
              </a:rPr>
              <a:t>they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5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75" dur="5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76" dur="5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Translate into Russian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571760"/>
            <a:ext cx="7958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I am going to read the text about London as soon as possibl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This year the Football World Cup takes place in Great Britain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At first learn the words by heart and then make up a dialogu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What is the capital of Italy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Excuse me, how can I get to the Houses of Parliament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Fill in the gaps: </a:t>
            </a:r>
            <a:br>
              <a:rPr sz="3600"/>
            </a:br>
            <a:r>
              <a:rPr b="1" i="1" lang="en-US" sz="36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of, off, part, place, pictur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56760" y="1999800"/>
            <a:ext cx="8358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Take care …the pennies &amp; the pounds will take care … themselves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He is fond of taking … 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Do her children take … in the concert?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The meeting took … in the park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Jane must take care … her old Granny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Will you take … your hat?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5143680" y="3000240"/>
            <a:ext cx="1714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icture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7358040" y="3643200"/>
            <a:ext cx="1285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ar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6572160" y="4214880"/>
            <a:ext cx="14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lac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7358040" y="4786200"/>
            <a:ext cx="128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4" name="Прямоугольник 7"/>
          <p:cNvSpPr/>
          <p:nvPr/>
        </p:nvSpPr>
        <p:spPr>
          <a:xfrm>
            <a:off x="5429160" y="5429160"/>
            <a:ext cx="185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ff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5" name="Прямоугольник 8"/>
          <p:cNvSpPr/>
          <p:nvPr/>
        </p:nvSpPr>
        <p:spPr>
          <a:xfrm>
            <a:off x="5072040" y="2500200"/>
            <a:ext cx="1214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6" name="Прямоугольник 9"/>
          <p:cNvSpPr/>
          <p:nvPr/>
        </p:nvSpPr>
        <p:spPr>
          <a:xfrm>
            <a:off x="6572160" y="2500200"/>
            <a:ext cx="1285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b0ba3"/>
                </a:solidFill>
                <a:latin typeface="Times New Roman"/>
                <a:ea typeface="Times New Roman"/>
              </a:rPr>
              <a:t>Grammar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00040" y="1428480"/>
            <a:ext cx="8215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Listen! My friend                  the song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I              some problems at school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They          to visit galleries &amp; museums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e1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  <a:ea typeface="Times New Roman"/>
              </a:rPr>
              <a:t>Where is Mum? She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1000080" y="1928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sing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3000240" y="1928880"/>
            <a:ext cx="150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s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4929120" y="1928880"/>
            <a:ext cx="171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is sing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1000080" y="3071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3" name="Прямоугольник 8"/>
          <p:cNvSpPr/>
          <p:nvPr/>
        </p:nvSpPr>
        <p:spPr>
          <a:xfrm>
            <a:off x="2857680" y="3071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ha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Прямоугольник 9"/>
          <p:cNvSpPr/>
          <p:nvPr/>
        </p:nvSpPr>
        <p:spPr>
          <a:xfrm>
            <a:off x="4857840" y="3071880"/>
            <a:ext cx="192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am hav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Прямоугольник 10"/>
          <p:cNvSpPr/>
          <p:nvPr/>
        </p:nvSpPr>
        <p:spPr>
          <a:xfrm>
            <a:off x="928800" y="4214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like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6" name="Прямоугольник 11"/>
          <p:cNvSpPr/>
          <p:nvPr/>
        </p:nvSpPr>
        <p:spPr>
          <a:xfrm>
            <a:off x="2857680" y="421488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are lik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7" name="Прямоугольник 12"/>
          <p:cNvSpPr/>
          <p:nvPr/>
        </p:nvSpPr>
        <p:spPr>
          <a:xfrm>
            <a:off x="5000760" y="42148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lik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8" name="Прямоугольник 13"/>
          <p:cNvSpPr/>
          <p:nvPr/>
        </p:nvSpPr>
        <p:spPr>
          <a:xfrm>
            <a:off x="1071720" y="55008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cook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Прямоугольник 14"/>
          <p:cNvSpPr/>
          <p:nvPr/>
        </p:nvSpPr>
        <p:spPr>
          <a:xfrm>
            <a:off x="3000240" y="5500800"/>
            <a:ext cx="150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Прямоугольник 15"/>
          <p:cNvSpPr/>
          <p:nvPr/>
        </p:nvSpPr>
        <p:spPr>
          <a:xfrm>
            <a:off x="4857840" y="55008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e18"/>
                </a:solidFill>
                <a:latin typeface="Times New Roman"/>
              </a:rPr>
              <a:t>is cooking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-2.59259E-006 L -0.10139 -0.06967 E">
                                      <p:cBhvr>
                                        <p:cTn id="132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500" autoRev="1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37" dur="500" autoRev="1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7.40741E-007 L 0.03299 -0.06829 E">
                                      <p:cBhvr>
                                        <p:cTn id="142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816 -0.00371 L -0.33351 -0.0669 E">
                                      <p:cBhvr>
                                        <p:cTn id="152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500" autoRev="1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58" dur="500" autoRev="1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4.07407E-006 L -0.00295 -0.08635 E">
                                      <p:cBhvr>
                                        <p:cTn id="162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ll in Participle I or Participle II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9968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He stood watched / watching the match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We saw him taken / taking to the hospital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The boy read / reading the book is my friend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saw the child cried / crying at that moment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om found a returned / returning letter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Прямоугольник 3"/>
          <p:cNvSpPr/>
          <p:nvPr/>
        </p:nvSpPr>
        <p:spPr>
          <a:xfrm>
            <a:off x="357120" y="5214960"/>
            <a:ext cx="8429760" cy="928800"/>
          </a:xfrm>
          <a:prstGeom prst="rect">
            <a:avLst/>
          </a:pr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watching     taken    reading  crying  returned 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t the words in a logical ord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Times New Roman"/>
                <a:ea typeface="Times New Roman"/>
              </a:rPr>
              <a:t>did, what, yesterday, she, see, in the par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Times New Roman"/>
                <a:ea typeface="Times New Roman"/>
              </a:rPr>
              <a:t>Who, last, was, in Moscow, yea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2e2e01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Times New Roman"/>
                <a:ea typeface="Times New Roman"/>
              </a:rPr>
              <a:t>You, Abbey, visit, will, Westminster, w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Прямоугольник 3"/>
          <p:cNvSpPr/>
          <p:nvPr/>
        </p:nvSpPr>
        <p:spPr>
          <a:xfrm>
            <a:off x="928800" y="2071800"/>
            <a:ext cx="7215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What did she see in the park yesterday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Прямоугольник 4"/>
          <p:cNvSpPr/>
          <p:nvPr/>
        </p:nvSpPr>
        <p:spPr>
          <a:xfrm>
            <a:off x="928800" y="3143160"/>
            <a:ext cx="7215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Who was in Moscow last year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8" name="Прямоугольник 5"/>
          <p:cNvSpPr/>
          <p:nvPr/>
        </p:nvSpPr>
        <p:spPr>
          <a:xfrm>
            <a:off x="1000080" y="4429080"/>
            <a:ext cx="7215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When will you visit Westminster Abbey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4:12:35Z</dcterms:created>
  <dc:creator>User</dc:creator>
  <dc:description/>
  <dc:language>en-US</dc:language>
  <cp:lastModifiedBy>1</cp:lastModifiedBy>
  <dcterms:modified xsi:type="dcterms:W3CDTF">2011-05-04T02:32:31Z</dcterms:modified>
  <cp:revision>54</cp:revision>
  <dc:subject/>
  <dc:title>Анализ анкетирования учащихся школ и гимназий</dc:title>
</cp:coreProperties>
</file>