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D3D-A7B9-4DFD-BC12-A9EA714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45-5AF0-4B74-A360-A80944EF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887-33F9-45A7-AE77-D379F976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59D-5CE9-4151-90C4-25EDD948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4345-438C-45E2-A3E1-8063DB0E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75C-061B-4D01-84ED-57FE666E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7E79-29A8-428D-AE8F-4B04C6EB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8BD8-EC9C-4BAF-95B7-559FEA0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DAE-39CC-4236-830E-599DA32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4EC-E465-4C71-9BDF-6638384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0AC-B6AD-4ABB-987A-04AA68A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406-B5B8-4E53-96C0-B3C33D5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680-E421-48FA-A1D2-0A2C863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5B7-49A7-46D3-91C2-C6CAA35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3440-74C2-4D14-ACEE-C29D14D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67D-6CC7-4424-ABDB-267383EB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A51C-E553-461A-9862-0D8FD5D9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68E-F0E4-4B47-AFB3-803DB182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B40-4EE3-4502-891A-843D06C0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1FD-8477-4478-AA74-EB967BC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EF3-24B7-466C-A32B-D3A9744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43B-1228-4744-999E-3CB9527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294-83A7-47D9-81EA-09DF707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CD6-0AF4-452C-AE9D-F8ACA49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49F4-0405-4376-8FC6-4E8C052B58E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66B-03AC-4072-B165-796E1825333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5440" y="2286000"/>
            <a:ext cx="81010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London</a:t>
            </a:r>
            <a:endParaRPr b="0" lang="en-US" sz="15000" spc="-1" strike="noStrike">
              <a:solidFill>
                <a:srgbClr val="8383ad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077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o know: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1" name="Picture 4" descr="kniga_6"/>
          <p:cNvPicPr/>
          <p:nvPr/>
        </p:nvPicPr>
        <p:blipFill>
          <a:blip r:embed="rId1"/>
          <a:stretch/>
        </p:blipFill>
        <p:spPr>
          <a:xfrm>
            <a:off x="571680" y="357120"/>
            <a:ext cx="2000160" cy="1487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Vocabulary on the topic;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CF (conversational formulas);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formation &amp; the usage of Present Simple &amp; Present Continuous.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713880"/>
            <a:ext cx="807732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</a:t>
            </a: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o be able t</a:t>
            </a:r>
            <a:r>
              <a:rPr b="0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o</a:t>
            </a: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l in the gap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Picture 4" descr="writingonbook"/>
          <p:cNvPicPr/>
          <p:nvPr/>
        </p:nvPicPr>
        <p:blipFill>
          <a:blip r:embed="rId1"/>
          <a:stretch/>
        </p:blipFill>
        <p:spPr>
          <a:xfrm>
            <a:off x="285840" y="35712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Find the odd wor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857160" y="1643040"/>
            <a:ext cx="242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857160" y="2357280"/>
            <a:ext cx="2500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857160" y="3071880"/>
            <a:ext cx="2500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er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857160" y="3857760"/>
            <a:ext cx="2500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857160" y="4572000"/>
            <a:ext cx="2500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om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57160" y="5429160"/>
            <a:ext cx="2500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4143240" y="171468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Прямоугольник 12"/>
          <p:cNvSpPr/>
          <p:nvPr/>
        </p:nvSpPr>
        <p:spPr>
          <a:xfrm>
            <a:off x="6357960" y="1643040"/>
            <a:ext cx="19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Прямоугольник 13"/>
          <p:cNvSpPr/>
          <p:nvPr/>
        </p:nvSpPr>
        <p:spPr>
          <a:xfrm>
            <a:off x="4071960" y="2357280"/>
            <a:ext cx="1785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Прямоугольник 14"/>
          <p:cNvSpPr/>
          <p:nvPr/>
        </p:nvSpPr>
        <p:spPr>
          <a:xfrm>
            <a:off x="6429240" y="2357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Прямоугольник 15"/>
          <p:cNvSpPr/>
          <p:nvPr/>
        </p:nvSpPr>
        <p:spPr>
          <a:xfrm>
            <a:off x="4071960" y="3071880"/>
            <a:ext cx="1714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me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Прямоугольник 16"/>
          <p:cNvSpPr/>
          <p:nvPr/>
        </p:nvSpPr>
        <p:spPr>
          <a:xfrm>
            <a:off x="6429240" y="3071880"/>
            <a:ext cx="185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its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3929040" y="378612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atch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Прямоугольник 18"/>
          <p:cNvSpPr/>
          <p:nvPr/>
        </p:nvSpPr>
        <p:spPr>
          <a:xfrm>
            <a:off x="6429240" y="385776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Прямоугольник 19"/>
          <p:cNvSpPr/>
          <p:nvPr/>
        </p:nvSpPr>
        <p:spPr>
          <a:xfrm>
            <a:off x="3857760" y="4643280"/>
            <a:ext cx="207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visi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3857760" y="53578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6286680" y="4643280"/>
            <a:ext cx="1785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sh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Прямоугольник 22"/>
          <p:cNvSpPr/>
          <p:nvPr/>
        </p:nvSpPr>
        <p:spPr>
          <a:xfrm>
            <a:off x="6215040" y="5357880"/>
            <a:ext cx="1928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they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ranslate into Russian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571760"/>
            <a:ext cx="79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I am going to read the text about London as soon as possibl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is year the Football World Cup takes place in Great Britain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At first learn the words by heart and then make up a dialogu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hat is the capital of Ital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Excuse me, how can I get to the Houses of Parliament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Fill in the gaps: </a:t>
            </a:r>
            <a:br>
              <a:rPr sz="3600"/>
            </a:br>
            <a:r>
              <a:rPr b="1" i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of, off, part, place, pictur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56760" y="1999800"/>
            <a:ext cx="8358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ake care …the pennies &amp; the pounds will take care … themselves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He is fond of taking … 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Do her children take … in the concert?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e meeting took … in the park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Jane must take care … her old Granny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ill you take … your hat?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5143680" y="3000240"/>
            <a:ext cx="1714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icture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7358040" y="3643200"/>
            <a:ext cx="1285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ar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6572160" y="4214880"/>
            <a:ext cx="14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lac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7358040" y="478620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5429160" y="542916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Прямоугольник 8"/>
          <p:cNvSpPr/>
          <p:nvPr/>
        </p:nvSpPr>
        <p:spPr>
          <a:xfrm>
            <a:off x="5072040" y="250020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Прямоугольник 9"/>
          <p:cNvSpPr/>
          <p:nvPr/>
        </p:nvSpPr>
        <p:spPr>
          <a:xfrm>
            <a:off x="6572160" y="2500200"/>
            <a:ext cx="128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Grammar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00040" y="142848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Listen! My friend                  the song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I              some problems at school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ey          to visit galleries &amp; museum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here is Mum? She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1000080" y="1928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sing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3000240" y="1928880"/>
            <a:ext cx="15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s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4929120" y="192888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is sing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000080" y="3071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2857680" y="3071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4857840" y="3071880"/>
            <a:ext cx="19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am hav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Прямоугольник 10"/>
          <p:cNvSpPr/>
          <p:nvPr/>
        </p:nvSpPr>
        <p:spPr>
          <a:xfrm>
            <a:off x="928800" y="4214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like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Прямоугольник 11"/>
          <p:cNvSpPr/>
          <p:nvPr/>
        </p:nvSpPr>
        <p:spPr>
          <a:xfrm>
            <a:off x="2857680" y="421488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are li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5000760" y="4214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lik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Прямоугольник 13"/>
          <p:cNvSpPr/>
          <p:nvPr/>
        </p:nvSpPr>
        <p:spPr>
          <a:xfrm>
            <a:off x="1071720" y="55008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cook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3000240" y="5500800"/>
            <a:ext cx="15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4857840" y="55008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is coo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-2.59259E-006 L -0.10139 -0.06967 E">
                                      <p:cBhvr>
                                        <p:cTn id="132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7.40741E-007 L 0.03299 -0.06829 E">
                                      <p:cBhvr>
                                        <p:cTn id="142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16 -0.00371 L -0.33351 -0.0669 E">
                                      <p:cBhvr>
                                        <p:cTn id="152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58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4.07407E-006 L -0.00295 -0.08635 E">
                                      <p:cBhvr>
                                        <p:cTn id="16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l in Participle I or Participle II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9968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tood watched / watching the match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We saw him taken / taking to the hospital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The boy read / reading the book is my friend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saw the child cried / crying at that moment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om found a returned / returning letter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Прямоугольник 3"/>
          <p:cNvSpPr/>
          <p:nvPr/>
        </p:nvSpPr>
        <p:spPr>
          <a:xfrm>
            <a:off x="357120" y="5214960"/>
            <a:ext cx="8429760" cy="928800"/>
          </a:xfrm>
          <a:prstGeom prst="rect">
            <a:avLst/>
          </a:pr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atching     taken    reading  crying  returned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t the words in a logical ord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did, what, yesterday, she, see, in the par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Who, last, was, in Moscow, ye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You, Abbey, visit, will, Westminster, w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Прямоугольник 3"/>
          <p:cNvSpPr/>
          <p:nvPr/>
        </p:nvSpPr>
        <p:spPr>
          <a:xfrm>
            <a:off x="928800" y="207180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at did she see in the park yesterday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928800" y="314316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o was in Moscow last year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Прямоугольник 5"/>
          <p:cNvSpPr/>
          <p:nvPr/>
        </p:nvSpPr>
        <p:spPr>
          <a:xfrm>
            <a:off x="1000080" y="442908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en will you visit Westminster Abbey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12:35Z</dcterms:created>
  <dc:creator>User</dc:creator>
  <dc:description/>
  <dc:language>en-US</dc:language>
  <cp:lastModifiedBy>1</cp:lastModifiedBy>
  <dcterms:modified xsi:type="dcterms:W3CDTF">2011-05-04T02:32:31Z</dcterms:modified>
  <cp:revision>54</cp:revision>
  <dc:subject/>
  <dc:title>Анализ анкетирования учащихся школ и гимназий</dc:title>
</cp:coreProperties>
</file>