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1E42-A539-4295-9960-324671CB90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37F1-7932-4A63-814B-2A52E6A93F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4BEE-A1E3-47E2-BFE9-BF37CB8E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0913-EC6D-4DFC-8B1E-E3C83BD0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16E1-C4A3-451D-8156-79665F78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0C6F-FDC9-42BB-A41B-6E4DBEC5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8944-CF61-4BB0-B2DD-52BC53D4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9637-E368-48C8-A118-15B9C9E1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8CCF-1A36-483F-BE7D-E1A21672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4564-85D0-493B-94A6-2103F837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FE85-C1C7-4006-A53B-BBB9CB16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A516-BACE-4291-A3EF-1842EEC4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4B2D-8897-4C3E-8EFF-67205797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FC60-19CE-4D88-B255-9D95B022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95DB-54AA-424D-90EC-37632570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B08D-D6CE-403F-A36C-92D500B8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0585-6E33-4F23-844F-138A786A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7774-74A7-412A-8521-60DC7856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465C-85E5-41B3-94D2-3E61A753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3F7A-0A5E-47E2-9974-C3025BB8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C56F-ADAB-4421-81D3-6A694F01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5CE8-476E-456A-86D1-8B9DF652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AD71-8D5C-411F-9DC5-6523832E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E7E8-99F2-4AD9-B040-BA432063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DDCB-0330-4C92-885B-66952D43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22F7-7BDC-4611-A436-27A2A7F6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7851-4AE9-479D-997F-F0DB4EDB6B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6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7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28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9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ACB6-904B-4B99-B8D8-07FEF44DDE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817236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c00000"/>
                </a:solidFill>
                <a:latin typeface="Times New Roman"/>
              </a:rPr>
              <a:t>School </a:t>
            </a:r>
            <a:endParaRPr b="0" lang="en-US" sz="12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98" name="Picture 9" descr="PE03254_"/>
          <p:cNvPicPr/>
          <p:nvPr/>
        </p:nvPicPr>
        <p:blipFill>
          <a:blip r:embed="rId1"/>
          <a:stretch/>
        </p:blipFill>
        <p:spPr>
          <a:xfrm>
            <a:off x="785880" y="3071880"/>
            <a:ext cx="3143160" cy="342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know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00" name="Picture 4" descr="kniga_6"/>
          <p:cNvPicPr/>
          <p:nvPr/>
        </p:nvPicPr>
        <p:blipFill>
          <a:blip r:embed="rId1"/>
          <a:stretch/>
        </p:blipFill>
        <p:spPr>
          <a:xfrm>
            <a:off x="755640" y="357120"/>
            <a:ext cx="1744560" cy="13575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ocabulary on the topic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text of  Lena's &amp; Olga’s letter to Barbara Grey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rmation &amp; the usage of Present Simple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5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03" name="Picture 4" descr="writingonbook"/>
          <p:cNvPicPr/>
          <p:nvPr/>
        </p:nvPicPr>
        <p:blipFill>
          <a:blip r:embed="rId1"/>
          <a:stretch/>
        </p:blipFill>
        <p:spPr>
          <a:xfrm>
            <a:off x="1476360" y="549360"/>
            <a:ext cx="1513080" cy="100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the English equivalent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&amp; translat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wer the question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 the questions with the answer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up questions in Present Simpl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e or disag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50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3" dur="50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4" dur="50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Match the questions &amp; the answers 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71720" y="1071720"/>
          <a:ext cx="7715160" cy="5121000"/>
        </p:xfrm>
        <a:graphic>
          <a:graphicData uri="http://schemas.openxmlformats.org/drawingml/2006/table">
            <a:tbl>
              <a:tblPr/>
              <a:tblGrid>
                <a:gridCol w="3786120"/>
                <a:gridCol w="3929040"/>
              </a:tblGrid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Do you like to go to school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a) Dick does. He likes Maths very much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Why do you like to go to school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b) Yes, I do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What subjects do you like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c) I have many friends &amp; they are my classmat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What is your favourite school subjec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d) Yes, I do. I like to go to school very much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Do you enjoy learning Russia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e) I like English &amp; Information Technolog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Who likes Maths in your class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f) Yes, I do. I have Russian every da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Do you have Russian every day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g) My favourite school subject is Literatur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9720" y="357120"/>
            <a:ext cx="762012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The key: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66320" y="1714680"/>
            <a:ext cx="762012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 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 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 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 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 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  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human209"/>
          <p:cNvPicPr/>
          <p:nvPr/>
        </p:nvPicPr>
        <p:blipFill>
          <a:blip r:embed="rId1"/>
          <a:stretch/>
        </p:blipFill>
        <p:spPr>
          <a:xfrm>
            <a:off x="6572160" y="928800"/>
            <a:ext cx="1760760" cy="221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 </a:t>
            </a:r>
            <a:r>
              <a:rPr b="1" lang="en-GB" sz="5400" spc="-1" strike="noStrike">
                <a:solidFill>
                  <a:srgbClr val="c00000"/>
                </a:solidFill>
                <a:latin typeface="Times New Roman"/>
                <a:ea typeface="方正姚体"/>
              </a:rPr>
              <a:t>Your mark </a:t>
            </a:r>
            <a:endParaRPr b="0" lang="en-US" sz="5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SimSun"/>
              </a:rPr>
              <a:t>0 –     “</a:t>
            </a: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SimSun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SimSun"/>
              </a:rPr>
              <a:t>”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SimSun"/>
              </a:rPr>
              <a:t>1-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SimSun"/>
              </a:rPr>
              <a:t> – “</a:t>
            </a:r>
            <a:r>
              <a:rPr b="1" lang="en-US" sz="5400" spc="-1" strike="noStrike">
                <a:solidFill>
                  <a:srgbClr val="00b050"/>
                </a:solidFill>
                <a:latin typeface="Times New Roman"/>
                <a:ea typeface="SimSun"/>
              </a:rPr>
              <a:t>4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SimSun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SimSun"/>
              </a:rPr>
              <a:t>3–4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SimSun"/>
              </a:rPr>
              <a:t> – “</a:t>
            </a:r>
            <a:r>
              <a:rPr b="1" lang="en-US" sz="5400" spc="-1" strike="noStrike">
                <a:solidFill>
                  <a:srgbClr val="002060"/>
                </a:solidFill>
                <a:latin typeface="Times New Roman"/>
                <a:ea typeface="SimSun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SimSun"/>
              </a:rPr>
              <a:t>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SimSun"/>
              </a:rPr>
              <a:t>…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SimSun"/>
              </a:rPr>
              <a:t>-    “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SimSun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36_2_25"/>
          <p:cNvPicPr/>
          <p:nvPr/>
        </p:nvPicPr>
        <p:blipFill>
          <a:blip r:embed="rId1"/>
          <a:stretch/>
        </p:blipFill>
        <p:spPr>
          <a:xfrm>
            <a:off x="3929040" y="1857240"/>
            <a:ext cx="1785960" cy="1857600"/>
          </a:xfrm>
          <a:prstGeom prst="rect">
            <a:avLst/>
          </a:prstGeom>
          <a:ln w="0">
            <a:noFill/>
          </a:ln>
        </p:spPr>
      </p:pic>
      <p:pic>
        <p:nvPicPr>
          <p:cNvPr id="113" name="il_fi" descr="http://chelpro.ru/wp-content/a-non-professional-face.jpg"/>
          <p:cNvPicPr/>
          <p:nvPr/>
        </p:nvPicPr>
        <p:blipFill>
          <a:blip r:embed="rId2"/>
          <a:stretch/>
        </p:blipFill>
        <p:spPr>
          <a:xfrm>
            <a:off x="3929040" y="4429080"/>
            <a:ext cx="1785960" cy="1500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gree or disagree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680" y="1142640"/>
            <a:ext cx="78631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pils have holidays two times a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pils do homework 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chers don’t give their pupils any home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pils get only bad ma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pils learn poems &amp; dialogues by hea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speak Engl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pils may talk loudly during the les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enjoy learning Ma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Содержимое 4" descr="http://allforchildren.ru/pic/718/1560/school2112.gif"/>
          <p:cNvPicPr/>
          <p:nvPr/>
        </p:nvPicPr>
        <p:blipFill>
          <a:blip r:embed="rId1"/>
          <a:stretch/>
        </p:blipFill>
        <p:spPr>
          <a:xfrm>
            <a:off x="6786720" y="0"/>
            <a:ext cx="2000160" cy="121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Give the Russian equivalents 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42640" y="1214280"/>
            <a:ext cx="7620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ter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rney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ravel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o abroad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pend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o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peak English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ake friends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hope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3071880" y="1214280"/>
            <a:ext cx="15714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исьм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3429000" y="1785960"/>
            <a:ext cx="2857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утешеств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3500280" y="2357280"/>
            <a:ext cx="29289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утешествов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оугольник 6"/>
          <p:cNvSpPr/>
          <p:nvPr/>
        </p:nvSpPr>
        <p:spPr>
          <a:xfrm>
            <a:off x="4143240" y="2928960"/>
            <a:ext cx="3786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ездить за границ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ямоугольник 7"/>
          <p:cNvSpPr/>
          <p:nvPr/>
        </p:nvSpPr>
        <p:spPr>
          <a:xfrm>
            <a:off x="3643200" y="3500280"/>
            <a:ext cx="49294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роводить / трат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оугольник 8"/>
          <p:cNvSpPr/>
          <p:nvPr/>
        </p:nvSpPr>
        <p:spPr>
          <a:xfrm>
            <a:off x="3000240" y="4143240"/>
            <a:ext cx="2857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дел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оугольник 9"/>
          <p:cNvSpPr/>
          <p:nvPr/>
        </p:nvSpPr>
        <p:spPr>
          <a:xfrm>
            <a:off x="4857840" y="4714920"/>
            <a:ext cx="37148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говорить по-английс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10"/>
          <p:cNvSpPr/>
          <p:nvPr/>
        </p:nvSpPr>
        <p:spPr>
          <a:xfrm>
            <a:off x="4786200" y="5286240"/>
            <a:ext cx="3000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одружиться с кем-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11"/>
          <p:cNvSpPr/>
          <p:nvPr/>
        </p:nvSpPr>
        <p:spPr>
          <a:xfrm>
            <a:off x="3286080" y="5857920"/>
            <a:ext cx="2643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надеять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07:47:03Z</dcterms:created>
  <dc:creator>kasutaja6</dc:creator>
  <dc:description/>
  <dc:language>en-US</dc:language>
  <cp:lastModifiedBy>Марина</cp:lastModifiedBy>
  <dcterms:modified xsi:type="dcterms:W3CDTF">2015-10-04T14:55:11Z</dcterms:modified>
  <cp:revision>55</cp:revision>
  <dc:subject/>
  <dc:title>Universities</dc:title>
</cp:coreProperties>
</file>