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6F8-984C-45FA-B07C-820B6D01B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E17-DA0A-4296-AEAE-592F9CDA6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ACD-83E7-4EAA-B645-7B101E1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4D6-F453-4B4D-AF7D-86CC43D3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FB4-864E-452C-A1E9-A2B71E84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026-FC6C-4EF3-AD18-8B7C4A9F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CD65-FAF6-4406-9E29-D43B552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7769-41CA-4275-9D54-CEF4534E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F4B-F092-4FB6-81CD-40CEAAE3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AFA-54E9-4ACF-ABAF-633CB398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20E1-9FBE-4FC7-B332-CE41031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EA97-CA82-4DF8-AAB8-0297E41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E6A-A5F2-4468-919D-3D415C0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9E8-B6FB-4936-947D-E86C775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1D00-8506-4021-8EBB-1CB11CA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7D61-1AAF-426C-B5F3-0C15CBB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8DE6-F8B1-4F47-B8C9-0E6253C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5F0-4E88-4668-A7D8-AB91A8A6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41E-2EDD-485F-AEC3-3771CBD1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196-7B14-4CB2-84A4-76E133E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D54-AD6A-46EB-AF09-78F18066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839-D136-4AAE-A4A8-B22FC8BA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51-F9C7-4335-AB48-BDB402EF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884-411A-4394-8B2B-AA7925F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A53-AAEA-4705-8802-84D91C5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16D-D3DC-4802-8513-8729E46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6506-622C-4F37-B647-B8F8DB6130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A274-42C0-4C3C-B13D-E02DCCA14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81723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00000"/>
                </a:solidFill>
                <a:latin typeface="Times New Roman"/>
              </a:rPr>
              <a:t>School </a:t>
            </a:r>
            <a:endParaRPr b="0" lang="en-US" sz="1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8" name="Picture 9" descr="PE03254_"/>
          <p:cNvPicPr/>
          <p:nvPr/>
        </p:nvPicPr>
        <p:blipFill>
          <a:blip r:embed="rId1"/>
          <a:stretch/>
        </p:blipFill>
        <p:spPr>
          <a:xfrm>
            <a:off x="785880" y="30718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0" name="Picture 4" descr="kniga_6"/>
          <p:cNvPicPr/>
          <p:nvPr/>
        </p:nvPicPr>
        <p:blipFill>
          <a:blip r:embed="rId1"/>
          <a:stretch/>
        </p:blipFill>
        <p:spPr>
          <a:xfrm>
            <a:off x="755640" y="357120"/>
            <a:ext cx="1744560" cy="1357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on the top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ext of  Lena's &amp; Olga’s letter to Barbara Grey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ion &amp; the usage of Present Simple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3" name="Picture 4" descr="writingonbook"/>
          <p:cNvPicPr/>
          <p:nvPr/>
        </p:nvPicPr>
        <p:blipFill>
          <a:blip r:embed="rId1"/>
          <a:stretch/>
        </p:blipFill>
        <p:spPr>
          <a:xfrm>
            <a:off x="1476360" y="549360"/>
            <a:ext cx="151308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English equival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&amp; transl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ques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 the questions with the answe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p questions in Present Simp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r disa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atch the questions &amp; the answers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71720" y="1071720"/>
          <a:ext cx="7715160" cy="5121000"/>
        </p:xfrm>
        <a:graphic>
          <a:graphicData uri="http://schemas.openxmlformats.org/drawingml/2006/table">
            <a:tbl>
              <a:tblPr/>
              <a:tblGrid>
                <a:gridCol w="3786120"/>
                <a:gridCol w="392904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Do you like to go to sch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) Dick does. He likes Maths very mu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Why do you like to go to schoo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b) Yes, I d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What subjects do you lik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) I have many friends &amp; they are my classma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What is your favourite school subjec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) Yes, I do. I like to go to school very mu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Do you enjoy learning Russia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e) I like English &amp; Information Technolo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Who likes Maths in your clas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f) Yes, I do. I have Russian every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Do you have Russian every da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g) My favourite school subject is Literat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6201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e key: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320" y="1714680"/>
            <a:ext cx="76201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human209"/>
          <p:cNvPicPr/>
          <p:nvPr/>
        </p:nvPicPr>
        <p:blipFill>
          <a:blip r:embed="rId1"/>
          <a:stretch/>
        </p:blipFill>
        <p:spPr>
          <a:xfrm>
            <a:off x="6572160" y="928800"/>
            <a:ext cx="176076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</a:t>
            </a:r>
            <a:r>
              <a:rPr b="1" lang="en-GB" sz="5400" spc="-1" strike="noStrike">
                <a:solidFill>
                  <a:srgbClr val="c00000"/>
                </a:solidFill>
                <a:latin typeface="Times New Roman"/>
                <a:ea typeface="方正姚体"/>
              </a:rPr>
              <a:t>Your mark </a:t>
            </a:r>
            <a:endParaRPr b="0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0 –     “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SimSun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1-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“</a:t>
            </a:r>
            <a:r>
              <a:rPr b="1" lang="en-US" sz="5400" spc="-1" strike="noStrike">
                <a:solidFill>
                  <a:srgbClr val="00b050"/>
                </a:solidFill>
                <a:latin typeface="Times New Roman"/>
                <a:ea typeface="SimSun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3–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“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SimSun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…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-    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SimSun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36_2_25"/>
          <p:cNvPicPr/>
          <p:nvPr/>
        </p:nvPicPr>
        <p:blipFill>
          <a:blip r:embed="rId1"/>
          <a:stretch/>
        </p:blipFill>
        <p:spPr>
          <a:xfrm>
            <a:off x="3929040" y="185724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113" name="il_fi" descr="http://chelpro.ru/wp-content/a-non-professional-face.jpg"/>
          <p:cNvPicPr/>
          <p:nvPr/>
        </p:nvPicPr>
        <p:blipFill>
          <a:blip r:embed="rId2"/>
          <a:stretch/>
        </p:blipFill>
        <p:spPr>
          <a:xfrm>
            <a:off x="3929040" y="4429080"/>
            <a:ext cx="1785960" cy="15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ree or disagree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142640"/>
            <a:ext cx="7863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have holidays two times a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do homework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don’t give their pupils any hom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get only bad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learn poems &amp; dialogues by he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peak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pils may talk loudly during the le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enjoy learning M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Содержимое 4" descr="http://allforchildren.ru/pic/718/1560/school2112.gif"/>
          <p:cNvPicPr/>
          <p:nvPr/>
        </p:nvPicPr>
        <p:blipFill>
          <a:blip r:embed="rId1"/>
          <a:stretch/>
        </p:blipFill>
        <p:spPr>
          <a:xfrm>
            <a:off x="6786720" y="0"/>
            <a:ext cx="200016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Give the Russian equivalents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214280"/>
            <a:ext cx="7620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ey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avel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o abroad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nd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ak English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friend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op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071880" y="1214280"/>
            <a:ext cx="1571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3429000" y="1785960"/>
            <a:ext cx="2857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утеше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3500280" y="2357280"/>
            <a:ext cx="2928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утешеств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4143240" y="2928960"/>
            <a:ext cx="378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ездить за грани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3643200" y="3500280"/>
            <a:ext cx="492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водить / трат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3000240" y="4143240"/>
            <a:ext cx="285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л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4857840" y="4714920"/>
            <a:ext cx="3714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говорить по-англий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4786200" y="5286240"/>
            <a:ext cx="3000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одружиться с кем-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3286080" y="5857920"/>
            <a:ext cx="264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де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7:47:03Z</dcterms:created>
  <dc:creator>kasutaja6</dc:creator>
  <dc:description/>
  <dc:language>en-US</dc:language>
  <cp:lastModifiedBy>Марина</cp:lastModifiedBy>
  <dcterms:modified xsi:type="dcterms:W3CDTF">2015-10-04T14:55:11Z</dcterms:modified>
  <cp:revision>55</cp:revision>
  <dc:subject/>
  <dc:title>Universities</dc:title>
</cp:coreProperties>
</file>