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D8F-1C06-4A26-BA1A-7A975E46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658-14F8-4CA1-9385-7F4C178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53A-10C4-4D40-8EA6-F9938398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E89-A4C9-4F00-AB3F-B031A892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FD57-EEE1-4084-BCBB-C0AABB45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7104-F8BA-446B-A9AD-695E7FD3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D07D-CD3A-4858-ACF5-B49829B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9C8D-443D-4163-AC55-CAD6292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5AA8-530E-4C00-B47E-3E8FFC6D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6D07-0186-40F6-BFCE-D6FBADC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1E89-F5E6-49E1-9084-FD41F6A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9BD-B42D-4BBC-9B4F-599F5440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43A5-BFD3-464E-8CD5-D357FEA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7728-E34B-4BCF-BB2F-3BD9FC19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311F-361A-4AD8-B5ED-EC6FC3E0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9A3B-D244-4047-9D8E-E74890A3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CA6C-A89A-457C-8786-E96F7C68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395B-5F08-40F2-BAEA-D1B0D22D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B7C5-B23B-45E3-B480-546B89B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F8F5-C8E1-4BB3-A9E2-0570EAF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457C-A826-4C39-87D8-3142CBD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D86B-F5BF-4858-84CA-62AE1552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0BC-B564-42D6-A261-56223BBA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1965-ADBE-4CC0-A763-24742EF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74C85-D723-4787-AA84-51CF720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5E95-5B33-4825-9F0D-DE9B01F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A3C3-D466-4368-A2B5-B3031F6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E8F6-74F8-471C-BF29-0740455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6E9D-C84D-46C2-8DEF-130F1486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8199-2BC1-4234-B32E-2AD5B89B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72CAD-B342-4FEA-8174-15FBC72A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5115-7DDF-44C2-8AAF-B37AF318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BA50-26C9-43B3-9E58-FBC35195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32F-CA47-40B4-B199-5C1234B8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37F6-91AF-4280-97AD-5A1C153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C486-61E9-403C-9E55-84150FE0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950B3-B9DF-4F11-AE58-5EF8C462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E7EC-1C06-4F87-9806-38B3BA6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160A-4736-46F3-BBC6-C6E152A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B26C-7767-4156-ADC6-10890CE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AEAB1-46E4-4B95-B8B3-92AAF43C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E08EF-2582-4B38-8D56-1F08BC2F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0625-EAB1-4428-97FF-7C791551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CA1-7205-4679-9693-026D5214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A27-D198-4367-BD06-94F064ED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383-4EF6-49FE-A577-2639E2D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0D5-CC6D-4452-894D-30405D3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3A8-FB12-4DF0-8E04-9D2CEFB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5480-0CA4-4570-8C07-06AE9E9D23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FEC8-F4E1-486D-AEB7-22CCA048E7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B681-D3FF-4F5F-A035-473C854515A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B038-2EB3-4CEF-B616-D37FAADAC6E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96720" y="1103400"/>
            <a:ext cx="80647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272360" cy="4464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0920" y="115920"/>
            <a:ext cx="86043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есопотамия (что по-гречески значит Междуречье) - древняя страна, располагавшаяся на территории нынешнего Ирака, на равнине, по которой протекают реки Тигр и Евфра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08000" y="11592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Люди, населявшие долину Тигра и Евфрата создавали грандиоз­ные сооружения - ирригационные системы, дворцы-крепости и зиккураты (культовые башни).Погребальные сооружения играли в их архитектуре гораздо меньшую роль, поскольку обитатели Месопотамии не связывали достижение бессмертия с сохранностью тела усопшего. В Двуречье было много глины, а камень и дерево приходилось доставлять издалека, поэтому здания возводили в основном из кирпич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61977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08000" y="11592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иккурат представляет собой башню из поставленных друг на друга параллелепипедов или усечённых пирамид от 3 у шумеров до 7 у вавилонян, не имевших интерьера. На вершину зиккурата, через его семь ступеней вели рампы; там располагалось святилище божества. Каждая ступень была окрашена в свой цвет, и чем выше была ступень, тем ярче был цве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Рисунок 5" descr=""/>
          <p:cNvPicPr/>
          <p:nvPr/>
        </p:nvPicPr>
        <p:blipFill>
          <a:blip r:embed="rId1"/>
          <a:stretch/>
        </p:blipFill>
        <p:spPr>
          <a:xfrm>
            <a:off x="4284720" y="4022640"/>
            <a:ext cx="4608360" cy="26053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250920" y="4022640"/>
            <a:ext cx="37447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1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587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арские резиденции, в особенности дворцы ассирийских владык, имели сложную внутреннюю структуру. Дворец Саргона II в Хорсабаде был возведен на укрепленном основании и наряду с городскими стенами служил бастионом. Цитадель двадцатиметровой высоты была пронизана каналами со сводчатыми перекрытиями: по ним сточные воды выводились за пределы города. Сам дворец был одноэтажный, с множеством помещений, сгруппированных вокруг внутренних дворов. В одной его части располагались царские апартаменты, в другой – помещения для женщин; во дворце размещались также службы и храм правителя. Большинство помещений представляли собой узкие, наподобие коридоров, комнаты, разделенные толстыми стен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63680" y="-128520"/>
            <a:ext cx="8242200" cy="1536480"/>
          </a:xfrm>
          <a:prstGeom prst="rect">
            <a:avLst/>
          </a:prstGeom>
          <a:ln w="0">
            <a:noFill/>
          </a:ln>
        </p:spPr>
      </p:pic>
      <p:pic>
        <p:nvPicPr>
          <p:cNvPr id="224" name="Объект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5978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317520" y="2023920"/>
            <a:ext cx="9253440" cy="46450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4193640" y="6165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6:49:11Z</dcterms:created>
  <dc:creator>Анастасия</dc:creator>
  <dc:description/>
  <dc:language>en-US</dc:language>
  <cp:lastModifiedBy>ппэ93</cp:lastModifiedBy>
  <dcterms:modified xsi:type="dcterms:W3CDTF">2020-10-03T11:47:59Z</dcterms:modified>
  <cp:revision>8</cp:revision>
  <dc:subject/>
  <dc:title>Архитектура Месопотамии</dc:title>
</cp:coreProperties>
</file>