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AF2-5729-45F6-8BD3-CC36DB52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BBD-35BA-4690-B237-E6DE2B31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41D-4F3B-4C63-8B45-BF1BC234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EC9-7AEB-416F-A1C5-F5D6E684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8BB8-1A43-4007-8787-DE6F11D5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DD17-7FED-4C69-AEDD-33C59CD1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64DE-1A47-4FDA-A451-9D5B272D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A15B-961A-491B-9D47-5D3BC7D3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6D6-8F16-4F84-B736-1634B7D2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AC96-E84E-4557-88CA-D24F7CCF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4513-A93F-4857-8226-0F68B15F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3B4-AAB3-45FD-AF3D-5BB9512F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FBF0-193F-441F-9850-4DDD2C6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F3D6-A9E6-4A0E-80BD-08E22EA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7BE6-3C7F-4435-A738-A098A847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56AD-C408-4B48-8FFF-31DDB075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36A9-667E-470E-9AB6-132EDB53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8DC4-2F92-40F8-BAE4-D404656A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5F69-1762-4556-994D-83FB954D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7EF4-4D8F-41D0-9F52-7F0200FE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DE1D-9D80-47E7-BE82-69EFE3EA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A145-0DB2-47A3-891A-A677079B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5C5-BA0D-42CC-942E-D1A8861A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E212-5231-49B0-ADD5-B007E2F8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8123-FFF7-4B67-B26D-E72794F7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0569-1781-48D8-9DAC-7EA5A22B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857E-EC89-4251-9489-A016762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FCB4F-E0EA-48DE-ADF0-188B81D2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A4FB-A7BD-45A1-8C96-3DB53E4F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0281-F530-4FE3-98A5-A2512C9D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D544-AC28-4477-B60F-8D890959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101B-1DC7-4C98-B19B-1338591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E42F-8E8C-44A0-851C-3A384146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3A3-93D7-428B-BC1C-B486B7D1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917C-4318-4BB4-8201-6149FDDA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E8DD8-C646-4EA9-8271-A2F30209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6A68-6C1C-4278-A850-5A857238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4CD91-AD9F-400B-AF95-233A055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A515-0636-4562-9D5C-32591735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19B7A-07C8-48F8-89D7-A30E644F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6931-C05B-42AF-82F9-0023F2B8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E761-D744-4733-B27B-4F43C87A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F368-6187-4AC8-BF78-C05E245E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826-0572-48E8-8AB6-F4E79C67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AE5-B9C1-4600-93F2-7EB0BAE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A37-5687-4782-A96D-28A2211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F9A-E9C2-4BA4-B4BD-DF9ABBF8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392-593F-40E2-B642-CF2A1E83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AA1-1A74-4749-B997-85205681FBA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BB15-3AD6-4B94-BB71-6D3667E1D2B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3040-F1E3-4BC6-88CE-6194D141357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603-A7D3-4341-B8FE-0EC2AB41B7A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396720" y="1103400"/>
            <a:ext cx="80647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4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272360" cy="4464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0920" y="115920"/>
            <a:ext cx="86043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есопотамия (что по-гречески значит Междуречье) - древняя страна, располагавшаяся на территории нынешнего Ирака, на равнине, по которой протекают реки Тигр и Евфра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08000" y="11592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Люди, населявшие долину Тигра и Евфрата создавали грандиоз­ные сооружения - ирригационные системы, дворцы-крепости и зиккураты (культовые башни).Погребальные сооружения играли в их архитектуре гораздо меньшую роль, поскольку обитатели Месопотамии не связывали достижение бессмертия с сохранностью тела усопшего. В Двуречье было много глины, а камень и дерево приходилось доставлять издалека, поэтому здания возводили в основном из кирпич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61977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08000" y="11592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Зиккурат представляет собой башню из поставленных друг на друга параллелепипедов или усечённых пирамид от 3 у шумеров до 7 у вавилонян, не имевших интерьера. На вершину зиккурата, через его семь ступеней вели рампы; там располагалось святилище божества. Каждая ступень была окрашена в свой цвет, и чем выше была ступень, тем ярче был цве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Рисунок 5" descr=""/>
          <p:cNvPicPr/>
          <p:nvPr/>
        </p:nvPicPr>
        <p:blipFill>
          <a:blip r:embed="rId1"/>
          <a:stretch/>
        </p:blipFill>
        <p:spPr>
          <a:xfrm>
            <a:off x="4284720" y="4022640"/>
            <a:ext cx="4608360" cy="26053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2"/>
          <a:stretch/>
        </p:blipFill>
        <p:spPr>
          <a:xfrm>
            <a:off x="250920" y="4022640"/>
            <a:ext cx="37447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1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587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арские резиденции, в особенности дворцы ассирийских владык, имели сложную внутреннюю структуру. Дворец Саргона II в Хорсабаде был возведен на укрепленном основании и наряду с городскими стенами служил бастионом. Цитадель двадцатиметровой высоты была пронизана каналами со сводчатыми перекрытиями: по ним сточные воды выводились за пределы города. Сам дворец был одноэтажный, с множеством помещений, сгруппированных вокруг внутренних дворов. В одной его части располагались царские апартаменты, в другой – помещения для женщин; во дворце размещались также службы и храм правителя. Большинство помещений представляли собой узкие, наподобие коридоров, комнаты, разделенные толстыми стен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63680" y="-128520"/>
            <a:ext cx="8242200" cy="1536480"/>
          </a:xfrm>
          <a:prstGeom prst="rect">
            <a:avLst/>
          </a:prstGeom>
          <a:ln w="0">
            <a:noFill/>
          </a:ln>
        </p:spPr>
      </p:pic>
      <p:pic>
        <p:nvPicPr>
          <p:cNvPr id="224" name="Объект 3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5978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317520" y="2023920"/>
            <a:ext cx="9253440" cy="46450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2"/>
          <p:cNvSpPr/>
          <p:nvPr/>
        </p:nvSpPr>
        <p:spPr>
          <a:xfrm>
            <a:off x="4193640" y="6165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6:49:11Z</dcterms:created>
  <dc:creator>Анастасия</dc:creator>
  <dc:description/>
  <dc:language>en-US</dc:language>
  <cp:lastModifiedBy>ппэ93</cp:lastModifiedBy>
  <dcterms:modified xsi:type="dcterms:W3CDTF">2020-10-03T11:47:59Z</dcterms:modified>
  <cp:revision>8</cp:revision>
  <dc:subject/>
  <dc:title>Архитектура Месопотамии</dc:title>
</cp:coreProperties>
</file>