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942-26EA-4754-BB02-C1339B6D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3E35-9A94-4F18-9463-4299C2B3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1FFE-6CE3-4D76-9E5D-16D41063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D6C6-B506-40DC-8C77-214AECF4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98A2-6A7B-4613-A1AF-814FC704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AA3D-4F64-488A-915E-22329693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5369-7AB9-4BA1-9792-BF603FA9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BA75-CAD1-44B0-A893-09BAFBCB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C861-D302-49A1-BC39-0A1A8F57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A73C-7B95-4D55-ACB5-62950EE8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1C84-558E-4100-AA6B-C8507071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94F-87C9-4CEA-90C7-7670C679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7875-067D-4857-8B30-51D36BC6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9E1B-D3F6-441C-9174-CCB2AE6A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9E79-CB8F-462C-B85C-1E45A49A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6F6A-B970-475D-AE42-71172A40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D72B-AF31-4BD7-9BC9-09ECEA2D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3B1C0-B9ED-41E5-BC77-94649AE6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4F809-7282-4125-B8CB-7DE02F64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79E55-CA8E-40F6-A4D3-C76C329E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F2937-B702-4097-AD1C-1C0A1D85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A6FE5-D2C8-425C-A497-DE0C4F0C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6A6A-878D-4F49-9080-06533D03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00FCC-4440-4D72-AB90-00E8D92B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1A999-585E-4602-AA59-554C81DD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6A44A-A23C-4885-B49A-736A298D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7B982-76AD-4EAF-A7D6-86B354B8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E7D28-5E80-4003-98F3-E35B29D6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5AD0C-E15C-4140-A076-019E66F7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0C470-B5FB-4A89-A1AF-25C8E876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4D0B7-0A25-4D45-9B2C-E0263BA0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25D3A-2006-4C75-9C0F-54EC15FF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A101F-114A-4E03-9922-972FEB32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EF8F-0F10-49E5-9181-ABF4D064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18AFF-BD43-40D8-B825-58FA1261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397BD-F40A-416C-B1EC-0ADE9064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F4A55-4961-47B3-8EBD-406894F5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20281-9D38-4E0F-B3F6-48BE3B00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C73D6-ECCE-4ACF-812F-87ABDFCB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5E1C9-30A3-49FA-95AB-D2F964F7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71EC5-970F-4009-B2D8-13031834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02FF0-020E-4015-A7E1-5F958E51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FAAB5-5AC7-4514-981E-5071E889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84FC-3B8A-44F0-828E-A36DD829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F11A-139C-4F54-9122-93780BDF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5FFF-CEB2-459E-A259-428DCF79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B37B-293B-4A6E-8120-8C9DCE7C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F08A-C123-421B-9A23-3A9AAF39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2629-D846-4D27-A00A-492446BB4E94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9C96-22AB-49B2-BDFF-A09D144D63E5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40F4-0695-45F8-B887-12C2AC688FB4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DB12-FE4B-45A0-931D-7EFA7803EC90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1547640" y="1557360"/>
            <a:ext cx="62643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 по экологическому воспитани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ладшего дошкольного возра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 Найди маму детеныш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воспитатель ГБДОУ №18 Не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ельева Инесса Вита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ANIM1802 G"/>
          <p:cNvPicPr/>
          <p:nvPr/>
        </p:nvPicPr>
        <p:blipFill>
          <a:blip r:embed="rId1"/>
          <a:stretch/>
        </p:blipFill>
        <p:spPr>
          <a:xfrm>
            <a:off x="324000" y="35712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ANIM1374 G"/>
          <p:cNvPicPr/>
          <p:nvPr/>
        </p:nvPicPr>
        <p:blipFill>
          <a:blip r:embed="rId2"/>
          <a:stretch/>
        </p:blipFill>
        <p:spPr>
          <a:xfrm>
            <a:off x="324000" y="3133800"/>
            <a:ext cx="1068120" cy="1068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ANIM1373 G"/>
          <p:cNvPicPr/>
          <p:nvPr/>
        </p:nvPicPr>
        <p:blipFill>
          <a:blip r:embed="rId3"/>
          <a:stretch/>
        </p:blipFill>
        <p:spPr>
          <a:xfrm>
            <a:off x="701640" y="5435640"/>
            <a:ext cx="1116000" cy="111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Свинья 111"/>
          <p:cNvPicPr/>
          <p:nvPr/>
        </p:nvPicPr>
        <p:blipFill>
          <a:blip r:embed="rId4"/>
          <a:stretch/>
        </p:blipFill>
        <p:spPr>
          <a:xfrm>
            <a:off x="7499520" y="392040"/>
            <a:ext cx="1176120" cy="1177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ANIM1006 G 1111"/>
          <p:cNvPicPr/>
          <p:nvPr/>
        </p:nvPicPr>
        <p:blipFill>
          <a:blip r:embed="rId5"/>
          <a:stretch/>
        </p:blipFill>
        <p:spPr>
          <a:xfrm>
            <a:off x="7858080" y="2811600"/>
            <a:ext cx="1224000" cy="1222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ANIM800 G 4"/>
          <p:cNvPicPr/>
          <p:nvPr/>
        </p:nvPicPr>
        <p:blipFill>
          <a:blip r:embed="rId6"/>
          <a:stretch/>
        </p:blipFill>
        <p:spPr>
          <a:xfrm>
            <a:off x="7389720" y="5084640"/>
            <a:ext cx="12859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11111"/>
          <p:cNvPicPr/>
          <p:nvPr/>
        </p:nvPicPr>
        <p:blipFill>
          <a:blip r:embed="rId1"/>
          <a:stretch/>
        </p:blipFill>
        <p:spPr>
          <a:xfrm>
            <a:off x="2411280" y="1125360"/>
            <a:ext cx="453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6" descr="ANIM1373 G"/>
          <p:cNvPicPr/>
          <p:nvPr/>
        </p:nvPicPr>
        <p:blipFill>
          <a:blip r:embed="rId1"/>
          <a:stretch/>
        </p:blipFill>
        <p:spPr>
          <a:xfrm>
            <a:off x="6588000" y="2997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ANIM800 G 4"/>
          <p:cNvPicPr/>
          <p:nvPr/>
        </p:nvPicPr>
        <p:blipFill>
          <a:blip r:embed="rId2"/>
          <a:stretch/>
        </p:blipFill>
        <p:spPr>
          <a:xfrm>
            <a:off x="6743880" y="692280"/>
            <a:ext cx="2076120" cy="2076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ANIM1006 G 1111"/>
          <p:cNvPicPr/>
          <p:nvPr/>
        </p:nvPicPr>
        <p:blipFill>
          <a:blip r:embed="rId3"/>
          <a:stretch/>
        </p:blipFill>
        <p:spPr>
          <a:xfrm>
            <a:off x="633240" y="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ANIM1802 G"/>
          <p:cNvPicPr/>
          <p:nvPr/>
        </p:nvPicPr>
        <p:blipFill>
          <a:blip r:embed="rId4"/>
          <a:stretch/>
        </p:blipFill>
        <p:spPr>
          <a:xfrm>
            <a:off x="1187280" y="357336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Свинья 111"/>
          <p:cNvPicPr/>
          <p:nvPr/>
        </p:nvPicPr>
        <p:blipFill>
          <a:blip r:embed="rId5"/>
          <a:stretch/>
        </p:blipFill>
        <p:spPr>
          <a:xfrm>
            <a:off x="3949560" y="61128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ANIM1374 G"/>
          <p:cNvPicPr/>
          <p:nvPr/>
        </p:nvPicPr>
        <p:blipFill>
          <a:blip r:embed="rId6"/>
          <a:stretch/>
        </p:blipFill>
        <p:spPr>
          <a:xfrm>
            <a:off x="3887640" y="3213000"/>
            <a:ext cx="21384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826920" y="692280"/>
            <a:ext cx="727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и игры педагог должен пронаблюдать за ответами детей и следить за ними, в некоторых случаях поправлять ребенка если ответ ошибочный и хвалить за правильность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беседу о важности животных в нашем мире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2060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1"/>
          <p:cNvSpPr/>
          <p:nvPr/>
        </p:nvSpPr>
        <p:spPr>
          <a:xfrm>
            <a:off x="971640" y="404640"/>
            <a:ext cx="705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закреп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й живот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чить детей узнавать по картинке  домашних животных, соотносить их по величине и характерным признак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любовь к приро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моторику ру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"/>
          <p:cNvSpPr/>
          <p:nvPr/>
        </p:nvSpPr>
        <p:spPr>
          <a:xfrm>
            <a:off x="971640" y="907920"/>
            <a:ext cx="7488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Для создания игры нам нуж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с изображениями животных: кошки, собачки, козы, коровы, поросенка, овц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179280" y="476280"/>
            <a:ext cx="878544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показывает детям картинки с изображениями животных: кошки, собачки, козы, коровы, поросенка, овцы. Ребёнок называет животных, угадывая, какие звуки они издают. Затем взрослый предлагает детям, подобрать к картинкам «животных-взрослых» картинки, изображающие их детеныш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TOYCAT G 1"/>
          <p:cNvPicPr/>
          <p:nvPr/>
        </p:nvPicPr>
        <p:blipFill>
          <a:blip r:embed="rId1"/>
          <a:stretch/>
        </p:blipFill>
        <p:spPr>
          <a:xfrm>
            <a:off x="1619280" y="1052640"/>
            <a:ext cx="47973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ANIM1967 G 5"/>
          <p:cNvPicPr/>
          <p:nvPr/>
        </p:nvPicPr>
        <p:blipFill>
          <a:blip r:embed="rId1"/>
          <a:stretch/>
        </p:blipFill>
        <p:spPr>
          <a:xfrm>
            <a:off x="2124000" y="1125360"/>
            <a:ext cx="48592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ANIM1157 G"/>
          <p:cNvPicPr/>
          <p:nvPr/>
        </p:nvPicPr>
        <p:blipFill>
          <a:blip r:embed="rId1"/>
          <a:stretch/>
        </p:blipFill>
        <p:spPr>
          <a:xfrm>
            <a:off x="2411280" y="836640"/>
            <a:ext cx="46436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farm0007 G"/>
          <p:cNvPicPr/>
          <p:nvPr/>
        </p:nvPicPr>
        <p:blipFill>
          <a:blip r:embed="rId1"/>
          <a:stretch/>
        </p:blipFill>
        <p:spPr>
          <a:xfrm>
            <a:off x="1763640" y="404640"/>
            <a:ext cx="514836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ANIM1155 G"/>
          <p:cNvPicPr/>
          <p:nvPr/>
        </p:nvPicPr>
        <p:blipFill>
          <a:blip r:embed="rId1"/>
          <a:stretch/>
        </p:blipFill>
        <p:spPr>
          <a:xfrm>
            <a:off x="1763640" y="549360"/>
            <a:ext cx="56167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05:52:44Z</dcterms:created>
  <dc:creator>DJ_Diesel</dc:creator>
  <dc:description/>
  <dc:language>en-US</dc:language>
  <cp:lastModifiedBy>Илья</cp:lastModifiedBy>
  <dcterms:modified xsi:type="dcterms:W3CDTF">2020-11-09T18:12:37Z</dcterms:modified>
  <cp:revision>29</cp:revision>
  <dc:subject/>
  <dc:title>Слайд 1</dc:title>
</cp:coreProperties>
</file>