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6D4-67BF-4168-8133-96C76410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735-F585-4CEA-B111-60E62081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65F-B7AB-4D58-B2EB-0546FFAF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161-1EC0-4999-BF16-181A64A2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3F34-7091-475B-8897-EC0DEDC7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CD14-D262-4A89-B826-0515ABD2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9434-2F3B-4F4C-802C-41569BA7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8B4A-F78B-4566-B2F8-8C679086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7425-E4EB-4B4A-9E4D-5C1ABA1A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FCCA-AE7E-4081-B940-C918CE15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BF59-80D7-4F37-B5B8-A6F2833E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9CF0-C388-4AD8-A6B3-A29666F6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5831-5833-4679-998E-B4DA4137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6627-4082-4650-B618-9453CABA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E422-CCF8-48C9-9F79-13956107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F33D-5811-41FD-A437-150BC82D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A5EC-64F3-496E-8177-491D41F2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0D3FA-C2A4-40D7-B9AC-433D8003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184C7-C15F-4026-A83F-2978D39B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5EAE-8496-411C-9F96-32E77B2B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CBE09-C165-4CED-B489-5AE8418C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50D97-3788-4681-9E16-B69BA5DD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E2E-F628-49D5-A90C-05EFF573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3054F-D94A-49F2-B812-313B3946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78211-00A9-400B-9A34-20D0C29B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9F8C-DA7C-4386-A2CF-09FB361F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D7E5A-E12F-4EF4-9D30-285F747E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BBAEC-BB8F-4097-AF05-DC2E613F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203F2-DAD8-47B5-9045-2F4A815E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4AAC6-87A8-4976-866B-3DBFA659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855AD-98C7-4AA8-BDCB-CE398E1F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512D8-78F5-4A16-8842-32AEA6D0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7E8E3-E4EE-4235-89F9-980AB80E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16B-DBCE-4569-A3B9-1BEB663D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1E9CA-8E3A-4B44-B1F7-2E997DFE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799FD-DEDD-44E3-A753-EC880C37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3C5F3-71C8-4750-9F21-82201792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B074C-F0C5-46C4-8BD0-E1458459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BFC20-2ABA-42F3-8A80-C39CC6B3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F4B2C-349B-47B1-AA05-63EDD461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66A01-4312-4D28-A166-A8C5973A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5102D-DE56-4ED7-A9C5-FF828F97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E330F-4548-489E-BDD2-26568DAA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8D6-9964-4C2D-BCFC-F429631D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091-12DA-490A-BD21-C52A2922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193-630C-4840-8160-9B7E5190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2E6-6E04-43FC-BFC9-A7E58640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053-CC9D-4F85-99C4-31F6B45A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876F-9120-4A17-B377-600F4FB42C60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39E7-CF20-4198-9B99-CC8519368B0A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EE85-D61E-4752-A2BB-6F597F0D9817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937B-A4D6-4477-BEE7-B2DDDFC421E6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1547640" y="1557360"/>
            <a:ext cx="62643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по экологическому воспитани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ладшего дошкольного возра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 Найди маму детеныш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воспитатель ГБДОУ №18 Не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льева Инесса Вита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ANIM1802 G"/>
          <p:cNvPicPr/>
          <p:nvPr/>
        </p:nvPicPr>
        <p:blipFill>
          <a:blip r:embed="rId1"/>
          <a:stretch/>
        </p:blipFill>
        <p:spPr>
          <a:xfrm>
            <a:off x="324000" y="35712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ANIM1374 G"/>
          <p:cNvPicPr/>
          <p:nvPr/>
        </p:nvPicPr>
        <p:blipFill>
          <a:blip r:embed="rId2"/>
          <a:stretch/>
        </p:blipFill>
        <p:spPr>
          <a:xfrm>
            <a:off x="324000" y="3133800"/>
            <a:ext cx="1068120" cy="1068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ANIM1373 G"/>
          <p:cNvPicPr/>
          <p:nvPr/>
        </p:nvPicPr>
        <p:blipFill>
          <a:blip r:embed="rId3"/>
          <a:stretch/>
        </p:blipFill>
        <p:spPr>
          <a:xfrm>
            <a:off x="701640" y="543564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Свинья 111"/>
          <p:cNvPicPr/>
          <p:nvPr/>
        </p:nvPicPr>
        <p:blipFill>
          <a:blip r:embed="rId4"/>
          <a:stretch/>
        </p:blipFill>
        <p:spPr>
          <a:xfrm>
            <a:off x="7499520" y="392040"/>
            <a:ext cx="1176120" cy="1177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ANIM1006 G 1111"/>
          <p:cNvPicPr/>
          <p:nvPr/>
        </p:nvPicPr>
        <p:blipFill>
          <a:blip r:embed="rId5"/>
          <a:stretch/>
        </p:blipFill>
        <p:spPr>
          <a:xfrm>
            <a:off x="7858080" y="2811600"/>
            <a:ext cx="1224000" cy="1222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ANIM800 G 4"/>
          <p:cNvPicPr/>
          <p:nvPr/>
        </p:nvPicPr>
        <p:blipFill>
          <a:blip r:embed="rId6"/>
          <a:stretch/>
        </p:blipFill>
        <p:spPr>
          <a:xfrm>
            <a:off x="7389720" y="5084640"/>
            <a:ext cx="12859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11111"/>
          <p:cNvPicPr/>
          <p:nvPr/>
        </p:nvPicPr>
        <p:blipFill>
          <a:blip r:embed="rId1"/>
          <a:stretch/>
        </p:blipFill>
        <p:spPr>
          <a:xfrm>
            <a:off x="2411280" y="112536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ANIM1373 G"/>
          <p:cNvPicPr/>
          <p:nvPr/>
        </p:nvPicPr>
        <p:blipFill>
          <a:blip r:embed="rId1"/>
          <a:stretch/>
        </p:blipFill>
        <p:spPr>
          <a:xfrm>
            <a:off x="6588000" y="299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ANIM800 G 4"/>
          <p:cNvPicPr/>
          <p:nvPr/>
        </p:nvPicPr>
        <p:blipFill>
          <a:blip r:embed="rId2"/>
          <a:stretch/>
        </p:blipFill>
        <p:spPr>
          <a:xfrm>
            <a:off x="6743880" y="692280"/>
            <a:ext cx="2076120" cy="2076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ANIM1006 G 1111"/>
          <p:cNvPicPr/>
          <p:nvPr/>
        </p:nvPicPr>
        <p:blipFill>
          <a:blip r:embed="rId3"/>
          <a:stretch/>
        </p:blipFill>
        <p:spPr>
          <a:xfrm>
            <a:off x="63324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ANIM1802 G"/>
          <p:cNvPicPr/>
          <p:nvPr/>
        </p:nvPicPr>
        <p:blipFill>
          <a:blip r:embed="rId4"/>
          <a:stretch/>
        </p:blipFill>
        <p:spPr>
          <a:xfrm>
            <a:off x="1187280" y="357336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Свинья 111"/>
          <p:cNvPicPr/>
          <p:nvPr/>
        </p:nvPicPr>
        <p:blipFill>
          <a:blip r:embed="rId5"/>
          <a:stretch/>
        </p:blipFill>
        <p:spPr>
          <a:xfrm>
            <a:off x="3949560" y="61128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ANIM1374 G"/>
          <p:cNvPicPr/>
          <p:nvPr/>
        </p:nvPicPr>
        <p:blipFill>
          <a:blip r:embed="rId6"/>
          <a:stretch/>
        </p:blipFill>
        <p:spPr>
          <a:xfrm>
            <a:off x="3887640" y="3213000"/>
            <a:ext cx="21384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826920" y="692280"/>
            <a:ext cx="727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и игры педагог должен пронаблюдать за ответами детей и следить за ними, в некоторых случаях поправлять ребенка если ответ ошибочный и хвалить за правильность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беседу о важности животных в нашем мире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2060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971640" y="404640"/>
            <a:ext cx="705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закреп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й живо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чить детей узнавать по картинке  домашних животных, соотносить их по величине и характерным признак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любовь к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моторику ру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971640" y="907920"/>
            <a:ext cx="7488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Для создания игры нам нуж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с изображениями животных: кошки, собачки, козы, коровы, поросенка, овц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179280" y="476280"/>
            <a:ext cx="878544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оказывает детям картинки с изображениями животных: кошки, собачки, козы, коровы, поросенка, овцы. Ребёнок называет животных, угадывая, какие звуки они издают. Затем взрослый предлагает детям, подобрать к картинкам «животных-взрослых» картинки, изображающие их детены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TOYCAT G 1"/>
          <p:cNvPicPr/>
          <p:nvPr/>
        </p:nvPicPr>
        <p:blipFill>
          <a:blip r:embed="rId1"/>
          <a:stretch/>
        </p:blipFill>
        <p:spPr>
          <a:xfrm>
            <a:off x="1619280" y="1052640"/>
            <a:ext cx="47973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ANIM1967 G 5"/>
          <p:cNvPicPr/>
          <p:nvPr/>
        </p:nvPicPr>
        <p:blipFill>
          <a:blip r:embed="rId1"/>
          <a:stretch/>
        </p:blipFill>
        <p:spPr>
          <a:xfrm>
            <a:off x="2124000" y="1125360"/>
            <a:ext cx="4859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ANIM1157 G"/>
          <p:cNvPicPr/>
          <p:nvPr/>
        </p:nvPicPr>
        <p:blipFill>
          <a:blip r:embed="rId1"/>
          <a:stretch/>
        </p:blipFill>
        <p:spPr>
          <a:xfrm>
            <a:off x="2411280" y="836640"/>
            <a:ext cx="46436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farm0007 G"/>
          <p:cNvPicPr/>
          <p:nvPr/>
        </p:nvPicPr>
        <p:blipFill>
          <a:blip r:embed="rId1"/>
          <a:stretch/>
        </p:blipFill>
        <p:spPr>
          <a:xfrm>
            <a:off x="1763640" y="404640"/>
            <a:ext cx="514836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ANIM1155 G"/>
          <p:cNvPicPr/>
          <p:nvPr/>
        </p:nvPicPr>
        <p:blipFill>
          <a:blip r:embed="rId1"/>
          <a:stretch/>
        </p:blipFill>
        <p:spPr>
          <a:xfrm>
            <a:off x="1763640" y="549360"/>
            <a:ext cx="56167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5:52:44Z</dcterms:created>
  <dc:creator>DJ_Diesel</dc:creator>
  <dc:description/>
  <dc:language>en-US</dc:language>
  <cp:lastModifiedBy>Илья</cp:lastModifiedBy>
  <dcterms:modified xsi:type="dcterms:W3CDTF">2020-11-09T18:12:37Z</dcterms:modified>
  <cp:revision>29</cp:revision>
  <dc:subject/>
  <dc:title>Слайд 1</dc:title>
</cp:coreProperties>
</file>