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03A-4E3F-429C-BFDD-C1DC0627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C52-238E-42B0-B57A-710A0134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3CF-0C2E-4A9F-8C17-54B732CB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381-A930-45D1-A8EC-08FE339C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63F-1945-4CB2-BA30-EA1CD285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0DB-6A5B-4500-9282-53AB3CED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85F-1E15-4C25-B2C9-4E002FB0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8A4-EB07-4797-829A-5FE29D6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39A-DE9B-466B-8B0E-F653D973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1E2-D306-4BCD-A5A1-EA01FE72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865-CCA1-4DAA-B5B9-7B71AF58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F4B-5731-4FAA-A4DC-862F8D44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03F1-3F79-4BB5-880E-2B30CC4F0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05240" y="1145880"/>
            <a:ext cx="540072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Arial"/>
              </a:rPr>
              <a:t>Фридерик Шопен. Творчество.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810 – 18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594160" cy="3456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" descr=""/>
          <p:cNvPicPr/>
          <p:nvPr/>
        </p:nvPicPr>
        <p:blipFill>
          <a:blip r:embed="rId3"/>
          <a:stretch/>
        </p:blipFill>
        <p:spPr>
          <a:xfrm>
            <a:off x="3273480" y="4468680"/>
            <a:ext cx="5668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Изображение 074"/>
          <p:cNvPicPr/>
          <p:nvPr/>
        </p:nvPicPr>
        <p:blipFill>
          <a:blip r:embed="rId2"/>
          <a:stretch/>
        </p:blipFill>
        <p:spPr>
          <a:xfrm>
            <a:off x="154764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"/>
              </a:rPr>
              <a:t>Прелю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915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ступл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66ff"/>
                </a:solidFill>
                <a:uFillTx/>
                <a:latin typeface="Arial"/>
              </a:rPr>
              <a:t>Шопен – первый создал цикл из 24 фортепианный прелюд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се мажорные тональности и параллельные минорные по квинтовому кругу).Чередование характеров в прелюд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«Миниатюр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малая форма с одним образ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«Звуковые жемчуж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(А.Рубинштей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Прелюдия ми мин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ирическая, скорбно-задумчивая, воспоминание о прекрасном, но ушедш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елюдия ми минор.wav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409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Прелюдия №7  Ля мажо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иниатюра» (16 тактов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лое и поэтическое воспоминание о мазурке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Изображение 069"/>
          <p:cNvPicPr/>
          <p:nvPr/>
        </p:nvPicPr>
        <p:blipFill>
          <a:blip r:embed="rId2"/>
          <a:stretch/>
        </p:blipFill>
        <p:spPr>
          <a:xfrm>
            <a:off x="395280" y="2997360"/>
            <a:ext cx="8485200" cy="2660400"/>
          </a:xfrm>
          <a:prstGeom prst="rect">
            <a:avLst/>
          </a:prstGeom>
          <a:ln w="0">
            <a:noFill/>
          </a:ln>
        </p:spPr>
      </p:pic>
      <p:pic>
        <p:nvPicPr>
          <p:cNvPr id="64" name="Прелюдия Ля мажор.wav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74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Ноктюр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очн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 век – многочастные произведения для духовых и стру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век – одночастные лирические пье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 Шопена – образцы романтической лирики, «ночные песни»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жные и задумчи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октюрн фа мин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ихое раздумье, взволнованный порыв, душевное умиротворение (3-х част.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Ноктюрн фа минор.wav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1763640" y="0"/>
            <a:ext cx="607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157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979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анцевальные произ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Мазу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Валь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олон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ьесы для концертного ис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слуш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не музыка для та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Мазу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«Образки», «картинки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оп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ская народная музы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мелодика и ритмы польских танц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3-х дольный размер, быстрое движение с акцентированным ритмом со смещением на 2 или 3 д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и основные групп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орные народно-пляс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естящие б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ичные  лир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Мазурка До мажор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рисовка народной бытовой плясовой сце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Мазурка Си-бемоль мажо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естящая ба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Мазурка ля мино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устная задумчивость с грациозным изящест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мазурка до мажор.wav" descr=""/>
          <p:cNvPicPr/>
          <p:nvPr/>
        </p:nvPicPr>
        <p:blipFill>
          <a:blip r:embed="rId2"/>
          <a:stretch/>
        </p:blipFill>
        <p:spPr>
          <a:xfrm>
            <a:off x="493236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мазурка ля минор.wav" descr=""/>
          <p:cNvPicPr/>
          <p:nvPr/>
        </p:nvPicPr>
        <p:blipFill>
          <a:blip r:embed="rId3"/>
          <a:stretch/>
        </p:blipFill>
        <p:spPr>
          <a:xfrm>
            <a:off x="6443640" y="544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мазурка си-бемоль мажор.wav" descr=""/>
          <p:cNvPicPr/>
          <p:nvPr/>
        </p:nvPicPr>
        <p:blipFill>
          <a:blip r:embed="rId4"/>
          <a:stretch/>
        </p:blipFill>
        <p:spPr>
          <a:xfrm>
            <a:off x="536400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166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0608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5242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ные черты творч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Шопен – «душа фортепиа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.Рубинштей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л выразительные возможности фортепиано (оно «поё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Шопен – пиани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Мастерство исполн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Шопен – лир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держание сочинений – личные пережива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Шопен – нова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овое слово в мелодии, гармонии, музыкальной формы, фак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инструментального жанра «миниатюра», «балла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Полоне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ны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льский та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арактерные чер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х дольный, особенный 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нез Ля маж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жественный, героический, пышный, маршеобраз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онез Ля маж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993080" cy="5185080"/>
          </a:xfrm>
          <a:prstGeom prst="rect">
            <a:avLst/>
          </a:prstGeom>
          <a:ln w="0">
            <a:noFill/>
          </a:ln>
        </p:spPr>
      </p:pic>
      <p:pic>
        <p:nvPicPr>
          <p:cNvPr id="84" name="полонез2.wav" descr=""/>
          <p:cNvPicPr/>
          <p:nvPr/>
        </p:nvPicPr>
        <p:blipFill>
          <a:blip r:embed="rId3"/>
          <a:stretch/>
        </p:blipFill>
        <p:spPr>
          <a:xfrm>
            <a:off x="8317080" y="90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9912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Валь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рный бальный та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ят на две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полные бле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иртуозные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 u="sng">
                <a:solidFill>
                  <a:srgbClr val="d60093"/>
                </a:solidFill>
                <a:uFillTx/>
                <a:latin typeface="Times New Roman"/>
              </a:rPr>
              <a:t>Элегический вальс до-диез минор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«Вальс-фантазия»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«вальс-меч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Вальс до-диез минор.wav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1908000" y="0"/>
            <a:ext cx="576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2124000" y="0"/>
            <a:ext cx="53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идерик Шоп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ушевность, теплота, вдохновение  и искренность сочинений Шопена создали ему огромную популярность и имя одного из крупнейших композиторов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пертуаре каждого пианиста Шопен занимает одно из центральных м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ные произве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любленные жанр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6 маз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прелюд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этю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валь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 полоне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балл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ноктюр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упные произ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фортепианных конце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кер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фортепианные со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Этю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приёмы фортепианной тех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рупной» - октавная, аккордов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лкая, бисерн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вучая манера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туозность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художественный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юд до минор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волюционны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Образный» этю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Эмоциональный отклик на революционные события (подавление восстания), гневные восклицания, острая душевная б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хнический приё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ехника левой руки, но только как средство для передачи обр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Изображение 070"/>
          <p:cNvPicPr/>
          <p:nvPr/>
        </p:nvPicPr>
        <p:blipFill>
          <a:blip r:embed="rId2"/>
          <a:stretch/>
        </p:blipFill>
        <p:spPr>
          <a:xfrm>
            <a:off x="2195640" y="0"/>
            <a:ext cx="57132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 rot="5400000">
            <a:off x="-1692360" y="2636640"/>
            <a:ext cx="575928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тюд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Революционный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4" name="Этюд до минор.wav" descr=""/>
          <p:cNvPicPr/>
          <p:nvPr/>
        </p:nvPicPr>
        <p:blipFill>
          <a:blip r:embed="rId3"/>
          <a:stretch/>
        </p:blipFill>
        <p:spPr>
          <a:xfrm>
            <a:off x="810108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Изображение 071"/>
          <p:cNvPicPr/>
          <p:nvPr/>
        </p:nvPicPr>
        <p:blipFill>
          <a:blip r:embed="rId2"/>
          <a:stretch/>
        </p:blipFill>
        <p:spPr>
          <a:xfrm>
            <a:off x="1835280" y="0"/>
            <a:ext cx="632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Изображение 072"/>
          <p:cNvPicPr/>
          <p:nvPr/>
        </p:nvPicPr>
        <p:blipFill>
          <a:blip r:embed="rId2"/>
          <a:stretch/>
        </p:blipFill>
        <p:spPr>
          <a:xfrm>
            <a:off x="1835280" y="0"/>
            <a:ext cx="60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Изображение 073"/>
          <p:cNvPicPr/>
          <p:nvPr/>
        </p:nvPicPr>
        <p:blipFill>
          <a:blip r:embed="rId2"/>
          <a:stretch/>
        </p:blipFill>
        <p:spPr>
          <a:xfrm>
            <a:off x="176364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4:05:47Z</dcterms:created>
  <dc:creator>Харлова</dc:creator>
  <dc:description/>
  <dc:language>en-US</dc:language>
  <cp:lastModifiedBy>олеся</cp:lastModifiedBy>
  <dcterms:modified xsi:type="dcterms:W3CDTF">2020-11-27T05:59:55Z</dcterms:modified>
  <cp:revision>9</cp:revision>
  <dc:subject/>
  <dc:title>Фридерик Шопен (1810 – 1849)</dc:title>
</cp:coreProperties>
</file>