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FCA-8732-4040-A959-DC50C720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E61-E78A-40A9-BE7D-C7BADAF7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AE9-CA96-41C5-89FE-20F2E497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876-F7A1-4D4E-BB20-FE2C4209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59A-4651-417D-A010-6C1FD581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C7B-BDEB-4489-B58E-37B671C3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F00-2703-42BB-9CF4-3BF91222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FEB-F21E-4A39-8AEF-975072DD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8BD-A66C-4559-A39D-01B27BC5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4AD-2C79-47B8-B8D0-5AE630BC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933-4753-49BF-AF37-5013FEAB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374-EC88-464A-AFCF-AA8C1192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2D4B-B1D7-4652-8597-E6A9FA6B0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05240" y="1145880"/>
            <a:ext cx="540072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Arial"/>
              </a:rPr>
              <a:t>Фридерик Шопен. Творчество.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810 – 184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2594160" cy="3456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1" descr=""/>
          <p:cNvPicPr/>
          <p:nvPr/>
        </p:nvPicPr>
        <p:blipFill>
          <a:blip r:embed="rId3"/>
          <a:stretch/>
        </p:blipFill>
        <p:spPr>
          <a:xfrm>
            <a:off x="3273480" y="4468680"/>
            <a:ext cx="5668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Изображение 074"/>
          <p:cNvPicPr/>
          <p:nvPr/>
        </p:nvPicPr>
        <p:blipFill>
          <a:blip r:embed="rId2"/>
          <a:stretch/>
        </p:blipFill>
        <p:spPr>
          <a:xfrm>
            <a:off x="154764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Arial"/>
              </a:rPr>
              <a:t>Прелю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915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ступл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66ff"/>
                </a:solidFill>
                <a:uFillTx/>
                <a:latin typeface="Arial"/>
              </a:rPr>
              <a:t>Шопен – первый создал цикл из 24 фортепианный прелюд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се мажорные тональности и параллельные минорные по квинтовому кругу).Чередование характеров в прелюд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«Миниатюры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малая форма с одним образ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«Звуковые жемчуж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(А.Рубинштей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Прелюдия ми мин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лирическая, скорбно-задумчивая, воспоминание о прекрасном, но ушедш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елюдия ми минор.wav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409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Прелюдия №7  Ля мажо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иниатюра» (16 тактов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тлое и поэтическое воспоминание о мазурке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Изображение 069"/>
          <p:cNvPicPr/>
          <p:nvPr/>
        </p:nvPicPr>
        <p:blipFill>
          <a:blip r:embed="rId2"/>
          <a:stretch/>
        </p:blipFill>
        <p:spPr>
          <a:xfrm>
            <a:off x="395280" y="2997360"/>
            <a:ext cx="8485200" cy="2660400"/>
          </a:xfrm>
          <a:prstGeom prst="rect">
            <a:avLst/>
          </a:prstGeom>
          <a:ln w="0">
            <a:noFill/>
          </a:ln>
        </p:spPr>
      </p:pic>
      <p:pic>
        <p:nvPicPr>
          <p:cNvPr id="64" name="Прелюдия Ля мажор.wav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74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Ноктюр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очн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 век – многочастные произведения для духовых и стру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век – одночастные лирические пье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 Шопена – образцы романтической лирики, «ночные песни»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жные и задумчив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октюрн фа мин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ихое раздумье, взволнованный порыв, душевное умиротворение (3-х част.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Ноктюрн фа минор.wav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1763640" y="0"/>
            <a:ext cx="607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4157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97964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анцевальные произ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Мазу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Валь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олоне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ьесы для концертного ис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слуш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не музыка для та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Мазу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«Образки», «картинки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оп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ская народная музы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мелодика и ритмы польских танц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3-х дольный размер, быстрое движение с акцентированным ритмом со смещением на 2 или 3 д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и основные групп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орные народно-пляс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естящие б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ичные  лир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Мазурка До мажор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рисовка народной бытовой плясовой сце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Мазурка Си-бемоль мажо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естящая баль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Мазурка ля мино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устная задумчивость с грациозным изящест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мазурка до мажор.wav" descr=""/>
          <p:cNvPicPr/>
          <p:nvPr/>
        </p:nvPicPr>
        <p:blipFill>
          <a:blip r:embed="rId2"/>
          <a:stretch/>
        </p:blipFill>
        <p:spPr>
          <a:xfrm>
            <a:off x="4932360" y="227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мазурка ля минор.wav" descr=""/>
          <p:cNvPicPr/>
          <p:nvPr/>
        </p:nvPicPr>
        <p:blipFill>
          <a:blip r:embed="rId3"/>
          <a:stretch/>
        </p:blipFill>
        <p:spPr>
          <a:xfrm>
            <a:off x="6443640" y="544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мазурка си-бемоль мажор.wav" descr=""/>
          <p:cNvPicPr/>
          <p:nvPr/>
        </p:nvPicPr>
        <p:blipFill>
          <a:blip r:embed="rId4"/>
          <a:stretch/>
        </p:blipFill>
        <p:spPr>
          <a:xfrm>
            <a:off x="5364000" y="3645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166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0608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5242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ные черты творче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Шопен – «душа фортепиа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.Рубинштейн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л выразительные возможности фортепиано (оно «поё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Шопен – пиани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Мастерство исполн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Шопен – лир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держание сочинений – личные переживан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Шопен – нова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овое слово в мелодии, гармонии, музыкальной формы, фак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инструментального жанра «миниатюра», «балла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Полоне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ны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льский та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арактерные чер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х дольный, особенный 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нез Ля маж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жественный, героический, пышный, маршеобраз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онез Ля маж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7993080" cy="5185080"/>
          </a:xfrm>
          <a:prstGeom prst="rect">
            <a:avLst/>
          </a:prstGeom>
          <a:ln w="0">
            <a:noFill/>
          </a:ln>
        </p:spPr>
      </p:pic>
      <p:pic>
        <p:nvPicPr>
          <p:cNvPr id="84" name="полонез2.wav" descr=""/>
          <p:cNvPicPr/>
          <p:nvPr/>
        </p:nvPicPr>
        <p:blipFill>
          <a:blip r:embed="rId3"/>
          <a:stretch/>
        </p:blipFill>
        <p:spPr>
          <a:xfrm>
            <a:off x="8317080" y="90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9912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Валь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улярный бальный та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ят на две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полные бле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виртуозные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 u="sng">
                <a:solidFill>
                  <a:srgbClr val="d60093"/>
                </a:solidFill>
                <a:uFillTx/>
                <a:latin typeface="Times New Roman"/>
              </a:rPr>
              <a:t>Элегический вальс до-диез минор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«Вальс-фантазия»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«вальс-меч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Вальс до-диез минор.wav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1908000" y="0"/>
            <a:ext cx="576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2124000" y="0"/>
            <a:ext cx="539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ридерик Шоп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ушевность, теплота, вдохновение  и искренность сочинений Шопена создали ему огромную популярность и имя одного из крупнейших композиторов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пертуаре каждого пианиста Шопен занимает одно из центральных м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ные произвед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злюбленные жанр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6 маз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 прелюд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этю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валь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 полоне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балл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 ноктюр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упные произ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фортепианных конце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скер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фортепианные со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Этю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е приёмы фортепианной тех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рупной» - октавная, аккордов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лкая, бисерн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вучая манера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туозность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художественный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юд до минор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еволюционны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«Образный» этю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Эмоциональный отклик на революционные события (подавление восстания), гневные восклицания, острая душевная б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хнический приё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ехника левой руки, но только как средство для передачи обр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Изображение 070"/>
          <p:cNvPicPr/>
          <p:nvPr/>
        </p:nvPicPr>
        <p:blipFill>
          <a:blip r:embed="rId2"/>
          <a:stretch/>
        </p:blipFill>
        <p:spPr>
          <a:xfrm>
            <a:off x="2195640" y="0"/>
            <a:ext cx="57132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 rot="5400000">
            <a:off x="-1692360" y="2636640"/>
            <a:ext cx="575928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тюд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Революционный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4" name="Этюд до минор.wav" descr=""/>
          <p:cNvPicPr/>
          <p:nvPr/>
        </p:nvPicPr>
        <p:blipFill>
          <a:blip r:embed="rId3"/>
          <a:stretch/>
        </p:blipFill>
        <p:spPr>
          <a:xfrm>
            <a:off x="810108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Изображение 071"/>
          <p:cNvPicPr/>
          <p:nvPr/>
        </p:nvPicPr>
        <p:blipFill>
          <a:blip r:embed="rId2"/>
          <a:stretch/>
        </p:blipFill>
        <p:spPr>
          <a:xfrm>
            <a:off x="1835280" y="0"/>
            <a:ext cx="632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Изображение 072"/>
          <p:cNvPicPr/>
          <p:nvPr/>
        </p:nvPicPr>
        <p:blipFill>
          <a:blip r:embed="rId2"/>
          <a:stretch/>
        </p:blipFill>
        <p:spPr>
          <a:xfrm>
            <a:off x="1835280" y="0"/>
            <a:ext cx="60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Изображение 073"/>
          <p:cNvPicPr/>
          <p:nvPr/>
        </p:nvPicPr>
        <p:blipFill>
          <a:blip r:embed="rId2"/>
          <a:stretch/>
        </p:blipFill>
        <p:spPr>
          <a:xfrm>
            <a:off x="176364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4:05:47Z</dcterms:created>
  <dc:creator>Харлова</dc:creator>
  <dc:description/>
  <dc:language>en-US</dc:language>
  <cp:lastModifiedBy>олеся</cp:lastModifiedBy>
  <dcterms:modified xsi:type="dcterms:W3CDTF">2020-11-27T05:59:55Z</dcterms:modified>
  <cp:revision>9</cp:revision>
  <dc:subject/>
  <dc:title>Фридерик Шопен (1810 – 1849)</dc:title>
</cp:coreProperties>
</file>