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B12-3F6B-4BDC-87BD-074B4020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68D6-100C-4CBB-B484-430F898B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7845-D8A3-494C-AEE9-AFB06E87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0CD-7A99-4C5B-9661-97F3AF38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0132-83D5-4930-858B-E13632B1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222F-09F5-47D2-86F4-BC27FFD6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39E6-8CCD-419B-9272-5D3AD8CA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91D3-19E7-4F67-9B5A-0B0901F2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B1A0-B753-4EE5-9815-0477766B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A581-DABC-47AC-86CC-15C81034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9A88-AAA3-4E21-A663-6FA953FC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14F-4012-48F1-9B81-F3ADCA6C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2440-5CD8-4FB8-8982-5B2CA01C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3AEB-B4CF-43F1-9E81-6AE105C8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4377-A7D3-4D98-9E09-D729A3B3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BE69-1155-43C2-881B-24CF765F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9EE5-BDAE-4383-901B-9749CE49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C80-7961-427B-B9FE-6227D594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CDA3-9488-4FC6-8D8E-7251394B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227D-0C05-40FA-9F7A-FAEBB231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E8B1-4163-4F80-8DD7-1235F941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220-BEA6-4B43-BCF9-EF30D395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405-7879-4D9E-B34F-CC6E7A71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E29-753F-4BB7-9325-E84CAE7A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AA28-E841-4C47-886C-22BE79C83A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4C78-6478-4A73-A0E3-75AB0209C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6699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me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16000" y="2421000"/>
            <a:ext cx="6985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Health and Body Care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king an Appointm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an I help 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’m afraid Dr Michaels is on holid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Right. The first available appointment i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n Thursday at 10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Good.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an I take your name, pl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I have been having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rouble sleeping lat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hen, we’ll see you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n Thursday at 10 o’clo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escribing Symptoms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Are you okay, Betty?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You look p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Actually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 feel terr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Oh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what’s w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I’m burning up and my whole body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ch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Sounds to me lik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 f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If I were you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 would go to b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411280" y="2133720"/>
            <a:ext cx="410544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Impact"/>
              </a:rPr>
              <a:t>Thank's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6699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SAD FAC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recent survey showed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hild in ten in Britain eats no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 drink no fruit ju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out of ten kids eat no vege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hild in ten is over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hild in 25 is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obese (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традающий ожирен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40% of girls aged 14 and 15 go to school without eating breakfast because they want to look like fashion models and pop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Questionnaire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0-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are a good girl / boy. You know the proverb “Health is Our Wealth” and try to do something to keep f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4-1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have medical check twice a year. Take vitami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-1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do not think about your health. Be tidy! You should consult the do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71640" y="1738440"/>
            <a:ext cx="6840360" cy="4354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8360" y="333360"/>
            <a:ext cx="755964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66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Balanced Di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042920" y="1584360"/>
            <a:ext cx="6624720" cy="4622760"/>
            <a:chOff x="1042920" y="1584360"/>
            <a:chExt cx="6624720" cy="462276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1042920" y="1584360"/>
              <a:ext cx="6624720" cy="46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276720" y="3068640"/>
              <a:ext cx="574560" cy="289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21440" y="3139920"/>
              <a:ext cx="574560" cy="289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2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32000" y="4292640"/>
              <a:ext cx="574920" cy="28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21440" y="4219560"/>
              <a:ext cx="574560" cy="289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32000" y="5877000"/>
              <a:ext cx="574920" cy="28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68360" y="333360"/>
            <a:ext cx="755964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66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Balanced Di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6699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does own health depend 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2995560"/>
            <a:ext cx="2522520" cy="208908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1482840"/>
            <a:ext cx="1440000" cy="14414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00"/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ing w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l b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3067200"/>
            <a:ext cx="1439640" cy="14414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00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ing h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re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4869000"/>
            <a:ext cx="1440000" cy="14414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00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ing 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03640" y="4867200"/>
            <a:ext cx="1440000" cy="14414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00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7200"/>
            <a:ext cx="1439640" cy="14414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key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key: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Sam said that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e had a great fall the day 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He said that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e didn’t feel well that 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Jan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sked Sam if he had a head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Betsy asked Sam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f he had taken his temper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The doctor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sked not to smoke t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Kate told Jane that Sam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ad fallen down while skateboarding the previous week but he hadn’t hurt himsel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John asked Sam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f the doctor had given him some medic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Ann asked Sam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f he was feeling bet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Kate asked Peter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o pass that letter to S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Peter said that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e was busy then and he would do it the next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3800" spc="-1" strike="noStrike">
                <a:solidFill>
                  <a:srgbClr val="9933ff"/>
                </a:solidFill>
                <a:latin typeface="Arial"/>
              </a:rPr>
              <a:t>Visiting the Doctor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I’ve got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 heada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ctually I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eel terr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Yes. You’ve got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 f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’m afraid. I’ll give you something for it. Here is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ake it to th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hemist’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y’ll give you som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abl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ake the tablet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ree times a day after me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5:17:19Z</dcterms:created>
  <dc:creator>кабинет 104</dc:creator>
  <dc:description/>
  <dc:language>en-US</dc:language>
  <cp:lastModifiedBy>Самойлова</cp:lastModifiedBy>
  <dcterms:modified xsi:type="dcterms:W3CDTF">2006-01-28T08:28:04Z</dcterms:modified>
  <cp:revision>8</cp:revision>
  <dc:subject/>
  <dc:title> Theme: </dc:title>
</cp:coreProperties>
</file>