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F08-2F78-4B85-89E2-A2D639D5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0FB-FFBC-4791-AEA7-A8D54C22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B9E-A82B-40E8-83B5-5EA73DC0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9ED-EF0F-4C74-BE60-544DCC55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9A42-77F9-4042-B595-7BFD5908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EE8-DF43-491A-969E-3718CA4B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C801-2375-468C-B296-E309CC9E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5B47-78B8-4798-B523-143AF3CB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84FC-2014-420A-AFE0-F01160D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771-109A-46DD-8045-BA0C0B28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62AD-32DF-45AC-8A8F-7DE956A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90B-186B-42B4-A030-611F7CE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2682-E416-4348-BCFC-1E567FC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F936-0EE6-4AF2-9273-8F1BF31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76F8-370C-4D1C-B09E-9634ADFF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1C70-F886-4FF5-9F9F-758DA2C0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1086-EA75-470C-913F-607F4B09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582-95F4-4819-97FA-912C2BFE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65A-55B3-43B1-BE70-F39421D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93B-3C41-43EA-B7E6-D64B360C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A31-4BE1-46B3-9936-06552E4D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EA8-EF47-41FE-ADA7-2DCED8F6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016-F188-4E81-9C79-99C6B64E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2F5-6C8C-4296-B923-4DE81447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B2BF-BE48-4E78-8936-CA1B31CA7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0329-BCF1-45BD-B4FB-185041FED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m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16000" y="2421000"/>
            <a:ext cx="69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Health and Body Care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king an Appoint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 I help 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’m afraid Dr Michaels is on holi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Right. The first available appointmen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 Thursday at 10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Good.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 I take your name, pl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 have been hav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rouble sleeping la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hen, we’ll see you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 Thursday at 10 o’c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scribing Symptoms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Are you okay, Betty?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You look p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Actually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 feel te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Oh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hat’s 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’m burning up and my whole bod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Sounds to me lik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f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f I were you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 would go to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411280" y="2133720"/>
            <a:ext cx="410544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Thank'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SAD FA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recent survey showed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ild in ten in Britain eats no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drink no fruit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out of ten kids eat no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ild in ten is over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ild in 25 i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obese (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традающий ожирен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40% of girls aged 14 and 15 go to school without eating breakfast because they want to look like fashion models and pop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estionnaire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0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are a good girl / boy. You know the proverb “Health is Our Wealth” and try to do something to keep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4-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have medical check twice a year. Take vitam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-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 not think about your health. Be tidy! You should consult the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738440"/>
            <a:ext cx="6840360" cy="435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333360"/>
            <a:ext cx="755964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Balanced D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042920" y="1584360"/>
            <a:ext cx="6624720" cy="4622760"/>
            <a:chOff x="1042920" y="1584360"/>
            <a:chExt cx="6624720" cy="4622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042920" y="1584360"/>
              <a:ext cx="6624720" cy="46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276720" y="3068640"/>
              <a:ext cx="574560" cy="28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21440" y="3139920"/>
              <a:ext cx="574560" cy="28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32000" y="4292640"/>
              <a:ext cx="574920" cy="28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21440" y="4219560"/>
              <a:ext cx="574560" cy="289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000" y="5877000"/>
              <a:ext cx="574920" cy="28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68360" y="333360"/>
            <a:ext cx="755964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Balanced D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6699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does own health depend 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2995560"/>
            <a:ext cx="2522520" cy="2089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482840"/>
            <a:ext cx="144000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ing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 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3067200"/>
            <a:ext cx="143964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ing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e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4869000"/>
            <a:ext cx="144000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ing 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867200"/>
            <a:ext cx="144000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7200"/>
            <a:ext cx="1439640" cy="1441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key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key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am said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 had a great fall the day 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e said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 didn’t feel well that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Jan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sked Sam if he had a head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etsy asked Sa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f he had taken his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The docto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sked not to smoke t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Kate told Jane that Sa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ad fallen down while skateboarding the previous week but he hadn’t hurt him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John asked Sa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f the doctor had given him some medic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Ann asked Sam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f he was feeling bet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Kate asked Pete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 pass that letter to S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eter said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 was busy then and he would do it the next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800" spc="-1" strike="noStrike">
                <a:solidFill>
                  <a:srgbClr val="9933ff"/>
                </a:solidFill>
                <a:latin typeface="Arial"/>
              </a:rPr>
              <a:t>Visiting the Doctor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’ve go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heada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ctually I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eel terr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Yes. You’ve go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f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’m afraid. I’ll give you something for it. Here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ake it to th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emist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y’ll give you som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abl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ake the tablet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ree times a day after me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5:17:19Z</dcterms:created>
  <dc:creator>кабинет 104</dc:creator>
  <dc:description/>
  <dc:language>en-US</dc:language>
  <cp:lastModifiedBy>Самойлова</cp:lastModifiedBy>
  <dcterms:modified xsi:type="dcterms:W3CDTF">2006-01-28T08:28:04Z</dcterms:modified>
  <cp:revision>8</cp:revision>
  <dc:subject/>
  <dc:title> Theme: </dc:title>
</cp:coreProperties>
</file>