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62D8-C5C3-4E18-BBA5-CBB26169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EB57-2977-464A-B819-2A2B80A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1410-3153-4697-AB63-A32CD409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A16D-E46A-4B24-AC47-AAEF2D01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844-DA58-433D-BE4C-375B4008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A349-4E9A-4B19-A454-27708BDD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F19B-1464-4CB7-A9CB-FD5FB60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D4E-DD84-4E64-A516-360A49D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9CF1-E29D-4290-8BF0-41274677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289E-0ACB-43C0-A607-9C289B24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8DB3-C4D7-4842-9672-69F9C65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DE33-F434-4E75-9488-C303129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5132-FD9D-4EBE-80F6-645F487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68CD-1D36-4760-9C9A-710659EF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8BE-3B34-4424-A6F9-DEB323D3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EDB-DF47-49B1-874A-05EE48D5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C42-D6D3-4E61-8769-4EEE2882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997D-5C96-4CE6-8961-9499B866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C32C-F897-4367-92A9-7CD35560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5E50-DAEB-45BC-B652-D29EA30C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04A1-B00A-4716-B65B-689BDEDB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1CAB-113D-4263-9994-36E92FF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793B-3E07-46F1-B6CF-154F19B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2A4F-10B5-4CBB-A3BA-F2CB1FF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EA4A-6459-4571-A1C7-8647CE9EB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871-B9C4-461D-97A5-65233CBE98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36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Исследование рынка профессий и вакансий в городе Москв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71320" y="5072040"/>
            <a:ext cx="80722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автомеханик            - электромеха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203721_600"/>
          <p:cNvPicPr/>
          <p:nvPr/>
        </p:nvPicPr>
        <p:blipFill>
          <a:blip r:embed="rId1"/>
          <a:stretch/>
        </p:blipFill>
        <p:spPr>
          <a:xfrm>
            <a:off x="571680" y="2000160"/>
            <a:ext cx="3528720" cy="264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Информация - Образовательный портал Bilimal"/>
          <p:cNvPicPr/>
          <p:nvPr/>
        </p:nvPicPr>
        <p:blipFill>
          <a:blip r:embed="rId2"/>
          <a:stretch/>
        </p:blipFill>
        <p:spPr>
          <a:xfrm>
            <a:off x="4788000" y="2060640"/>
            <a:ext cx="3600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000160" y="5000760"/>
            <a:ext cx="5919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машинист поез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Машинист скоростного поезда сыграет в спектакле - Metro"/>
          <p:cNvPicPr/>
          <p:nvPr/>
        </p:nvPicPr>
        <p:blipFill>
          <a:blip r:embed="rId1"/>
          <a:stretch/>
        </p:blipFill>
        <p:spPr>
          <a:xfrm>
            <a:off x="2124000" y="1268280"/>
            <a:ext cx="56167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85520" y="4714560"/>
            <a:ext cx="7343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ехнолог различных произво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Валдай / Сайт города Валдай / Анатомия профессии: Инженер-технолог, больше века в Валдае"/>
          <p:cNvPicPr/>
          <p:nvPr/>
        </p:nvPicPr>
        <p:blipFill>
          <a:blip r:embed="rId1"/>
          <a:stretch/>
        </p:blipFill>
        <p:spPr>
          <a:xfrm>
            <a:off x="611280" y="1700280"/>
            <a:ext cx="36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Технолог пищевого производства - работа в Уральске, вахтовая работа в Атырау, Актау, Аксае Кадровое агентство Домашний сервис"/>
          <p:cNvPicPr/>
          <p:nvPr/>
        </p:nvPicPr>
        <p:blipFill>
          <a:blip r:embed="rId2"/>
          <a:stretch/>
        </p:blipFill>
        <p:spPr>
          <a:xfrm>
            <a:off x="4857840" y="1714680"/>
            <a:ext cx="36003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714680" y="4928760"/>
            <a:ext cx="6208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тро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bauarbeiter"/>
          <p:cNvPicPr/>
          <p:nvPr/>
        </p:nvPicPr>
        <p:blipFill>
          <a:blip r:embed="rId1"/>
          <a:stretch/>
        </p:blipFill>
        <p:spPr>
          <a:xfrm>
            <a:off x="2340000" y="1125360"/>
            <a:ext cx="4762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57160" y="5143320"/>
            <a:ext cx="8002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ператор ЭВМ, программ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Как в 1С создать информационную базу"/>
          <p:cNvPicPr/>
          <p:nvPr/>
        </p:nvPicPr>
        <p:blipFill>
          <a:blip r:embed="rId1"/>
          <a:stretch/>
        </p:blipFill>
        <p:spPr>
          <a:xfrm>
            <a:off x="2340000" y="1251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944960" y="5571720"/>
            <a:ext cx="4199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многие друг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Новости Куйбышевская ЖД"/>
          <p:cNvPicPr/>
          <p:nvPr/>
        </p:nvPicPr>
        <p:blipFill>
          <a:blip r:embed="rId1"/>
          <a:stretch/>
        </p:blipFill>
        <p:spPr>
          <a:xfrm>
            <a:off x="5143680" y="3357720"/>
            <a:ext cx="3600360" cy="196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Уфимский лесхоз-техникум - Уфа среднее профессиональное образование"/>
          <p:cNvPicPr/>
          <p:nvPr/>
        </p:nvPicPr>
        <p:blipFill>
          <a:blip r:embed="rId2"/>
          <a:stretch/>
        </p:blipFill>
        <p:spPr>
          <a:xfrm>
            <a:off x="1571760" y="500040"/>
            <a:ext cx="366552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Красногорский государственный колледж - Красногорск"/>
          <p:cNvPicPr/>
          <p:nvPr/>
        </p:nvPicPr>
        <p:blipFill>
          <a:blip r:embed="rId3"/>
          <a:stretch/>
        </p:blipFill>
        <p:spPr>
          <a:xfrm>
            <a:off x="500040" y="3714840"/>
            <a:ext cx="35272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060280"/>
            <a:ext cx="8064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офессии, которые можно получить без 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Фотограф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844640"/>
            <a:ext cx="340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взяли в руки профессиональную камеру и у вас стали получаться интересные фотографии, то возможно, вы нашли свое призвание. Однако не спешите радоваться: для того, чтобы зарабатывать фотографией на жизнь, нужно потрудиться. Чтобы развить навык и определить собственный стиль нужно постоянно снимать, читать книги по теории, смотреть работы других авторов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1" descr="F:\660x440_0_1a09ead22076c208c8f157e340f31735@660x440_0x59f91261_8872528931378468303.jpeg"/>
          <p:cNvPicPr/>
          <p:nvPr/>
        </p:nvPicPr>
        <p:blipFill>
          <a:blip r:embed="rId1"/>
          <a:stretch/>
        </p:blipFill>
        <p:spPr>
          <a:xfrm>
            <a:off x="3851280" y="2060640"/>
            <a:ext cx="4695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арикмахер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560" y="1844640"/>
            <a:ext cx="33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гда мечтали делать свадебные прически, заплетать колоски не только подружкам и стричь мужские головы? Школы парикмахерского искусства есть у многих марок, которые специализируются на профессиональном уходе за волосами, – Wella, Paul Mitchel, Loreal, Tony &amp; Gay. «Последняя тенденция – работать на себя. Если у вас за плечами курсы парикмахера, то совсем не обязательно тащиться в салон красоты, слезно умоляя принять вас на рабо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2" descr="Парикмахер"/>
          <p:cNvPicPr/>
          <p:nvPr/>
        </p:nvPicPr>
        <p:blipFill>
          <a:blip r:embed="rId1"/>
          <a:stretch/>
        </p:blipFill>
        <p:spPr>
          <a:xfrm>
            <a:off x="4140360" y="2060640"/>
            <a:ext cx="4276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одавец-консультант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844640"/>
            <a:ext cx="368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вы общительная и неутомимая, любите людей и всегда готовы им помочь, работа консультантом – для вас. Магазин игрушек или табачный бутик, цветочная лавка или салон одежды – прелесть в том, что вы можете выбрать ту сферу, которая наиболее вам интересна. Устраиваясь на работу, неплохо иметь какой-либо опыт в сфере торговли – небольшой стаж или профильные кур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5" descr="Продавец-консультант"/>
          <p:cNvPicPr/>
          <p:nvPr/>
        </p:nvPicPr>
        <p:blipFill>
          <a:blip r:embed="rId1"/>
          <a:stretch/>
        </p:blipFill>
        <p:spPr>
          <a:xfrm>
            <a:off x="3924360" y="1773360"/>
            <a:ext cx="4781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54936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47640" y="333360"/>
            <a:ext cx="70930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е о профессиях, которые можно получить с разным уровнем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мотреть рынок самых востребованных профессий города Моск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нок вакансий в будущ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рофессии в городе Москве самые высокооплачивае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Швея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84464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дивидуальный пошив, несмотря на высокую стоимость, продолжает оставаться популярным. Средней месячный доход портного, занимающегося частной практикой, может составлять в России от 30 тыс. рублей и выше. Мастерскую можно оборудовать в собственной квартире. Для старта вам будет необходим начальный капитал. Хорошая машинка, оверлок, закройный стол обойдутся минимум в 50 тыс. рублей. В работе швеи нужны усидчивость и умение работать с людь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Рисунок 8" descr="Швея"/>
          <p:cNvPicPr/>
          <p:nvPr/>
        </p:nvPicPr>
        <p:blipFill>
          <a:blip r:embed="rId1"/>
          <a:stretch/>
        </p:blipFill>
        <p:spPr>
          <a:xfrm>
            <a:off x="3924360" y="1773360"/>
            <a:ext cx="4781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Бармен, официант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844640"/>
            <a:ext cx="347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служивающий персонал в кафе и клубах зарабатывает небольшие деньги. Однако если у вас есть опыт работы, базовый английский и авторитетные курсы за плечами, то вас могут принять и в хороший ресторан, где и чаевые больше, и условия работы лучше. Важная составляющая профессии – гибкий график. От вас: энтузиазм, харизма, трудолюбие и порядо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11" descr="Бармен"/>
          <p:cNvPicPr/>
          <p:nvPr/>
        </p:nvPicPr>
        <p:blipFill>
          <a:blip r:embed="rId1"/>
          <a:stretch/>
        </p:blipFill>
        <p:spPr>
          <a:xfrm>
            <a:off x="4211640" y="1989000"/>
            <a:ext cx="4105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Стюардесса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91628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то из нас не мечтал быть стюардессой (а точнее, бортпроводником) – покорять небесные просторы и каждый день бывать сразу в нескольких странах? Однако далеко не каждая задумывалась, насколько сложна эта профессия. На стюардесс и стюардов обычно учат в крупных авиакомпаниях. Как правило, такие курсы бесплатные, однако все учащиеся подписывают договор, по которому обязаны проработать в компании от года до трех лет. Если договор расторгается, то студенты должны оплатить курсы. Существуют и независимые школы бортпроводников, обучение в которых платное. Однако отучившись на них, молодые стюардессы не будут связаны с ними никакими обязательствами и будут вольны работать, где заблагорассудится. На собеседовании первое, на что обращают внимание, – внешность и возраст: в основном берут миловидных девушек до 35 лет со знанием английского языка. Рост 160-175 см, размер одежды – до 46-го. После конкурсантки должны пройти врачебно-летную экспертизу, которая определит, железное ли у них здоровье, стабильно ли психологическое состояние и как они переносят высо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14" descr="Стюардесса"/>
          <p:cNvPicPr/>
          <p:nvPr/>
        </p:nvPicPr>
        <p:blipFill>
          <a:blip r:embed="rId1"/>
          <a:stretch/>
        </p:blipFill>
        <p:spPr>
          <a:xfrm>
            <a:off x="4356000" y="2133720"/>
            <a:ext cx="4524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Стилис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844640"/>
            <a:ext cx="3975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лковых курсов стилистов в России нет - в этой профессии необходим опыт работы, чувства стиля и, конечно, тотальная увлеченность модой. Начинать карьеру нужно с ассистента стилиста в журнале мод. Работа тяжелая – приходится ездить по магазинам и шоу-румам, таскаться с огромными тюками одежды, подбирать нужные вещи, выезжать на съемки, следить за тем, чтобы вещи после фотосессий оставались в целости и сохранности (иначе придется отвечать за них головой). Как правило, ассистентов не оформляют в штат и за один день работы они получают около 50 долларов. Однако есть и плюсы: приглашения на fashion-мероприятия, скидки, подар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Рисунок 17" descr="Стилист"/>
          <p:cNvPicPr/>
          <p:nvPr/>
        </p:nvPicPr>
        <p:blipFill>
          <a:blip r:embed="rId1"/>
          <a:stretch/>
        </p:blipFill>
        <p:spPr>
          <a:xfrm>
            <a:off x="4211640" y="1989000"/>
            <a:ext cx="4276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п-20 самых низкооплачиваемых профессий в Москве по итогам 2014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28640"/>
          <a:ext cx="8964360" cy="4536720"/>
        </p:xfrm>
        <a:graphic>
          <a:graphicData uri="http://schemas.openxmlformats.org/drawingml/2006/table">
            <a:tbl>
              <a:tblPr/>
              <a:tblGrid>
                <a:gridCol w="772200"/>
                <a:gridCol w="4511160"/>
                <a:gridCol w="3681000"/>
              </a:tblGrid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зи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едние предлагаемые зарпла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урь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 25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мощник юрис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5 579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рузчи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7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мощник бухгалт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7 79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рчендайз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9 851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пециалист по контролю каче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ператор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ll-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ент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кретарь на ресепш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дминистратор гостиниц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 86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моут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1 10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ладовщи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1 446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фис-менедж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2 5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пециалист технической поддерж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2 66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мощник руководи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2 998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ельдш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3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ухгалтер по первичной документ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4 27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дминистратор салона красо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4 61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дсестра/медбр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4 666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орнич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5 00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онтент-менедже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5 14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ние предлагаемые зарплаты в Москве по профессиональным сфе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5840" y="1571760"/>
          <a:ext cx="8572320" cy="4572000"/>
        </p:xfrm>
        <a:graphic>
          <a:graphicData uri="http://schemas.openxmlformats.org/drawingml/2006/table">
            <a:tbl>
              <a:tblPr/>
              <a:tblGrid>
                <a:gridCol w="492120"/>
                <a:gridCol w="5025960"/>
                <a:gridCol w="3054240"/>
              </a:tblGrid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ессиональная сф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предлагаемой зарпла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ший менеджмен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9 010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ые технологии, интернет, телеко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 52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кетинг, реклама,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 708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ительство, недвижим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 77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 97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авление персоналом/Тренин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 386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аж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 49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мобильный бизне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 70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нспорт, логис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 99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хгалтерия, управленческий учет, финансы предприят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 677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 044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ицина/Фармацевти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 062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карьеры, студ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 541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нки, инвестиции, лизин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 929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тивный персона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 765 руб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14760" y="357120"/>
            <a:ext cx="416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то на рынке труда на вес золо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85840" y="1700280"/>
          <a:ext cx="8606880" cy="4465080"/>
        </p:xfrm>
        <a:graphic>
          <a:graphicData uri="http://schemas.openxmlformats.org/drawingml/2006/table">
            <a:tbl>
              <a:tblPr/>
              <a:tblGrid>
                <a:gridCol w="495360"/>
                <a:gridCol w="4421880"/>
                <a:gridCol w="1922760"/>
                <a:gridCol w="1766880"/>
              </a:tblGrid>
              <a:tr h="43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кан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ваканс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плата 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джер по продаж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0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ник руководителя / Секретарь / Офис-менедж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ав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джер по работе с клиент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говый / Региональный представи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исты, разработч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яня / Гувернантка /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хгалт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т / Юрисконсуль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80" descr="G:\профессии_от_Феди\21-04.jpg"/>
          <p:cNvPicPr/>
          <p:nvPr/>
        </p:nvPicPr>
        <p:blipFill>
          <a:blip r:embed="rId1"/>
          <a:stretch/>
        </p:blipFill>
        <p:spPr>
          <a:xfrm>
            <a:off x="6804000" y="333360"/>
            <a:ext cx="20890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Десятка самых востребованных профессий будущег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0" y="184464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Инженерные специальн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 будет цениться сочетание технического и экономического или юридического образования, знание английского или любого европейского языка. Востребованность инженеров-маркетологов и менеджеров растет во всех отраслях промышленн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 IT и разработчики компьютерного аппаратного обеспе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временном мире все большее значение приобретает имидж фирмы, и сайт – не что иное, как показатель уровня и надежности организации. Как следствие, веб-дизайнер – одна из самых высокооплачиваемых «компьютерных» профессий. Многие компании готовы заплатить немалые деньги. Лишь бы на них обратили внимание пользователи Интерн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Нанотехн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прогнозам, будут востребованы все специальности, связанные с нанотехнологиями. Уже ясно, что нанотехнологии охватят все сферы: машиностроение, космические технологии, пищевую промышленность, медицину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читается, что страну, добившуюся прорыва в развитии нанотехнологий. Ждет мировое лидерст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Специальности н стыке электроники и био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альности на стыке электроники и биотехнологий требуют от специалиста глубоких знаний как в электронике, так и в биоинженерии. Вполне вероятно, что рабочие биочипы – дело весьма недалекого будущ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. Маркетинг и продаж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ококвалифицированный специалист в области маркетинга разрабатывает бизнес-планы, предлагает наиболее выгодные варианты вложения денег  предприя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70028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 специальности, связанные с сервис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рос на профессии сферы обслуживания, как показывает опыт западноевропейских стран и США, будет ежегодно возрастать, при этом темпы роста потребности в профессиях сферы обслуживания будут опережать темпы роста потребностей в других востребованных професс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 Логист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тобы сделать успешную карьеру, логисту понадобятся аналитический ум и системное мышление, интуиция, умение быстро находить выход из сложных ситуаций, навыки общения с людьми, коммуникабельность. Не обойтись без практического опыта, а так же без глубоких знаний математики, техники, действующего законодательства, и, конечно, без понимания принципов бизне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 Эколо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ость эколога будет требовать знания физики, химии, биологии, навыков компьютерного моделирования, проходящих в природе процессов. Профессия эколога станет одной из важнейших и самых востребованных профес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 Медицинские специальности, связанные с поиском средств продления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дицина успешно использует достижения в области электроники, биотехнологий. Которые сегодня только еще создаются, а через 10 лет, наверняка, войдут в практику, станут привычным в медицине дел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 Хим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исты в области химии будут особенно востребованы в сфере энергетики. К 2016 г. разработки и исследования в области альтернативных. Экологически чистых источников энергии достигнут своего пика – и без химиков здесь будет совсем не обойти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54936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сятка самых востребованных профессий будущ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10 самых, самых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250920" y="1484280"/>
            <a:ext cx="8643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. Банки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2013 г. вакансий в этой сфере стало больше на 0,09%, а значит, рынок близок к насыщению. Зарплаты в этой сфере колеблются от символических сумм до 500 тыс. руб. в месяц для членов пра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. Бухгалте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хгалтер, который начинает с зарплат в 15 тыс. руб., может дорасти до должности главного бухгалтера и ежемесячного дохода в 185 тыс. руб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. Кадров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ботодатели готовы сегодня платить специалистам кадрового дела до 150 тыс. руб. в месяц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 Главный вра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 7 строку, да и то лишь административная долж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. Глава частной кли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лава частной клиники в месяц зарабатывает от 150 до 240 тыс. руб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. IT-специали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прос растет. IT-директор может рассчитывать на зарплату от 200 тыс.руб. в меся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. Финансовый директ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50 тыс. руб. в меся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 Директор по маркетингу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ди, умеющие продавать, ценятся н вес золота. Зарплата от 350 тыс. руб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 Технический директор в сфере добыч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еудивительно, что здесь высоко ценятся специалисты технического профиля в сфере добычи нефти, газ, драгоценных металлов. Вознаграждение сотрудник на этой позиции составляет от 2 млн. долларов в 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 Риск-менедже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омпенсационный пакет таких сотрудников стартует от 500 тыс. рулей в месяц, что просто колоссально для служащег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684360" y="1916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сшее профессиональное образование (ВПО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уровень профессионального образования, который направлен на подготовку специалистов в любой научной сфере на основе имеющегося среднего (полного) общего или среднего профессиональ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000160" y="5716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фессии с высшим образо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амые высокооплачиваемые профессии в Москв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G:\профессии_от_Феди\11(27).jpg"/>
          <p:cNvPicPr/>
          <p:nvPr/>
        </p:nvPicPr>
        <p:blipFill>
          <a:blip r:embed="rId1"/>
          <a:stretch/>
        </p:blipFill>
        <p:spPr>
          <a:xfrm>
            <a:off x="1071720" y="2214720"/>
            <a:ext cx="7107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-20 самых высокооплачиваемых профессий в Москве по итогам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1341360"/>
          <a:ext cx="8640720" cy="4834080"/>
        </p:xfrm>
        <a:graphic>
          <a:graphicData uri="http://schemas.openxmlformats.org/drawingml/2006/table">
            <a:tbl>
              <a:tblPr/>
              <a:tblGrid>
                <a:gridCol w="538200"/>
                <a:gridCol w="4186080"/>
                <a:gridCol w="3916440"/>
              </a:tblGrid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и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е предлагаемые зарпл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ант SA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5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отдела разрабо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7 119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ый архитек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 747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инженер проек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1 748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яющий отеле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производства меб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юридического отде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 733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ий совет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 679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т-дирек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 581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отдела маркетин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 25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акт-менеджер в медицин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 191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va-программи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 188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аботчик Ora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 211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отдела интернет-рекла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5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l-программи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196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ист 1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617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ировщ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246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вр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ьник отдела И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 000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2565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ДВОКАТ   ПЕДАГОГ  ДИПЛОМ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Персона"/>
          <p:cNvPicPr/>
          <p:nvPr/>
        </p:nvPicPr>
        <p:blipFill>
          <a:blip r:embed="rId1"/>
          <a:stretch/>
        </p:blipFill>
        <p:spPr>
          <a:xfrm>
            <a:off x="0" y="2708280"/>
            <a:ext cx="3284640" cy="338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30 интересных фактов - ЯПлакалъ"/>
          <p:cNvPicPr/>
          <p:nvPr/>
        </p:nvPicPr>
        <p:blipFill>
          <a:blip r:embed="rId2"/>
          <a:stretch/>
        </p:blipFill>
        <p:spPr>
          <a:xfrm>
            <a:off x="3348000" y="1773360"/>
            <a:ext cx="3095640" cy="374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интерес &quot; Страница 6"/>
          <p:cNvPicPr/>
          <p:nvPr/>
        </p:nvPicPr>
        <p:blipFill>
          <a:blip r:embed="rId3"/>
          <a:stretch/>
        </p:blipFill>
        <p:spPr>
          <a:xfrm>
            <a:off x="6516720" y="2637000"/>
            <a:ext cx="248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фессии  :  Воспитател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граммист   Врач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женер          Артис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чёный            Конструктор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смонавт       Переводч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енер             Писатель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кономист       Архитектор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Художник         Агроном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енный          Лётчик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и многие другие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214200" y="257184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учить среднее техническое образование может каждый выпускник основной школы, то есть окончивший 9 классов и удачно сдавший ОГЭ (основной государственный экзаме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785960" y="500040"/>
            <a:ext cx="60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ЕДНЕЕ ТЕХНИЧЕСКОЕ (СПЕЦИАЛЬНОЕ) ОБРАЗ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4005360"/>
            <a:ext cx="7921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ее техническое образование получают в техникуме (колледж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плом о среднем техническом образовании даст вам возможность даже стать руководителем среднего звен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studenty_uchatsya_5"/>
          <p:cNvPicPr/>
          <p:nvPr/>
        </p:nvPicPr>
        <p:blipFill>
          <a:blip r:embed="rId1"/>
          <a:stretch/>
        </p:blipFill>
        <p:spPr>
          <a:xfrm>
            <a:off x="2411280" y="549360"/>
            <a:ext cx="475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58560" y="692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базе 9 классов учиться в техникуме придется 3 или 4 года, а после 11 класса – 2 или 3.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1200" y="3573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кумы Москвы готовят высококлассных специалистов, востребованных на производстве.</a:t>
            </a:r>
            <a:br>
              <a:rPr sz="20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655280" y="42876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ончив техникум, можно получить следующие специа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img316s"/>
          <p:cNvPicPr/>
          <p:nvPr/>
        </p:nvPicPr>
        <p:blipFill>
          <a:blip r:embed="rId1"/>
          <a:stretch/>
        </p:blipFill>
        <p:spPr>
          <a:xfrm>
            <a:off x="2000160" y="1500120"/>
            <a:ext cx="4751640" cy="3718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3500280" y="54291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ес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2:28:44Z</dcterms:created>
  <dc:creator>Марина Серафимовна</dc:creator>
  <dc:description/>
  <dc:language>en-US</dc:language>
  <cp:lastModifiedBy>Марина Серафимовна</cp:lastModifiedBy>
  <dcterms:modified xsi:type="dcterms:W3CDTF">2015-01-30T09:43:56Z</dcterms:modified>
  <cp:revision>28</cp:revision>
  <dc:subject/>
  <dc:title>Исследование рынка профессий и вакансий в городе Москве</dc:title>
</cp:coreProperties>
</file>