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BF8-5453-4B11-B52B-34C2A369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9D7-0D29-4B93-98DF-D48474D6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DBF-3FBA-4862-BE33-899EC79C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B41-E655-46C1-BFEE-220AF0BA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C21D-47FE-4ACC-AD61-8B404E63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A3C1-F163-49D3-AEC9-B6B7E38C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F5AF-B6EE-4FCE-8F53-C0271115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9964-F88D-47E1-B690-B3315AA8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282E-88FA-4507-BC2F-18A8EF99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6C76-3E23-46C6-9EDF-CE04CAB1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2FFB-1B20-4518-8886-9F3DB93F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E5D-58CE-4026-AE4C-3166D8EA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B8B7-D8AC-4DCB-8BD7-0015C36B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1083-51F8-4DEF-9309-9DB9D71B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8569-C842-4777-B247-3F07BC1A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3A6A-CC31-4742-B668-BF8B1F89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DE8A-FA06-4D6A-A01E-7B2FED25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D8D-DC51-4F0D-9EBC-AA752F62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49D-7E1A-459B-815B-C6F8AE0F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6D3-8307-429A-9108-879EFB7C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D9B-F9FB-4846-9743-B1C85148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800-C524-43CA-ACAA-8DAA4FF6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6C3-ABE1-4DA2-9EED-BE9699A6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F43-94DA-4AED-AAD7-17848183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29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06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07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560D-CE73-4006-A9AD-15AD510DDC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72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7280"/>
              <a:ext cx="1203120" cy="68403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1160"/>
              <a:chOff x="7848720" y="-360"/>
              <a:chExt cx="1295280" cy="63111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83120"/>
                <a:chOff x="8381880" y="-360"/>
                <a:chExt cx="762120" cy="228312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23160" y="-360"/>
                  <a:ext cx="279720" cy="275400"/>
                  <a:chOff x="8723160" y="-360"/>
                  <a:chExt cx="27972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23160" y="-360"/>
                    <a:ext cx="279720" cy="275400"/>
                    <a:chOff x="8723160" y="-360"/>
                    <a:chExt cx="27972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62400" y="-39600"/>
                      <a:ext cx="20124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71760" y="91800"/>
                      <a:ext cx="14076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43040" y="146160"/>
                    <a:ext cx="2844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6440" y="6984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8080" y="57240"/>
                    <a:ext cx="648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7200" y="10728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43040" y="207720"/>
                    <a:ext cx="63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91200" y="1832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5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5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9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3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3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3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3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13520"/>
                <a:ext cx="828720" cy="4697280"/>
                <a:chOff x="7848720" y="1613520"/>
                <a:chExt cx="828720" cy="469728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3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7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5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3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5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94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5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14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3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3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1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1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9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1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1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29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90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3280"/>
              <a:ext cx="1190520" cy="193500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2880"/>
              <a:ext cx="1219320" cy="19947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7800"/>
              <a:ext cx="1231920" cy="40266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6720"/>
              <a:ext cx="979560" cy="217872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43160"/>
              <a:ext cx="914400" cy="503532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9000"/>
              <a:ext cx="909720" cy="30636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7280"/>
              <a:ext cx="576360" cy="3344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8720"/>
              <a:ext cx="300240" cy="33444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8720"/>
              <a:ext cx="88920" cy="68403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880"/>
              <a:ext cx="1165320" cy="6174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2960" y="3324600"/>
              <a:ext cx="6840360" cy="225360"/>
            </a:xfrm>
            <a:custGeom>
              <a:avLst/>
              <a:gdLst>
                <a:gd name="textAreaLeft" fmla="*/ 666360 w 6840360"/>
                <a:gd name="textAreaRight" fmla="*/ 6174000 w 68403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C2ED-F8EE-42A4-A365-44C46B440940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4" descr="1342136813-1306035-11211-4-www.hqtexture.com.jpg"/>
          <p:cNvPicPr/>
          <p:nvPr/>
        </p:nvPicPr>
        <p:blipFill>
          <a:blip r:embed="rId1">
            <a:lum bright="-10000"/>
          </a:blip>
          <a:srcRect l="0" t="9502" r="0" b="155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15840" y="1214280"/>
            <a:ext cx="7327800" cy="306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863520" y="5084280"/>
            <a:ext cx="528012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693800" y="333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TextBox 5" descr=""/>
          <p:cNvPicPr/>
          <p:nvPr/>
        </p:nvPicPr>
        <p:blipFill>
          <a:blip r:embed="rId2"/>
          <a:stretch/>
        </p:blipFill>
        <p:spPr>
          <a:xfrm>
            <a:off x="1152360" y="457200"/>
            <a:ext cx="7339320" cy="4029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928800" y="50004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Arial"/>
              </a:rPr>
              <a:t>Бонсай</a:t>
            </a:r>
            <a:r>
              <a:rPr b="0" lang="ru-RU" sz="2000" spc="-1" strike="noStrike">
                <a:solidFill>
                  <a:srgbClr val="fefcfc"/>
                </a:solidFill>
                <a:latin typeface="Arial"/>
              </a:rPr>
              <a:t> – (яп. «выращенное в подносе») искусство выращивания точной копии настоящего дерева в миниатюр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Рисунок 2" descr="bonsai_21.jpg"/>
          <p:cNvPicPr/>
          <p:nvPr/>
        </p:nvPicPr>
        <p:blipFill>
          <a:blip r:embed="rId1"/>
          <a:srcRect l="4001" t="0" r="0" b="0"/>
          <a:stretch/>
        </p:blipFill>
        <p:spPr>
          <a:xfrm>
            <a:off x="857160" y="1785960"/>
            <a:ext cx="6215040" cy="4748040"/>
          </a:xfrm>
          <a:prstGeom prst="rect">
            <a:avLst/>
          </a:prstGeom>
          <a:ln w="28440">
            <a:solidFill>
              <a:srgbClr val="50201d"/>
            </a:solidFill>
            <a:miter/>
          </a:ln>
        </p:spPr>
      </p:pic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98399820_10.jpg"/>
          <p:cNvPicPr/>
          <p:nvPr/>
        </p:nvPicPr>
        <p:blipFill>
          <a:blip r:embed="rId1"/>
          <a:stretch/>
        </p:blipFill>
        <p:spPr>
          <a:xfrm>
            <a:off x="2571840" y="0"/>
            <a:ext cx="5214960" cy="433692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  <p:sp>
        <p:nvSpPr>
          <p:cNvPr id="227" name="TextBox 2"/>
          <p:cNvSpPr/>
          <p:nvPr/>
        </p:nvSpPr>
        <p:spPr>
          <a:xfrm>
            <a:off x="142920" y="785880"/>
            <a:ext cx="242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fcfc"/>
                </a:solidFill>
                <a:latin typeface="Arial"/>
              </a:rPr>
              <a:t>Рост регулируется за счёт плоской корневой систем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642960" y="4857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fcfc"/>
                </a:solidFill>
                <a:latin typeface="Arial"/>
              </a:rPr>
              <a:t>Традиционно считается, что настоящий бонсай должен нести 3 главных качества: истинность, доброту, красот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Япония1.jpg.gif"/>
          <p:cNvPicPr/>
          <p:nvPr/>
        </p:nvPicPr>
        <p:blipFill>
          <a:blip r:embed="rId1"/>
          <a:stretch/>
        </p:blipFill>
        <p:spPr>
          <a:xfrm>
            <a:off x="3357720" y="285840"/>
            <a:ext cx="4390920" cy="4162320"/>
          </a:xfrm>
          <a:prstGeom prst="rect">
            <a:avLst/>
          </a:prstGeom>
          <a:ln w="28440">
            <a:solidFill>
              <a:srgbClr val="50201d"/>
            </a:solidFill>
            <a:miter/>
          </a:ln>
        </p:spPr>
      </p:pic>
      <p:sp>
        <p:nvSpPr>
          <p:cNvPr id="198" name="TextBox 2"/>
          <p:cNvSpPr/>
          <p:nvPr/>
        </p:nvSpPr>
        <p:spPr>
          <a:xfrm>
            <a:off x="357120" y="428760"/>
            <a:ext cx="27147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Япония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6e5"/>
                </a:solidFill>
                <a:latin typeface="Arial"/>
              </a:rPr>
              <a:t>располагается на Японском архипелаге, состоящем из </a:t>
            </a:r>
            <a:r>
              <a:rPr b="0" lang="ru-RU" sz="2800" spc="-1" strike="noStrike">
                <a:solidFill>
                  <a:srgbClr val="92d050"/>
                </a:solidFill>
                <a:latin typeface="Arial"/>
              </a:rPr>
              <a:t>6852 островов</a:t>
            </a:r>
            <a:r>
              <a:rPr b="0" lang="ru-RU" sz="2800" spc="-1" strike="noStrike">
                <a:solidFill>
                  <a:srgbClr val="fdf6e5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285840" y="4000680"/>
            <a:ext cx="307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6e5"/>
                </a:solidFill>
                <a:latin typeface="Arial"/>
              </a:rPr>
              <a:t>Четыре крупнейших остров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fdf6e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6e5"/>
                </a:solidFill>
                <a:latin typeface="Arial"/>
              </a:rPr>
              <a:t>Хонс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fdf6e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6e5"/>
                </a:solidFill>
                <a:latin typeface="Arial"/>
              </a:rPr>
              <a:t>Хоккайд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fdf6e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6e5"/>
                </a:solidFill>
                <a:latin typeface="Arial"/>
              </a:rPr>
              <a:t>Кюс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fdf6e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6e5"/>
                </a:solidFill>
                <a:latin typeface="Arial"/>
              </a:rPr>
              <a:t>Сикок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3857760" y="4857840"/>
            <a:ext cx="335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Япония – развитая страна с очень высоким уровнем жизн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1" descr="JP.jpg"/>
          <p:cNvPicPr/>
          <p:nvPr/>
        </p:nvPicPr>
        <p:blipFill>
          <a:blip r:embed="rId1"/>
          <a:stretch/>
        </p:blipFill>
        <p:spPr>
          <a:xfrm>
            <a:off x="285840" y="357120"/>
            <a:ext cx="3357360" cy="224172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  <p:sp>
        <p:nvSpPr>
          <p:cNvPr id="202" name="TextBox 2"/>
          <p:cNvSpPr/>
          <p:nvPr/>
        </p:nvSpPr>
        <p:spPr>
          <a:xfrm>
            <a:off x="3786120" y="92880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Красный круг на флаге Японии обозначает восходящее солнц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Рисунок 3" descr="resize.jpg"/>
          <p:cNvPicPr/>
          <p:nvPr/>
        </p:nvPicPr>
        <p:blipFill>
          <a:blip r:embed="rId2"/>
          <a:stretch/>
        </p:blipFill>
        <p:spPr>
          <a:xfrm>
            <a:off x="4500720" y="3643200"/>
            <a:ext cx="2786040" cy="278604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  <p:sp>
        <p:nvSpPr>
          <p:cNvPr id="204" name="TextBox 4"/>
          <p:cNvSpPr/>
          <p:nvPr/>
        </p:nvSpPr>
        <p:spPr>
          <a:xfrm>
            <a:off x="214200" y="3214800"/>
            <a:ext cx="41436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Официального герба в Японии не существует, эмблема японских императоров иногда используется в качестве государственного герб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Хризантема</a:t>
            </a: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 в Японии считается символом счастья и мудр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857160" y="50004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В образе жизни японцев сохраняются многие национальные традици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Рисунок 2" descr="c6ab16573eb0.jpg"/>
          <p:cNvPicPr/>
          <p:nvPr/>
        </p:nvPicPr>
        <p:blipFill>
          <a:blip r:embed="rId1"/>
          <a:srcRect l="0" t="0" r="0" b="4685"/>
          <a:stretch/>
        </p:blipFill>
        <p:spPr>
          <a:xfrm>
            <a:off x="4643280" y="0"/>
            <a:ext cx="4500720" cy="321804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  <p:pic>
        <p:nvPicPr>
          <p:cNvPr id="207" name="Рисунок 3" descr="2626c2dcbd4f1b9d56043e0d06996f461238177890thumb.jpg"/>
          <p:cNvPicPr/>
          <p:nvPr/>
        </p:nvPicPr>
        <p:blipFill>
          <a:blip r:embed="rId2"/>
          <a:stretch/>
        </p:blipFill>
        <p:spPr>
          <a:xfrm>
            <a:off x="0" y="3143160"/>
            <a:ext cx="4643280" cy="37148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/>
          <p:cNvSpPr/>
          <p:nvPr/>
        </p:nvSpPr>
        <p:spPr>
          <a:xfrm>
            <a:off x="5072040" y="3714840"/>
            <a:ext cx="25002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В домах японцев используются </a:t>
            </a:r>
            <a:r>
              <a:rPr b="1" lang="ru-RU" sz="2800" spc="-1" strike="noStrike">
                <a:solidFill>
                  <a:srgbClr val="92d050"/>
                </a:solidFill>
                <a:latin typeface="Arial"/>
              </a:rPr>
              <a:t>татами </a:t>
            </a: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– соломенные мат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428760" y="642960"/>
            <a:ext cx="32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fcfc"/>
                </a:solidFill>
                <a:latin typeface="Arial"/>
              </a:rPr>
              <a:t>Во время праздников принято надевать национальный костюм -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имон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Рисунок 3" descr="5318_85te5.jpg"/>
          <p:cNvPicPr/>
          <p:nvPr/>
        </p:nvPicPr>
        <p:blipFill>
          <a:blip r:embed="rId1"/>
          <a:stretch/>
        </p:blipFill>
        <p:spPr>
          <a:xfrm>
            <a:off x="4214880" y="1214280"/>
            <a:ext cx="3571920" cy="535788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  <p:pic>
        <p:nvPicPr>
          <p:cNvPr id="211" name="Рисунок 4" descr="32518_353.jpg"/>
          <p:cNvPicPr/>
          <p:nvPr/>
        </p:nvPicPr>
        <p:blipFill>
          <a:blip r:embed="rId2"/>
          <a:srcRect l="19503" t="0" r="0" b="0"/>
          <a:stretch/>
        </p:blipFill>
        <p:spPr>
          <a:xfrm>
            <a:off x="214200" y="3357720"/>
            <a:ext cx="3834000" cy="317160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265895.jpg"/>
          <p:cNvPicPr/>
          <p:nvPr/>
        </p:nvPicPr>
        <p:blipFill>
          <a:blip r:embed="rId1"/>
          <a:srcRect l="0" t="0" r="0" b="2856"/>
          <a:stretch/>
        </p:blipFill>
        <p:spPr>
          <a:xfrm>
            <a:off x="3143160" y="285840"/>
            <a:ext cx="4453200" cy="605628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  <p:pic>
        <p:nvPicPr>
          <p:cNvPr id="213" name="Picture 7" descr="250px-Geta"/>
          <p:cNvPicPr/>
          <p:nvPr/>
        </p:nvPicPr>
        <p:blipFill>
          <a:blip r:embed="rId2"/>
          <a:stretch/>
        </p:blipFill>
        <p:spPr>
          <a:xfrm>
            <a:off x="285840" y="4572000"/>
            <a:ext cx="2568600" cy="177804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  <p:sp>
        <p:nvSpPr>
          <p:cNvPr id="214" name="TextBox 3"/>
          <p:cNvSpPr/>
          <p:nvPr/>
        </p:nvSpPr>
        <p:spPr>
          <a:xfrm>
            <a:off x="285840" y="571680"/>
            <a:ext cx="257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и</a:t>
            </a: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 – поя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эта </a:t>
            </a: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– деревянные сандалии, при ходьбе издают характерное постукиван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1" descr="top_s3.jpg"/>
          <p:cNvPicPr/>
          <p:nvPr/>
        </p:nvPicPr>
        <p:blipFill>
          <a:blip r:embed="rId1"/>
          <a:stretch/>
        </p:blipFill>
        <p:spPr>
          <a:xfrm>
            <a:off x="928800" y="2571840"/>
            <a:ext cx="6325920" cy="4111560"/>
          </a:xfrm>
          <a:prstGeom prst="rect">
            <a:avLst/>
          </a:prstGeom>
          <a:ln w="28440">
            <a:solidFill>
              <a:srgbClr val="50201d"/>
            </a:solidFill>
            <a:miter/>
          </a:ln>
        </p:spPr>
      </p:pic>
      <p:sp>
        <p:nvSpPr>
          <p:cNvPr id="216" name="TextBox 2"/>
          <p:cNvSpPr/>
          <p:nvPr/>
        </p:nvSpPr>
        <p:spPr>
          <a:xfrm>
            <a:off x="142920" y="500040"/>
            <a:ext cx="7572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В Японии мирно уживаются две религии: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интоизм </a:t>
            </a: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буддизм</a:t>
            </a: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. Синтоизм является национальной японской религией. Его приверженцы верят в существование духовных сил в деревьях, в горах, в море и ветр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500040" y="214200"/>
            <a:ext cx="67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fcfc"/>
                </a:solidFill>
                <a:latin typeface="Arial"/>
              </a:rPr>
              <a:t>Это нашло своё отражение в культурных традициях японцев, таких, как икебана и бонса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Рисунок 2" descr="A0180_018_l.jpg"/>
          <p:cNvPicPr/>
          <p:nvPr/>
        </p:nvPicPr>
        <p:blipFill>
          <a:blip r:embed="rId1"/>
          <a:stretch/>
        </p:blipFill>
        <p:spPr>
          <a:xfrm>
            <a:off x="3857760" y="1643040"/>
            <a:ext cx="3776400" cy="4797360"/>
          </a:xfrm>
          <a:prstGeom prst="rect">
            <a:avLst/>
          </a:prstGeom>
          <a:ln w="28440">
            <a:solidFill>
              <a:srgbClr val="672b26"/>
            </a:solidFill>
            <a:miter/>
          </a:ln>
        </p:spPr>
      </p:pic>
      <p:sp>
        <p:nvSpPr>
          <p:cNvPr id="219" name="TextBox 3"/>
          <p:cNvSpPr/>
          <p:nvPr/>
        </p:nvSpPr>
        <p:spPr>
          <a:xfrm>
            <a:off x="214200" y="2214720"/>
            <a:ext cx="342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b2f3"/>
                </a:solidFill>
                <a:latin typeface="Arial"/>
              </a:rPr>
              <a:t>Икебана </a:t>
            </a: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– искусство созданий композиций из срезанных цветов, побегов, листьев в специальных сосудах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cfc"/>
                </a:solidFill>
                <a:latin typeface="Arial"/>
              </a:rPr>
              <a:t>Первоначально икебана являлась подношением богам в японских храмах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1" descr="vgik2w.jpg"/>
          <p:cNvPicPr/>
          <p:nvPr/>
        </p:nvPicPr>
        <p:blipFill>
          <a:blip r:embed="rId1"/>
          <a:stretch/>
        </p:blipFill>
        <p:spPr>
          <a:xfrm>
            <a:off x="142920" y="2000160"/>
            <a:ext cx="3959280" cy="47149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2" descr="94264222_2835299_Izmenenie_razmera_IkebanaTablepiece.jpg"/>
          <p:cNvPicPr/>
          <p:nvPr/>
        </p:nvPicPr>
        <p:blipFill>
          <a:blip r:embed="rId2"/>
          <a:srcRect l="8605" t="0" r="2462" b="0"/>
          <a:stretch/>
        </p:blipFill>
        <p:spPr>
          <a:xfrm>
            <a:off x="4143240" y="0"/>
            <a:ext cx="5000760" cy="37512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500040" y="571680"/>
            <a:ext cx="32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кебан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4572000" y="4143240"/>
            <a:ext cx="2928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efcfc"/>
                </a:solidFill>
                <a:uFillTx/>
                <a:latin typeface="Arial"/>
              </a:rPr>
              <a:t>Задача икебаны </a:t>
            </a:r>
            <a:r>
              <a:rPr b="0" lang="ru-RU" sz="2800" spc="-1" strike="noStrike">
                <a:solidFill>
                  <a:srgbClr val="fefcfc"/>
                </a:solidFill>
                <a:latin typeface="Arial"/>
              </a:rPr>
              <a:t>– подчеркнуть красоту и совершенство природ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07:58:08Z</dcterms:created>
  <dc:creator>Пользователь</dc:creator>
  <dc:description/>
  <dc:language>en-US</dc:language>
  <cp:lastModifiedBy>K38</cp:lastModifiedBy>
  <dcterms:modified xsi:type="dcterms:W3CDTF">2020-11-27T10:46:50Z</dcterms:modified>
  <cp:revision>74</cp:revision>
  <dc:subject/>
  <dc:title>Культура Японии </dc:title>
</cp:coreProperties>
</file>