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435-9993-411C-B33D-4AA6D429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10C-EA93-4C31-AF7E-D46919F8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BA2-5DBD-46C1-A46A-0276F7C7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11B-3C72-4E8C-A954-895A5371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1AB0-94D4-44AA-8BA7-204D9231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EEE-3A03-45BD-B74F-86989BB6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6E61-4E38-4248-9A03-73A9B5C5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049B-E205-468E-BEF6-650E0C8F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7DC-98DC-405C-80B8-A345A82E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5138-F734-4035-B926-8EF39C21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4F1D-7365-4A75-9B82-66FC475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FEC-2361-4CC4-B420-4358719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1DE2-E180-4466-83EE-42D3E78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90A2-771C-4391-AF13-DF97DF8E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E792-21DC-4280-B1CF-995E2E5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39C-0038-4813-A02A-76EB4682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EEC-2C5B-4931-A50D-A8BD65BD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912-9291-4B17-881B-5E73D12C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168-C30E-42B8-9D83-A7A6037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CF9-346B-4F3C-A58C-F29788C6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CA5-8F9D-4F40-BBB5-06A06E8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E98-1C3D-4B93-AACE-AE16889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1DE-147E-4813-A2BF-110640F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EA8-B836-43C8-86F6-253EE162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1AC-6A00-498E-9476-D58BA71927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3160" y="-360"/>
                  <a:ext cx="279720" cy="275400"/>
                  <a:chOff x="8723160" y="-360"/>
                  <a:chExt cx="27972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3160" y="-360"/>
                    <a:ext cx="279720" cy="275400"/>
                    <a:chOff x="8723160" y="-360"/>
                    <a:chExt cx="27972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2400" y="-39600"/>
                      <a:ext cx="20124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3040" y="1461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6440" y="6984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8080" y="57240"/>
                    <a:ext cx="648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7200" y="107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3040" y="207720"/>
                    <a:ext cx="63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1200" y="1832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2D1B-ED27-42B1-83C8-2D6F2C798EA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4" descr="1342136813-1306035-11211-4-www.hqtexture.com.jpg"/>
          <p:cNvPicPr/>
          <p:nvPr/>
        </p:nvPicPr>
        <p:blipFill>
          <a:blip r:embed="rId1">
            <a:lum bright="-10000"/>
          </a:blip>
          <a:srcRect l="0" t="9502" r="0" b="155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15840" y="1214280"/>
            <a:ext cx="7327800" cy="30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863520" y="5084280"/>
            <a:ext cx="52801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693800" y="333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TextBox 5" descr=""/>
          <p:cNvPicPr/>
          <p:nvPr/>
        </p:nvPicPr>
        <p:blipFill>
          <a:blip r:embed="rId2"/>
          <a:stretch/>
        </p:blipFill>
        <p:spPr>
          <a:xfrm>
            <a:off x="1152360" y="457200"/>
            <a:ext cx="733932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28800" y="50004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Бонсай</a:t>
            </a:r>
            <a:r>
              <a:rPr b="0" lang="ru-RU" sz="2000" spc="-1" strike="noStrike">
                <a:solidFill>
                  <a:srgbClr val="fefcfc"/>
                </a:solidFill>
                <a:latin typeface="Arial"/>
              </a:rPr>
              <a:t> – (яп. «выращенное в подносе») искусство выращивания точной копии настоящего дерева в миниатюр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Рисунок 2" descr="bonsai_21.jpg"/>
          <p:cNvPicPr/>
          <p:nvPr/>
        </p:nvPicPr>
        <p:blipFill>
          <a:blip r:embed="rId1"/>
          <a:srcRect l="4001" t="0" r="0" b="0"/>
          <a:stretch/>
        </p:blipFill>
        <p:spPr>
          <a:xfrm>
            <a:off x="857160" y="1785960"/>
            <a:ext cx="6215040" cy="4748040"/>
          </a:xfrm>
          <a:prstGeom prst="rect">
            <a:avLst/>
          </a:prstGeom>
          <a:ln w="28440">
            <a:solidFill>
              <a:srgbClr val="50201d"/>
            </a:solidFill>
            <a:miter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98399820_10.jpg"/>
          <p:cNvPicPr/>
          <p:nvPr/>
        </p:nvPicPr>
        <p:blipFill>
          <a:blip r:embed="rId1"/>
          <a:stretch/>
        </p:blipFill>
        <p:spPr>
          <a:xfrm>
            <a:off x="2571840" y="0"/>
            <a:ext cx="5214960" cy="433692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27" name="TextBox 2"/>
          <p:cNvSpPr/>
          <p:nvPr/>
        </p:nvSpPr>
        <p:spPr>
          <a:xfrm>
            <a:off x="142920" y="785880"/>
            <a:ext cx="242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Рост регулируется за счёт плоской корневой систем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642960" y="4857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Традиционно считается, что настоящий бонсай должен нести 3 главных качества: истинность, доброту, красот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Япония1.jpg.gif"/>
          <p:cNvPicPr/>
          <p:nvPr/>
        </p:nvPicPr>
        <p:blipFill>
          <a:blip r:embed="rId1"/>
          <a:stretch/>
        </p:blipFill>
        <p:spPr>
          <a:xfrm>
            <a:off x="3357720" y="285840"/>
            <a:ext cx="4390920" cy="4162320"/>
          </a:xfrm>
          <a:prstGeom prst="rect">
            <a:avLst/>
          </a:prstGeom>
          <a:ln w="28440">
            <a:solidFill>
              <a:srgbClr val="50201d"/>
            </a:solidFill>
            <a:miter/>
          </a:ln>
        </p:spPr>
      </p:pic>
      <p:sp>
        <p:nvSpPr>
          <p:cNvPr id="198" name="TextBox 2"/>
          <p:cNvSpPr/>
          <p:nvPr/>
        </p:nvSpPr>
        <p:spPr>
          <a:xfrm>
            <a:off x="357120" y="428760"/>
            <a:ext cx="27147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Япон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6e5"/>
                </a:solidFill>
                <a:latin typeface="Arial"/>
              </a:rPr>
              <a:t>располагается на Японском архипелаге, состоящем из </a:t>
            </a: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6852 островов</a:t>
            </a:r>
            <a:r>
              <a:rPr b="0" lang="ru-RU" sz="2800" spc="-1" strike="noStrike">
                <a:solidFill>
                  <a:srgbClr val="fdf6e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285840" y="400068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Четыре крупнейших остров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Хонс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Хоккайд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Кюс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Сикок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857760" y="485784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Япония – развитая страна с очень высоким уровнем жиз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JP.jpg"/>
          <p:cNvPicPr/>
          <p:nvPr/>
        </p:nvPicPr>
        <p:blipFill>
          <a:blip r:embed="rId1"/>
          <a:stretch/>
        </p:blipFill>
        <p:spPr>
          <a:xfrm>
            <a:off x="285840" y="357120"/>
            <a:ext cx="3357360" cy="224172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02" name="TextBox 2"/>
          <p:cNvSpPr/>
          <p:nvPr/>
        </p:nvSpPr>
        <p:spPr>
          <a:xfrm>
            <a:off x="3786120" y="9288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Красный круг на флаге Японии обозначает восходящее солнц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3" descr="resize.jpg"/>
          <p:cNvPicPr/>
          <p:nvPr/>
        </p:nvPicPr>
        <p:blipFill>
          <a:blip r:embed="rId2"/>
          <a:stretch/>
        </p:blipFill>
        <p:spPr>
          <a:xfrm>
            <a:off x="4500720" y="3643200"/>
            <a:ext cx="2786040" cy="278604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04" name="TextBox 4"/>
          <p:cNvSpPr/>
          <p:nvPr/>
        </p:nvSpPr>
        <p:spPr>
          <a:xfrm>
            <a:off x="214200" y="3214800"/>
            <a:ext cx="4143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Официального герба в Японии не существует, эмблема японских императоров иногда используется в качестве государственного герб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ризантема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в Японии считается символом счастья и мудр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857160" y="50004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В образе жизни японцев сохраняются многие национальные традиц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Рисунок 2" descr="c6ab16573eb0.jpg"/>
          <p:cNvPicPr/>
          <p:nvPr/>
        </p:nvPicPr>
        <p:blipFill>
          <a:blip r:embed="rId1"/>
          <a:srcRect l="0" t="0" r="0" b="4685"/>
          <a:stretch/>
        </p:blipFill>
        <p:spPr>
          <a:xfrm>
            <a:off x="4643280" y="0"/>
            <a:ext cx="4500720" cy="321804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pic>
        <p:nvPicPr>
          <p:cNvPr id="207" name="Рисунок 3" descr="2626c2dcbd4f1b9d56043e0d06996f461238177890thumb.jpg"/>
          <p:cNvPicPr/>
          <p:nvPr/>
        </p:nvPicPr>
        <p:blipFill>
          <a:blip r:embed="rId2"/>
          <a:stretch/>
        </p:blipFill>
        <p:spPr>
          <a:xfrm>
            <a:off x="0" y="3143160"/>
            <a:ext cx="4643280" cy="37148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5072040" y="3714840"/>
            <a:ext cx="2500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В домах японцев используются 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татами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– соломенные ма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428760" y="642960"/>
            <a:ext cx="32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Во время праздников принято надевать национальный костюм -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имон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Рисунок 3" descr="5318_85te5.jpg"/>
          <p:cNvPicPr/>
          <p:nvPr/>
        </p:nvPicPr>
        <p:blipFill>
          <a:blip r:embed="rId1"/>
          <a:stretch/>
        </p:blipFill>
        <p:spPr>
          <a:xfrm>
            <a:off x="4214880" y="1214280"/>
            <a:ext cx="3571920" cy="535788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pic>
        <p:nvPicPr>
          <p:cNvPr id="211" name="Рисунок 4" descr="32518_353.jpg"/>
          <p:cNvPicPr/>
          <p:nvPr/>
        </p:nvPicPr>
        <p:blipFill>
          <a:blip r:embed="rId2"/>
          <a:srcRect l="19503" t="0" r="0" b="0"/>
          <a:stretch/>
        </p:blipFill>
        <p:spPr>
          <a:xfrm>
            <a:off x="214200" y="3357720"/>
            <a:ext cx="3834000" cy="317160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265895.jpg"/>
          <p:cNvPicPr/>
          <p:nvPr/>
        </p:nvPicPr>
        <p:blipFill>
          <a:blip r:embed="rId1"/>
          <a:srcRect l="0" t="0" r="0" b="2856"/>
          <a:stretch/>
        </p:blipFill>
        <p:spPr>
          <a:xfrm>
            <a:off x="3143160" y="285840"/>
            <a:ext cx="4453200" cy="605628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pic>
        <p:nvPicPr>
          <p:cNvPr id="213" name="Picture 7" descr="250px-Geta"/>
          <p:cNvPicPr/>
          <p:nvPr/>
        </p:nvPicPr>
        <p:blipFill>
          <a:blip r:embed="rId2"/>
          <a:stretch/>
        </p:blipFill>
        <p:spPr>
          <a:xfrm>
            <a:off x="285840" y="4572000"/>
            <a:ext cx="2568600" cy="177804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14" name="TextBox 3"/>
          <p:cNvSpPr/>
          <p:nvPr/>
        </p:nvSpPr>
        <p:spPr>
          <a:xfrm>
            <a:off x="285840" y="571680"/>
            <a:ext cx="25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и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– поя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эта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– деревянные сандалии, при ходьбе издают характерное постуки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top_s3.jpg"/>
          <p:cNvPicPr/>
          <p:nvPr/>
        </p:nvPicPr>
        <p:blipFill>
          <a:blip r:embed="rId1"/>
          <a:stretch/>
        </p:blipFill>
        <p:spPr>
          <a:xfrm>
            <a:off x="928800" y="2571840"/>
            <a:ext cx="6325920" cy="4111560"/>
          </a:xfrm>
          <a:prstGeom prst="rect">
            <a:avLst/>
          </a:prstGeom>
          <a:ln w="28440">
            <a:solidFill>
              <a:srgbClr val="50201d"/>
            </a:solidFill>
            <a:miter/>
          </a:ln>
        </p:spPr>
      </p:pic>
      <p:sp>
        <p:nvSpPr>
          <p:cNvPr id="216" name="TextBox 2"/>
          <p:cNvSpPr/>
          <p:nvPr/>
        </p:nvSpPr>
        <p:spPr>
          <a:xfrm>
            <a:off x="142920" y="500040"/>
            <a:ext cx="7572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В Японии мирно уживаются две религии: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нтоизм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буддизм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. Синтоизм является национальной японской религией. Его приверженцы верят в существование духовных сил в деревьях, в горах, в море и вет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00040" y="21420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Это нашло своё отражение в культурных традициях японцев, таких, как икебана и бонс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Рисунок 2" descr="A0180_018_l.jpg"/>
          <p:cNvPicPr/>
          <p:nvPr/>
        </p:nvPicPr>
        <p:blipFill>
          <a:blip r:embed="rId1"/>
          <a:stretch/>
        </p:blipFill>
        <p:spPr>
          <a:xfrm>
            <a:off x="3857760" y="1643040"/>
            <a:ext cx="3776400" cy="479736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19" name="TextBox 3"/>
          <p:cNvSpPr/>
          <p:nvPr/>
        </p:nvSpPr>
        <p:spPr>
          <a:xfrm>
            <a:off x="214200" y="221472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b2f3"/>
                </a:solidFill>
                <a:latin typeface="Arial"/>
              </a:rPr>
              <a:t>Икебана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– искусство созданий композиций из срезанных цветов, побегов, листьев в специальных сосуд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Первоначально икебана являлась подношением богам в японских храма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vgik2w.jpg"/>
          <p:cNvPicPr/>
          <p:nvPr/>
        </p:nvPicPr>
        <p:blipFill>
          <a:blip r:embed="rId1"/>
          <a:stretch/>
        </p:blipFill>
        <p:spPr>
          <a:xfrm>
            <a:off x="142920" y="2000160"/>
            <a:ext cx="3959280" cy="47149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94264222_2835299_Izmenenie_razmera_IkebanaTablepiece.jpg"/>
          <p:cNvPicPr/>
          <p:nvPr/>
        </p:nvPicPr>
        <p:blipFill>
          <a:blip r:embed="rId2"/>
          <a:srcRect l="8605" t="0" r="2462" b="0"/>
          <a:stretch/>
        </p:blipFill>
        <p:spPr>
          <a:xfrm>
            <a:off x="4143240" y="0"/>
            <a:ext cx="5000760" cy="37512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500040" y="57168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кебан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4572000" y="4143240"/>
            <a:ext cx="2928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efcfc"/>
                </a:solidFill>
                <a:uFillTx/>
                <a:latin typeface="Arial"/>
              </a:rPr>
              <a:t>Задача икебаны </a:t>
            </a: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– подчеркнуть красоту и совершенство приро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7:58:08Z</dcterms:created>
  <dc:creator>Пользователь</dc:creator>
  <dc:description/>
  <dc:language>en-US</dc:language>
  <cp:lastModifiedBy>K38</cp:lastModifiedBy>
  <dcterms:modified xsi:type="dcterms:W3CDTF">2020-11-27T10:46:50Z</dcterms:modified>
  <cp:revision>74</cp:revision>
  <dc:subject/>
  <dc:title>Культура Японии </dc:title>
</cp:coreProperties>
</file>