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10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152-9F8C-4DCF-8570-519FDD8C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AE4-3C77-42A3-8A3E-9B743C6E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814-4F02-4C96-9812-54869093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FD5-C2CB-45DF-83A5-2C3ED6D9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12F-2EBA-4968-843A-784C038E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40D-5F79-475D-9E0F-F3E85EB8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8FA-A640-43A1-A6CA-B0CB574D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66B-E49D-40F4-B26E-6563F7D9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6CD-B4E1-4DA2-AA36-5B2B2209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E0E-EAF7-4F7C-AE3F-617B8464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A1B-F9CF-4274-8997-B326969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B6A-E3C4-4996-8442-3557ABFB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BF8-6AB0-47C7-B0AB-E3EB533A4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KusochekLetnegoNastroeni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-142920" y="1571760"/>
            <a:ext cx="7000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f05d9"/>
                </a:solidFill>
                <a:latin typeface="Calibri"/>
              </a:rPr>
              <a:t>Сегодня праздник наших мам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И нам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приятно это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306"/>
          <p:cNvPicPr/>
          <p:nvPr/>
        </p:nvPicPr>
        <p:blipFill>
          <a:blip r:embed="rId2"/>
          <a:stretch/>
        </p:blipFill>
        <p:spPr>
          <a:xfrm rot="10800000">
            <a:off x="-286200" y="-142920"/>
            <a:ext cx="5334120" cy="18064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71560" y="0"/>
            <a:ext cx="73818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42920" y="598320"/>
            <a:ext cx="3929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Дети </a:t>
            </a: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– самое дорогое для матери. Счастлив тот, кто с детства знает материнскую любовь, ласку, забот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FlatPro\Pictures\1 нов год\маме.jpg"/>
          <p:cNvPicPr/>
          <p:nvPr/>
        </p:nvPicPr>
        <p:blipFill>
          <a:blip r:embed="rId1"/>
          <a:stretch/>
        </p:blipFill>
        <p:spPr>
          <a:xfrm>
            <a:off x="4000680" y="-41400"/>
            <a:ext cx="5143320" cy="7072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07"/>
          <p:cNvPicPr/>
          <p:nvPr/>
        </p:nvPicPr>
        <p:blipFill>
          <a:blip r:embed="rId2"/>
          <a:stretch/>
        </p:blipFill>
        <p:spPr>
          <a:xfrm rot="14883600">
            <a:off x="5363280" y="-987840"/>
            <a:ext cx="1333440" cy="35319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FlatPro\Pictures\1 нов год\post-47503-1193164982.jpg"/>
          <p:cNvPicPr/>
          <p:nvPr/>
        </p:nvPicPr>
        <p:blipFill>
          <a:blip r:embed="rId1"/>
          <a:stretch/>
        </p:blipFill>
        <p:spPr>
          <a:xfrm>
            <a:off x="785880" y="-11160"/>
            <a:ext cx="7558200" cy="6869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FlatPro\Pictures\1 нов год\жирафики.png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871880" y="665280"/>
            <a:ext cx="434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атеринская любовь греет нас до старост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ама учит нас быть мудрыми, дает советы, заботится о нас, оберегает нас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FlatPro\Pictures\1 нов год\post-20943-1193605044.jpg"/>
          <p:cNvPicPr/>
          <p:nvPr/>
        </p:nvPicPr>
        <p:blipFill>
          <a:blip r:embed="rId1"/>
          <a:stretch/>
        </p:blipFill>
        <p:spPr>
          <a:xfrm>
            <a:off x="442908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ve77"/>
          <p:cNvPicPr/>
          <p:nvPr/>
        </p:nvPicPr>
        <p:blipFill>
          <a:blip r:embed="rId2"/>
          <a:stretch/>
        </p:blipFill>
        <p:spPr>
          <a:xfrm rot="20794800">
            <a:off x="5133960" y="3014280"/>
            <a:ext cx="2209680" cy="2025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1280" y="314280"/>
            <a:ext cx="5500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Calibri"/>
              </a:rPr>
              <a:t>Много обязанностей у наших мам. Но, наверное, самая главная - быть «Добрым солнышком» семьи, нести свет и тепло детям, стать их задушевным друг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FlatPro\Pictures\1 нов год\post-28655-1193573780.jpg"/>
          <p:cNvPicPr/>
          <p:nvPr/>
        </p:nvPicPr>
        <p:blipFill>
          <a:blip r:embed="rId1"/>
          <a:stretch/>
        </p:blipFill>
        <p:spPr>
          <a:xfrm>
            <a:off x="0" y="-181080"/>
            <a:ext cx="9144000" cy="70390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787320" y="4255920"/>
            <a:ext cx="3930480" cy="260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r2-2[1]"/>
          <p:cNvPicPr/>
          <p:nvPr/>
        </p:nvPicPr>
        <p:blipFill>
          <a:blip r:embed="rId2"/>
          <a:stretch/>
        </p:blipFill>
        <p:spPr>
          <a:xfrm flipH="1">
            <a:off x="5857920" y="0"/>
            <a:ext cx="3286080" cy="39290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 rot="21030000">
            <a:off x="1513800" y="1146240"/>
            <a:ext cx="5643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Милые женщины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славные женщины!</a:t>
            </a:r>
            <a:br>
              <a:rPr sz="4000"/>
            </a:br>
            <a:r>
              <a:rPr b="1" i="1" lang="en-US" sz="4000" spc="-1" strike="noStrike">
                <a:solidFill>
                  <a:srgbClr val="984807"/>
                </a:solidFill>
                <a:latin typeface="Calibri"/>
              </a:rPr>
              <a:t>Я не желаю судьб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Calibri"/>
              </a:rPr>
              <a:t>вам иной,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Будьте красивым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будьте любимыми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Будьте счастливы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все до од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4:09:24Z</dcterms:created>
  <dc:creator>Елпидина</dc:creator>
  <dc:description/>
  <dc:language>en-US</dc:language>
  <cp:lastModifiedBy>1</cp:lastModifiedBy>
  <dcterms:modified xsi:type="dcterms:W3CDTF">2011-11-20T16:20:42Z</dcterms:modified>
  <cp:revision>40</cp:revision>
  <dc:subject/>
  <dc:title>Слайд 1</dc:title>
</cp:coreProperties>
</file>