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10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7B2-6E5D-4CB3-98EE-0CD2D68E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A92-B9EA-4DFC-8391-2A34EC07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43A-EB7E-4877-AD30-B1D71D7C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366-19A1-4348-BCCB-100CE7A0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0C4-4240-4EBD-BEAE-99CC6993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1B9-A853-4D00-910A-198C83C7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D0B-E3F7-40F7-88D4-BA4C395E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C66-E509-4AAA-8CD1-B063244E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CBE-2B57-4D37-8016-BC745609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E7B-A163-4FB1-82D7-F1148B88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2E4-2EA3-4C54-9748-9E8A7D07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F95-E64F-4C18-A41A-5F24D9EA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ECB4-D677-4C0B-A2FF-D77669969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KusochekLetnegoNastroeni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-142920" y="1571760"/>
            <a:ext cx="70009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f05d9"/>
                </a:solidFill>
                <a:latin typeface="Calibri"/>
              </a:rPr>
              <a:t>Сегодня праздник наших мам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И нам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приятно это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306"/>
          <p:cNvPicPr/>
          <p:nvPr/>
        </p:nvPicPr>
        <p:blipFill>
          <a:blip r:embed="rId2"/>
          <a:stretch/>
        </p:blipFill>
        <p:spPr>
          <a:xfrm rot="10800000">
            <a:off x="-286200" y="-142920"/>
            <a:ext cx="5334120" cy="18064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71560" y="0"/>
            <a:ext cx="73818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42920" y="598320"/>
            <a:ext cx="3929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Дети </a:t>
            </a: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– самое дорогое для матери. Счастлив тот, кто с детства знает материнскую любовь, ласку, забот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FlatPro\Pictures\1 нов год\маме.jpg"/>
          <p:cNvPicPr/>
          <p:nvPr/>
        </p:nvPicPr>
        <p:blipFill>
          <a:blip r:embed="rId1"/>
          <a:stretch/>
        </p:blipFill>
        <p:spPr>
          <a:xfrm>
            <a:off x="4000680" y="-41400"/>
            <a:ext cx="5143320" cy="7072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07"/>
          <p:cNvPicPr/>
          <p:nvPr/>
        </p:nvPicPr>
        <p:blipFill>
          <a:blip r:embed="rId2"/>
          <a:stretch/>
        </p:blipFill>
        <p:spPr>
          <a:xfrm rot="14883600">
            <a:off x="5363280" y="-987840"/>
            <a:ext cx="1333440" cy="35319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FlatPro\Pictures\1 нов год\post-47503-1193164982.jpg"/>
          <p:cNvPicPr/>
          <p:nvPr/>
        </p:nvPicPr>
        <p:blipFill>
          <a:blip r:embed="rId1"/>
          <a:stretch/>
        </p:blipFill>
        <p:spPr>
          <a:xfrm>
            <a:off x="785880" y="-11160"/>
            <a:ext cx="7558200" cy="6869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FlatPro\Pictures\1 нов год\жирафики.png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871880" y="665280"/>
            <a:ext cx="4343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Материнская любовь греет нас до старост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Мама учит нас быть мудрыми, дает советы, заботится о нас, оберегает нас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FlatPro\Pictures\1 нов год\post-20943-1193605044.jpg"/>
          <p:cNvPicPr/>
          <p:nvPr/>
        </p:nvPicPr>
        <p:blipFill>
          <a:blip r:embed="rId1"/>
          <a:stretch/>
        </p:blipFill>
        <p:spPr>
          <a:xfrm>
            <a:off x="442908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love77"/>
          <p:cNvPicPr/>
          <p:nvPr/>
        </p:nvPicPr>
        <p:blipFill>
          <a:blip r:embed="rId2"/>
          <a:stretch/>
        </p:blipFill>
        <p:spPr>
          <a:xfrm rot="20794800">
            <a:off x="5133960" y="3014280"/>
            <a:ext cx="2209680" cy="2025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71280" y="314280"/>
            <a:ext cx="5500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Calibri"/>
              </a:rPr>
              <a:t>Много обязанностей у наших мам. Но, наверное, самая главная - быть «Добрым солнышком» семьи, нести свет и тепло детям, стать их задушевным друго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FlatPro\Pictures\1 нов год\post-28655-1193573780.jpg"/>
          <p:cNvPicPr/>
          <p:nvPr/>
        </p:nvPicPr>
        <p:blipFill>
          <a:blip r:embed="rId1"/>
          <a:stretch/>
        </p:blipFill>
        <p:spPr>
          <a:xfrm>
            <a:off x="0" y="-181080"/>
            <a:ext cx="9144000" cy="70390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787320" y="4255920"/>
            <a:ext cx="3930480" cy="260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r2-2[1]"/>
          <p:cNvPicPr/>
          <p:nvPr/>
        </p:nvPicPr>
        <p:blipFill>
          <a:blip r:embed="rId2"/>
          <a:stretch/>
        </p:blipFill>
        <p:spPr>
          <a:xfrm flipH="1">
            <a:off x="5857920" y="0"/>
            <a:ext cx="3286080" cy="39290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 rot="21030000">
            <a:off x="1513800" y="1146240"/>
            <a:ext cx="5643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Милые женщины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славные женщины!</a:t>
            </a:r>
            <a:br>
              <a:rPr sz="4000"/>
            </a:br>
            <a:r>
              <a:rPr b="1" i="1" lang="en-US" sz="4000" spc="-1" strike="noStrike">
                <a:solidFill>
                  <a:srgbClr val="984807"/>
                </a:solidFill>
                <a:latin typeface="Calibri"/>
              </a:rPr>
              <a:t>Я не желаю судьб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Calibri"/>
              </a:rPr>
              <a:t>вам иной,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Будьте красивым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будьте любимыми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Будьте счастливы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все до од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4:09:24Z</dcterms:created>
  <dc:creator>Елпидина</dc:creator>
  <dc:description/>
  <dc:language>en-US</dc:language>
  <cp:lastModifiedBy>1</cp:lastModifiedBy>
  <dcterms:modified xsi:type="dcterms:W3CDTF">2011-11-20T16:20:42Z</dcterms:modified>
  <cp:revision>40</cp:revision>
  <dc:subject/>
  <dc:title>Слайд 1</dc:title>
</cp:coreProperties>
</file>