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990B-8181-4C6A-A58A-E69255C65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DC5D-4577-4E68-A8D6-F0677B80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F09F-C6D8-45F7-B490-A1F62E778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694B-8B22-4FB5-9C91-1BA9E7E70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E955-E713-4FB1-A2C7-8CDF4D3E5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02B9A-6E6D-4A0C-BA6C-08727622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3FB76-F66A-4FF7-BB45-D992601D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43F4F-3C12-4751-A6E5-17D51E39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F005-605C-4E8B-955F-352CF0A2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D156-9D52-4A8F-8E3C-AF7AB391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95484-BF14-42EA-827C-4E419379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078A-4649-4673-9425-039D0D66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2D50-9927-426C-A2F6-F8D8C3DE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8F7F-AF3C-4257-98C0-A81F18E5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F32F-20E5-435B-A46A-9AD3B215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C2CB-477D-479A-849E-D596CAA57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6505-CBA5-4664-9010-3631D3331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CBA7-1225-4F9E-B632-9A22E095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FD05-8867-4E8C-8DDF-FADD23D4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0A10-F4EF-45E7-AFD5-2286D487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457C-393E-4EF7-92F7-07DC32DF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8C9E-9D34-4269-8340-8305E90C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014D-9247-4938-8B81-906EDD88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2FEB-A0CA-4593-9B3D-A94DB512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A8BF-9C53-4622-B796-0ABC39F9854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99DE-6564-4B45-885A-A7AFB6B39D4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66"/>
                </a:solidFill>
                <a:latin typeface="Arial"/>
              </a:rPr>
              <a:t>Тема урока: Белки – основа органической жизни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«Жизнь есть способ существования белковых тел…» (Ф.Энгельс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войства белк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759200" y="2361960"/>
            <a:ext cx="3772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одорастворимые белки образуют коллоидные раствор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Picture 7" descr="L1p07p00"/>
          <p:cNvPicPr/>
          <p:nvPr/>
        </p:nvPicPr>
        <p:blipFill>
          <a:blip r:embed="rId1"/>
          <a:stretch/>
        </p:blipFill>
        <p:spPr>
          <a:xfrm>
            <a:off x="971640" y="2852640"/>
            <a:ext cx="3960720" cy="297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войства белк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3772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и обработке хлоридом натрия белки 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высаливаютс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из раствора. Этот процесс обрати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Picture 7" descr="02"/>
          <p:cNvPicPr/>
          <p:nvPr/>
        </p:nvPicPr>
        <p:blipFill>
          <a:blip r:embed="rId1"/>
          <a:stretch/>
        </p:blipFill>
        <p:spPr>
          <a:xfrm>
            <a:off x="4572000" y="2421000"/>
            <a:ext cx="226692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войства белк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759200" y="2361960"/>
            <a:ext cx="3772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местите кусочек прессованного творога в пробирку и добавьте несколько капель азотной кислоты. Осторожно нагрейт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(Ксантопротеиновая реакция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Picture 7" descr="L24p8p00"/>
          <p:cNvPicPr/>
          <p:nvPr/>
        </p:nvPicPr>
        <p:blipFill>
          <a:blip r:embed="rId1"/>
          <a:stretch/>
        </p:blipFill>
        <p:spPr>
          <a:xfrm>
            <a:off x="2484360" y="2421000"/>
            <a:ext cx="1854360" cy="40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войства белков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3772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лейте в пробирку 2 мл яичного белка . Добавьте такой же объем концентрированного раствора гидроксида натрия и несколько капель раствора сульфата меди (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(Биуретовая реакция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Picture 7" descr="GCH_3C24_07Nd"/>
          <p:cNvPicPr/>
          <p:nvPr/>
        </p:nvPicPr>
        <p:blipFill>
          <a:blip r:embed="rId1"/>
          <a:stretch/>
        </p:blipFill>
        <p:spPr>
          <a:xfrm>
            <a:off x="4643280" y="2565360"/>
            <a:ext cx="4208760" cy="319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войства белк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ислоты, щелочи и высокая температура разрушают структуру белков и приводят к их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денатураци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Белки также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денатурируют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под действием спирта и тяжелых металл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Денатурация – процесс необратимы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овые поняти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Гидролиз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белков – разрушение первичной структуры бел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Денатурация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– полное разрушение пространственной структуры бел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Обратимая денатураци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частичное разрушение пространственной структуры белка. Обратный процесс называется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ренатураци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Биосинтез бел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3" name="Picture 18" descr="001"/>
          <p:cNvPicPr/>
          <p:nvPr/>
        </p:nvPicPr>
        <p:blipFill>
          <a:blip r:embed="rId1"/>
          <a:stretch/>
        </p:blipFill>
        <p:spPr>
          <a:xfrm>
            <a:off x="1181160" y="2382840"/>
            <a:ext cx="3144600" cy="18032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0" descr="2"/>
          <p:cNvPicPr/>
          <p:nvPr/>
        </p:nvPicPr>
        <p:blipFill>
          <a:blip r:embed="rId2"/>
          <a:stretch/>
        </p:blipFill>
        <p:spPr>
          <a:xfrm>
            <a:off x="1150920" y="4481640"/>
            <a:ext cx="3165480" cy="1601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1" descr="03"/>
          <p:cNvPicPr/>
          <p:nvPr/>
        </p:nvPicPr>
        <p:blipFill>
          <a:blip r:embed="rId3"/>
          <a:stretch/>
        </p:blipFill>
        <p:spPr>
          <a:xfrm>
            <a:off x="4971960" y="4179960"/>
            <a:ext cx="3311640" cy="1987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3" descr="1"/>
          <p:cNvPicPr/>
          <p:nvPr/>
        </p:nvPicPr>
        <p:blipFill>
          <a:blip r:embed="rId4"/>
          <a:stretch/>
        </p:blipFill>
        <p:spPr>
          <a:xfrm>
            <a:off x="4842000" y="2362320"/>
            <a:ext cx="3608280" cy="17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Биосинтез бел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8" name="Picture 9" descr="1"/>
          <p:cNvPicPr/>
          <p:nvPr/>
        </p:nvPicPr>
        <p:blipFill>
          <a:blip r:embed="rId1"/>
          <a:stretch/>
        </p:blipFill>
        <p:spPr>
          <a:xfrm>
            <a:off x="1413000" y="2362320"/>
            <a:ext cx="2668320" cy="1792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1"/>
          <p:cNvPicPr/>
          <p:nvPr/>
        </p:nvPicPr>
        <p:blipFill>
          <a:blip r:embed="rId2"/>
          <a:stretch/>
        </p:blipFill>
        <p:spPr>
          <a:xfrm>
            <a:off x="5415120" y="2362320"/>
            <a:ext cx="2570040" cy="1792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1"/>
          <p:cNvPicPr/>
          <p:nvPr/>
        </p:nvPicPr>
        <p:blipFill>
          <a:blip r:embed="rId3"/>
          <a:stretch/>
        </p:blipFill>
        <p:spPr>
          <a:xfrm>
            <a:off x="1386000" y="4460760"/>
            <a:ext cx="2693880" cy="1629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1"/>
          <p:cNvPicPr/>
          <p:nvPr/>
        </p:nvPicPr>
        <p:blipFill>
          <a:blip r:embed="rId4"/>
          <a:stretch/>
        </p:blipFill>
        <p:spPr>
          <a:xfrm>
            <a:off x="5424480" y="4294080"/>
            <a:ext cx="256068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Биосинтез бел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3" name="Picture 6" descr="08020302"/>
          <p:cNvPicPr/>
          <p:nvPr/>
        </p:nvPicPr>
        <p:blipFill>
          <a:blip r:embed="rId1"/>
          <a:stretch/>
        </p:blipFill>
        <p:spPr>
          <a:xfrm>
            <a:off x="1763640" y="2421000"/>
            <a:ext cx="6408720" cy="42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овые понят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Транскрипция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 считывание генетической информации о первичной структуре белка с ДНК на РНК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Трансляция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– это передача генетической информации, закодированной в иРНК на рибосому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Трансформация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 построение первичной структуры белка по матрице иРНК с помощью тРНК и аминокислот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Кодон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 триплет нуклеотидов, находящийся на тРНК комплиментарный триплету на иРНК, находящемуся на месте сборки белковой молекул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Антикодон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 триплет нуклеотидов, комплиментарный кодону и соответствующий определенной аминокислот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Белок – это высокомолекулярное органическое соединение, представляющее собой биополимер, состоящий из мономеров,  которыми являются аминокислоты соединенные пептидной связью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Picture 4" descr="L23p02p01"/>
          <p:cNvPicPr/>
          <p:nvPr/>
        </p:nvPicPr>
        <p:blipFill>
          <a:blip r:embed="rId1"/>
          <a:stretch/>
        </p:blipFill>
        <p:spPr>
          <a:xfrm>
            <a:off x="3635280" y="2860560"/>
            <a:ext cx="5508720" cy="39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Baskerville Old Face"/>
              </a:rPr>
              <a:t>«Я всегда говорил и не устаю повторять, что мир не мог существовать, если бы был так просто устроен.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6588000" y="2708280"/>
            <a:ext cx="1184400" cy="64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Гет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429800" y="1215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Аминокислот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    H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    C    C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               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  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NH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H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87640" y="285228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сновными структурными компонентами белков являются аминокислоты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Picture 8" descr=""/>
          <p:cNvPicPr/>
          <p:nvPr/>
        </p:nvPicPr>
        <p:blipFill>
          <a:blip r:embed="rId1"/>
          <a:stretch/>
        </p:blipFill>
        <p:spPr>
          <a:xfrm>
            <a:off x="2987640" y="3645000"/>
            <a:ext cx="482760" cy="504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"/>
          <p:cNvPicPr/>
          <p:nvPr/>
        </p:nvPicPr>
        <p:blipFill>
          <a:blip r:embed="rId2"/>
          <a:stretch/>
        </p:blipFill>
        <p:spPr>
          <a:xfrm>
            <a:off x="1332000" y="3357720"/>
            <a:ext cx="288720" cy="203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"/>
          <p:cNvPicPr/>
          <p:nvPr/>
        </p:nvPicPr>
        <p:blipFill>
          <a:blip r:embed="rId3"/>
          <a:stretch/>
        </p:blipFill>
        <p:spPr>
          <a:xfrm>
            <a:off x="2484360" y="3357720"/>
            <a:ext cx="289080" cy="203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"/>
          <p:cNvPicPr/>
          <p:nvPr/>
        </p:nvPicPr>
        <p:blipFill>
          <a:blip r:embed="rId4"/>
          <a:stretch/>
        </p:blipFill>
        <p:spPr>
          <a:xfrm>
            <a:off x="1908000" y="3357720"/>
            <a:ext cx="289080" cy="203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"/>
          <p:cNvPicPr/>
          <p:nvPr/>
        </p:nvPicPr>
        <p:blipFill>
          <a:blip r:embed="rId5"/>
          <a:stretch/>
        </p:blipFill>
        <p:spPr>
          <a:xfrm>
            <a:off x="2916360" y="2708280"/>
            <a:ext cx="544320" cy="622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7" descr=""/>
          <p:cNvPicPr/>
          <p:nvPr/>
        </p:nvPicPr>
        <p:blipFill>
          <a:blip r:embed="rId6"/>
          <a:stretch/>
        </p:blipFill>
        <p:spPr>
          <a:xfrm>
            <a:off x="1692360" y="3645000"/>
            <a:ext cx="136440" cy="498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8" descr=""/>
          <p:cNvPicPr/>
          <p:nvPr/>
        </p:nvPicPr>
        <p:blipFill>
          <a:blip r:embed="rId7"/>
          <a:stretch/>
        </p:blipFill>
        <p:spPr>
          <a:xfrm>
            <a:off x="2268360" y="3645000"/>
            <a:ext cx="136800" cy="498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9" descr=""/>
          <p:cNvPicPr/>
          <p:nvPr/>
        </p:nvPicPr>
        <p:blipFill>
          <a:blip r:embed="rId8"/>
          <a:stretch/>
        </p:blipFill>
        <p:spPr>
          <a:xfrm>
            <a:off x="2268360" y="2781360"/>
            <a:ext cx="136800" cy="503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0" descr=""/>
          <p:cNvPicPr/>
          <p:nvPr/>
        </p:nvPicPr>
        <p:blipFill>
          <a:blip r:embed="rId9"/>
          <a:stretch/>
        </p:blipFill>
        <p:spPr>
          <a:xfrm>
            <a:off x="1692360" y="2781360"/>
            <a:ext cx="13644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бразование пептидной связи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150560" y="4149360"/>
            <a:ext cx="79930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NH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COO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NH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COO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NH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C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N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COO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000" y="5516280"/>
            <a:ext cx="799308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Связь 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33cc33"/>
                </a:solidFill>
                <a:latin typeface="Arial"/>
              </a:rPr>
              <a:t>– </a:t>
            </a:r>
            <a:r>
              <a:rPr b="0" lang="en-US" sz="2600" spc="-1" strike="noStrike">
                <a:solidFill>
                  <a:srgbClr val="33cc33"/>
                </a:solidFill>
                <a:latin typeface="Arial"/>
              </a:rPr>
              <a:t>CO – NH –</a:t>
            </a:r>
            <a:r>
              <a:rPr b="0" lang="ru-RU" sz="2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, соединяющая отдельные аминокислоты в пептид, называется пептидной.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4000" y="2205000"/>
            <a:ext cx="828036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Аминокислоты могут реагировать друг с другом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 карбоксильная группа одной аминокислоты реагирует с аминогруппой другой аминокислоты с образованием пептидной связи и молекулы воды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труктура бел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Первичная структура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– это полипептидная цепь линейной формы из последовательно соединенных пептидной связью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– CO – NH –)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минокислот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3933360"/>
            <a:ext cx="91440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  –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NH – CH – CO – NH – CH – CO – NH – CH –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R</a:t>
            </a:r>
            <a:r>
              <a:rPr b="0" lang="en-US" sz="3200" spc="-1" strike="noStrike" baseline="-25000">
                <a:solidFill>
                  <a:srgbClr val="003366"/>
                </a:solidFill>
                <a:latin typeface="Arial"/>
              </a:rPr>
              <a:t>1                                     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R</a:t>
            </a:r>
            <a:r>
              <a:rPr b="0" lang="en-US" sz="3200" spc="-1" strike="noStrike" baseline="-25000">
                <a:solidFill>
                  <a:srgbClr val="003366"/>
                </a:solidFill>
                <a:latin typeface="Arial"/>
              </a:rPr>
              <a:t>2                                  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R</a:t>
            </a:r>
            <a:r>
              <a:rPr b="0" lang="en-US" sz="32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8" name="Object 19"/>
          <p:cNvGraphicFramePr/>
          <p:nvPr/>
        </p:nvGraphicFramePr>
        <p:xfrm>
          <a:off x="1908000" y="4508640"/>
          <a:ext cx="22392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4508640"/>
                    <a:ext cx="2239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22"/>
          <p:cNvGraphicFramePr/>
          <p:nvPr/>
        </p:nvGraphicFramePr>
        <p:xfrm>
          <a:off x="5219640" y="4508640"/>
          <a:ext cx="223920" cy="50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4508640"/>
                    <a:ext cx="223920" cy="50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25"/>
          <p:cNvGraphicFramePr/>
          <p:nvPr/>
        </p:nvGraphicFramePr>
        <p:xfrm>
          <a:off x="8244000" y="4653000"/>
          <a:ext cx="204840" cy="46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Object 2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44000" y="4653000"/>
                    <a:ext cx="20484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труктура бел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Вторичная структура – возникает за счет скручивания первичной структуры в спираль или в гармошку за счет водородных связей между соседними витками или звеньям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5" descr="L23p10p00"/>
          <p:cNvPicPr/>
          <p:nvPr/>
        </p:nvPicPr>
        <p:blipFill>
          <a:blip r:embed="rId1"/>
          <a:stretch/>
        </p:blipFill>
        <p:spPr>
          <a:xfrm>
            <a:off x="838080" y="2809800"/>
            <a:ext cx="37702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труктура бел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Третичная структура – это глобулярная форма, образующаяся за счет гидрофобных связей между радикалами аминокислот вторичной структур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Picture 5" descr="L23p02p02"/>
          <p:cNvPicPr/>
          <p:nvPr/>
        </p:nvPicPr>
        <p:blipFill>
          <a:blip r:embed="rId1"/>
          <a:stretch/>
        </p:blipFill>
        <p:spPr>
          <a:xfrm>
            <a:off x="4761000" y="2809800"/>
            <a:ext cx="37702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труктура бел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Четвертичная структура – представляет собой объединение нескольких глобул с третичной структурой в единый конгломера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5" descr="L23p10p01"/>
          <p:cNvPicPr/>
          <p:nvPr/>
        </p:nvPicPr>
        <p:blipFill>
          <a:blip r:embed="rId1"/>
          <a:stretch/>
        </p:blipFill>
        <p:spPr>
          <a:xfrm>
            <a:off x="838080" y="2809800"/>
            <a:ext cx="37702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войства белк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3772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елки могут быть как растворимы, так и нерастворимы в воде в зависимости от их состава и структур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Picture 9" descr="01"/>
          <p:cNvPicPr/>
          <p:nvPr/>
        </p:nvPicPr>
        <p:blipFill>
          <a:blip r:embed="rId1"/>
          <a:stretch/>
        </p:blipFill>
        <p:spPr>
          <a:xfrm>
            <a:off x="4427640" y="2492280"/>
            <a:ext cx="4356000" cy="3932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17:47:06Z</dcterms:created>
  <dc:creator>Jill</dc:creator>
  <dc:description/>
  <dc:language>en-US</dc:language>
  <cp:lastModifiedBy>я</cp:lastModifiedBy>
  <dcterms:modified xsi:type="dcterms:W3CDTF">2020-11-22T19:41:38Z</dcterms:modified>
  <cp:revision>23</cp:revision>
  <dc:subject/>
  <dc:title>Слайд 1</dc:title>
</cp:coreProperties>
</file>