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E7A-F4B2-44D8-BB53-1BCAF11D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648-6C22-4C3F-917D-CA92215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3A7-098C-4589-A42D-E8EE48D7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3FF-C6DD-4D3B-BB27-557C9150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EC1F-A8A3-4EA9-BF33-939DD644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D5E0-A474-4943-818E-45B88A6F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5B5-25AC-4037-A15C-76D59AD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357F-B7BB-4BAD-9B13-D7D89CE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896-1B37-47E3-A916-E5C4D83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384F-D0AC-4764-B18B-8CC396BD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EC2-0F79-4604-948A-D972FAE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0E7-DD21-4442-A35A-C1B21ED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42A7-A2FB-4279-9EE9-17D0469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3DAB-1A07-4A41-9919-256A415E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398F-BEC9-40A2-B249-A6167603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3F9-0C4B-4D8F-A068-59953CC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8C7-0A86-4A9F-AA43-2201B1E1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C90-3E56-4189-9F20-12938E44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149-1092-461D-811C-3AB795C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33E-ECB9-4D3A-9ED0-172BFB4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40B-F440-44F3-BCF1-179646D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31E-0B98-452B-8E52-A2818C2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012-91D0-4A9C-9778-69B5032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6BA-4EDC-4852-BB91-EF5A954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B853-068A-4F70-816C-8D01B2B1A72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0232-8171-4923-9EB4-0FF61C3F989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Тема урока: Белки – основа органической жизн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Жизнь есть способ существования белковых тел…» (Ф.Энгель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дорастворимые белки образуют коллоидные раств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L1p07p00"/>
          <p:cNvPicPr/>
          <p:nvPr/>
        </p:nvPicPr>
        <p:blipFill>
          <a:blip r:embed="rId1"/>
          <a:stretch/>
        </p:blipFill>
        <p:spPr>
          <a:xfrm>
            <a:off x="971640" y="2852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обработке хлоридом натрия бел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ысаливаютс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раствора. Этот процесс обрати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02"/>
          <p:cNvPicPr/>
          <p:nvPr/>
        </p:nvPicPr>
        <p:blipFill>
          <a:blip r:embed="rId1"/>
          <a:stretch/>
        </p:blipFill>
        <p:spPr>
          <a:xfrm>
            <a:off x="4572000" y="2421000"/>
            <a:ext cx="22669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сантопротеин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7" descr="L24p8p00"/>
          <p:cNvPicPr/>
          <p:nvPr/>
        </p:nvPicPr>
        <p:blipFill>
          <a:blip r:embed="rId1"/>
          <a:stretch/>
        </p:blipFill>
        <p:spPr>
          <a:xfrm>
            <a:off x="2484360" y="2421000"/>
            <a:ext cx="185436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лейте в пробирку 2 мл яичного белка . Добавьте такой же объем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Биурет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7" descr="GCH_3C24_07Nd"/>
          <p:cNvPicPr/>
          <p:nvPr/>
        </p:nvPicPr>
        <p:blipFill>
          <a:blip r:embed="rId1"/>
          <a:stretch/>
        </p:blipFill>
        <p:spPr>
          <a:xfrm>
            <a:off x="4643280" y="2565360"/>
            <a:ext cx="420876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ы, щелочи и высокая температура разрушают структуру белков и приводят к их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и такж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ирую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д действием спирта и тяжелых метал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– процесс необратим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идролиз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ов – разрушение первич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полное разрушение пространствен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ратимая д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частичное разрушение пространственной структуры белка. Обратный процесс называется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18" descr="001"/>
          <p:cNvPicPr/>
          <p:nvPr/>
        </p:nvPicPr>
        <p:blipFill>
          <a:blip r:embed="rId1"/>
          <a:stretch/>
        </p:blipFill>
        <p:spPr>
          <a:xfrm>
            <a:off x="1181160" y="2382840"/>
            <a:ext cx="3144600" cy="1803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2"/>
          <p:cNvPicPr/>
          <p:nvPr/>
        </p:nvPicPr>
        <p:blipFill>
          <a:blip r:embed="rId2"/>
          <a:stretch/>
        </p:blipFill>
        <p:spPr>
          <a:xfrm>
            <a:off x="1150920" y="4481640"/>
            <a:ext cx="3165480" cy="160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03"/>
          <p:cNvPicPr/>
          <p:nvPr/>
        </p:nvPicPr>
        <p:blipFill>
          <a:blip r:embed="rId3"/>
          <a:stretch/>
        </p:blipFill>
        <p:spPr>
          <a:xfrm>
            <a:off x="4971960" y="4179960"/>
            <a:ext cx="33116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1"/>
          <p:cNvPicPr/>
          <p:nvPr/>
        </p:nvPicPr>
        <p:blipFill>
          <a:blip r:embed="rId4"/>
          <a:stretch/>
        </p:blipFill>
        <p:spPr>
          <a:xfrm>
            <a:off x="4842000" y="2362320"/>
            <a:ext cx="3608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9" descr="1"/>
          <p:cNvPicPr/>
          <p:nvPr/>
        </p:nvPicPr>
        <p:blipFill>
          <a:blip r:embed="rId1"/>
          <a:stretch/>
        </p:blipFill>
        <p:spPr>
          <a:xfrm>
            <a:off x="1413000" y="2362320"/>
            <a:ext cx="2668320" cy="179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"/>
          <p:cNvPicPr/>
          <p:nvPr/>
        </p:nvPicPr>
        <p:blipFill>
          <a:blip r:embed="rId2"/>
          <a:stretch/>
        </p:blipFill>
        <p:spPr>
          <a:xfrm>
            <a:off x="5415120" y="2362320"/>
            <a:ext cx="2570040" cy="179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"/>
          <p:cNvPicPr/>
          <p:nvPr/>
        </p:nvPicPr>
        <p:blipFill>
          <a:blip r:embed="rId3"/>
          <a:stretch/>
        </p:blipFill>
        <p:spPr>
          <a:xfrm>
            <a:off x="1386000" y="4460760"/>
            <a:ext cx="2693880" cy="162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1"/>
          <p:cNvPicPr/>
          <p:nvPr/>
        </p:nvPicPr>
        <p:blipFill>
          <a:blip r:embed="rId4"/>
          <a:stretch/>
        </p:blipFill>
        <p:spPr>
          <a:xfrm>
            <a:off x="5424480" y="4294080"/>
            <a:ext cx="25606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6" descr="08020302"/>
          <p:cNvPicPr/>
          <p:nvPr/>
        </p:nvPicPr>
        <p:blipFill>
          <a:blip r:embed="rId1"/>
          <a:stretch/>
        </p:blipFill>
        <p:spPr>
          <a:xfrm>
            <a:off x="1763640" y="242100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крип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считывание генетической информации о первичной структуре белка с ДНК на РН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ля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ередача генетической информации, закодированной в иРНК на рибосом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форма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строение первичной структуры белка по матрице иРНК с помощью тРНК и аминокисл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находящийся на тРНК комплиментарный триплету на иРНК, находящемуся на месте сборки белковой молеку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Анти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комплиментарный кодону и соответствующий определенной аминокисло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L23p02p01"/>
          <p:cNvPicPr/>
          <p:nvPr/>
        </p:nvPicPr>
        <p:blipFill>
          <a:blip r:embed="rId1"/>
          <a:stretch/>
        </p:blipFill>
        <p:spPr>
          <a:xfrm>
            <a:off x="3635280" y="286056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Baskerville Old Face"/>
              </a:rPr>
              <a:t>«Я всегда говорил и не устаю повторять, что мир не мог существовать, если бы был так просто устроен.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88000" y="2708280"/>
            <a:ext cx="118440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429800" y="121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минокисл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H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C    C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7640" y="2852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и структурными компонентами белков являются аминокисло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2987640" y="3645000"/>
            <a:ext cx="4827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8872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3"/>
          <a:stretch/>
        </p:blipFill>
        <p:spPr>
          <a:xfrm>
            <a:off x="248436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190800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5"/>
          <a:stretch/>
        </p:blipFill>
        <p:spPr>
          <a:xfrm>
            <a:off x="2916360" y="2708280"/>
            <a:ext cx="544320" cy="62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6"/>
          <a:stretch/>
        </p:blipFill>
        <p:spPr>
          <a:xfrm>
            <a:off x="1692360" y="3645000"/>
            <a:ext cx="136440" cy="49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7"/>
          <a:stretch/>
        </p:blipFill>
        <p:spPr>
          <a:xfrm>
            <a:off x="2268360" y="3645000"/>
            <a:ext cx="136800" cy="498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8"/>
          <a:stretch/>
        </p:blipFill>
        <p:spPr>
          <a:xfrm>
            <a:off x="2268360" y="2781360"/>
            <a:ext cx="136800" cy="503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9"/>
          <a:stretch/>
        </p:blipFill>
        <p:spPr>
          <a:xfrm>
            <a:off x="1692360" y="2781360"/>
            <a:ext cx="136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зование пептидной связ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50560" y="414936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551628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Связь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CO – NH –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, соединяющая отдельные аминокислоты в пептид, называется пептидной.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Аминокислоты могут реагировать друг с другом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арбоксильная группа одной аминокислоты реагирует с аминогруппой другой аминокислоты с образованием пептидной связи и молекулы воды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ервичная структур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олипептидная цепь линейной формы из последовательно соединенных пептидной связью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O – NH –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минокисло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933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H – CH – CO – NH – CH – CO – NH – CH –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1   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19"/>
          <p:cNvGraphicFramePr/>
          <p:nvPr/>
        </p:nvGraphicFramePr>
        <p:xfrm>
          <a:off x="1908000" y="4508640"/>
          <a:ext cx="2239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508640"/>
                    <a:ext cx="223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2"/>
          <p:cNvGraphicFramePr/>
          <p:nvPr/>
        </p:nvGraphicFramePr>
        <p:xfrm>
          <a:off x="5219640" y="4508640"/>
          <a:ext cx="2239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508640"/>
                    <a:ext cx="2239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5"/>
          <p:cNvGraphicFramePr/>
          <p:nvPr/>
        </p:nvGraphicFramePr>
        <p:xfrm>
          <a:off x="8244000" y="4653000"/>
          <a:ext cx="20484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653000"/>
                    <a:ext cx="204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торичная структура – возникает за счет скручивания первичной структуры в спираль или в гармошку за счет водородных связей между соседними витками или звень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L23p10p00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Третичная структура – это глобулярная форма, образующаяся за счет гидрофобных связей между радикалами аминокислот вторичной струк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L23p02p02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етвертичная структура – представляет собой объединение нескольких глобул с третичной структурой в единый конгломер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L23p10p01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лки могут быть как растворимы, так и нерастворимы в воде в зависимости от их состава и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01"/>
          <p:cNvPicPr/>
          <p:nvPr/>
        </p:nvPicPr>
        <p:blipFill>
          <a:blip r:embed="rId1"/>
          <a:stretch/>
        </p:blipFill>
        <p:spPr>
          <a:xfrm>
            <a:off x="4427640" y="2492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7:47:06Z</dcterms:created>
  <dc:creator>Jill</dc:creator>
  <dc:description/>
  <dc:language>en-US</dc:language>
  <cp:lastModifiedBy>я</cp:lastModifiedBy>
  <dcterms:modified xsi:type="dcterms:W3CDTF">2020-11-22T19:41:38Z</dcterms:modified>
  <cp:revision>23</cp:revision>
  <dc:subject/>
  <dc:title>Слайд 1</dc:title>
</cp:coreProperties>
</file>