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2BD0-8780-493E-BB20-9325DBCC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53D0-235F-42ED-A285-4717E091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D21-1AA8-44B7-B198-A4086B41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CF54-03D9-4DB2-B95F-2E259162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4EEF-540F-42B3-AFF3-F232A8E4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03C0-AED7-433A-BC49-D62A35A0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B728-49C8-432E-94CC-142BB9D8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5A9D-0F3F-419A-92FD-7BFE67EC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7C28-4E2F-4BD8-B3AE-32DF68FA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5D1A-02E4-4D85-9E8C-75572765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2A53-9514-4D5F-81B9-48697D21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F6F-8407-42D6-9109-111227E2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F92C-7ED2-4C7F-967D-D08501D8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C4F2-F355-4B8B-B867-B063AEFE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48AD-7F85-4F35-B8D1-FE92DE4A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5829-9AB3-42F3-8C2E-A7BD144D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3404-30CA-4C2B-AFF7-F5D2E540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54A7-7D90-4D1C-B9D5-15E4E236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41CA-9A83-485B-80ED-90EA65C2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B2ED-5FC6-436E-8D13-58E92D2B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774C-6E13-4882-BF47-1B3DF69B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F018-D25C-4578-AF7A-D6789C6C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E944-B55F-427A-95C3-78075736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FB1-F366-4957-8AB7-1B6DCA1A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F2CF-0913-42E4-8A53-B12677E8A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052E-A011-4248-AAB4-919AD85E1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3024360" y="493560"/>
            <a:ext cx="5583240" cy="3017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028680" y="3863880"/>
            <a:ext cx="5429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Автор рабо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ученица 4 класс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бдульманова Альс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Зайнуллина Разиля Тимерханов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User\Desktop\Новая папка (2)\P00110-204413.jpg"/>
          <p:cNvPicPr/>
          <p:nvPr/>
        </p:nvPicPr>
        <p:blipFill>
          <a:blip r:embed="rId2"/>
          <a:stretch/>
        </p:blipFill>
        <p:spPr>
          <a:xfrm>
            <a:off x="3287880" y="484200"/>
            <a:ext cx="481788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User\Desktop\Новая папка (2)\P00110-204851.jpg"/>
          <p:cNvPicPr/>
          <p:nvPr/>
        </p:nvPicPr>
        <p:blipFill>
          <a:blip r:embed="rId2"/>
          <a:stretch/>
        </p:blipFill>
        <p:spPr>
          <a:xfrm>
            <a:off x="2760840" y="790560"/>
            <a:ext cx="5081400" cy="54086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44240" y="315720"/>
            <a:ext cx="628020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Мой прадедушка Юлмухаметов Ситдик Фазуллович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7" name="Picture 2" descr="C:\Users\User\AppData\Local\Temp\7zO0B44F3AA\Юлмухаметов Ситдик.jpg"/>
          <p:cNvPicPr/>
          <p:nvPr/>
        </p:nvPicPr>
        <p:blipFill>
          <a:blip r:embed="rId2"/>
          <a:stretch/>
        </p:blipFill>
        <p:spPr>
          <a:xfrm>
            <a:off x="3989520" y="1847880"/>
            <a:ext cx="2771640" cy="43513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34880" y="365040"/>
            <a:ext cx="6280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Юлмухаметов Гале Фазуллович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9" name="Picture 2" descr="C:\Users\User\AppData\Local\Temp\7zO0B41F09D\Юлмухаметов Гали Фазуллович 1911-1943.jpg"/>
          <p:cNvPicPr/>
          <p:nvPr/>
        </p:nvPicPr>
        <p:blipFill>
          <a:blip r:embed="rId2"/>
          <a:stretch/>
        </p:blipFill>
        <p:spPr>
          <a:xfrm>
            <a:off x="3654360" y="1847880"/>
            <a:ext cx="3441600" cy="43513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34880" y="365040"/>
            <a:ext cx="6280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Юлмухаметов Хамит Фазуллович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1" name="Picture 2" descr="C:\Users\User\AppData\Local\Temp\7zO0B4C90EE\Юлмухаметов Х.tif"/>
          <p:cNvPicPr/>
          <p:nvPr/>
        </p:nvPicPr>
        <p:blipFill>
          <a:blip r:embed="rId2"/>
          <a:stretch/>
        </p:blipFill>
        <p:spPr>
          <a:xfrm>
            <a:off x="3570120" y="1763640"/>
            <a:ext cx="3214800" cy="43736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34880" y="365040"/>
            <a:ext cx="6280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Юлмухаметов Исмагил Фазуллович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3" name="Picture 2" descr="C:\Users\User\AppData\Local\Temp\7zO0B439F7C\Ю.Исмагил.jpg"/>
          <p:cNvPicPr/>
          <p:nvPr/>
        </p:nvPicPr>
        <p:blipFill>
          <a:blip r:embed="rId2"/>
          <a:stretch/>
        </p:blipFill>
        <p:spPr>
          <a:xfrm>
            <a:off x="3925800" y="1847880"/>
            <a:ext cx="2898720" cy="4351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3" descr=""/>
          <p:cNvPicPr/>
          <p:nvPr/>
        </p:nvPicPr>
        <p:blipFill>
          <a:blip r:embed="rId2"/>
          <a:stretch/>
        </p:blipFill>
        <p:spPr>
          <a:xfrm>
            <a:off x="2470320" y="272880"/>
            <a:ext cx="5943600" cy="3183120"/>
          </a:xfrm>
          <a:prstGeom prst="rect">
            <a:avLst/>
          </a:prstGeom>
          <a:ln w="0">
            <a:noFill/>
          </a:ln>
        </p:spPr>
      </p:pic>
      <p:pic>
        <p:nvPicPr>
          <p:cNvPr id="105" name="Содержимое 4" descr=""/>
          <p:cNvPicPr/>
          <p:nvPr/>
        </p:nvPicPr>
        <p:blipFill>
          <a:blip r:embed="rId3"/>
          <a:stretch/>
        </p:blipFill>
        <p:spPr>
          <a:xfrm>
            <a:off x="2430360" y="3473280"/>
            <a:ext cx="5943600" cy="32799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"/>
          <p:cNvPicPr/>
          <p:nvPr/>
        </p:nvPicPr>
        <p:blipFill>
          <a:blip r:embed="rId2"/>
          <a:stretch/>
        </p:blipFill>
        <p:spPr>
          <a:xfrm>
            <a:off x="2144880" y="333360"/>
            <a:ext cx="6665760" cy="2691000"/>
          </a:xfrm>
          <a:prstGeom prst="rect">
            <a:avLst/>
          </a:prstGeom>
          <a:ln w="0">
            <a:noFill/>
          </a:ln>
        </p:spPr>
      </p:pic>
      <p:pic>
        <p:nvPicPr>
          <p:cNvPr id="107" name="Содержимое 4" descr=""/>
          <p:cNvPicPr/>
          <p:nvPr/>
        </p:nvPicPr>
        <p:blipFill>
          <a:blip r:embed="rId3"/>
          <a:stretch/>
        </p:blipFill>
        <p:spPr>
          <a:xfrm>
            <a:off x="2119320" y="3041640"/>
            <a:ext cx="6629400" cy="315756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3" descr=""/>
          <p:cNvPicPr/>
          <p:nvPr/>
        </p:nvPicPr>
        <p:blipFill>
          <a:blip r:embed="rId2"/>
          <a:stretch/>
        </p:blipFill>
        <p:spPr>
          <a:xfrm>
            <a:off x="2673360" y="0"/>
            <a:ext cx="5600520" cy="310356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4" descr=""/>
          <p:cNvPicPr/>
          <p:nvPr/>
        </p:nvPicPr>
        <p:blipFill>
          <a:blip r:embed="rId3"/>
          <a:stretch/>
        </p:blipFill>
        <p:spPr>
          <a:xfrm>
            <a:off x="2638440" y="3112920"/>
            <a:ext cx="5678640" cy="308628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34880" y="365040"/>
            <a:ext cx="6280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 advTm="16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34880" y="365040"/>
            <a:ext cx="6280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Гипотеза:</a:t>
            </a: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 самое главное в жизни человека – это семья, человек должен знать свои корни, гордиться своими предками, и самому быть достойным их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34880" y="2576160"/>
            <a:ext cx="628020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сбор информ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опрос родителей, бабушек, дедушек, родственни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поиск в Интернет – се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3560" y="-4373640"/>
            <a:ext cx="8794440" cy="92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чи исследов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. Собрать информацию о родных и предков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ходящих в генеалогическое древ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. Рассказать о наиболее ярких представителях семь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. Собрать исторический материал и написа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 некоторых моих предках с интересной биографи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ъек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одословное древо Юлмухаметов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дме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жизнь и фронтовые будни моих дед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234880" y="1847520"/>
            <a:ext cx="6280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ктическая значимость данной работы заключается в том, что материалы её могут использоваться в изучении родословной других семей, в работе школьного музея, в праздниках села и района и семейных праздни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1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34880" y="1847520"/>
            <a:ext cx="6280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I. Введение. Что такое родословное, или генеалогическое древо?....3-4 ст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II. Основная ча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Мой прадедушка Ситдик Юлмухаме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Линия моего прадедушки Ситдика Юлмухамет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III. Выво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IV. Прило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234880" y="1847520"/>
            <a:ext cx="6280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Кто своего родства не знае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от сам себя не уважае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 кто родни своей стыдитс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от через это сам срамитьс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2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34880" y="365040"/>
            <a:ext cx="6280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Родословное</a:t>
            </a:r>
            <a:r>
              <a:rPr b="0" lang="ru-RU" sz="1800" spc="-1" strike="noStrike">
                <a:solidFill>
                  <a:srgbClr val="ff0000"/>
                </a:solidFill>
                <a:latin typeface="Monotype Corsiva"/>
              </a:rPr>
              <a:t>, или </a:t>
            </a: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генеалогическое древо</a:t>
            </a:r>
            <a:r>
              <a:rPr b="0" lang="ru-RU" sz="1800" spc="-1" strike="noStrike">
                <a:solidFill>
                  <a:srgbClr val="ff0000"/>
                </a:solidFill>
                <a:latin typeface="Monotype Corsiva"/>
              </a:rPr>
              <a:t> — схематичное представление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Monotype Corsiva"/>
              </a:rPr>
              <a:t>родственных связей</a:t>
            </a:r>
            <a:r>
              <a:rPr b="0" lang="ru-RU" sz="1800" spc="-1" strike="noStrike">
                <a:solidFill>
                  <a:srgbClr val="ff0000"/>
                </a:solidFill>
                <a:latin typeface="Monotype Corsiva"/>
              </a:rPr>
              <a:t>,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Monotype Corsiva"/>
              </a:rPr>
              <a:t>родословной росписи</a:t>
            </a:r>
            <a:r>
              <a:rPr b="0" lang="ru-RU" sz="1800" spc="-1" strike="noStrike">
                <a:solidFill>
                  <a:srgbClr val="ff0000"/>
                </a:solidFill>
                <a:latin typeface="Monotype Corsiva"/>
              </a:rPr>
              <a:t> в виде условно-символического «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Monotype Corsiva"/>
              </a:rPr>
              <a:t>дерева</a:t>
            </a:r>
            <a:r>
              <a:rPr b="0" lang="ru-RU" sz="1800" spc="-1" strike="noStrike">
                <a:solidFill>
                  <a:srgbClr val="ff0000"/>
                </a:solidFill>
                <a:latin typeface="Monotype Corsiva"/>
              </a:rPr>
              <a:t>», у «корней» которого указывается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Monotype Corsiva"/>
              </a:rPr>
              <a:t>родоначальник</a:t>
            </a:r>
            <a:r>
              <a:rPr b="0" lang="ru-RU" sz="1800" spc="-1" strike="noStrike">
                <a:solidFill>
                  <a:srgbClr val="ff0000"/>
                </a:solidFill>
                <a:latin typeface="Monotype Corsiva"/>
              </a:rPr>
              <a:t>, на «стволе» — представители основной (по старшинству) линии рода, а на «ветвях» — различных линиях родословия, известные его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Monotype Corsiva"/>
              </a:rPr>
              <a:t>потомки</a:t>
            </a:r>
            <a:r>
              <a:rPr b="0" lang="ru-RU" sz="1800" spc="-1" strike="noStrike">
                <a:solidFill>
                  <a:srgbClr val="ff0000"/>
                </a:solidFill>
                <a:latin typeface="Monotype Corsiva"/>
              </a:rPr>
              <a:t> — «листья»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1" name="Содержимое 3" descr=""/>
          <p:cNvPicPr/>
          <p:nvPr/>
        </p:nvPicPr>
        <p:blipFill>
          <a:blip r:embed="rId2"/>
          <a:stretch/>
        </p:blipFill>
        <p:spPr>
          <a:xfrm>
            <a:off x="3394080" y="1847880"/>
            <a:ext cx="4502160" cy="480852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User\Desktop\Новая папка (2)\P00110-204242.jpg"/>
          <p:cNvPicPr/>
          <p:nvPr/>
        </p:nvPicPr>
        <p:blipFill>
          <a:blip r:embed="rId2"/>
          <a:stretch/>
        </p:blipFill>
        <p:spPr>
          <a:xfrm>
            <a:off x="2857680" y="398520"/>
            <a:ext cx="5205240" cy="580068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User\Desktop\Новая папка (2)\P00110-204830.jpg"/>
          <p:cNvPicPr/>
          <p:nvPr/>
        </p:nvPicPr>
        <p:blipFill>
          <a:blip r:embed="rId2"/>
          <a:stretch/>
        </p:blipFill>
        <p:spPr>
          <a:xfrm>
            <a:off x="2884320" y="588960"/>
            <a:ext cx="5058000" cy="56102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4T18:37:04Z</dcterms:created>
  <dc:creator>pptforschool.ru</dc:creator>
  <dc:description/>
  <dc:language>en-US</dc:language>
  <cp:lastModifiedBy>1</cp:lastModifiedBy>
  <dcterms:modified xsi:type="dcterms:W3CDTF">2020-11-26T02:20:32Z</dcterms:modified>
  <cp:revision>31</cp:revision>
  <dc:subject/>
  <dc:title>PowerPoint Presentation</dc:title>
</cp:coreProperties>
</file>