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677-D5A6-4694-87BC-B496A210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C3F-24ED-41F3-8418-26068315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C9F-0FFE-48F4-9B7B-26146A9C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C58-8CF5-4486-A978-3E59BCAF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4ABC-0A58-4B85-A483-C58F9FFC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5ADB-9BAA-446D-952F-9498DEB9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3B47-5C8B-4EB3-B2EA-907498A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2246-677C-424C-8E90-B164198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82AD-F9A1-4F27-B5D9-9CF23A1B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E2CD-B29E-45A9-8CBA-C90C0F4C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368-C344-438E-9ACD-1FB8FFB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40C-DF2D-40BA-901B-D37ACFC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B57D-26C2-40E6-ACE7-2BBB612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7BE1-9583-4928-B559-5D43B0D0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3F7D-F38E-413B-8681-FDFECF5D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416F-FF7C-4A01-B5B9-862D91C3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ACD5-8990-4658-859B-D1CFB210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775-DCBC-49F0-B096-74001C0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22D-6069-4668-A0EC-4774E30A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C18-7EB6-4677-8B2D-00D19892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8C5-E044-4B28-913B-ED7BCB41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590-193B-4D79-864B-CF7D216E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922-59D3-4D45-A545-6B7E6035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A6D-A071-41A4-913A-06FCD44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9781-565A-4A0C-997F-2F95B3A0F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6E3-39E4-4F80-A767-5EBF599BA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3024360" y="493560"/>
            <a:ext cx="5583240" cy="3017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028680" y="3863880"/>
            <a:ext cx="542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еница 4 клас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бдульманова Альс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Зайнуллина Разиля Тимерханов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User\Desktop\Новая папка (2)\P00110-204413.jpg"/>
          <p:cNvPicPr/>
          <p:nvPr/>
        </p:nvPicPr>
        <p:blipFill>
          <a:blip r:embed="rId2"/>
          <a:stretch/>
        </p:blipFill>
        <p:spPr>
          <a:xfrm>
            <a:off x="3287880" y="484200"/>
            <a:ext cx="48178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Desktop\Новая папка (2)\P00110-204851.jpg"/>
          <p:cNvPicPr/>
          <p:nvPr/>
        </p:nvPicPr>
        <p:blipFill>
          <a:blip r:embed="rId2"/>
          <a:stretch/>
        </p:blipFill>
        <p:spPr>
          <a:xfrm>
            <a:off x="2760840" y="790560"/>
            <a:ext cx="5081400" cy="54086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44240" y="315720"/>
            <a:ext cx="62802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Мой прадедушка Юлмухаметов Ситдик Фазуллович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Picture 2" descr="C:\Users\User\AppData\Local\Temp\7zO0B44F3AA\Юлмухаметов Ситдик.jpg"/>
          <p:cNvPicPr/>
          <p:nvPr/>
        </p:nvPicPr>
        <p:blipFill>
          <a:blip r:embed="rId2"/>
          <a:stretch/>
        </p:blipFill>
        <p:spPr>
          <a:xfrm>
            <a:off x="3989520" y="1847880"/>
            <a:ext cx="2771640" cy="4351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Юлмухаметов Гале Фазуллови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Picture 2" descr="C:\Users\User\AppData\Local\Temp\7zO0B41F09D\Юлмухаметов Гали Фазуллович 1911-1943.jpg"/>
          <p:cNvPicPr/>
          <p:nvPr/>
        </p:nvPicPr>
        <p:blipFill>
          <a:blip r:embed="rId2"/>
          <a:stretch/>
        </p:blipFill>
        <p:spPr>
          <a:xfrm>
            <a:off x="3654360" y="1847880"/>
            <a:ext cx="3441600" cy="4351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Юлмухаметов Хамит Фазуллови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Picture 2" descr="C:\Users\User\AppData\Local\Temp\7zO0B4C90EE\Юлмухаметов Х.tif"/>
          <p:cNvPicPr/>
          <p:nvPr/>
        </p:nvPicPr>
        <p:blipFill>
          <a:blip r:embed="rId2"/>
          <a:stretch/>
        </p:blipFill>
        <p:spPr>
          <a:xfrm>
            <a:off x="3570120" y="1763640"/>
            <a:ext cx="3214800" cy="4373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Юлмухаметов Исмагил Фазуллови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Picture 2" descr="C:\Users\User\AppData\Local\Temp\7zO0B439F7C\Ю.Исмагил.jpg"/>
          <p:cNvPicPr/>
          <p:nvPr/>
        </p:nvPicPr>
        <p:blipFill>
          <a:blip r:embed="rId2"/>
          <a:stretch/>
        </p:blipFill>
        <p:spPr>
          <a:xfrm>
            <a:off x="3925800" y="1847880"/>
            <a:ext cx="2898720" cy="435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2470320" y="272880"/>
            <a:ext cx="5943600" cy="318312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4" descr=""/>
          <p:cNvPicPr/>
          <p:nvPr/>
        </p:nvPicPr>
        <p:blipFill>
          <a:blip r:embed="rId3"/>
          <a:stretch/>
        </p:blipFill>
        <p:spPr>
          <a:xfrm>
            <a:off x="2430360" y="3473280"/>
            <a:ext cx="5943600" cy="32799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2"/>
          <a:stretch/>
        </p:blipFill>
        <p:spPr>
          <a:xfrm>
            <a:off x="2144880" y="333360"/>
            <a:ext cx="6665760" cy="269100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"/>
          <p:cNvPicPr/>
          <p:nvPr/>
        </p:nvPicPr>
        <p:blipFill>
          <a:blip r:embed="rId3"/>
          <a:stretch/>
        </p:blipFill>
        <p:spPr>
          <a:xfrm>
            <a:off x="2119320" y="3041640"/>
            <a:ext cx="6629400" cy="31575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2"/>
          <a:stretch/>
        </p:blipFill>
        <p:spPr>
          <a:xfrm>
            <a:off x="2673360" y="0"/>
            <a:ext cx="5600520" cy="31035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4" descr=""/>
          <p:cNvPicPr/>
          <p:nvPr/>
        </p:nvPicPr>
        <p:blipFill>
          <a:blip r:embed="rId3"/>
          <a:stretch/>
        </p:blipFill>
        <p:spPr>
          <a:xfrm>
            <a:off x="2638440" y="3112920"/>
            <a:ext cx="5678640" cy="30862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 advTm="16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Гипотеза: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самое главное в жизни человека – это семья, человек должен знать свои корни, гордиться своими предками, и самому быть достойным их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34880" y="2576160"/>
            <a:ext cx="62802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сбор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опрос родителей, бабушек, дедушек, родствен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оиск в Интернет – с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3560" y="-4373640"/>
            <a:ext cx="8794440" cy="92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 исслед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Собрать информацию о родных и пред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ходящих в генеалогическое дре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Рассказать о наиболее ярких представителях семь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Собрать исторический материал и напис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 некоторых моих предках с интересной биограф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одословное древо Юлмухаметов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жизнь и фронтовые будни моих де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34880" y="1847520"/>
            <a:ext cx="6280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ая значимость данной работы заключается в том, что материалы её могут использоваться в изучении родословной других семей, в работе школьного музея, в праздниках села и района и семейных праздни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34880" y="1847520"/>
            <a:ext cx="6280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. Введение. Что такое родословное, или генеалогическое древо?....3-4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I. Основ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Мой прадедушка Ситдик Юлмухаме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Линия моего прадедушки Ситдика Юлмухамет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II. Выв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V.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34880" y="1847520"/>
            <a:ext cx="6280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то своего родства не зн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т сам себя не уваж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кто родни своей стыдит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т через это сам срамитьс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34880" y="365040"/>
            <a:ext cx="6280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Родословное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, или </a:t>
            </a: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генеалогическое древо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 — схематичное представление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родственных связей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,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родословной росписи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 в виде условно-символического «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дерева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», у «корней» которого указываетс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родоначальник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, на «стволе» — представители основной (по старшинству) линии рода, а на «ветвях» — различных линиях родословия, известные его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Monotype Corsiva"/>
              </a:rPr>
              <a:t>потомки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 — «листья»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2"/>
          <a:stretch/>
        </p:blipFill>
        <p:spPr>
          <a:xfrm>
            <a:off x="3394080" y="1847880"/>
            <a:ext cx="4502160" cy="48085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User\Desktop\Новая папка (2)\P00110-204242.jpg"/>
          <p:cNvPicPr/>
          <p:nvPr/>
        </p:nvPicPr>
        <p:blipFill>
          <a:blip r:embed="rId2"/>
          <a:stretch/>
        </p:blipFill>
        <p:spPr>
          <a:xfrm>
            <a:off x="2857680" y="398520"/>
            <a:ext cx="5205240" cy="580068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User\Desktop\Новая папка (2)\P00110-204830.jpg"/>
          <p:cNvPicPr/>
          <p:nvPr/>
        </p:nvPicPr>
        <p:blipFill>
          <a:blip r:embed="rId2"/>
          <a:stretch/>
        </p:blipFill>
        <p:spPr>
          <a:xfrm>
            <a:off x="2884320" y="588960"/>
            <a:ext cx="5058000" cy="5610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4T18:37:04Z</dcterms:created>
  <dc:creator>pptforschool.ru</dc:creator>
  <dc:description/>
  <dc:language>en-US</dc:language>
  <cp:lastModifiedBy>1</cp:lastModifiedBy>
  <dcterms:modified xsi:type="dcterms:W3CDTF">2020-11-26T02:20:32Z</dcterms:modified>
  <cp:revision>31</cp:revision>
  <dc:subject/>
  <dc:title>PowerPoint Presentation</dc:title>
</cp:coreProperties>
</file>