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7C9-F403-46F2-9B7C-5BD35AB8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76D-1F25-42D0-B7C6-A32FEC0C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828-5299-4752-8E71-0D2E8CF6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10B-2F34-4577-BCD5-A678B24F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3DE1-520F-4FBA-92A4-537D235A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C96-6463-4D4B-BA16-EE33EA2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3E85-1215-4E0F-A150-E4DA96A3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EDAA-F3EF-4CC3-987D-5B2DEBD0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76FE-BD99-4CD4-999E-104CCAB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D47A-8384-46CF-A25A-B264B319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401-42D0-4024-8B50-3002ED1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F1D-DE17-4E4C-982D-1B2CEA0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97DE-EDFB-4310-8CB8-F148D9D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FC52-D922-4138-9462-D03A458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AAA-2E82-4890-B9BC-A4B3CB7D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269C-C302-4AEB-8836-7272156F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546D-CFA7-47DE-8996-0A230695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5E99-75D4-48EE-9B04-67E995B1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AB6C-E031-48C9-9ABE-9A0132FE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2748-C9D0-4F4F-9F2D-04366FFD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7E7B-032E-4A24-AD8B-07F802D9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3998-B306-4EE0-80BD-F5C0D9D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431-E97A-448B-B22A-1D11189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D9F4-4215-4619-90E8-AC0721E0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1D59-5AD5-4363-9240-0A6F2E75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7088-3FE0-486E-94EB-8A9491A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69FF-A8BB-44A9-94C3-073D778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4A40-CFBA-41D2-8895-A5170954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3CC5-EF1B-4F82-9FA1-634FB165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2C1A-7BBB-4CC5-AC6A-2D35EE41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F2F7-B538-4FCF-A939-82454B68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E3971-ECF6-4B87-ABA1-1A589C2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8AB2-26DC-45A2-9BE5-629C03D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DAE-19F3-4FF5-9812-EF985BE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C979-DDF9-4277-B2EA-AC9B1B91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37D2-BBED-4FC5-8B84-F1BBE25C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914A5-8159-4451-A94E-CA5A606F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7D1E-1FEB-448E-B79D-E4731711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056A-F1D4-4081-9FCB-7336642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3A182-F402-4CC8-A032-83BC974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C30F-26FC-4513-BE68-0891CE72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552E-D4A3-4D44-ACDC-0CDBA711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32B0-76B7-4EDB-9503-393BC0B1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83E-D84B-4BEA-8125-21133F41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8C0-C094-4CD5-B746-BA0C0978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DB9-149A-4F16-A7EB-220E8632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EFA-5978-48A4-8005-1D263A6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229-CA2B-4FCF-9308-4D5395B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441-F9A5-4A63-9E9C-D5E54194F4D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1A1B-ECDD-4795-B411-B8E3F3D058B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47B7-AB3D-44E2-B1FB-77D6AF1B7E0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539-14A5-4D3D-A81E-6BFBBD7AF61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6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ПРИВИТИЕ КУЛЬТУРНО-ГИГИЕНИЧЕСКИХ НАВЫКОВ И НАВЫКОВ САМООБСЛУЖИВАНИЯ У ДЕТЕЙ МЛАДШЕГО ВОЗРАСТА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427280" y="4436640"/>
            <a:ext cx="4259160" cy="16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Выполнила воспитатель: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Иванова Л. Г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217800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489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УБОРКА ИГРУШЕК    ДЕЖУРСТВО ПО                СТОЛОВ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32" name="Объект 4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2328840" cy="31068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"/>
          <p:cNvPicPr/>
          <p:nvPr/>
        </p:nvPicPr>
        <p:blipFill>
          <a:blip r:embed="rId2"/>
          <a:stretch/>
        </p:blipFill>
        <p:spPr>
          <a:xfrm>
            <a:off x="4648320" y="1566720"/>
            <a:ext cx="4027320" cy="3021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"/>
          <p:cNvPicPr/>
          <p:nvPr/>
        </p:nvPicPr>
        <p:blipFill>
          <a:blip r:embed="rId3"/>
          <a:stretch/>
        </p:blipFill>
        <p:spPr>
          <a:xfrm>
            <a:off x="1982880" y="3084480"/>
            <a:ext cx="23907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ПРЯМОЕ ОБУЧ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НАПОМИНАНИЕ ДЕТЯМ О НЕОБХОДИМОСТИ СОБЛЮДАТЬ ПРАВИЛА ГИГИЕНЫ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546120" y="1401840"/>
            <a:ext cx="2109600" cy="29462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2"/>
          <a:stretch/>
        </p:blipFill>
        <p:spPr>
          <a:xfrm>
            <a:off x="3478320" y="1390680"/>
            <a:ext cx="2187360" cy="29145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"/>
          <p:cNvPicPr/>
          <p:nvPr/>
        </p:nvPicPr>
        <p:blipFill>
          <a:blip r:embed="rId3"/>
          <a:srcRect l="0" t="0" r="16" b="-13"/>
          <a:stretch/>
        </p:blipFill>
        <p:spPr>
          <a:xfrm>
            <a:off x="1908000" y="3645000"/>
            <a:ext cx="2054520" cy="2701800"/>
          </a:xfrm>
          <a:prstGeom prst="rect">
            <a:avLst/>
          </a:prstGeom>
          <a:ln w="0">
            <a:noFill/>
          </a:ln>
        </p:spPr>
      </p:pic>
      <p:pic>
        <p:nvPicPr>
          <p:cNvPr id="240" name="Объект 5" descr=""/>
          <p:cNvPicPr/>
          <p:nvPr/>
        </p:nvPicPr>
        <p:blipFill>
          <a:blip r:embed="rId4"/>
          <a:stretch/>
        </p:blipFill>
        <p:spPr>
          <a:xfrm>
            <a:off x="6288120" y="1300320"/>
            <a:ext cx="2171520" cy="2896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0" descr=""/>
          <p:cNvPicPr/>
          <p:nvPr/>
        </p:nvPicPr>
        <p:blipFill>
          <a:blip r:embed="rId5"/>
          <a:srcRect l="0" t="0" r="-32" b="62"/>
          <a:stretch/>
        </p:blipFill>
        <p:spPr>
          <a:xfrm>
            <a:off x="5089680" y="3645000"/>
            <a:ext cx="21175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60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ПОЛНЕНИИ ДЕЙСТВИЙ В ПРОЦЕССЕ ДИДАКТИЧЕСКИХ ИГР И УПРАЖНЕНИЙ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4" name="Рисунок 9" descr=""/>
          <p:cNvPicPr/>
          <p:nvPr/>
        </p:nvPicPr>
        <p:blipFill>
          <a:blip r:embed="rId1"/>
          <a:stretch/>
        </p:blipFill>
        <p:spPr>
          <a:xfrm>
            <a:off x="3216240" y="1576440"/>
            <a:ext cx="2684520" cy="3581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" descr=""/>
          <p:cNvPicPr/>
          <p:nvPr/>
        </p:nvPicPr>
        <p:blipFill>
          <a:blip r:embed="rId2"/>
          <a:stretch/>
        </p:blipFill>
        <p:spPr>
          <a:xfrm>
            <a:off x="352440" y="2225520"/>
            <a:ext cx="2951280" cy="39340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3"/>
          <a:stretch/>
        </p:blipFill>
        <p:spPr>
          <a:xfrm>
            <a:off x="5867280" y="2173320"/>
            <a:ext cx="29862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496f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40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Л</a:t>
            </a:r>
            <a:r>
              <a:rPr b="0" lang="ru-RU" sz="29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ИЧНЫЙ ПРИМЕР РАБОТНИКОВ ДЕТСКОГО САДА, РОДИТЕЛЕЙ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Объект 2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50" name="Рисунок 3" descr=""/>
          <p:cNvPicPr/>
          <p:nvPr/>
        </p:nvPicPr>
        <p:blipFill>
          <a:blip r:embed="rId2"/>
          <a:stretch/>
        </p:blipFill>
        <p:spPr>
          <a:xfrm>
            <a:off x="4605480" y="256536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ИСПОЛЬЗОВАНИЕ ХУДОЖЕСТВЕННОЙ ЛИТЕРАТУРЫ, ФОЛЬКЛОРА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entury Gothic"/>
              </a:rPr>
              <a:t>ПРИ    УМЫВАНИИ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Водичка, водичка, умой моё личико,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чтоб глазки блестели,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чтоб щёчки краснели,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Чтоб смеялся роток,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Чтоб кусался зубок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53" name="Объект 4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24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РИ ОДЕВАНИИ И РАЗДЕВАН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2920" y="1531440"/>
            <a:ext cx="43894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До чего же хороши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И нарядны малыши !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Как смотреть на вас приятно,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Все одеты аккуратно!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56" name="Объект 2" descr=""/>
          <p:cNvPicPr/>
          <p:nvPr/>
        </p:nvPicPr>
        <p:blipFill>
          <a:blip r:embed="rId1"/>
          <a:stretch/>
        </p:blipFill>
        <p:spPr>
          <a:xfrm>
            <a:off x="971640" y="1531800"/>
            <a:ext cx="2209680" cy="29480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"/>
          <p:cNvPicPr/>
          <p:nvPr/>
        </p:nvPicPr>
        <p:blipFill>
          <a:blip r:embed="rId2"/>
          <a:stretch/>
        </p:blipFill>
        <p:spPr>
          <a:xfrm>
            <a:off x="2502000" y="4176720"/>
            <a:ext cx="33242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entury Gothic"/>
              </a:rPr>
              <a:t>ВО ВРЕМЯ ЗАРЯДК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9" name="Объект 2" descr=""/>
          <p:cNvPicPr/>
          <p:nvPr/>
        </p:nvPicPr>
        <p:blipFill>
          <a:blip r:embed="rId1"/>
          <a:stretch/>
        </p:blipFill>
        <p:spPr>
          <a:xfrm>
            <a:off x="534960" y="1916280"/>
            <a:ext cx="4043520" cy="3025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Малыши-крепыши вышли на площадку,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Малыши-крепыши делают зарядку,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Раз-два, три-четыре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Руки выше. Ноги шире!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entury Gothic"/>
              </a:rPr>
              <a:t>ПРИ КОРМЛЕНИ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На моей тарелочке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Рыженькая белочка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Чтоб была она видна,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Все съедаю я до дна!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64" name="Рисунок 2" descr=""/>
          <p:cNvPicPr/>
          <p:nvPr/>
        </p:nvPicPr>
        <p:blipFill>
          <a:blip r:embed="rId1"/>
          <a:stretch/>
        </p:blipFill>
        <p:spPr>
          <a:xfrm>
            <a:off x="3924360" y="200196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 Gothic"/>
              </a:rPr>
              <a:t>ПРИ РАСЧЕСЫВАНИИ И ЗАПЛЕТАН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6" name="Объект 2" descr=""/>
          <p:cNvPicPr/>
          <p:nvPr/>
        </p:nvPicPr>
        <p:blipFill>
          <a:blip r:embed="rId1"/>
          <a:stretch/>
        </p:blipFill>
        <p:spPr>
          <a:xfrm>
            <a:off x="826920" y="1569960"/>
            <a:ext cx="3478320" cy="46371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f496f"/>
                </a:solidFill>
                <a:latin typeface="Century Gothic"/>
              </a:rPr>
              <a:t>Петушок – петушок,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f496f"/>
                </a:solidFill>
                <a:latin typeface="Century Gothic"/>
              </a:rPr>
              <a:t>Принеси мне гребешок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f496f"/>
                </a:solidFill>
                <a:latin typeface="Century Gothic"/>
              </a:rPr>
              <a:t>Ну, пожалуйста, прошу,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f496f"/>
                </a:solidFill>
                <a:latin typeface="Century Gothic"/>
              </a:rPr>
              <a:t>Я кудряшки расчешу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1760" y="452520"/>
            <a:ext cx="8439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ИСПОЛЬЗОВАНИЕ СХЕМ-МОДЕЛЕЙ (ПОСЛЕДОВАТЕЛЬНОСТЬ ЭТАПОВ ДЛЯ ОТДЕЛЬНЫХ РЕЖИМНЫХ МОМЕНТОВ</a:t>
            </a:r>
            <a:r>
              <a:rPr b="0" lang="ru-RU" sz="32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70" name="Рисунок 6" descr=""/>
          <p:cNvPicPr/>
          <p:nvPr/>
        </p:nvPicPr>
        <p:blipFill>
          <a:blip r:embed="rId1"/>
          <a:stretch/>
        </p:blipFill>
        <p:spPr>
          <a:xfrm>
            <a:off x="5956200" y="2359080"/>
            <a:ext cx="2444760" cy="32623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8" descr=""/>
          <p:cNvPicPr/>
          <p:nvPr/>
        </p:nvPicPr>
        <p:blipFill>
          <a:blip r:embed="rId2"/>
          <a:stretch/>
        </p:blipFill>
        <p:spPr>
          <a:xfrm>
            <a:off x="390600" y="2349360"/>
            <a:ext cx="2455920" cy="3272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"/>
          <p:cNvPicPr/>
          <p:nvPr/>
        </p:nvPicPr>
        <p:blipFill>
          <a:blip r:embed="rId3"/>
          <a:stretch/>
        </p:blipFill>
        <p:spPr>
          <a:xfrm>
            <a:off x="3209760" y="2338560"/>
            <a:ext cx="24609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49000"/>
            <a:ext cx="81421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Gothic"/>
              </a:rPr>
              <a:t>АКТУАЛЬНОСТЬ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421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Режимные процессы (кормление, укладывание на сон, подъем, сборы на прогулку и возвращение с нее, проведение гигиенических процедур) занимает существенную часть времени бодрствования. Дети нуждаются в терпеливом обучении и непосредственной помощи взрослого. 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7" name="Рисунок 3" descr=""/>
          <p:cNvPicPr/>
          <p:nvPr/>
        </p:nvPicPr>
        <p:blipFill>
          <a:blip r:embed="rId1"/>
          <a:stretch/>
        </p:blipFill>
        <p:spPr>
          <a:xfrm>
            <a:off x="4567320" y="3860640"/>
            <a:ext cx="3460680" cy="2595600"/>
          </a:xfrm>
          <a:prstGeom prst="rect">
            <a:avLst/>
          </a:prstGeom>
          <a:ln w="0">
            <a:noFill/>
          </a:ln>
        </p:spPr>
      </p:pic>
      <p:pic>
        <p:nvPicPr>
          <p:cNvPr id="198" name="Объект 4" descr=""/>
          <p:cNvPicPr/>
          <p:nvPr/>
        </p:nvPicPr>
        <p:blipFill>
          <a:blip r:embed="rId2"/>
          <a:stretch/>
        </p:blipFill>
        <p:spPr>
          <a:xfrm>
            <a:off x="684360" y="38480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  <a:ea typeface="Times New Roman"/>
              </a:rPr>
              <a:t>- СОБЛЮДЕНИЕ ПРАВИЛ ЭТИКЕТА И ПСИХОЛОГИЧЕСКОЙ КУЛЬТУРЫ ВЗАИМООТНОШЕНИ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4" name="Объект 2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2714400" cy="36194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76" name="Рисунок 6" descr=""/>
          <p:cNvPicPr/>
          <p:nvPr/>
        </p:nvPicPr>
        <p:blipFill>
          <a:blip r:embed="rId2"/>
          <a:stretch/>
        </p:blipFill>
        <p:spPr>
          <a:xfrm>
            <a:off x="5308560" y="1522440"/>
            <a:ext cx="2671920" cy="3562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"/>
          <p:cNvPicPr/>
          <p:nvPr/>
        </p:nvPicPr>
        <p:blipFill>
          <a:blip r:embed="rId3"/>
          <a:stretch/>
        </p:blipFill>
        <p:spPr>
          <a:xfrm>
            <a:off x="3368520" y="2997360"/>
            <a:ext cx="2673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ОРМЫ РАБОТЫ С РОДИТЕЛЯМ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4038480" cy="413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Индивидуальные беседы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Стендовые консультации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Родительские собрания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81" name="Рисунок 2" descr=""/>
          <p:cNvPicPr/>
          <p:nvPr/>
        </p:nvPicPr>
        <p:blipFill>
          <a:blip r:embed="rId1"/>
          <a:stretch/>
        </p:blipFill>
        <p:spPr>
          <a:xfrm>
            <a:off x="4516560" y="1319040"/>
            <a:ext cx="3422520" cy="256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3" descr=""/>
          <p:cNvPicPr/>
          <p:nvPr/>
        </p:nvPicPr>
        <p:blipFill>
          <a:blip r:embed="rId2"/>
          <a:stretch/>
        </p:blipFill>
        <p:spPr>
          <a:xfrm>
            <a:off x="3492360" y="366696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691920"/>
            <a:ext cx="807084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63120" y="1268280"/>
            <a:ext cx="79599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146194"/>
                </a:solidFill>
                <a:latin typeface="Century Gothic"/>
              </a:rPr>
              <a:t>ЦЕЛЬ:</a:t>
            </a: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 ВОСПИТЫВАТЬ КУЛЬТУРНО-ГИГИЕНИЧЕСКИЕ НАВЫКИ И НАВЫКИ САМООБСЛУЖИВАНИЯ У ДЕТЕЙ РАННЕГО ВОЗРАСТА ЧЕРЕЗ ПЕДАГОГИЧЕСКУЮ ТЕХНОЛОГИЮ ОРГАНИЗАЦИИ РЕЖИМНЫХ МОМЕНТОВ.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60520" y="3282840"/>
            <a:ext cx="3074760" cy="2306880"/>
          </a:xfrm>
          <a:prstGeom prst="rect">
            <a:avLst/>
          </a:prstGeom>
          <a:ln w="0">
            <a:noFill/>
          </a:ln>
        </p:spPr>
      </p:pic>
      <p:pic>
        <p:nvPicPr>
          <p:cNvPr id="201" name="Объект 4" descr=""/>
          <p:cNvPicPr/>
          <p:nvPr/>
        </p:nvPicPr>
        <p:blipFill>
          <a:blip r:embed="rId2"/>
          <a:stretch/>
        </p:blipFill>
        <p:spPr>
          <a:xfrm>
            <a:off x="3059280" y="4044960"/>
            <a:ext cx="3319200" cy="24890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"/>
          <p:cNvPicPr/>
          <p:nvPr/>
        </p:nvPicPr>
        <p:blipFill>
          <a:blip r:embed="rId3"/>
          <a:srcRect l="0" t="0" r="57" b="-77"/>
          <a:stretch/>
        </p:blipFill>
        <p:spPr>
          <a:xfrm>
            <a:off x="5796000" y="3241800"/>
            <a:ext cx="295272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3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46194"/>
                </a:solidFill>
                <a:latin typeface="Century Gothic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196640"/>
            <a:ext cx="815832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Формировать  умения овладевать культурно – гигиеническими навыками, и навыками самообслуживания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овысить педагогическую компетентность родителей в воспитании у детей раннего возраста культурно -  гигиенических навыков и навыков самообслуживания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обуждать детей к самостоятельности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снастить предметно - развивающую среду учебно – дидактическим комплексом пособий по воспитанию культурно - гигиенических навыков у детей раннего дошкольного возраста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82864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f61"/>
                </a:solidFill>
                <a:latin typeface="Century Gothic"/>
                <a:ea typeface="Times New Roman"/>
              </a:rPr>
              <a:t>- Сформировать привычку следить за своим внешним видом, умение правильно пользоваться мылом, мыть руки, лицо; насухо вытираться после умывания, вешать полотенце;              - Сформировать навыки поведения за столом: пользоваться правильно ложкой, вилкой, салфеткой; не крошить хлеб, пережевывать пищу с закрытым ртом, не разговаривать за столом, не разговаривать с полным ртом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f61"/>
                </a:solidFill>
                <a:latin typeface="Century Gothic"/>
                <a:ea typeface="Times New Roman"/>
              </a:rPr>
              <a:t>- Сформировать начальные представления о ценности здоровья, что здоровье начинается с чистоты тела, что чистота-красота-здоровье – это неразделимые понятия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f61"/>
                </a:solidFill>
                <a:latin typeface="Century Gothic"/>
                <a:ea typeface="Times New Roman"/>
              </a:rPr>
              <a:t>- Сформировать потребность в соблюдение навыков гигиены и опрятности в повседневной жизн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f61"/>
                </a:solidFill>
                <a:latin typeface="Century Gothic"/>
                <a:ea typeface="Times New Roman"/>
              </a:rPr>
              <a:t>- Активно привлекать родителей к соблюдению и развитию навыков личной гигиены дома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f61"/>
                </a:solidFill>
                <a:latin typeface="Century Gothic"/>
                <a:ea typeface="Times New Roman"/>
              </a:rPr>
              <a:t>- Обогатить предметно-развивающую среду группы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533520" y="404640"/>
            <a:ext cx="79261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ланируемый результа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ФОРМЫ РАБОТЫ С ДЕТЬ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-  прямое обучение: показ, объяснение, беседа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- выполнении действий в процессе дидактических игр и упражнений;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- систематическое напоминание детям о необходимости соблюдать правила гигиены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- личный пример работников детского сада, родителей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- использование художественной литературы, фольклора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-использование схем-моделей </a:t>
            </a:r>
            <a:r>
              <a:rPr b="0" i="1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(последовательность этапов для отдельных режимных моментов)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- соблюдение правил этикета и психологическая культура взаимоотношений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УМЕНИЕ УМЫВАТЬСЯ  И ВЫТИРАТЬ ПРАВИЛЬНО РУКИ, ПОЛЬЗОВАТЬСЯ РАСЧЕСКОЙ И  НОСОВЫМ ПЛАТКОМ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4000" y="1466640"/>
            <a:ext cx="316872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2" name="Рисунок 3" descr=""/>
          <p:cNvPicPr/>
          <p:nvPr/>
        </p:nvPicPr>
        <p:blipFill>
          <a:blip r:embed="rId1"/>
          <a:stretch/>
        </p:blipFill>
        <p:spPr>
          <a:xfrm>
            <a:off x="4691160" y="1405080"/>
            <a:ext cx="2490840" cy="3319200"/>
          </a:xfrm>
          <a:prstGeom prst="rect">
            <a:avLst/>
          </a:prstGeom>
          <a:ln w="0">
            <a:noFill/>
          </a:ln>
        </p:spPr>
      </p:pic>
      <p:pic>
        <p:nvPicPr>
          <p:cNvPr id="213" name="Объект 5" descr=""/>
          <p:cNvPicPr/>
          <p:nvPr/>
        </p:nvPicPr>
        <p:blipFill>
          <a:blip r:embed="rId2"/>
          <a:stretch/>
        </p:blipFill>
        <p:spPr>
          <a:xfrm>
            <a:off x="6151680" y="3135240"/>
            <a:ext cx="2455920" cy="3273480"/>
          </a:xfrm>
          <a:prstGeom prst="rect">
            <a:avLst/>
          </a:prstGeom>
          <a:ln w="0">
            <a:noFill/>
          </a:ln>
        </p:spPr>
      </p:pic>
      <p:pic>
        <p:nvPicPr>
          <p:cNvPr id="214" name="Объект 2" descr=""/>
          <p:cNvPicPr/>
          <p:nvPr/>
        </p:nvPicPr>
        <p:blipFill>
          <a:blip r:embed="rId3"/>
          <a:stretch/>
        </p:blipFill>
        <p:spPr>
          <a:xfrm>
            <a:off x="701640" y="1393920"/>
            <a:ext cx="2401920" cy="32018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"/>
          <p:cNvPicPr/>
          <p:nvPr/>
        </p:nvPicPr>
        <p:blipFill>
          <a:blip r:embed="rId4"/>
          <a:stretch/>
        </p:blipFill>
        <p:spPr>
          <a:xfrm>
            <a:off x="2490840" y="3141720"/>
            <a:ext cx="2467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БРАТЬ СТУЛ И САДИТЬСЯ ЗА ОБЕДЕННЫЙ СТОЛ НА ОДНО И ТО ЖЕ МЕСТО, ПРАВИЛЬНО ДЕРЖАТЬ ЛОЖКУ, АККУРАТНО ПИТЬ  ИЗ ЧАШКИ, ВЫТИРАТЬ РОТ САЛФЕТКОЙ ПОСЛЕ ЕДЫ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88000" y="1844640"/>
            <a:ext cx="3898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8" name="Рисунок 6" descr=""/>
          <p:cNvPicPr/>
          <p:nvPr/>
        </p:nvPicPr>
        <p:blipFill>
          <a:blip r:embed="rId1"/>
          <a:stretch/>
        </p:blipFill>
        <p:spPr>
          <a:xfrm>
            <a:off x="684360" y="1871640"/>
            <a:ext cx="2220840" cy="2963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"/>
          <p:cNvPicPr/>
          <p:nvPr/>
        </p:nvPicPr>
        <p:blipFill>
          <a:blip r:embed="rId2"/>
          <a:stretch/>
        </p:blipFill>
        <p:spPr>
          <a:xfrm>
            <a:off x="1592280" y="4540320"/>
            <a:ext cx="2927160" cy="2195280"/>
          </a:xfrm>
          <a:prstGeom prst="rect">
            <a:avLst/>
          </a:prstGeom>
          <a:ln w="0">
            <a:noFill/>
          </a:ln>
        </p:spPr>
      </p:pic>
      <p:pic>
        <p:nvPicPr>
          <p:cNvPr id="220" name="Объект 8" descr=""/>
          <p:cNvPicPr/>
          <p:nvPr/>
        </p:nvPicPr>
        <p:blipFill>
          <a:blip r:embed="rId3"/>
          <a:stretch/>
        </p:blipFill>
        <p:spPr>
          <a:xfrm>
            <a:off x="3557520" y="1844640"/>
            <a:ext cx="2244960" cy="29908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"/>
          <p:cNvPicPr/>
          <p:nvPr/>
        </p:nvPicPr>
        <p:blipFill>
          <a:blip r:embed="rId4"/>
          <a:stretch/>
        </p:blipFill>
        <p:spPr>
          <a:xfrm>
            <a:off x="6303960" y="1855800"/>
            <a:ext cx="2349360" cy="31338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" descr=""/>
          <p:cNvPicPr/>
          <p:nvPr/>
        </p:nvPicPr>
        <p:blipFill>
          <a:blip r:embed="rId5"/>
          <a:stretch/>
        </p:blipFill>
        <p:spPr>
          <a:xfrm>
            <a:off x="5089680" y="4640400"/>
            <a:ext cx="27954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320" y="-228960"/>
            <a:ext cx="8712360" cy="24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АВИЛЬНО НАДЕВАТЬ/РАЗДЕВАТЬ ОДЕЖДУ И ОБУВЬ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ПРИ НЕБОЛЬШОЙ ПОМОЩИ ВЗРОСЛОГО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;                           В ОПРЕДЕЛЁННОМ ПОРЯДКЕ АККУРАТНО СКЛАДЫВАТЬ СНЯТУЮ ОДЕЖДУ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481360" y="2852640"/>
            <a:ext cx="3205080" cy="32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ри небольшой помощи взрослого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318960" y="1952640"/>
            <a:ext cx="2089440" cy="2786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"/>
          <p:cNvPicPr/>
          <p:nvPr/>
        </p:nvPicPr>
        <p:blipFill>
          <a:blip r:embed="rId2"/>
          <a:stretch/>
        </p:blipFill>
        <p:spPr>
          <a:xfrm>
            <a:off x="1944720" y="3645000"/>
            <a:ext cx="2089080" cy="2784240"/>
          </a:xfrm>
          <a:prstGeom prst="rect">
            <a:avLst/>
          </a:prstGeom>
          <a:ln w="0">
            <a:noFill/>
          </a:ln>
        </p:spPr>
      </p:pic>
      <p:pic>
        <p:nvPicPr>
          <p:cNvPr id="227" name="Объект 4" descr=""/>
          <p:cNvPicPr/>
          <p:nvPr/>
        </p:nvPicPr>
        <p:blipFill>
          <a:blip r:embed="rId3"/>
          <a:stretch/>
        </p:blipFill>
        <p:spPr>
          <a:xfrm>
            <a:off x="3571920" y="1952640"/>
            <a:ext cx="2087640" cy="27860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"/>
          <p:cNvPicPr/>
          <p:nvPr/>
        </p:nvPicPr>
        <p:blipFill>
          <a:blip r:embed="rId4"/>
          <a:stretch/>
        </p:blipFill>
        <p:spPr>
          <a:xfrm>
            <a:off x="5113440" y="3645000"/>
            <a:ext cx="1995480" cy="2660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"/>
          <p:cNvPicPr/>
          <p:nvPr/>
        </p:nvPicPr>
        <p:blipFill>
          <a:blip r:embed="rId5"/>
          <a:srcRect l="0" t="0" r="-65" b="0"/>
          <a:stretch/>
        </p:blipFill>
        <p:spPr>
          <a:xfrm>
            <a:off x="6738840" y="1833480"/>
            <a:ext cx="20811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4:58:14Z</dcterms:created>
  <dc:creator>Customer</dc:creator>
  <dc:description/>
  <dc:language>en-US</dc:language>
  <cp:lastModifiedBy>User</cp:lastModifiedBy>
  <dcterms:modified xsi:type="dcterms:W3CDTF">2019-04-02T18:50:59Z</dcterms:modified>
  <cp:revision>68</cp:revision>
  <dc:subject/>
  <dc:title>Воспитание культурно-гигиенических навыков и навыков самообслужи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110000000000010290110207f7000400038000</vt:lpwstr>
  </property>
  <property fmtid="{D5CDD505-2E9C-101B-9397-08002B2CF9AE}" pid="3" name="Version">
    <vt:r8>4</vt:r8>
  </property>
</Properties>
</file>