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6.gif" ContentType="image/gif"/>
  <Override PartName="/ppt/media/image29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7.png" ContentType="image/png"/>
  <Override PartName="/ppt/media/image22.jpeg" ContentType="image/jpeg"/>
  <Override PartName="/ppt/media/image3.gif" ContentType="image/gif"/>
  <Override PartName="/ppt/media/image28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1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05F-10A8-4C74-A685-6F799DCA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31B-7151-4B09-835C-93CC7845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20B-A371-4F8F-84D1-C596CAA6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E3B-D328-46A0-87AC-29F60209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0DE8-3DE0-4A4B-BAEF-BD9FFB04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C390-3C16-47A5-B32E-38B68564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A72B-60AD-41DD-A172-8A68D6B2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E197-55E6-4326-A571-573B84BE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E26C-9C67-417C-BC88-AD02DCBD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4543-A106-44AE-B053-5F34E7DA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2806-D9EA-4411-B489-51E59F63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F80-7128-4BE9-B172-4003E05D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942C-01E4-4933-A7DD-B5A67454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780C-D354-4034-B889-2B7E6F36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0337-0693-43DD-A942-2B356DCC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F610-242E-4088-9043-BAF325F6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C14E-6CA9-4057-B2A3-FCC94A2E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B24-0135-47A6-AF0B-35469912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5BD-A046-4F0F-8C6A-69D2E119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F4F-83FD-43E3-B84A-2A436511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A15-5C42-4898-998A-799A8711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C22-D7C3-4A9A-8FAF-09F60679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AEA8-826F-4064-85EF-C0658EEE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201-D5F3-49AF-8218-F3C00943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8C49-D824-4D79-9F3F-1ABCA870A9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3960" cy="2255760"/>
            <a:chOff x="7167960" y="-82800"/>
            <a:chExt cx="2433960" cy="22557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3960" cy="2255760"/>
              <a:chOff x="7167960" y="-82800"/>
              <a:chExt cx="2433960" cy="22557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3960" cy="2255760"/>
                <a:chOff x="7167960" y="-82800"/>
                <a:chExt cx="2433960" cy="22557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6920" y="518400"/>
                  <a:ext cx="430920" cy="695160"/>
                </a:xfrm>
                <a:custGeom>
                  <a:avLst/>
                  <a:gdLst>
                    <a:gd name="textAreaLeft" fmla="*/ 0 w 430920"/>
                    <a:gd name="textAreaRight" fmla="*/ 431280 w 4309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3440" y="281520"/>
                  <a:ext cx="808920" cy="1425600"/>
                </a:xfrm>
                <a:custGeom>
                  <a:avLst/>
                  <a:gdLst>
                    <a:gd name="textAreaLeft" fmla="*/ 0 w 808920"/>
                    <a:gd name="textAreaRight" fmla="*/ 809280 w 8089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1600"/>
                  <a:ext cx="1214640" cy="2133360"/>
                </a:xfrm>
                <a:custGeom>
                  <a:avLst/>
                  <a:gdLst>
                    <a:gd name="textAreaLeft" fmla="*/ 0 w 1214640"/>
                    <a:gd name="textAreaRight" fmla="*/ 1214640 w 1214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2920" y="1421280"/>
                  <a:ext cx="270360" cy="19368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800" cy="228600"/>
                </a:xfrm>
                <a:custGeom>
                  <a:avLst/>
                  <a:gdLst>
                    <a:gd name="textAreaLeft" fmla="*/ 0 w 289800"/>
                    <a:gd name="textAreaRight" fmla="*/ 290160 w 2898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880"/>
                  <a:ext cx="289800" cy="233640"/>
                </a:xfrm>
                <a:custGeom>
                  <a:avLst/>
                  <a:gdLst>
                    <a:gd name="textAreaLeft" fmla="*/ 0 w 289800"/>
                    <a:gd name="textAreaRight" fmla="*/ 290160 w 2898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6720" y="212040"/>
                  <a:ext cx="286560" cy="219240"/>
                </a:xfrm>
                <a:custGeom>
                  <a:avLst/>
                  <a:gdLst>
                    <a:gd name="textAreaLeft" fmla="*/ 0 w 286560"/>
                    <a:gd name="textAreaRight" fmla="*/ 286920 w 2865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9CB4-05DB-4164-9876-2AEFA45693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u.wikipedia.org/wiki/&#1060;&#1072;&#1081;&#1083;:TiaFront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ng.com/images/search?q=&#1092;&#1086;&#1090;&#1086;+&#1089;&#1086;&#1073;&#1072;&#1095;&#1082;&#1080;++&#1087;&#1086;&#1088;&#1086;&#1076;&#1099;+&#1082;&#1080;&#1090;&#1072;&#1081;&#1089;&#1082;&#1072;&#1103;+&#1093;&#1086;&#1093;&#1083;&#1072;&#1090;&#1072;&#1103;&amp;view=detail&amp;id=566D28CCF9FE7FCDC77D7AD22B7C7FC428A339EC&amp;first=0&amp;FORM=IDFRIR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bing.com/images/search?q=&#1092;&#1086;&#1090;&#1086;+&#1089;&#1086;&#1073;&#1072;&#1095;&#1082;&#1080;++&#1087;&#1086;&#1088;&#1086;&#1076;&#1099;+&#1082;&#1080;&#1090;&#1072;&#1081;&#1089;&#1082;&#1072;&#1103;+&#1093;&#1086;&#1093;&#1083;&#1072;&#1090;&#1072;&#1103;&amp;view=detail&amp;id=D84578C53F2B84EDC8373E5F2A439955D15EF1ED&amp;first=0&amp;FORM=IDFRIR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animal.ru/pet23803/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assmag.ru/heroes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49.radikal.ru/i123/1007/03/31f37012d252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B_Fly02"/>
          <p:cNvPicPr/>
          <p:nvPr/>
        </p:nvPicPr>
        <p:blipFill>
          <a:blip r:embed="rId1"/>
          <a:stretch/>
        </p:blipFill>
        <p:spPr>
          <a:xfrm>
            <a:off x="971640" y="4653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3"/>
          <p:cNvSpPr/>
          <p:nvPr/>
        </p:nvSpPr>
        <p:spPr>
          <a:xfrm>
            <a:off x="3762360" y="728640"/>
            <a:ext cx="5219640" cy="2521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omic Sans MS"/>
              </a:rPr>
              <a:t>КЛАССНЫЙ ЖУРНА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Рисунок 4" descr="Классный журнал N44-2011"/>
          <p:cNvPicPr/>
          <p:nvPr/>
        </p:nvPicPr>
        <p:blipFill>
          <a:blip r:embed="rId2"/>
          <a:stretch/>
        </p:blipFill>
        <p:spPr>
          <a:xfrm>
            <a:off x="431640" y="2033640"/>
            <a:ext cx="3311640" cy="4608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36_2_25"/>
          <p:cNvPicPr/>
          <p:nvPr/>
        </p:nvPicPr>
        <p:blipFill>
          <a:blip r:embed="rId3"/>
          <a:stretch/>
        </p:blipFill>
        <p:spPr>
          <a:xfrm>
            <a:off x="5516640" y="3789360"/>
            <a:ext cx="1611360" cy="143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5864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зновидности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Выгнутая влево стрелка 3"/>
          <p:cNvSpPr/>
          <p:nvPr/>
        </p:nvSpPr>
        <p:spPr>
          <a:xfrm>
            <a:off x="1241280" y="1449360"/>
            <a:ext cx="630360" cy="1305000"/>
          </a:xfrm>
          <a:custGeom>
            <a:avLst/>
            <a:gdLst>
              <a:gd name="textAreaLeft" fmla="*/ 84240 w 630360"/>
              <a:gd name="textAreaRight" fmla="*/ 546120 w 630360"/>
              <a:gd name="textAreaTop" fmla="*/ 267120 h 1305000"/>
              <a:gd name="textAreaBottom" fmla="*/ 95904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44" stAng="-5400000" swAng="-5400000"/>
                <a:lnTo>
                  <a:pt x="0" y="11452"/>
                </a:lnTo>
                <a:arcTo wR="21600" hR="8844" stAng="10800000" swAng="-3465849"/>
                <a:lnTo>
                  <a:pt x="16200" y="21319"/>
                </a:lnTo>
                <a:lnTo>
                  <a:pt x="21600" y="18992"/>
                </a:lnTo>
                <a:lnTo>
                  <a:pt x="16200" y="16103"/>
                </a:lnTo>
                <a:lnTo>
                  <a:pt x="16200" y="17407"/>
                </a:lnTo>
                <a:arcTo wR="21600" hR="8844" stAng="7334151" swAng="3256277"/>
                <a:lnTo>
                  <a:pt x="236" y="10148"/>
                </a:lnTo>
                <a:arcTo wR="21600" hR="8844" stAng="-10590429" swAng="5190429"/>
                <a:close/>
              </a:path>
              <a:path fill="darkenLess" w="21600" h="21600">
                <a:moveTo>
                  <a:pt x="21600" y="0"/>
                </a:moveTo>
                <a:arcTo wR="21600" hR="8844" stAng="-5400000" swAng="-5400000"/>
                <a:lnTo>
                  <a:pt x="0" y="8844"/>
                </a:lnTo>
                <a:arcTo wR="21600" hR="8844" stAng="10800000" swAng="-209571"/>
                <a:lnTo>
                  <a:pt x="236" y="10148"/>
                </a:lnTo>
                <a:arcTo wR="21600" hR="8844" stAng="-10590429" swAng="5190429"/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Выгнутая вправо стрелка 4"/>
          <p:cNvSpPr/>
          <p:nvPr/>
        </p:nvSpPr>
        <p:spPr>
          <a:xfrm>
            <a:off x="6416640" y="1314360"/>
            <a:ext cx="674640" cy="1441440"/>
          </a:xfrm>
          <a:custGeom>
            <a:avLst/>
            <a:gdLst>
              <a:gd name="textAreaLeft" fmla="*/ 90360 w 674640"/>
              <a:gd name="textAreaRight" fmla="*/ 584280 w 674640"/>
              <a:gd name="textAreaTop" fmla="*/ 297000 h 1441440"/>
              <a:gd name="textAreaBottom" fmla="*/ 10602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05" stAng="-5400000" swAng="5400000"/>
                <a:lnTo>
                  <a:pt x="21600" y="11432"/>
                </a:lnTo>
                <a:arcTo wR="21600" hR="8905" stAng="0" swAng="3476408"/>
                <a:lnTo>
                  <a:pt x="5400" y="21317"/>
                </a:lnTo>
                <a:lnTo>
                  <a:pt x="0" y="19073"/>
                </a:lnTo>
                <a:lnTo>
                  <a:pt x="5400" y="16262"/>
                </a:lnTo>
                <a:lnTo>
                  <a:pt x="5400" y="17526"/>
                </a:lnTo>
                <a:arcTo wR="21600" hR="8905" stAng="3476408" swAng="-3273496"/>
                <a:lnTo>
                  <a:pt x="21381" y="10168"/>
                </a:lnTo>
                <a:arcTo wR="21600" hR="8905" stAng="-202912" swAng="-5197088"/>
                <a:close/>
              </a:path>
              <a:path fill="darkenLess" w="21600" h="21600">
                <a:moveTo>
                  <a:pt x="0" y="0"/>
                </a:moveTo>
                <a:arcTo wR="21600" hR="8905" stAng="-5400000" swAng="5400000"/>
                <a:lnTo>
                  <a:pt x="21600" y="11432"/>
                </a:lnTo>
                <a:arcTo wR="21600" hR="8905" stAng="0" swAng="-202912"/>
                <a:lnTo>
                  <a:pt x="21381" y="10168"/>
                </a:lnTo>
                <a:arcTo wR="21600" hR="8905" stAng="-202912" swAng="-5197088"/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Стрелка вниз 10"/>
          <p:cNvSpPr/>
          <p:nvPr/>
        </p:nvSpPr>
        <p:spPr>
          <a:xfrm flipH="1">
            <a:off x="4257000" y="1403280"/>
            <a:ext cx="493560" cy="135108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Прямоугольник 11"/>
          <p:cNvSpPr/>
          <p:nvPr/>
        </p:nvSpPr>
        <p:spPr>
          <a:xfrm>
            <a:off x="206280" y="3114720"/>
            <a:ext cx="27003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удерпуфы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Прямоугольник 12"/>
          <p:cNvSpPr/>
          <p:nvPr/>
        </p:nvSpPr>
        <p:spPr>
          <a:xfrm>
            <a:off x="3267000" y="3114720"/>
            <a:ext cx="21146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ни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Прямоугольник 13"/>
          <p:cNvSpPr/>
          <p:nvPr/>
        </p:nvSpPr>
        <p:spPr>
          <a:xfrm>
            <a:off x="5742000" y="3114720"/>
            <a:ext cx="3060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лые соба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Рисунок 15" descr="http://animal.ru/i/upload/129830098250.jpg"/>
          <p:cNvPicPr/>
          <p:nvPr/>
        </p:nvPicPr>
        <p:blipFill>
          <a:blip r:embed="rId1"/>
          <a:stretch/>
        </p:blipFill>
        <p:spPr>
          <a:xfrm>
            <a:off x="3041640" y="4103640"/>
            <a:ext cx="2835360" cy="24303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4" descr="http://upload.wikimedia.org/wikipedia/commons/thumb/e/ee/TiaFront.jpg/150px-TiaFron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6280" y="4059360"/>
            <a:ext cx="2521080" cy="25653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4" descr="http://www.ksolo.ru/kalendarikiinet/xox31.jpg"/>
          <p:cNvPicPr/>
          <p:nvPr/>
        </p:nvPicPr>
        <p:blipFill>
          <a:blip r:embed="rId4"/>
          <a:stretch/>
        </p:blipFill>
        <p:spPr>
          <a:xfrm>
            <a:off x="6327720" y="4149720"/>
            <a:ext cx="22939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3" descr="http://ts4.mm.bing.net/images/thumbnail.aspx?q=1295916993047&amp;id=04fa82871577ce3488f6f2a1b3f0ff7a&amp;url=http%3a%2f%2fdogcat.ua%2fMedia%2fKit_hohlata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280" y="279360"/>
            <a:ext cx="3691080" cy="31496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http://ts4.mm.bing.net/images/thumbnail.aspx?q=1310849573899&amp;id=2e4d6bfababd6db79a5b3d350efa1d33&amp;url=http%3a%2f%2fsobaka.lv%2fimg%2fS0508%2fSmall%2f205-0807-0045-S-Cres-180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02000" y="3068640"/>
            <a:ext cx="41846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3" descr="Китайская хохлатая собачка (Chinese Crested Dog)"/>
          <p:cNvPicPr/>
          <p:nvPr/>
        </p:nvPicPr>
        <p:blipFill>
          <a:blip r:embed="rId1"/>
          <a:stretch/>
        </p:blipFill>
        <p:spPr>
          <a:xfrm>
            <a:off x="522360" y="503280"/>
            <a:ext cx="4498920" cy="504036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The Only and Unique Chane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97360" y="503280"/>
            <a:ext cx="2745000" cy="2340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МИСТИКА ЛЮМАРИ АНИКА"/>
          <p:cNvPicPr/>
          <p:nvPr/>
        </p:nvPicPr>
        <p:blipFill>
          <a:blip r:embed="rId4"/>
          <a:stretch/>
        </p:blipFill>
        <p:spPr>
          <a:xfrm>
            <a:off x="5786280" y="3203640"/>
            <a:ext cx="261144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3" descr="http://animal.ru/i/upload/129830095698.jpg"/>
          <p:cNvPicPr/>
          <p:nvPr/>
        </p:nvPicPr>
        <p:blipFill>
          <a:blip r:embed="rId1"/>
          <a:stretch/>
        </p:blipFill>
        <p:spPr>
          <a:xfrm>
            <a:off x="206280" y="189000"/>
            <a:ext cx="4381560" cy="311472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4" descr="http://animal.ru/i/upload/129830097031.jpg"/>
          <p:cNvPicPr/>
          <p:nvPr/>
        </p:nvPicPr>
        <p:blipFill>
          <a:blip r:embed="rId2"/>
          <a:stretch/>
        </p:blipFill>
        <p:spPr>
          <a:xfrm>
            <a:off x="3897360" y="3429000"/>
            <a:ext cx="438156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3" descr="http://animal.ru/i/upload/129830099652.jpg"/>
          <p:cNvPicPr/>
          <p:nvPr/>
        </p:nvPicPr>
        <p:blipFill>
          <a:blip r:embed="rId1"/>
          <a:stretch/>
        </p:blipFill>
        <p:spPr>
          <a:xfrm>
            <a:off x="431640" y="458640"/>
            <a:ext cx="4381560" cy="28767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http://animal.ru/i/upload/129830101465.jpg"/>
          <p:cNvPicPr/>
          <p:nvPr/>
        </p:nvPicPr>
        <p:blipFill>
          <a:blip r:embed="rId2"/>
          <a:stretch/>
        </p:blipFill>
        <p:spPr>
          <a:xfrm>
            <a:off x="3897360" y="3608280"/>
            <a:ext cx="43815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3" descr="http://www.griffon-spitz.ru/ukrasheniya/china-groom/kony2.jpg"/>
          <p:cNvPicPr/>
          <p:nvPr/>
        </p:nvPicPr>
        <p:blipFill>
          <a:blip r:embed="rId1"/>
          <a:stretch/>
        </p:blipFill>
        <p:spPr>
          <a:xfrm>
            <a:off x="476280" y="638280"/>
            <a:ext cx="778680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3" descr="http://www.ksolo.ru/images/ksolo_club%20(5).jpg"/>
          <p:cNvPicPr/>
          <p:nvPr/>
        </p:nvPicPr>
        <p:blipFill>
          <a:blip r:embed="rId1"/>
          <a:stretch/>
        </p:blipFill>
        <p:spPr>
          <a:xfrm>
            <a:off x="4032360" y="1403280"/>
            <a:ext cx="3419280" cy="27907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" descr="Китайские Хохлатые Собаки - Жолеск Эдмонд - пуховый кобель и Нарцис Германика - голый кобель"/>
          <p:cNvPicPr/>
          <p:nvPr/>
        </p:nvPicPr>
        <p:blipFill>
          <a:blip r:embed="rId2"/>
          <a:stretch/>
        </p:blipFill>
        <p:spPr>
          <a:xfrm>
            <a:off x="431640" y="324000"/>
            <a:ext cx="2745000" cy="18907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5" descr="Китайские Хохлатые Собаки - Ксоло Клаб Бавария и Атлант Кордиаль Легенда Ксоло Клаб совладелец Мария Белякова"/>
          <p:cNvPicPr/>
          <p:nvPr/>
        </p:nvPicPr>
        <p:blipFill>
          <a:blip r:embed="rId3"/>
          <a:stretch/>
        </p:blipFill>
        <p:spPr>
          <a:xfrm>
            <a:off x="5651640" y="4373640"/>
            <a:ext cx="274608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6" descr="Китайские Хохлатые Собаки - Ксоло Клаб Юлика и  Ксоло Клаб Космос совладелецы Елена ,Медведева и Нина Селиванова"/>
          <p:cNvPicPr/>
          <p:nvPr/>
        </p:nvPicPr>
        <p:blipFill>
          <a:blip r:embed="rId4"/>
          <a:stretch/>
        </p:blipFill>
        <p:spPr>
          <a:xfrm>
            <a:off x="385920" y="2843280"/>
            <a:ext cx="29257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1828440"/>
            <a:ext cx="7696080" cy="17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Рисунок 4" descr="Точка отсчёта-1 сентября 2010 года"/>
          <p:cNvPicPr/>
          <p:nvPr/>
        </p:nvPicPr>
        <p:blipFill>
          <a:blip r:embed="rId1"/>
          <a:stretch/>
        </p:blipFill>
        <p:spPr>
          <a:xfrm>
            <a:off x="2367000" y="4689360"/>
            <a:ext cx="1590480" cy="17431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5" descr=":bye:"/>
          <p:cNvPicPr/>
          <p:nvPr/>
        </p:nvPicPr>
        <p:blipFill>
          <a:blip r:embed="rId2"/>
          <a:stretch/>
        </p:blipFill>
        <p:spPr>
          <a:xfrm>
            <a:off x="746280" y="41436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6" descr="Классный журнал N44-2011"/>
          <p:cNvPicPr/>
          <p:nvPr/>
        </p:nvPicPr>
        <p:blipFill>
          <a:blip r:embed="rId3"/>
          <a:stretch/>
        </p:blipFill>
        <p:spPr>
          <a:xfrm>
            <a:off x="5742000" y="4284720"/>
            <a:ext cx="17557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97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Классный журна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20600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овременный журнал для детей младшего и среднего школьного возрас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Издается с 1999 года. В год выходит 48 номер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Рисунок 9" descr="Классный журнал"/>
          <p:cNvPicPr/>
          <p:nvPr/>
        </p:nvPicPr>
        <p:blipFill>
          <a:blip r:embed="rId1"/>
          <a:stretch/>
        </p:blipFill>
        <p:spPr>
          <a:xfrm>
            <a:off x="6012000" y="3473280"/>
            <a:ext cx="220500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24000"/>
            <a:ext cx="7711920" cy="15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Актуальная познавательная и развивающая информация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4328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Научные открытия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Спорт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Техника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Мультики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Полезные советы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Компьютерные игры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Детские киноновин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Рисунок 4" descr="Классный журнал"/>
          <p:cNvPicPr/>
          <p:nvPr/>
        </p:nvPicPr>
        <p:blipFill>
          <a:blip r:embed="rId1"/>
          <a:stretch/>
        </p:blipFill>
        <p:spPr>
          <a:xfrm>
            <a:off x="6507000" y="2303640"/>
            <a:ext cx="19623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6870600" cy="17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7030a0"/>
                </a:solidFill>
                <a:latin typeface="Comic Sans MS"/>
              </a:rPr>
              <a:t>К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лючевые преимущества журнал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5920" y="2168640"/>
            <a:ext cx="859608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связь с читающей аудиторией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 читателей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ация писем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численные и разнообразные конкурс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24" descr="AG00030_"/>
          <p:cNvPicPr/>
          <p:nvPr/>
        </p:nvPicPr>
        <p:blipFill>
          <a:blip r:embed="rId1"/>
          <a:stretch/>
        </p:blipFill>
        <p:spPr>
          <a:xfrm>
            <a:off x="7272360" y="1359000"/>
            <a:ext cx="14288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5800" y="669240"/>
            <a:ext cx="7307280" cy="444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33"/>
                </a:solidFill>
                <a:latin typeface="Tahoma"/>
                <a:ea typeface="Times New Roman"/>
              </a:rPr>
              <a:t>Уникальные рисованные герои </a:t>
            </a:r>
            <a:r>
              <a:rPr b="0" lang="ru-RU" sz="4000" spc="-1" strike="noStrike" u="sng">
                <a:solidFill>
                  <a:srgbClr val="00b200"/>
                </a:solidFill>
                <a:uFillTx/>
                <a:latin typeface="Tahoma"/>
                <a:ea typeface="Times New Roman"/>
                <a:hlinkClick r:id="rId1"/>
              </a:rPr>
              <a:t>Пантукль и Жукабра</a:t>
            </a:r>
            <a:r>
              <a:rPr b="0" lang="ru-RU" sz="4000" spc="-1" strike="noStrike">
                <a:solidFill>
                  <a:srgbClr val="7030a0"/>
                </a:solidFill>
                <a:latin typeface="Tahoma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663333"/>
                </a:solidFill>
                <a:latin typeface="Tahoma"/>
                <a:ea typeface="Times New Roman"/>
              </a:rPr>
              <a:t>живут на страницах журнала,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33"/>
                </a:solidFill>
                <a:latin typeface="Tahoma"/>
                <a:ea typeface="Times New Roman"/>
              </a:rPr>
              <a:t>помогая юным читателям разобраться в интересующих их вопросах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Содержимое 3" descr="http://www.classmag.ru/heroes/tog.gif"/>
          <p:cNvPicPr/>
          <p:nvPr/>
        </p:nvPicPr>
        <p:blipFill>
          <a:blip r:embed="rId2"/>
          <a:stretch/>
        </p:blipFill>
        <p:spPr>
          <a:xfrm>
            <a:off x="5651640" y="450864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97960" cy="18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антукль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ысь. 10 лет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чится в школ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Содержимое 7" descr="http://www.classmag.ru/heroes/pant.gif"/>
          <p:cNvPicPr/>
          <p:nvPr/>
        </p:nvPicPr>
        <p:blipFill>
          <a:blip r:embed="rId1"/>
          <a:stretch/>
        </p:blipFill>
        <p:spPr>
          <a:xfrm>
            <a:off x="250920" y="819000"/>
            <a:ext cx="2565360" cy="4589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 flipV="1" rot="10800000">
            <a:off x="2636640" y="2214720"/>
            <a:ext cx="5849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33"/>
                </a:solidFill>
                <a:latin typeface="Times New Roman"/>
                <a:ea typeface="Times New Roman"/>
              </a:rPr>
              <a:t>Любознательный и очень весёлый непоседа.</a:t>
            </a:r>
            <a:br>
              <a:rPr sz="2000"/>
            </a:br>
            <a:r>
              <a:rPr b="0" lang="ru-RU" sz="2000" spc="-1" strike="noStrike">
                <a:solidFill>
                  <a:srgbClr val="663333"/>
                </a:solidFill>
                <a:latin typeface="Times New Roman"/>
                <a:ea typeface="Times New Roman"/>
              </a:rPr>
              <a:t>Обожает делать открытия и совать нос в самое интересное, а также прыгать, лазить, бегать, кататься на велосипеде, роликах, лыжах, санках и коньках. Увлекается приключениями. </a:t>
            </a:r>
            <a:br>
              <a:rPr sz="2000"/>
            </a:br>
            <a:r>
              <a:rPr b="0" lang="ru-RU" sz="2000" spc="-1" strike="noStrike">
                <a:solidFill>
                  <a:srgbClr val="663333"/>
                </a:solidFill>
                <a:latin typeface="Times New Roman"/>
                <a:ea typeface="Times New Roman"/>
              </a:rPr>
              <a:t>Дружит с австралийскими аборигенами, индейцами Новой Зеландии, эскимосами, пиратами Средиземного моря.... и одной инопланетянкой. Собирает ответы на самые трудные вопросы. (Например: «где раки зимуют?»). Мечтает стать первооткрывателем чего-нибудь.</a:t>
            </a:r>
            <a:br>
              <a:rPr sz="2000"/>
            </a:br>
            <a:r>
              <a:rPr b="0" lang="ru-RU" sz="2000" spc="-1" strike="noStrike">
                <a:solidFill>
                  <a:srgbClr val="663333"/>
                </a:solidFill>
                <a:latin typeface="Times New Roman"/>
                <a:ea typeface="Times New Roman"/>
              </a:rPr>
              <a:t>Любимое животное - сумчатый ле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979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укабра. Инопланетянк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9234 года.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земным меркам 9 с половиной ле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дит в школ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8"/>
          <p:cNvSpPr/>
          <p:nvPr/>
        </p:nvSpPr>
        <p:spPr>
          <a:xfrm flipV="1" rot="10800000">
            <a:off x="2410920" y="1861200"/>
            <a:ext cx="63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неё четыре лапы. И Жукабра любит, когда в каждой лапе у неё по мороженому, а лучше по два..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воей Машине Времени она хранит конфеты, а в летающую тарелку уже не помещается её коллекция фантик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щё у Жукабры есть Машина-Уменьшалка. На ней можно совершить путешествие в каплю воды. В Машине-Уменьшалке Жукабра прячет свои шпаргалки. Инопланетянка очень любит свою бабушку Кардельеру Тигровну. Она живёт на родной планете Жукабры и варит вкусное варень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своём звездолёте Жукабра летает к бабушке на канику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Рисунок 10" descr="http://www.classmag.ru/heroes/juk.gif"/>
          <p:cNvPicPr/>
          <p:nvPr/>
        </p:nvPicPr>
        <p:blipFill>
          <a:blip r:embed="rId1"/>
          <a:stretch/>
        </p:blipFill>
        <p:spPr>
          <a:xfrm>
            <a:off x="250920" y="1179360"/>
            <a:ext cx="202572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3" descr="http://www.classmag.ru/heroes/tog.gif"/>
          <p:cNvPicPr/>
          <p:nvPr/>
        </p:nvPicPr>
        <p:blipFill>
          <a:blip r:embed="rId1"/>
          <a:stretch/>
        </p:blipFill>
        <p:spPr>
          <a:xfrm>
            <a:off x="431640" y="863640"/>
            <a:ext cx="3015000" cy="4230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3672000" y="773640"/>
            <a:ext cx="4814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33"/>
                </a:solidFill>
                <a:latin typeface="Times New Roman"/>
                <a:ea typeface="Times New Roman"/>
              </a:rPr>
              <a:t>Каждый день с друзьями случаются какие-нибудь приклю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33"/>
                </a:solidFill>
                <a:latin typeface="Times New Roman"/>
                <a:ea typeface="Times New Roman"/>
              </a:rPr>
              <a:t>За последнюю неделю произошло вот что. Они совершили путешествие к центру Земли и дальше, побывали в ледниковом периоде, взяли интервью у пещерного человека, были в гостях у фараона и индейцев майя...</a:t>
            </a:r>
            <a:br>
              <a:rPr sz="2400"/>
            </a:br>
            <a:r>
              <a:rPr b="0" lang="ru-RU" sz="2400" spc="-1" strike="noStrike">
                <a:solidFill>
                  <a:srgbClr val="663333"/>
                </a:solidFill>
                <a:latin typeface="Times New Roman"/>
                <a:ea typeface="Times New Roman"/>
              </a:rPr>
              <a:t>В общем, где они только не были! А сколько ещё интересного впереди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14360"/>
            <a:ext cx="6870600" cy="27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Comic Sans MS"/>
              </a:rPr>
              <a:t>Китайская хохлатая</a:t>
            </a:r>
            <a:br>
              <a:rPr sz="9600"/>
            </a:br>
            <a:r>
              <a:rPr b="0" lang="ru-RU" sz="9600" spc="-1" strike="noStrike">
                <a:solidFill>
                  <a:srgbClr val="7030a0"/>
                </a:solidFill>
                <a:latin typeface="Comic Sans MS"/>
              </a:rPr>
              <a:t>собак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Рисунок 3" descr="http://s49.radikal.ru/i123/1007/03/31f37012d25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7720" y="3294000"/>
            <a:ext cx="33512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3:49:52Z</dcterms:created>
  <dc:creator>MurDER</dc:creator>
  <dc:description/>
  <dc:language>en-US</dc:language>
  <cp:lastModifiedBy>пк</cp:lastModifiedBy>
  <dcterms:modified xsi:type="dcterms:W3CDTF">2011-12-01T00:14:53Z</dcterms:modified>
  <cp:revision>49</cp:revision>
  <dc:subject/>
  <dc:title>ПРИВЕТСТВУЮ ВАС   НА УРОКЕ ХИМИИ</dc:title>
</cp:coreProperties>
</file>