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09C-31F0-40A8-AF1D-5021DEC2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7D9-A656-4BE5-B4DB-FF600D0B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3C4-BA08-4E84-9B91-9C0A7E87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512-816E-40A3-921C-C958E72C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A343-5A08-4B7C-97FB-74F3C11F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5464-430C-4E92-94AB-9065B178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8E8F-BD32-4C60-A5ED-CB5388FF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D6BE-E966-45BD-85E1-5B238F5C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F368-0495-4273-9165-1DC92167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60F4-1F33-4C4D-88F9-7A439FF3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BD91-4360-492C-BA38-810250C3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24B-17F3-4A98-AC64-184191CE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0AA6-953E-404C-B520-486D324F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9840-A022-4654-B66B-24E4D28B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E0C3-A17B-40F9-9E17-A7624F4A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7E52-247F-4CD4-B8F5-EB240B72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2511-190C-4BB8-9E1A-969187DB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5EE-66E5-4843-B19F-6F5B3130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D4D3-FBDA-46D5-A6CA-BA0C2DD0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615-ED9C-4950-AD9C-59364881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CD7-F151-432B-B9F8-F70DDB3E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1E1-B6C0-4B93-9BD6-D7971161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AED5-F3F9-476E-B7DE-D7A02D82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DF2-2114-4C56-AFF3-21C1D7E7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B74F-6181-4271-B015-E584B89F1D8C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24E6-AB3F-44A9-914D-21A709B37662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6840" y="1357200"/>
            <a:ext cx="8077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Good morning. Nice to see you!</a:t>
            </a:r>
            <a:endParaRPr b="0" lang="en-US" sz="7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83" name="Picture 27" descr="145"/>
          <p:cNvPicPr/>
          <p:nvPr/>
        </p:nvPicPr>
        <p:blipFill>
          <a:blip r:embed="rId1"/>
          <a:stretch/>
        </p:blipFill>
        <p:spPr>
          <a:xfrm>
            <a:off x="6156360" y="3286080"/>
            <a:ext cx="244800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80773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atch the English &amp; Russian equivalent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57160" y="1071720"/>
          <a:ext cx="7786800" cy="5486400"/>
        </p:xfrm>
        <a:graphic>
          <a:graphicData uri="http://schemas.openxmlformats.org/drawingml/2006/table">
            <a:tbl>
              <a:tblPr/>
              <a:tblGrid>
                <a:gridCol w="3929040"/>
                <a:gridCol w="3857760"/>
              </a:tblGrid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Прямоугольник 3"/>
          <p:cNvSpPr/>
          <p:nvPr/>
        </p:nvSpPr>
        <p:spPr>
          <a:xfrm>
            <a:off x="1357200" y="1143000"/>
            <a:ext cx="2500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1357200" y="1714680"/>
            <a:ext cx="2214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од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1428840" y="2214720"/>
            <a:ext cx="2143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ё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1357200" y="271476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на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1357200" y="3286080"/>
            <a:ext cx="2286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8"/>
          <p:cNvSpPr/>
          <p:nvPr/>
        </p:nvSpPr>
        <p:spPr>
          <a:xfrm>
            <a:off x="1428840" y="3857760"/>
            <a:ext cx="2214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1428840" y="4286160"/>
            <a:ext cx="2643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чи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0"/>
          <p:cNvSpPr/>
          <p:nvPr/>
        </p:nvSpPr>
        <p:spPr>
          <a:xfrm>
            <a:off x="1428840" y="4929120"/>
            <a:ext cx="2286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1357200" y="5429160"/>
            <a:ext cx="2214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ё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2"/>
          <p:cNvSpPr/>
          <p:nvPr/>
        </p:nvSpPr>
        <p:spPr>
          <a:xfrm>
            <a:off x="1500120" y="6072120"/>
            <a:ext cx="3214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раши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7"/>
          <p:cNvSpPr/>
          <p:nvPr/>
        </p:nvSpPr>
        <p:spPr>
          <a:xfrm>
            <a:off x="5572080" y="1143000"/>
            <a:ext cx="2786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8"/>
          <p:cNvSpPr/>
          <p:nvPr/>
        </p:nvSpPr>
        <p:spPr>
          <a:xfrm>
            <a:off x="5572080" y="1714680"/>
            <a:ext cx="2571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9"/>
          <p:cNvSpPr/>
          <p:nvPr/>
        </p:nvSpPr>
        <p:spPr>
          <a:xfrm>
            <a:off x="5643720" y="2286000"/>
            <a:ext cx="271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0"/>
          <p:cNvSpPr/>
          <p:nvPr/>
        </p:nvSpPr>
        <p:spPr>
          <a:xfrm>
            <a:off x="5715000" y="2786040"/>
            <a:ext cx="2571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1"/>
          <p:cNvSpPr/>
          <p:nvPr/>
        </p:nvSpPr>
        <p:spPr>
          <a:xfrm>
            <a:off x="5500800" y="3286080"/>
            <a:ext cx="2714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’t 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2"/>
          <p:cNvSpPr/>
          <p:nvPr/>
        </p:nvSpPr>
        <p:spPr>
          <a:xfrm>
            <a:off x="5572080" y="3857760"/>
            <a:ext cx="2714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’t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3"/>
          <p:cNvSpPr/>
          <p:nvPr/>
        </p:nvSpPr>
        <p:spPr>
          <a:xfrm>
            <a:off x="5572080" y="4429080"/>
            <a:ext cx="2714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4"/>
          <p:cNvSpPr/>
          <p:nvPr/>
        </p:nvSpPr>
        <p:spPr>
          <a:xfrm>
            <a:off x="5572080" y="4929120"/>
            <a:ext cx="2500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get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5"/>
          <p:cNvSpPr/>
          <p:nvPr/>
        </p:nvSpPr>
        <p:spPr>
          <a:xfrm>
            <a:off x="5572080" y="5572080"/>
            <a:ext cx="2643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d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6"/>
          <p:cNvSpPr/>
          <p:nvPr/>
        </p:nvSpPr>
        <p:spPr>
          <a:xfrm>
            <a:off x="5572080" y="6072120"/>
            <a:ext cx="2786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’t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50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72" dur="50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73" dur="50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78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79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84" dur="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85" dur="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90" dur="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91" dur="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50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396" dur="50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397" dur="50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50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402" dur="50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403" dur="50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28,0)"/>
                                      </p:to>
                                    </p:set>
                                    <p:set>
                                      <p:cBhvr>
                                        <p:cTn id="408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28,0)"/>
                                      </p:to>
                                    </p:set>
                                    <p:set>
                                      <p:cBhvr>
                                        <p:cTn id="409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28,0)"/>
                                      </p:to>
                                    </p:set>
                                    <p:set>
                                      <p:cBhvr>
                                        <p:cTn id="414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28,0)"/>
                                      </p:to>
                                    </p:set>
                                    <p:set>
                                      <p:cBhvr>
                                        <p:cTn id="415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420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421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426" dur="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427" dur="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50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0)"/>
                                      </p:to>
                                    </p:set>
                                    <p:set>
                                      <p:cBhvr>
                                        <p:cTn id="432" dur="50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0)"/>
                                      </p:to>
                                    </p:set>
                                    <p:set>
                                      <p:cBhvr>
                                        <p:cTn id="433" dur="50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50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0)"/>
                                      </p:to>
                                    </p:set>
                                    <p:set>
                                      <p:cBhvr>
                                        <p:cTn id="438" dur="50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0)"/>
                                      </p:to>
                                    </p:set>
                                    <p:set>
                                      <p:cBhvr>
                                        <p:cTn id="439" dur="50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44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45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50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51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0,-103)"/>
                                      </p:to>
                                    </p:set>
                                    <p:set>
                                      <p:cBhvr>
                                        <p:cTn id="456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0,-103)"/>
                                      </p:to>
                                    </p:set>
                                    <p:set>
                                      <p:cBhvr>
                                        <p:cTn id="457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462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463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0,-103)"/>
                                      </p:to>
                                    </p:set>
                                    <p:set>
                                      <p:cBhvr>
                                        <p:cTn id="468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0,-103)"/>
                                      </p:to>
                                    </p:set>
                                    <p:set>
                                      <p:cBhvr>
                                        <p:cTn id="469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0,-103)"/>
                                      </p:to>
                                    </p:set>
                                    <p:set>
                                      <p:cBhvr>
                                        <p:cTn id="474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0,-103)"/>
                                      </p:to>
                                    </p:set>
                                    <p:set>
                                      <p:cBhvr>
                                        <p:cTn id="475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80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81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5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86" dur="5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87" dur="5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o know</a:t>
            </a: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85" name="Picture 4" descr="kniga_6"/>
          <p:cNvPicPr/>
          <p:nvPr/>
        </p:nvPicPr>
        <p:blipFill>
          <a:blip r:embed="rId1"/>
          <a:stretch/>
        </p:blipFill>
        <p:spPr>
          <a:xfrm>
            <a:off x="755640" y="620640"/>
            <a:ext cx="1611360" cy="1224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5000"/>
              </a:lnSpc>
              <a:spcBef>
                <a:spcPts val="90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cabulary on the topic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25000"/>
              </a:lnSpc>
              <a:spcBef>
                <a:spcPts val="90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mation &amp; the usage of Present Simple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o be able to</a:t>
            </a: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88" name="Picture 4" descr="writingonbook"/>
          <p:cNvPicPr/>
          <p:nvPr/>
        </p:nvPicPr>
        <p:blipFill>
          <a:blip r:embed="rId1"/>
          <a:stretch/>
        </p:blipFill>
        <p:spPr>
          <a:xfrm>
            <a:off x="1476360" y="549360"/>
            <a:ext cx="1513080" cy="100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the English equivalents;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the questions;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 about your favourite subject;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up a dialogue (according to the model);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to the story &amp; choose the correct answer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pull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1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0344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ad the words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s    Christmas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     Spanish 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lish   to wea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 scien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 Information Technolog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tudy  New Yea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ture  timetabl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80773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stening Comprehension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856800"/>
            <a:ext cx="84009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just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’s name is … 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Boris  c) Mik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He is … . a) 10              c) 12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He is from … .  a) Moscow                      c) Tomsk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He is in the … form.               b)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)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He studies at school number … .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5   b) 55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He likes playing … with his friends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otball    b) tennis 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He studies … at school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498960" indent="-49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English  b) Spanish 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1214280" y="1357200"/>
            <a:ext cx="1785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V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3214800" y="1928880"/>
            <a:ext cx="1000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5072040" y="2357280"/>
            <a:ext cx="1714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T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4000680" y="292896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5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2643120" y="4000680"/>
            <a:ext cx="12859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4071960" y="4929120"/>
            <a:ext cx="2571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4500720" y="5929200"/>
            <a:ext cx="3571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English &amp;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50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1" dur="50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2" dur="500" autoRev="1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7" dur="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8" dur="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23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24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29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30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35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41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42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5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47" dur="5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48" dur="5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8077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ad the story &amp; then make up your own on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71760"/>
            <a:ext cx="8077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avourite subject is Art. We draw pictures at our lessons. I like drawing very much and I usually get excellent marks for my works. I like to draw animals &amp; fruits.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 about your favourite school subjec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500" autoRev="1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72" dur="500" autoRev="1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73" dur="500" autoRev="1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8077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ad the dialogue &amp; 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n make up your own on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71760"/>
            <a:ext cx="8077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Nature this year?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do.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usually do at Nature lessons?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rule, we usually read texts about plants &amp; animals, speak about nature and man’s body &amp; watch films about nature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, it’s very interesting!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077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letters are missing?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785520"/>
            <a:ext cx="80773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_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m_tabl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_orm_ion tec_nolog_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_st_r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nifo_m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hysi_al educ_ti_n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_ter_tur_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_m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_enc_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_ _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077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Key: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714240"/>
            <a:ext cx="807732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m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 tec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log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fo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si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educ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493560" indent="-49356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04:25:03Z</dcterms:created>
  <dc:creator>Зам_дир_по УВР</dc:creator>
  <dc:description/>
  <cp:keywords/>
  <dc:language>en-US</dc:language>
  <cp:lastModifiedBy>Немченко</cp:lastModifiedBy>
  <dcterms:modified xsi:type="dcterms:W3CDTF">2011-01-13T14:20:52Z</dcterms:modified>
  <cp:revision>56</cp:revision>
  <dc:subject/>
  <dc:title>Презентация учебного кур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49</vt:lpwstr>
  </property>
</Properties>
</file>