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BA6-E23C-4B01-9D9E-6FC2B394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57D-A965-43BD-8546-CD4A1ED6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2E8-042F-447F-AC0F-D9CA717B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B09-1983-455F-B107-94300F9F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1C47-8D07-4DC9-B674-BDD3E301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9F91-9F80-4F63-BEFC-E5FEF016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DAE8-F213-4E02-B24D-CF9CE0AF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38F5-2058-43ED-8445-E36C7733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4D7C-F090-4386-B2A3-E66C149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B4BC-4342-4822-811A-1FC06199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256A-CAD4-43AF-90D4-F7A97795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04F-3847-4C55-B6A4-A026E4B0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66E3-5695-4804-9EC3-C2A5E9DA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BC4F-CE8F-4D04-89B9-C7C431E0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B176-5DD4-4AAE-AE7B-D80F4661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80CE-06CA-4A84-9E8B-DB8EE9FB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86A9-D6D5-483B-99B3-3B8102A0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B0C-077A-4ECC-9C1F-C309C79B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B55-5A5D-4770-B1D1-B79DDDF1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BF8-5C38-4582-9341-21A64D23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EE1-9EFD-4ED6-965E-6F753901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200-261F-46C3-BF27-3F6B1ABA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023-EB17-4AF3-9F33-FD74E4CB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016A-6827-4F9E-BB9C-B2AB227F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B589-B283-4B8D-A7CA-CAA35C58DA81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EB7E-D56A-4A58-B74E-777C43F2584B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6840" y="1357200"/>
            <a:ext cx="8077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Good morning. Nice to see you!</a:t>
            </a:r>
            <a:endParaRPr b="0" lang="en-US" sz="7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83" name="Picture 27" descr="145"/>
          <p:cNvPicPr/>
          <p:nvPr/>
        </p:nvPicPr>
        <p:blipFill>
          <a:blip r:embed="rId1"/>
          <a:stretch/>
        </p:blipFill>
        <p:spPr>
          <a:xfrm>
            <a:off x="6156360" y="3286080"/>
            <a:ext cx="244800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80773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atch the English &amp; Russian equivalent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57160" y="1071720"/>
          <a:ext cx="7786800" cy="5486400"/>
        </p:xfrm>
        <a:graphic>
          <a:graphicData uri="http://schemas.openxmlformats.org/drawingml/2006/table">
            <a:tbl>
              <a:tblPr/>
              <a:tblGrid>
                <a:gridCol w="3929040"/>
                <a:gridCol w="3857760"/>
              </a:tblGrid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Прямоугольник 3"/>
          <p:cNvSpPr/>
          <p:nvPr/>
        </p:nvSpPr>
        <p:spPr>
          <a:xfrm>
            <a:off x="1357200" y="1143000"/>
            <a:ext cx="2500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1357200" y="1714680"/>
            <a:ext cx="2214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од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1428840" y="2214720"/>
            <a:ext cx="2143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ё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1357200" y="271476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на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1357200" y="3286080"/>
            <a:ext cx="2286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8"/>
          <p:cNvSpPr/>
          <p:nvPr/>
        </p:nvSpPr>
        <p:spPr>
          <a:xfrm>
            <a:off x="1428840" y="3857760"/>
            <a:ext cx="2214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1428840" y="4286160"/>
            <a:ext cx="2643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чи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0"/>
          <p:cNvSpPr/>
          <p:nvPr/>
        </p:nvSpPr>
        <p:spPr>
          <a:xfrm>
            <a:off x="1428840" y="4929120"/>
            <a:ext cx="2286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1357200" y="5429160"/>
            <a:ext cx="2214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ё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2"/>
          <p:cNvSpPr/>
          <p:nvPr/>
        </p:nvSpPr>
        <p:spPr>
          <a:xfrm>
            <a:off x="1500120" y="6072120"/>
            <a:ext cx="3214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раши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7"/>
          <p:cNvSpPr/>
          <p:nvPr/>
        </p:nvSpPr>
        <p:spPr>
          <a:xfrm>
            <a:off x="5572080" y="1143000"/>
            <a:ext cx="2786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8"/>
          <p:cNvSpPr/>
          <p:nvPr/>
        </p:nvSpPr>
        <p:spPr>
          <a:xfrm>
            <a:off x="5572080" y="1714680"/>
            <a:ext cx="2571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9"/>
          <p:cNvSpPr/>
          <p:nvPr/>
        </p:nvSpPr>
        <p:spPr>
          <a:xfrm>
            <a:off x="5643720" y="2286000"/>
            <a:ext cx="271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0"/>
          <p:cNvSpPr/>
          <p:nvPr/>
        </p:nvSpPr>
        <p:spPr>
          <a:xfrm>
            <a:off x="5715000" y="2786040"/>
            <a:ext cx="2571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1"/>
          <p:cNvSpPr/>
          <p:nvPr/>
        </p:nvSpPr>
        <p:spPr>
          <a:xfrm>
            <a:off x="5500800" y="3286080"/>
            <a:ext cx="2714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’t 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2"/>
          <p:cNvSpPr/>
          <p:nvPr/>
        </p:nvSpPr>
        <p:spPr>
          <a:xfrm>
            <a:off x="5572080" y="3857760"/>
            <a:ext cx="2714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’t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3"/>
          <p:cNvSpPr/>
          <p:nvPr/>
        </p:nvSpPr>
        <p:spPr>
          <a:xfrm>
            <a:off x="5572080" y="4429080"/>
            <a:ext cx="2714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4"/>
          <p:cNvSpPr/>
          <p:nvPr/>
        </p:nvSpPr>
        <p:spPr>
          <a:xfrm>
            <a:off x="5572080" y="4929120"/>
            <a:ext cx="2500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get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5"/>
          <p:cNvSpPr/>
          <p:nvPr/>
        </p:nvSpPr>
        <p:spPr>
          <a:xfrm>
            <a:off x="5572080" y="5572080"/>
            <a:ext cx="2643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d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6"/>
          <p:cNvSpPr/>
          <p:nvPr/>
        </p:nvSpPr>
        <p:spPr>
          <a:xfrm>
            <a:off x="5572080" y="6072120"/>
            <a:ext cx="2786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’t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50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72" dur="50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73" dur="50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78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79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84" dur="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85" dur="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90" dur="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91" dur="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50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396" dur="50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397" dur="50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50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402" dur="50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403" dur="50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28,0)"/>
                                      </p:to>
                                    </p:set>
                                    <p:set>
                                      <p:cBhvr>
                                        <p:cTn id="408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28,0)"/>
                                      </p:to>
                                    </p:set>
                                    <p:set>
                                      <p:cBhvr>
                                        <p:cTn id="409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28,0)"/>
                                      </p:to>
                                    </p:set>
                                    <p:set>
                                      <p:cBhvr>
                                        <p:cTn id="414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28,0)"/>
                                      </p:to>
                                    </p:set>
                                    <p:set>
                                      <p:cBhvr>
                                        <p:cTn id="415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420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421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426" dur="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427" dur="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50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0)"/>
                                      </p:to>
                                    </p:set>
                                    <p:set>
                                      <p:cBhvr>
                                        <p:cTn id="432" dur="50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0)"/>
                                      </p:to>
                                    </p:set>
                                    <p:set>
                                      <p:cBhvr>
                                        <p:cTn id="433" dur="50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50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0)"/>
                                      </p:to>
                                    </p:set>
                                    <p:set>
                                      <p:cBhvr>
                                        <p:cTn id="438" dur="50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0)"/>
                                      </p:to>
                                    </p:set>
                                    <p:set>
                                      <p:cBhvr>
                                        <p:cTn id="439" dur="50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44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45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50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51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0,-103)"/>
                                      </p:to>
                                    </p:set>
                                    <p:set>
                                      <p:cBhvr>
                                        <p:cTn id="456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0,-103)"/>
                                      </p:to>
                                    </p:set>
                                    <p:set>
                                      <p:cBhvr>
                                        <p:cTn id="457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462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463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0,-103)"/>
                                      </p:to>
                                    </p:set>
                                    <p:set>
                                      <p:cBhvr>
                                        <p:cTn id="468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0,-103)"/>
                                      </p:to>
                                    </p:set>
                                    <p:set>
                                      <p:cBhvr>
                                        <p:cTn id="469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0,-103)"/>
                                      </p:to>
                                    </p:set>
                                    <p:set>
                                      <p:cBhvr>
                                        <p:cTn id="474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0,-103)"/>
                                      </p:to>
                                    </p:set>
                                    <p:set>
                                      <p:cBhvr>
                                        <p:cTn id="475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80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81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5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86" dur="5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87" dur="5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o know</a:t>
            </a: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85" name="Picture 4" descr="kniga_6"/>
          <p:cNvPicPr/>
          <p:nvPr/>
        </p:nvPicPr>
        <p:blipFill>
          <a:blip r:embed="rId1"/>
          <a:stretch/>
        </p:blipFill>
        <p:spPr>
          <a:xfrm>
            <a:off x="755640" y="620640"/>
            <a:ext cx="1611360" cy="1224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5000"/>
              </a:lnSpc>
              <a:spcBef>
                <a:spcPts val="90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cabulary on the topic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25000"/>
              </a:lnSpc>
              <a:spcBef>
                <a:spcPts val="90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mation &amp; the usage of Present Simple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o be able to</a:t>
            </a: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88" name="Picture 4" descr="writingonbook"/>
          <p:cNvPicPr/>
          <p:nvPr/>
        </p:nvPicPr>
        <p:blipFill>
          <a:blip r:embed="rId1"/>
          <a:stretch/>
        </p:blipFill>
        <p:spPr>
          <a:xfrm>
            <a:off x="1476360" y="549360"/>
            <a:ext cx="1513080" cy="100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the English equivalents;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the questions;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 about your favourite subject;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up a dialogue (according to the model);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to the story &amp; choose the correct answer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pull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1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0344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ad the words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s    Christmas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     Spanish 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lish   to wea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 scien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 Information Technolog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tudy  New Yea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ture  timetabl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80773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stening Comprehension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856800"/>
            <a:ext cx="84009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just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’s name is … 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Boris  c) Mik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He is … . a) 10              c) 12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He is from … .  a) Moscow                      c) Tomsk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He is in the … form.               b)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)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He studies at school number … .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5   b) 55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He likes playing … with his friends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otball    b) tennis 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He studies … at school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English  b) Spanish 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1214280" y="1357200"/>
            <a:ext cx="1785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V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3214800" y="1928880"/>
            <a:ext cx="1000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5072040" y="2357280"/>
            <a:ext cx="1714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T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4000680" y="292896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5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2643120" y="4000680"/>
            <a:ext cx="12859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4071960" y="4929120"/>
            <a:ext cx="2571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4500720" y="5929200"/>
            <a:ext cx="3571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English &amp;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50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1" dur="50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2" dur="50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7" dur="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8" dur="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23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24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29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30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35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41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42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5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47" dur="5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48" dur="5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8077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ad the story &amp; then make up your own on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71760"/>
            <a:ext cx="8077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avourite subject is Art. We draw pictures at our lessons. I like drawing very much and I usually get excellent marks for my works. I like to draw animals &amp; fruits.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 about your favourite school subjec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500" autoRev="1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72" dur="500" autoRev="1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73" dur="500" autoRev="1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8077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ad the dialogue &amp; 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n make up your own on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71760"/>
            <a:ext cx="8077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Nature this year?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do.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usually do at Nature lessons?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rule, we usually read texts about plants &amp; animals, speak about nature and man’s body &amp; watch films about nature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, it’s very interesting!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077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letters are missing?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785520"/>
            <a:ext cx="80773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_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m_tabl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_orm_ion tec_nolog_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_st_r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nifo_m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hysi_al educ_ti_n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_ter_tur_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_m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_enc_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_ _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077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Key: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714240"/>
            <a:ext cx="807732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m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 tec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log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fo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si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educ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04:25:03Z</dcterms:created>
  <dc:creator>Зам_дир_по УВР</dc:creator>
  <dc:description/>
  <cp:keywords/>
  <dc:language>en-US</dc:language>
  <cp:lastModifiedBy>Немченко</cp:lastModifiedBy>
  <dcterms:modified xsi:type="dcterms:W3CDTF">2011-01-13T14:20:52Z</dcterms:modified>
  <cp:revision>56</cp:revision>
  <dc:subject/>
  <dc:title>Презентация учебного кур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49</vt:lpwstr>
  </property>
</Properties>
</file>