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9FFD-28E9-41D6-B67A-97D44310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69C3D-D330-4931-874D-A1A520D3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7D746-30E3-45A1-8AA6-51A0D7DA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01A2B-0DAF-408E-889C-90DB1B7D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19AC-0EB8-42A3-9057-F1CDE23A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6F26-FD5D-4E46-A3D6-EA2338E5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C028-6127-44B1-9EB1-06DEA3DA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FD88-4D92-4412-A6C8-78AB8A41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918C-5924-4074-88C4-AD5D0366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B1FF-C552-4EC4-8A9A-C931E0D2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2B08-92A5-4C7D-86E7-B52EBCB3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8F30E-798D-4C11-8945-4A276C9E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DFDD-74F7-43C8-9BD4-DCD7EBB9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7549-17FE-4715-A2F7-98A5E1FE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E9CF-C31A-4D3C-BB37-243C9981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9255-7ACB-4C99-A01F-3E6E842D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55F1-82E5-4A68-B4EF-F8C08AC3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6816E-21C3-4748-A5DF-C25CEF09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DBCF6-15CC-4E1A-9B38-315E8093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5C48D-A43E-445C-BAA0-44410804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CEA23-D10E-47AB-BDC1-D65DE3B4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C3BCE-E2BE-471E-A951-2E5296EF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B741E-5FC4-4911-9407-59B57D71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E2026-A58B-47DD-AE43-4ACB2E37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0C39-707C-490A-ACFB-308DD08154B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2ED7-42F7-4337-AD9C-9F6F74A4657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Туризм в Европе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портивны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55640" y="1371600"/>
            <a:ext cx="730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портивны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42920" y="1424160"/>
            <a:ext cx="72360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Этнически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8360" y="1355760"/>
            <a:ext cx="82440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елигиозны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71640" y="1376280"/>
            <a:ext cx="73087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Транзитны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1527120"/>
            <a:ext cx="651672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Образовательны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4360" y="1457280"/>
            <a:ext cx="774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Организованны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42920" y="1549440"/>
            <a:ext cx="709308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Неорганизованны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оммерчески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875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оциальны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1474920"/>
            <a:ext cx="781200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екреационны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5640" y="1477800"/>
            <a:ext cx="716436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Экзотико-приключенческий и экстремальный туризм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11280" y="1414440"/>
            <a:ext cx="817236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Эко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71640" y="1430280"/>
            <a:ext cx="723564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гро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00000" y="1376280"/>
            <a:ext cx="730908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пециальные виды туризм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1442880"/>
            <a:ext cx="81010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екреационны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70160"/>
            <a:ext cx="730908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екреационны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1386000"/>
            <a:ext cx="7308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Лечебно-оздоровительный туризм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00000" y="1338120"/>
            <a:ext cx="759636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Лечебно-оздоровительный туризм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438200"/>
            <a:ext cx="65880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Познавательный (экскурсионный) туризм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1295280"/>
            <a:ext cx="7380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Познавательный (экскурсионный) туризм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1417680"/>
            <a:ext cx="817236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Деловой туриз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10:12:54Z</dcterms:created>
  <dc:creator>Ира</dc:creator>
  <dc:description/>
  <dc:language>en-US</dc:language>
  <cp:lastModifiedBy>Ира</cp:lastModifiedBy>
  <dcterms:modified xsi:type="dcterms:W3CDTF">2014-11-18T10:43:34Z</dcterms:modified>
  <cp:revision>2</cp:revision>
  <dc:subject/>
  <dc:title>Туризм в Европе </dc:title>
</cp:coreProperties>
</file>