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03B48F-02DE-4C14-8D20-F1AFE192D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6D2396-C26A-4E47-94EA-BE2B07C64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1005C0-A060-4766-93BA-736D13336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D64CD8-94BE-4D98-AD3C-236EC119C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42A85-7837-4064-A1AD-EA4F5D451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9A7CA-8319-430B-A1E0-DAF56F776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6C25B-EB1E-47B9-BD07-9AA5088BA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614A2-B3A6-4C91-9FA9-2AC88D3B1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21ACF-E31A-49D6-A79D-C6842367E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735BE-6CFF-4C81-AE16-1BE847F1D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73E2B-88B6-462B-9325-7F35AC180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BF89F3-E6F8-48FF-BB0C-B86B7EEA3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67F03-390B-42B1-8E94-ACCC99BED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86FAB-6343-4EAD-ACB2-9732D61EC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12CC2-0136-4828-8F92-B0085E695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120D4-45AC-46AC-ABB4-3D398F0AE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1593D-D226-40ED-9C61-77C3AAF33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4F5194-AE97-45C7-A59C-037162971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63AA1D-797E-479A-9325-7643782D9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79BEC6-DC94-4880-BD85-67C968F3E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C36420-6679-4A19-AE4D-2563FB81A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C76A74-ABDB-41BE-AF28-CF5E03908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EAB37E-5F53-4E0B-9532-BC784A246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465AF8-C6FF-4DA3-AF9A-F489B8763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98FDF-6ADA-4774-8869-6B6F1618FB0D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2F3CD-2160-4143-8756-8624CFF6164F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Туризм в Европе 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Спортивный туризм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755640" y="1371600"/>
            <a:ext cx="73087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Спортивный туризм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042920" y="1424160"/>
            <a:ext cx="7236000" cy="54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Этнический туризм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68360" y="1355760"/>
            <a:ext cx="8244000" cy="550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Религиозный туризм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971640" y="1376280"/>
            <a:ext cx="7308720" cy="54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Транзитный туризм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403280" y="1527120"/>
            <a:ext cx="6516720" cy="533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Образовательный туризм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684360" y="1457280"/>
            <a:ext cx="774036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Организованный туризм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1042920" y="1549440"/>
            <a:ext cx="7093080" cy="530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Неорганизованный туризм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0" y="2349360"/>
            <a:ext cx="9144000" cy="45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Коммерческий туризм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187280" y="1700280"/>
            <a:ext cx="6875640" cy="51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Социальный туризм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684360" y="1474920"/>
            <a:ext cx="7812000" cy="538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Рекреационный туризм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755640" y="1477800"/>
            <a:ext cx="7164360" cy="53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Экзотико-приключенческий и экстремальный туризм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611280" y="1414440"/>
            <a:ext cx="8172360" cy="544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Экотуризм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971640" y="1430280"/>
            <a:ext cx="7235640" cy="542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Агротуризм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900000" y="1376280"/>
            <a:ext cx="7309080" cy="54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Специальные виды туризма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468360" y="1442880"/>
            <a:ext cx="8101080" cy="54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Рекреационный туризм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900000" y="1370160"/>
            <a:ext cx="7309080" cy="548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Рекреационный туризм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116000" y="1386000"/>
            <a:ext cx="7308720" cy="54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cc"/>
                </a:solidFill>
                <a:latin typeface="Tahoma"/>
              </a:rPr>
              <a:t>Лечебно-оздоровительный туризм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900000" y="1338120"/>
            <a:ext cx="7596360" cy="551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cc"/>
                </a:solidFill>
                <a:latin typeface="Tahoma"/>
              </a:rPr>
              <a:t>Лечебно-оздоровительный туризм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332000" y="1438200"/>
            <a:ext cx="6588000" cy="54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cc"/>
                </a:solidFill>
                <a:latin typeface="Tahoma"/>
              </a:rPr>
              <a:t>Познавательный (экскурсионный) туризм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755640" y="1295280"/>
            <a:ext cx="738036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cc"/>
                </a:solidFill>
                <a:latin typeface="Tahoma"/>
              </a:rPr>
              <a:t>Познавательный (экскурсионный) туризм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468360" y="1417680"/>
            <a:ext cx="817236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Деловой туризм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1785960"/>
            <a:ext cx="914400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8T10:12:54Z</dcterms:created>
  <dc:creator>Ира</dc:creator>
  <dc:description/>
  <dc:language>en-US</dc:language>
  <cp:lastModifiedBy>Ира</cp:lastModifiedBy>
  <dcterms:modified xsi:type="dcterms:W3CDTF">2014-11-18T10:43:34Z</dcterms:modified>
  <cp:revision>2</cp:revision>
  <dc:subject/>
  <dc:title>Туризм в Европе </dc:title>
</cp:coreProperties>
</file>