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86929-0F59-4828-B10D-77492E2CB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19945-1D20-45A3-BCAB-583455AD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038DC-479B-4302-B338-478BCAAF2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D33C4-CD12-4BE0-B8FF-26E6CEDC6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7D43-03BE-467C-909A-8B021D8A5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E95B-09A2-4C60-B1E2-50BE3A7B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85F7-822F-43DD-B502-14C6B59E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C62C-E165-4ED2-A5D5-818C87E4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BB13-7BA5-4B93-8BB3-38BC3B2F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0197-CF2B-4E39-8EE1-187B1778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2545-C9CE-4CB3-913B-2A0C4013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82C48-692E-47DC-B817-706B2271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284F-5779-4AB8-A4D4-8FF5D23C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D7B9-F7D2-411E-91EA-43E2C0D1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8876-422D-4079-AB6C-D509AD07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9423-6890-4A54-ABE2-79CD00B0F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CE72-3979-4D5C-A753-D1FF88B86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82BC9-404A-4F06-AF62-E67EB803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1E327-4A43-4EA5-8662-CA8538B5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6AA70-92D1-4726-8F20-7DE91459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A825C-26F0-4535-A016-F29406EC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666D4-4B7F-444C-A3D1-81AF5601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BA1CE-EB1E-4134-A154-49DC1DFB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59903-EADE-4011-A801-F791C82D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BD3F-8480-4B31-8495-8C068BB1673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918B-9EA2-4EF5-A796-CD1EC293086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1116000" y="260280"/>
            <a:ext cx="8029440" cy="11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УРОК - ИГРА</a:t>
            </a:r>
            <a:endParaRPr b="0" lang="en-US" sz="4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826920" y="522936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 клас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916360" y="2637000"/>
            <a:ext cx="4176720" cy="1556280"/>
          </a:xfrm>
          <a:prstGeom prst="rect">
            <a:avLst/>
          </a:prstGeom>
          <a:solidFill>
            <a:srgbClr val="a7ffa7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Тема: Строительство новой Европы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3643200" y="4714920"/>
            <a:ext cx="914400" cy="914400"/>
          </a:xfrm>
          <a:prstGeom prst="irregularSeal1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7885080" y="2924280"/>
            <a:ext cx="914400" cy="914400"/>
          </a:xfrm>
          <a:prstGeom prst="irregularSeal1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7858080" y="4572000"/>
            <a:ext cx="914400" cy="9144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0"/>
          <p:cNvSpPr/>
          <p:nvPr/>
        </p:nvSpPr>
        <p:spPr>
          <a:xfrm>
            <a:off x="1428840" y="5000760"/>
            <a:ext cx="914400" cy="914400"/>
          </a:xfrm>
          <a:prstGeom prst="irregularSeal1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11"/>
          <p:cNvSpPr/>
          <p:nvPr/>
        </p:nvSpPr>
        <p:spPr>
          <a:xfrm>
            <a:off x="4143240" y="1428840"/>
            <a:ext cx="914400" cy="91440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12"/>
          <p:cNvSpPr/>
          <p:nvPr/>
        </p:nvSpPr>
        <p:spPr>
          <a:xfrm>
            <a:off x="500040" y="3214800"/>
            <a:ext cx="914400" cy="914400"/>
          </a:xfrm>
          <a:prstGeom prst="irregularSeal1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3"/>
          <p:cNvSpPr/>
          <p:nvPr/>
        </p:nvSpPr>
        <p:spPr>
          <a:xfrm>
            <a:off x="6143760" y="1500120"/>
            <a:ext cx="914400" cy="91440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5000760" y="6216480"/>
            <a:ext cx="38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ойко Наталья Дмитри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БОУ «Колыванская СОШ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142640" y="428760"/>
            <a:ext cx="771516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В чьих руках сосредоточилась законодательная власть в Англии?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в руках парламента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В каком соборе состоялся торжественный акт коронации Наполеона?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в соборе Парижской Богоматери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В армию Наполеона призывали молодых неженатых людей в возрасте от 20 лет. Срок службы составлял …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6 лет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В 1852 году на воду было спущено первое в мире паровое судно с винтовым двигателем. Как оно называлось?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«Агамемном»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Какому принадлежала земля, которую сдавали в аренду фермерам, которые вели свое хозяйство по капиталистически, нанимая батраков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лендлорды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Кто назвал Наполеона Бонапарта «корсиканским чудовищем»?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Людовик </a:t>
            </a:r>
            <a:r>
              <a:rPr b="1" i="1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VIII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На каком острове в 1821 году скончался Наполеон Бонапарт?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остров Святой Елены в Атлантическом океане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Какая страна не была представлена на Венском Конгрессе?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Турция)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Кто предупреждал Наполеона, что завоевание России – это «блестящая химера»?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Фуше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В 1804 году Наполеон прославил себя как законодатель, что было издано?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знаменитый Гражданский Кодекс, или кодекс Наполеона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 Наполеон подписал декрет о континентальной блокаде, который запрещал … что запрещал?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вести торговлю с Англией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8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ЛОДЦ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468360" y="189000"/>
            <a:ext cx="914400" cy="91440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324000" y="2565360"/>
            <a:ext cx="914400" cy="91440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395280" y="5300640"/>
            <a:ext cx="914400" cy="914400"/>
          </a:xfrm>
          <a:prstGeom prst="irregularSeal1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7956720" y="476280"/>
            <a:ext cx="914400" cy="914400"/>
          </a:xfrm>
          <a:prstGeom prst="irregularSeal1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9"/>
          <p:cNvSpPr/>
          <p:nvPr/>
        </p:nvSpPr>
        <p:spPr>
          <a:xfrm>
            <a:off x="7885080" y="2924280"/>
            <a:ext cx="914400" cy="914400"/>
          </a:xfrm>
          <a:prstGeom prst="irregularSeal1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0"/>
          <p:cNvSpPr/>
          <p:nvPr/>
        </p:nvSpPr>
        <p:spPr>
          <a:xfrm>
            <a:off x="7885080" y="5516640"/>
            <a:ext cx="914400" cy="9144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11"/>
          <p:cNvSpPr/>
          <p:nvPr/>
        </p:nvSpPr>
        <p:spPr>
          <a:xfrm>
            <a:off x="4211640" y="5300640"/>
            <a:ext cx="914400" cy="914400"/>
          </a:xfrm>
          <a:prstGeom prst="irregularSeal1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1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и урока: 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тимулировать запоминание учащимися событий европейской модернизации;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проверить степень освоенности материа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7160" cy="531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3 финала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гр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да была принята Конституция во Франци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79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какой династии принадлежал король Франции Людовик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VIII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Бурбон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овите титул, который принял Наполеон в 1802 году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Консу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ов был лозунг периода Великой Французской революци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« Свобода. Равенство. Братство!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да была проведена избирательная реформа в Англи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832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r>
              <a:rPr b="1" i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гр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Когда Наполеон стал пожизненным консулом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802 г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Когда Наполеон  начал войну против России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июнь 1812г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Когда Наполеон  учредил Почетный легион, стать членом которого можно было за заслуги перед императором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802г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Причина побед Наполеона в войнах с коалициями европейских государств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полководческое искусство Наполеон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Что такое чартизм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движение за избирательную реформу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Последняя битва Наполеона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Ватерлоо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I</a:t>
            </a:r>
            <a:r>
              <a:rPr b="1" i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гр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да Наполеон был провозглашен императором Франции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804г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да войска антифранцузской коалиции вошли в Париж после войны с Россией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31 марта 1814г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да Наполеон заключил Тильзитский мир с Россией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807г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становление монархии называется …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реставрация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инициативе этого человека была основана Лондонская ассоциация рабочих, он стал ее секретарем. Как звали его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Уильям Ловетт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1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2 финала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56800" y="714240"/>
            <a:ext cx="8001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Обезлюдившие городки, сохранившие представительство в парламенте Англии назывались…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«гнилые местечки»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На венском конгрессе решали судьбы послевоенной Европы, что получила Россия в результате раздела территорий?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часть Польши – герцогство Варшавское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Что требовали чартисты?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введения всеобщего избирательного права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Когда был создан Британский конгресс тред – юнионов?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868 г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Солдат – новобранец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рекрут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Создание крупных предприятий с большим числом рабочих. Назовите это понятие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концентрация производства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Где произошла «Битва народов», в которой армия Наполеона была разгромлена?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Сражение под Лейпцигом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В 1805 году Наполеон создал армию для борьбы с Англией, как назвал эту армию император?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Великая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Изменение в соответствие с  требованиями современности: придание современного характера чему – либо, приспособление к современным взглядам, идеям, потребностям – это … дайте определение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модернизация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Какие страны относятся к странам первого эшелона модернизации?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Англия, Франция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 Время становления и развития в Европе и США индустриального общества относится .. Назовите век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9 век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8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НАЛ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4284720" y="4724280"/>
            <a:ext cx="1366920" cy="936720"/>
          </a:xfrm>
          <a:prstGeom prst="irregularSeal1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4859280" y="5805360"/>
            <a:ext cx="914400" cy="914400"/>
          </a:xfrm>
          <a:prstGeom prst="irregularSeal1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3708360" y="5157720"/>
            <a:ext cx="1849320" cy="1489320"/>
          </a:xfrm>
          <a:prstGeom prst="irregularSeal1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1332000" y="333360"/>
            <a:ext cx="1655640" cy="158292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1476360" y="620640"/>
            <a:ext cx="914400" cy="91440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1835280" y="836640"/>
            <a:ext cx="914400" cy="91440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0"/>
          <p:cNvSpPr/>
          <p:nvPr/>
        </p:nvSpPr>
        <p:spPr>
          <a:xfrm>
            <a:off x="324000" y="2565360"/>
            <a:ext cx="914400" cy="91440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539640" y="2565360"/>
            <a:ext cx="1511280" cy="172728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755640" y="2997360"/>
            <a:ext cx="914400" cy="91440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13"/>
          <p:cNvSpPr/>
          <p:nvPr/>
        </p:nvSpPr>
        <p:spPr>
          <a:xfrm>
            <a:off x="395280" y="5157720"/>
            <a:ext cx="1584360" cy="1366920"/>
          </a:xfrm>
          <a:prstGeom prst="irregularSeal1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14"/>
          <p:cNvSpPr/>
          <p:nvPr/>
        </p:nvSpPr>
        <p:spPr>
          <a:xfrm>
            <a:off x="250920" y="5084640"/>
            <a:ext cx="1008000" cy="1274760"/>
          </a:xfrm>
          <a:prstGeom prst="irregularSeal1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15"/>
          <p:cNvSpPr/>
          <p:nvPr/>
        </p:nvSpPr>
        <p:spPr>
          <a:xfrm>
            <a:off x="826920" y="5732640"/>
            <a:ext cx="1800360" cy="914400"/>
          </a:xfrm>
          <a:prstGeom prst="irregularSeal1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7164360" y="2708280"/>
            <a:ext cx="1728720" cy="1728720"/>
          </a:xfrm>
          <a:prstGeom prst="irregularSeal1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17"/>
          <p:cNvSpPr/>
          <p:nvPr/>
        </p:nvSpPr>
        <p:spPr>
          <a:xfrm>
            <a:off x="8101080" y="3139920"/>
            <a:ext cx="914400" cy="914400"/>
          </a:xfrm>
          <a:prstGeom prst="irregularSeal1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8"/>
          <p:cNvSpPr/>
          <p:nvPr/>
        </p:nvSpPr>
        <p:spPr>
          <a:xfrm>
            <a:off x="7724880" y="3500280"/>
            <a:ext cx="1419120" cy="1346400"/>
          </a:xfrm>
          <a:prstGeom prst="irregularSeal1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20"/>
          <p:cNvSpPr/>
          <p:nvPr/>
        </p:nvSpPr>
        <p:spPr>
          <a:xfrm>
            <a:off x="7308720" y="5516640"/>
            <a:ext cx="1490760" cy="9144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21"/>
          <p:cNvSpPr/>
          <p:nvPr/>
        </p:nvSpPr>
        <p:spPr>
          <a:xfrm>
            <a:off x="8028000" y="5516640"/>
            <a:ext cx="914400" cy="9144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22"/>
          <p:cNvSpPr/>
          <p:nvPr/>
        </p:nvSpPr>
        <p:spPr>
          <a:xfrm>
            <a:off x="7812000" y="5948280"/>
            <a:ext cx="1419480" cy="9144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23"/>
          <p:cNvSpPr/>
          <p:nvPr/>
        </p:nvSpPr>
        <p:spPr>
          <a:xfrm>
            <a:off x="7236000" y="1197000"/>
            <a:ext cx="914400" cy="914400"/>
          </a:xfrm>
          <a:prstGeom prst="irregularSeal1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24"/>
          <p:cNvSpPr/>
          <p:nvPr/>
        </p:nvSpPr>
        <p:spPr>
          <a:xfrm>
            <a:off x="6372360" y="692280"/>
            <a:ext cx="1850760" cy="914400"/>
          </a:xfrm>
          <a:prstGeom prst="irregularSeal1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25"/>
          <p:cNvSpPr/>
          <p:nvPr/>
        </p:nvSpPr>
        <p:spPr>
          <a:xfrm>
            <a:off x="6877080" y="981000"/>
            <a:ext cx="914400" cy="914400"/>
          </a:xfrm>
          <a:prstGeom prst="irregularSeal1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19:36:08Z</dcterms:created>
  <dc:creator>Admin</dc:creator>
  <dc:description/>
  <dc:language>en-US</dc:language>
  <cp:lastModifiedBy>User</cp:lastModifiedBy>
  <dcterms:modified xsi:type="dcterms:W3CDTF">2019-12-12T10:39:25Z</dcterms:modified>
  <cp:revision>11</cp:revision>
  <dc:subject/>
  <dc:title>Строительство новой Европы</dc:title>
</cp:coreProperties>
</file>