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E5FC-267A-490D-B554-1D0EA46A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4C43-E0A2-410E-AB93-A18A6C4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74B9-0A81-4E56-91DA-3F646C7A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1C66-86AC-413E-8A81-86EFD167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2D4D-F184-499B-BA30-28BCE57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9DCC-3DBA-4987-97FC-4BD1E50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F22D-C589-4488-80AC-1CF2214B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AB71-6BF0-4436-BEEA-00B6919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DB2-38AD-4FE2-AA2A-D772BADE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290-527F-4CA5-B60A-134DFFB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3721-50AB-4805-9B75-CE62DA5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C66F-A070-444D-9623-F22A8C7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5C71-3BE0-4E91-B44F-87FE6FD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FF3D-7B8E-4839-9674-8392A2F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A84-1D84-4AC4-BE9C-CA80253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AF0-5C81-4F73-92F5-D2441033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E04-45AA-4043-9092-FE965E8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C4C7-DA3F-4BB1-AF6D-B892377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5F35-A40C-4480-8BD2-1AF7681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1906-3CBF-490A-A993-E85C0990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0DF2-AA6E-47ED-8BD7-5A87D93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61CA-C0B4-4D91-8344-A5CDDC9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2633-29D1-4FB6-9538-2207794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516A-AB55-4793-A67A-C4649A1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CCE4-370D-4D9A-9998-B69BA96D47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83CB-86AE-4FA7-9F7B-D31F024D62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116000" y="260280"/>
            <a:ext cx="802944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УРОК - ИГРА</a:t>
            </a:r>
            <a:endParaRPr b="0" lang="en-US" sz="4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26920" y="5229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клас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916360" y="2637000"/>
            <a:ext cx="4176720" cy="1556280"/>
          </a:xfrm>
          <a:prstGeom prst="rect">
            <a:avLst/>
          </a:prstGeom>
          <a:solidFill>
            <a:srgbClr val="a7ffa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ма: Строительство новой Европы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643200" y="471492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858080" y="457200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428840" y="500076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4143240" y="14288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500040" y="32148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143760" y="150012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000760" y="621648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йко Наталья Дмитри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БОУ «Колыва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42640" y="428760"/>
            <a:ext cx="771516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 чьих руках сосредоточилась законодательная власть в Англии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 руках парламент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 каком соборе состоялся торжественный акт коронации Наполеона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соборе Парижской Богоматери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 армию Наполеона призывали молодых неженатых людей в возрасте от 20 лет. Срок службы составлял …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 лет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 1852 году на воду было спущено первое в мире паровое судно с винтовым двигателем. Как оно называлось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Агамемном»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му принадлежала земля, которую сдавали в аренду фермерам, которые вели свое хозяйство по капиталистически, нанимая батраков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лендлорды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то назвал Наполеона Бонапарта «корсиканским чудовищем»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юдовик </a:t>
            </a:r>
            <a:r>
              <a:rPr b="1" i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На каком острове в 1821 году скончался Наполеон Бонапарт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стров Святой Елены в Атлантическом океан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ая страна не была представлена на Венском Конгрессе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урция)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Кто предупреждал Наполеона, что завоевание России – это «блестящая химера»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Фуш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 1804 году Наполеон прославил себя как законодатель, что было издано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знаменитый Гражданский Кодекс, или кодекс Наполе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Наполеон подписал декрет о континентальной блокаде, который запрещал … что запрещал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ести торговлю с Англией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68360" y="18900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956720" y="47628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4211640" y="5300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урока: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имулировать запоминание учащимися событий европейской модернизации;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роверить степень освоенности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финал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была принята Конституция во Фран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инастии принадлежал король Франции Людовик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Бурбон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титул, который принял Наполеон в 180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су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в был лозунг периода Великой Французской револю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 Свобода. Равенство. Братство!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была проведена избирательная реформа в Англ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32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Когда Наполеон стал пожизненным консуло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2 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огда Наполеон  начал войну против Росс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юнь 1812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огда Наполеон  учредил Почетный легион, стать членом которого можно было за заслуги перед императоро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2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ичина побед Наполеона в войнах с коалициями европейских государств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ководческое искусство Наполе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Что такое чартиз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движение за избирательную реформ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следняя битва Наполеона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атерло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полеон был провозглашен императором Фран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4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ойска антифранцузской коалиции вошли в Париж после войны с Росси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1 марта 1814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полеон заключил Тильзитский мир с Росси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7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ление монархии называется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еставрац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нициативе этого человека была основана Лондонская ассоциация рабочих, он стал ее секретарем. Как звали его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ильям Ловет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финал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5680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Обезлюдившие городки, сохранившие представительство в парламенте Англии назывались…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гнилые местечки»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венском конгрессе решали судьбы послевоенной Европы, что получила Россия в результате раздела территорий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часть Польши – герцогство Варшавско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Что требовали чартисты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ведения всеобщего избирательного прав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огда был создан Британский конгресс тред – юнионо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68 г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олдат – новобранец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екрут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оздание крупных предприятий с большим числом рабочих. Назовите это понятие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центрация производств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Где произошла «Битва народов», в которой армия Наполеона была разгромлена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ражение под Лейпцигом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В 1805 году Наполеон создал армию для борьбы с Англией, как назвал эту армию император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елика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Изменение в соответствие с  требованиями современности: придание современного характера чему – либо, приспособление к современным взглядам, идеям, потребностям – это … дайте определение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модернизаци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Какие страны относятся к странам первого эшелона модернизации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нглия, Франци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Время становления и развития в Европе и США индустриального общества относится .. Назовите век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век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284720" y="4724280"/>
            <a:ext cx="13669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859280" y="580536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708360" y="5157720"/>
            <a:ext cx="1849320" cy="14893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332000" y="333360"/>
            <a:ext cx="1655640" cy="158292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476360" y="6206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835280" y="8366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39640" y="2565360"/>
            <a:ext cx="1511280" cy="172728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755640" y="2997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5280" y="5157720"/>
            <a:ext cx="1584360" cy="136692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50920" y="5084640"/>
            <a:ext cx="1008000" cy="12747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826920" y="5732640"/>
            <a:ext cx="180036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164360" y="2708280"/>
            <a:ext cx="1728720" cy="172872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8101080" y="313992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7724880" y="3500280"/>
            <a:ext cx="1419120" cy="1346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7308720" y="5516640"/>
            <a:ext cx="149076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802800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7812000" y="5948280"/>
            <a:ext cx="141948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7236000" y="11970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6372360" y="692280"/>
            <a:ext cx="185076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6877080" y="9810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36:08Z</dcterms:created>
  <dc:creator>Admin</dc:creator>
  <dc:description/>
  <dc:language>en-US</dc:language>
  <cp:lastModifiedBy>User</cp:lastModifiedBy>
  <dcterms:modified xsi:type="dcterms:W3CDTF">2019-12-12T10:39:25Z</dcterms:modified>
  <cp:revision>11</cp:revision>
  <dc:subject/>
  <dc:title>Строительство новой Европы</dc:title>
</cp:coreProperties>
</file>