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5472-7AE8-47D0-831E-90928F35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AC8D-7AF1-4FA6-AF63-B402B9FB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2F88-270C-41E5-BFC2-35619973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24E7-625B-4CB1-8BF9-86569ECA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A4B3-36AF-480E-913D-DB0F0AEF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D833-C861-4A3C-8558-C8554D60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B83C-B08D-430D-AA96-75A4A576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2194-3C30-400A-A21F-FEE5EDC7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5FEE-369D-41F3-9C9D-685E903A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503B-D51E-46E4-A75C-683F28C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BE1B-CF4F-4E04-85E5-0D59FC9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4C95-C76C-4FE7-87D8-EAD1397C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82E1-D3D1-4EB2-A97F-5234CF5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AD6F-4620-4683-90DC-295E63F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F7E2-347A-4E58-B3EA-F33A7206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2C0E-612A-4CAC-8B79-B8C13605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8841-C37F-44EA-8D83-F319F559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46F1-A2AC-4F79-89E2-89C3288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799B-F63C-408D-9990-8A383065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11A4-433B-4ED8-8594-80A80B6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6F52-3651-434F-9BD6-12FAEC0E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2CE8-BCA1-462F-93F7-8D55B61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1B27-3352-4B01-A2FC-1D1237D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998F-06F8-40EA-A82C-1D0C6830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 hidden="1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1" name="Прямоугольник с двумя скругленными противолежащими углами 6"/>
          <p:cNvSpPr/>
          <p:nvPr/>
        </p:nvSpPr>
        <p:spPr>
          <a:xfrm>
            <a:off x="164520" y="146160"/>
            <a:ext cx="8814600" cy="250524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4400" y="380880"/>
            <a:ext cx="8229240" cy="220932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562720" y="650916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38920" y="65091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5d6c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7D7F69-8D4D-4953-98D0-C4DCA9DD455A}" type="slidenum">
              <a:rPr b="0" lang="ru-RU" sz="1600" spc="-1" strike="noStrike">
                <a:solidFill>
                  <a:srgbClr val="d5d6c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1600200" y="6509160"/>
            <a:ext cx="39070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88240" y="1424520"/>
            <a:ext cx="8000640" cy="8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algn="tl" blurRad="12600" dir="5400000" dist="12960" rotWithShape="0">
              <a:srgbClr val="000000">
                <a:alpha val="7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Symbol" charset="2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Rockwel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960" indent="-191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3" marL="100584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872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Пятый уровень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858CD5-D8CB-4419-895B-E3B570AFF974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8134200" cy="136764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 fontScale="8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Rockwell"/>
              </a:rPr>
              <a:t>День народного единства</a:t>
            </a:r>
            <a:endParaRPr b="0" lang="ru-RU" sz="5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640" y="2709000"/>
            <a:ext cx="6782760" cy="32400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5000" bIns="45000" anchor="t">
            <a:normAutofit fontScale="63000"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День народного единства отмечается как большой государственный праздник на территории всей великой России 4 октября с 2005 года по указу президента. Презентация рассказывает об истории этого праздника, который имеет за плечами не одно столетие. Его главной датой рождение называют 1612 год, когда Минин и Пожарский организовали народ на защиту города Москвы и всей русской земли. В единстве они победили враг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Илья\Desktop\679457418.gif"/>
          <p:cNvPicPr/>
          <p:nvPr/>
        </p:nvPicPr>
        <p:blipFill>
          <a:blip r:embed="rId1"/>
          <a:stretch/>
        </p:blipFill>
        <p:spPr>
          <a:xfrm>
            <a:off x="0" y="5085360"/>
            <a:ext cx="201600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15640" y="548640"/>
            <a:ext cx="4608000" cy="252000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Спасибо за внимание!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000000"/>
                </a:solidFill>
                <a:latin typeface="Rockwell"/>
              </a:rPr>
              <a:t>Что празднуется 4 ноября?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1)4 ноября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– это день </a:t>
            </a: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единства всех российских народов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    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2)4 ноября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– это день </a:t>
            </a: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спасения России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от самой большой опасности, которая когда-либо ей грозила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3)4 ноября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– это </a:t>
            </a: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возрожденный праздник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со своей историей, а не просто замена 7 ноября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4)4 ноября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 – это день </a:t>
            </a:r>
            <a:r>
              <a:rPr b="1" lang="ru-RU" sz="3200" spc="-1" strike="noStrike">
                <a:solidFill>
                  <a:srgbClr val="000000"/>
                </a:solidFill>
                <a:latin typeface="Rockwell"/>
              </a:rPr>
              <a:t>реальных дел</a:t>
            </a:r>
            <a:r>
              <a:rPr b="0" lang="ru-RU" sz="3200" spc="-1" strike="noStrike">
                <a:solidFill>
                  <a:srgbClr val="000000"/>
                </a:solidFill>
                <a:latin typeface="Rockwell"/>
              </a:rPr>
              <a:t>, а не сомнительных маршей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4360" y="1479960"/>
            <a:ext cx="8135280" cy="41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marL="294840" indent="-2948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4200" spc="-1" strike="noStrike">
                <a:solidFill>
                  <a:srgbClr val="000000"/>
                </a:solidFill>
                <a:latin typeface="Rockwell"/>
              </a:rPr>
              <a:t>«4 ноября 1612 года воины народного ополчения под предводительством Кузьмы Минина и Дмитрия Пожарского штурмом взяли Китай-город, освободив Москву от польских интервентов и продемонстрировав образец героизма и сплоченности всего народа вне зависимости от происхождения, вероисповедания и положения в обществе», — говорилось в сопроводительной записке к закону об учреждении праздника.</a:t>
            </a:r>
            <a:endParaRPr b="0" lang="ru-RU" sz="4200" spc="-1" strike="noStrike">
              <a:solidFill>
                <a:srgbClr val="ffffff"/>
              </a:solidFill>
              <a:latin typeface="Rockwell"/>
            </a:endParaRPr>
          </a:p>
          <a:p>
            <a:pPr marL="294840" indent="-2948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4200" spc="-1" strike="noStrike">
                <a:solidFill>
                  <a:srgbClr val="000000"/>
                </a:solidFill>
                <a:latin typeface="Rockwell"/>
              </a:rPr>
              <a:t>Впрочем, были и возражения, связанные с тем, что, согласно современной датировке, ничего особенного 4 ноября в Москве не происходило, а удачный штурм Китай-города приходился, если считать по-современному, на известный каждому советскому человеку день </a:t>
            </a:r>
            <a:r>
              <a:rPr b="1" lang="ru-RU" sz="4200" spc="-1" strike="noStrike">
                <a:solidFill>
                  <a:srgbClr val="000000"/>
                </a:solidFill>
                <a:latin typeface="Rockwell"/>
              </a:rPr>
              <a:t>7 ноября</a:t>
            </a:r>
            <a:r>
              <a:rPr b="0" lang="ru-RU" sz="42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4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4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763640" y="476640"/>
            <a:ext cx="5832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Rockwell"/>
              </a:rPr>
              <a:t>ИСТОРИЯ ПРАЗ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2123640" y="4931280"/>
            <a:ext cx="2538000" cy="158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5043"/>
          <p:cNvPicPr/>
          <p:nvPr/>
        </p:nvPicPr>
        <p:blipFill>
          <a:blip r:embed="rId2"/>
          <a:stretch/>
        </p:blipFill>
        <p:spPr>
          <a:xfrm>
            <a:off x="5652000" y="4704840"/>
            <a:ext cx="2592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Map15_3"/>
          <p:cNvPicPr/>
          <p:nvPr/>
        </p:nvPicPr>
        <p:blipFill>
          <a:blip r:embed="rId1"/>
          <a:srcRect l="0" t="0" r="0" b="-5917"/>
          <a:stretch/>
        </p:blipFill>
        <p:spPr>
          <a:xfrm>
            <a:off x="0" y="0"/>
            <a:ext cx="9143640" cy="724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1640" y="260640"/>
            <a:ext cx="8434800" cy="59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В честь освобождения Москвы от польско-литовских интервентов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 установлен памятник Дмитрию Пожарскому и Кузьме Минину в Москве на Красной площади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5640" y="1556640"/>
            <a:ext cx="695376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18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 algn="ctr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В 1649 году указом царя Алексея Михайловича Романова день Казанской иконы Божьей Матери, 4 ноября был объявлен государственным праздником, за избавление Москвы и всей России от нашествия поляков в 1612 году. Этот день праздновался в течение столетий до 1917 года.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868000" y="2165760"/>
            <a:ext cx="2919960" cy="438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icon"/>
          <p:cNvPicPr/>
          <p:nvPr/>
        </p:nvPicPr>
        <p:blipFill>
          <a:blip r:embed="rId2"/>
          <a:stretch/>
        </p:blipFill>
        <p:spPr>
          <a:xfrm>
            <a:off x="971640" y="2781000"/>
            <a:ext cx="45716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Но «фишка», как говорится, была как раз в том, чтобы заменить ставший идеологически неугодным после распада СССР советский праздник – годовщину </a:t>
            </a: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Великой Октябрьской социалистической революции</a:t>
            </a: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– другим праздничным днем примерено в это же время. Это было тем более важно, что помимо привычки отдыхать в эти дни, на первую неделю ноября приходятся школьные каникулы, в которые весьма уместны различные патриотические мероприятия.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450360" y="530280"/>
            <a:ext cx="8236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День народного единства фактически пришёл на смену Дню примирения и согласия, который с 1996 года отмечался 7 ноября. С 2005 года 7 ноября считается днём проведения военного парада на Красной площади в ознаменование 24 годовщины Великой Октябрьской социалистической революции 1917 года. 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2000" spc="-1" strike="noStrike">
                <a:solidFill>
                  <a:srgbClr val="000000"/>
                </a:solidFill>
                <a:latin typeface="Rockwell"/>
              </a:rPr>
              <a:t>Теперь 7 ноября - рабочий день, а выходной день перенесён на 4 ноября – День Народного единства. 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51640" y="510120"/>
            <a:ext cx="4071960" cy="2685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4368960" y="510120"/>
            <a:ext cx="431748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1354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rmAutofit fontScale="74000"/>
          </a:bodyPr>
          <a:p>
            <a:pPr marL="4464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000000"/>
                </a:solidFill>
                <a:latin typeface="Rockwell"/>
              </a:rPr>
              <a:t>Как празднуется День народного единства?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Проводятся Демонстрации, митинги-концерты, театрализованные представления, тематические флешмобы, посвященные истории российской государственности, истории и традициям народов страны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ru-RU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8" name="Picture 2" descr="C:\Users\Илья\Desktop\585ae956_resizedScaled_659to439.jpg"/>
          <p:cNvPicPr/>
          <p:nvPr/>
        </p:nvPicPr>
        <p:blipFill>
          <a:blip r:embed="rId1"/>
          <a:stretch/>
        </p:blipFill>
        <p:spPr>
          <a:xfrm>
            <a:off x="1979640" y="4077000"/>
            <a:ext cx="40716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5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oundry</Template>
  <TotalTime>46</TotalTime>
  <Application>LibreOffice/7.4.7.2$Linux_X86_64 LibreOffice_project/40$Build-2</Application>
  <AppVersion>15.0000</AppVersion>
  <Words>408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3T12:51:14Z</dcterms:created>
  <dc:creator>Илья</dc:creator>
  <dc:description/>
  <dc:language>en-US</dc:language>
  <cp:lastModifiedBy>Admin</cp:lastModifiedBy>
  <dcterms:modified xsi:type="dcterms:W3CDTF">2020-11-27T23:03:45Z</dcterms:modified>
  <cp:revision>7</cp:revision>
  <dc:subject/>
  <dc:title>День народного един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