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3129-C0EF-4EA9-94F3-96E7B945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8AD8-F088-4E3A-B5ED-4AC8160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64A8-B6D3-47F7-9D73-3807FC8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D6C9-DAB4-4FA2-ACFF-B4E5BB69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560-A5BE-40E1-9127-8878D73B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74AB-437E-4832-8139-2CE7A082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E31-4230-4B0D-8D2F-806102A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6D1-348E-4ABB-A117-34527927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83D3-2C8B-434D-8C4F-65BE3DC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D9D4-E324-4DE3-B26C-CDBFB6F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4BC-3E8F-4415-937A-39DF2E5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974C-1377-416D-A654-FEF8F25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3C6-EACF-4345-93F6-92302FB8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AB7D-C3E2-4405-8C70-56B7E31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9EFC-1815-44E0-A695-2B17D764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0CC8-49B2-4773-BBCB-90A052B7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9F2-B212-4FB7-A902-EC61DC1E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F4A4-7D02-4784-BF8F-EB0536FA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95E1-C6EB-45EC-A42D-599F86E3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BC5E-E5F9-41E7-92FA-03A726E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5B85-454D-4F64-A308-6CF076B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63C9-D942-4AC6-8190-B78946B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594F-9BE9-421B-92F6-6677AA6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3AE9-C44D-49E8-8B3F-1110F41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 hidden="1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1" name="Прямоугольник с двумя скругленными противолежащими углами 6"/>
          <p:cNvSpPr/>
          <p:nvPr/>
        </p:nvSpPr>
        <p:spPr>
          <a:xfrm>
            <a:off x="164520" y="146160"/>
            <a:ext cx="8814600" cy="250524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562720" y="650916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38920" y="65091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5d6c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67D35-CDCC-4E14-9CC6-DD3210CC3ACF}" type="slidenum">
              <a:rPr b="0" lang="ru-RU" sz="1600" spc="-1" strike="noStrike">
                <a:solidFill>
                  <a:srgbClr val="d5d6c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1600200" y="6509160"/>
            <a:ext cx="39070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8240" y="1424520"/>
            <a:ext cx="8000640" cy="8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tl" blurRad="12600" dir="5400000" dist="12960" rotWithShape="0">
              <a:srgbClr val="000000">
                <a:alpha val="7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Symbol" charset="2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Rockwel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960" indent="-191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3" marL="100584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872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Пятый уровень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752A9B-4EAB-4568-91B2-2982F99FEDEF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134200" cy="136764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 fontScale="8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Rockwell"/>
              </a:rPr>
              <a:t>День народного единства</a:t>
            </a:r>
            <a:endParaRPr b="0" lang="ru-RU" sz="5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2709000"/>
            <a:ext cx="6782760" cy="3240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5000" bIns="45000" anchor="t">
            <a:normAutofit fontScale="63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День народного единства отмечается как большой государственный праздник на территории всей великой России 4 октября с 2005 года по указу президента. Презентация рассказывает об истории этого праздника, который имеет за плечами не одно столетие. Его главной датой рождение называют 1612 год, когда Минин и Пожарский организовали народ на защиту города Москвы и всей русской земли. В единстве они победили враг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ья\Desktop\679457418.gif"/>
          <p:cNvPicPr/>
          <p:nvPr/>
        </p:nvPicPr>
        <p:blipFill>
          <a:blip r:embed="rId1"/>
          <a:stretch/>
        </p:blipFill>
        <p:spPr>
          <a:xfrm>
            <a:off x="0" y="5085360"/>
            <a:ext cx="20160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15640" y="548640"/>
            <a:ext cx="4608000" cy="252000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Спасибо за внимание!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Rockwell"/>
              </a:rPr>
              <a:t>Что празднуется 4 ноября?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1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единства всех российских народов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   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2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спасения России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от самой большой опасности, которая когда-либо ей грозила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3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возрожденный праздник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со своей историей, а не просто замена 7 ноября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4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 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реальных дел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, а не сомнительных маршей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4360" y="1479960"/>
            <a:ext cx="8135280" cy="41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294840" indent="-294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«4 ноября 1612 года вои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сплоченности всего народа вне зависимости от происхождения, вероисповедания и положения в обществе», — говорилось в сопроводительной записке к закону об учреждении праздника.</a:t>
            </a: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marL="294840" indent="-294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Впрочем, были и возражения, связанные с тем, что, согласно современной датировке, ничего особенного 4 ноября в Москве не происходило, а удачный штурм Китай-города приходился, если считать по-современному, на известный каждому советскому человеку день </a:t>
            </a:r>
            <a:r>
              <a:rPr b="1" lang="ru-RU" sz="4200" spc="-1" strike="noStrike">
                <a:solidFill>
                  <a:srgbClr val="000000"/>
                </a:solidFill>
                <a:latin typeface="Rockwell"/>
              </a:rPr>
              <a:t>7 ноября</a:t>
            </a: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63640" y="476640"/>
            <a:ext cx="5832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Rockwell"/>
              </a:rPr>
              <a:t>ИСТОРИЯ ПРАЗ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123640" y="4931280"/>
            <a:ext cx="2538000" cy="158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5043"/>
          <p:cNvPicPr/>
          <p:nvPr/>
        </p:nvPicPr>
        <p:blipFill>
          <a:blip r:embed="rId2"/>
          <a:stretch/>
        </p:blipFill>
        <p:spPr>
          <a:xfrm>
            <a:off x="5652000" y="4704840"/>
            <a:ext cx="2592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Map15_3"/>
          <p:cNvPicPr/>
          <p:nvPr/>
        </p:nvPicPr>
        <p:blipFill>
          <a:blip r:embed="rId1"/>
          <a:srcRect l="0" t="0" r="0" b="-5917"/>
          <a:stretch/>
        </p:blipFill>
        <p:spPr>
          <a:xfrm>
            <a:off x="0" y="0"/>
            <a:ext cx="9143640" cy="72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43480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В честь освобождения Москвы от польско-литовских интервентов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 установлен памятник Дмитрию Пожарскому и Кузьме Минину в Москве на Красной площади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5640" y="1556640"/>
            <a:ext cx="695376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18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 1649 году указом царя Алексея Михайловича Романова день Казанской иконы Божьей Матери, 4 ноября был объявлен государственным праздником, за избавление Москвы и всей России от нашествия поляков в 1612 году. Этот день праздновался в течение столетий до 1917 года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868000" y="2165760"/>
            <a:ext cx="2919960" cy="438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icon"/>
          <p:cNvPicPr/>
          <p:nvPr/>
        </p:nvPicPr>
        <p:blipFill>
          <a:blip r:embed="rId2"/>
          <a:stretch/>
        </p:blipFill>
        <p:spPr>
          <a:xfrm>
            <a:off x="971640" y="2781000"/>
            <a:ext cx="45716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Но «фишка», как говорится, была как раз в том, чтобы заменить ставший идеологически неугодным после распада СССР советский праздник – годовщину 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еликой Октябрьской социалистической революции</a:t>
            </a: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– другим праздничным днем примерено в это же время. Это было тем более важно, что помимо привычки отдыхать в эти дни, на первую неделю ноября приходятся школьные каникулы, в которые весьма уместны различные патриотические мероприятия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450360" y="530280"/>
            <a:ext cx="8236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День народного единства фактически пришёл на смену Дню примирения и согласия, который с 1996 года отмечался 7 ноября. С 2005 года 7 ноября считается днём проведения военного парада на Красной площади в ознаменование 24 годовщины Великой Октябрьской социалистической революции 1917 года. 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Теперь 7 ноября - рабочий день, а выходной день перенесён на 4 ноября – День Народного единства. 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51640" y="510120"/>
            <a:ext cx="4071960" cy="2685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4368960" y="510120"/>
            <a:ext cx="431748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1354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rmAutofit fontScale="74000"/>
          </a:bodyPr>
          <a:p>
            <a:pPr marL="4464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Rockwell"/>
              </a:rPr>
              <a:t>Как празднуется День народного единства?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Проводятся Демонстрации, митинги-концерты, театрализованные представления, тематические флешмобы, посвященные истории российской государственности, истории и традициям народов страны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8" name="Picture 2" descr="C:\Users\Илья\Desktop\585ae956_resizedScaled_659to439.jpg"/>
          <p:cNvPicPr/>
          <p:nvPr/>
        </p:nvPicPr>
        <p:blipFill>
          <a:blip r:embed="rId1"/>
          <a:stretch/>
        </p:blipFill>
        <p:spPr>
          <a:xfrm>
            <a:off x="1979640" y="4077000"/>
            <a:ext cx="40716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5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46</TotalTime>
  <Application>LibreOffice/7.4.7.2$Linux_X86_64 LibreOffice_project/40$Build-2</Application>
  <AppVersion>15.0000</AppVersion>
  <Words>408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3T12:51:14Z</dcterms:created>
  <dc:creator>Илья</dc:creator>
  <dc:description/>
  <dc:language>en-US</dc:language>
  <cp:lastModifiedBy>Admin</cp:lastModifiedBy>
  <dcterms:modified xsi:type="dcterms:W3CDTF">2020-11-27T23:03:45Z</dcterms:modified>
  <cp:revision>7</cp:revision>
  <dc:subject/>
  <dc:title>День народного един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