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2E7-E0CE-4013-B243-F4F8A789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CFA-AD7B-482E-A2B6-8EC5309E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63E-7AA6-4258-BE1D-29B6ACF0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27E-519B-49D2-A7ED-C13D351C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092-FD2D-4128-B27D-2993B2C1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E88-8E26-4141-830E-7D2F113C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C06-B520-4261-9BA0-948D653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C5C-03BE-44E9-A225-14A18A93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EDE-862B-4DC0-945D-A406326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791-0AED-46F9-9177-B2E2C27C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268-5C92-4B98-AD43-F07B082A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005-40FF-4105-8257-1D4DAFEB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AC41-2502-47AF-BC6A-642BB233F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3520" y="2590920"/>
            <a:ext cx="2895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О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105520" y="2590920"/>
            <a:ext cx="2895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О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http://st.gde-fon.com/wallpapers_original/393769_kora_derevo_les_1680x1050_www.Gde-Fon.com.jpg"/>
          <p:cNvPicPr/>
          <p:nvPr/>
        </p:nvPicPr>
        <p:blipFill>
          <a:blip r:embed="rId1"/>
          <a:srcRect l="25501" t="8799" r="38500" b="69601"/>
          <a:stretch/>
        </p:blipFill>
        <p:spPr>
          <a:xfrm>
            <a:off x="914400" y="380880"/>
            <a:ext cx="203184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0"/>
          <p:cNvSpPr/>
          <p:nvPr/>
        </p:nvSpPr>
        <p:spPr>
          <a:xfrm>
            <a:off x="609480" y="2743200"/>
            <a:ext cx="7621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https://im0-tub-ru.yandex.net/i?id=050070b12c5a3106748554c0b72c354a&amp;n=33&amp;w=200&amp;h=150"/>
          <p:cNvPicPr/>
          <p:nvPr/>
        </p:nvPicPr>
        <p:blipFill>
          <a:blip r:embed="rId2"/>
          <a:stretch/>
        </p:blipFill>
        <p:spPr>
          <a:xfrm>
            <a:off x="5181480" y="457200"/>
            <a:ext cx="271800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2"/>
          <p:cNvSpPr/>
          <p:nvPr/>
        </p:nvSpPr>
        <p:spPr>
          <a:xfrm>
            <a:off x="5181480" y="2743200"/>
            <a:ext cx="7621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3"/>
          <p:cNvSpPr/>
          <p:nvPr/>
        </p:nvSpPr>
        <p:spPr>
          <a:xfrm>
            <a:off x="533520" y="4191120"/>
            <a:ext cx="8153280" cy="190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ы видишь на картинках? Наз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буквы надо вставить в  слова? Назови. Проверь себ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5"/>
          <p:cNvSpPr/>
          <p:nvPr/>
        </p:nvSpPr>
        <p:spPr>
          <a:xfrm>
            <a:off x="3429000" y="5257800"/>
            <a:ext cx="533520" cy="3808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47920" y="380880"/>
            <a:ext cx="6400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4  Добавь слоги «га» или «да» в слова. Запиши слова в два столб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>
            <a:hlinkClick r:id="" action="ppaction://hlinkshowjump?jump=nextslide"/>
          </p:cNvPr>
          <p:cNvSpPr/>
          <p:nvPr/>
        </p:nvSpPr>
        <p:spPr>
          <a:xfrm>
            <a:off x="4267080" y="594360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9480" y="152388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09480" y="259092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09480" y="365760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3276720" y="15238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276720" y="26668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276720" y="365760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791320" y="15238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791320" y="26668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086600" y="6019920"/>
            <a:ext cx="1523880" cy="53316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1710" h="21600">
                <a:moveTo>
                  <a:pt x="0" y="0"/>
                </a:moveTo>
                <a:lnTo>
                  <a:pt x="61710" y="0"/>
                </a:lnTo>
                <a:lnTo>
                  <a:pt x="61710" y="21600"/>
                </a:lnTo>
                <a:lnTo>
                  <a:pt x="0" y="21600"/>
                </a:lnTo>
                <a:close/>
              </a:path>
              <a:path fill="lightenLess" w="61710" h="21600">
                <a:moveTo>
                  <a:pt x="0" y="0"/>
                </a:moveTo>
                <a:lnTo>
                  <a:pt x="61710" y="0"/>
                </a:lnTo>
                <a:lnTo>
                  <a:pt x="60310" y="1400"/>
                </a:lnTo>
                <a:lnTo>
                  <a:pt x="1400" y="1400"/>
                </a:lnTo>
                <a:close/>
              </a:path>
              <a:path fill="darken" w="61710" h="21600">
                <a:moveTo>
                  <a:pt x="61710" y="0"/>
                </a:moveTo>
                <a:lnTo>
                  <a:pt x="61710" y="21600"/>
                </a:lnTo>
                <a:lnTo>
                  <a:pt x="60310" y="20200"/>
                </a:lnTo>
                <a:lnTo>
                  <a:pt x="60310" y="1400"/>
                </a:lnTo>
                <a:close/>
              </a:path>
              <a:path fill="darkenLess" w="61710" h="21600">
                <a:moveTo>
                  <a:pt x="61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10" y="20200"/>
                </a:lnTo>
                <a:close/>
              </a:path>
              <a:path fill="lighten" w="61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710" h="21600">
                <a:moveTo>
                  <a:pt x="23849" y="3794"/>
                </a:moveTo>
                <a:lnTo>
                  <a:pt x="37862" y="10800"/>
                </a:lnTo>
                <a:lnTo>
                  <a:pt x="2384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47920" y="198108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410080" y="198108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447920" y="281952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47920" y="373392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410080" y="373392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447920" y="464832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410080" y="464832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410080" y="281952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5791320" y="1066680"/>
            <a:ext cx="838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066680" y="380880"/>
            <a:ext cx="6400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905120" y="1066680"/>
            <a:ext cx="838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7"/>
          <p:cNvSpPr/>
          <p:nvPr/>
        </p:nvSpPr>
        <p:spPr>
          <a:xfrm>
            <a:off x="1600200" y="56386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дели слова на слоги. Поставь уда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https://ds04.infourok.ru/uploads/ex/071f/00109566-8c0c967d/hello_html_m31ea32b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5"/>
          <p:cNvSpPr/>
          <p:nvPr/>
        </p:nvSpPr>
        <p:spPr>
          <a:xfrm>
            <a:off x="1676520" y="6019920"/>
            <a:ext cx="60195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дели слова на слоги. Поставь уда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380880" y="152280"/>
            <a:ext cx="8229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. 5  Вставь в слова пропущенные буквы Г или К. Запиши слова в тетрадь(по жел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ызёт, под, кость, собака, крыль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533520" y="304920"/>
            <a:ext cx="81532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р. 6  Составь предложение из данных слов и запиши его в тетрадь. Обозначь «дежурные» звуки соответствующим ц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219320" y="2590920"/>
            <a:ext cx="6858000" cy="3733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https://im0-tub-ru.yandex.net/i?id=1ac919bf15f5dd7035dee549b9474253&amp;n=33&amp;w=169&amp;h=150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5120" y="4724280"/>
            <a:ext cx="1609560" cy="1428840"/>
          </a:xfrm>
          <a:prstGeom prst="rect">
            <a:avLst/>
          </a:prstGeom>
          <a:ln w="0">
            <a:noFill/>
          </a:ln>
        </p:spPr>
      </p:pic>
      <p:cxnSp>
        <p:nvCxnSpPr>
          <p:cNvPr id="183" name="Соединительная линия уступом 9"/>
          <p:cNvCxnSpPr/>
          <p:nvPr/>
        </p:nvCxnSpPr>
        <p:spPr>
          <a:xfrm>
            <a:off x="1371240" y="3504960"/>
            <a:ext cx="2134440" cy="991080"/>
          </a:xfrm>
          <a:prstGeom prst="bentConnector3">
            <a:avLst>
              <a:gd name="adj1" fmla="val 50387"/>
            </a:avLst>
          </a:prstGeom>
          <a:ln w="57240">
            <a:solidFill>
              <a:srgbClr val="663300"/>
            </a:solidFill>
            <a:miter/>
          </a:ln>
        </p:spPr>
      </p:cxnSp>
      <p:cxnSp>
        <p:nvCxnSpPr>
          <p:cNvPr id="184" name="Соединительная линия уступом 15"/>
          <p:cNvCxnSpPr/>
          <p:nvPr/>
        </p:nvCxnSpPr>
        <p:spPr>
          <a:xfrm>
            <a:off x="2742840" y="4495680"/>
            <a:ext cx="2134440" cy="991440"/>
          </a:xfrm>
          <a:prstGeom prst="bentConnector3">
            <a:avLst>
              <a:gd name="adj1" fmla="val 50387"/>
            </a:avLst>
          </a:prstGeom>
          <a:ln w="57240">
            <a:solidFill>
              <a:srgbClr val="663300"/>
            </a:solidFill>
            <a:miter/>
          </a:ln>
        </p:spPr>
      </p:cxnSp>
      <p:sp>
        <p:nvSpPr>
          <p:cNvPr id="185" name="Прямая соединительная линия 17"/>
          <p:cNvSpPr/>
          <p:nvPr/>
        </p:nvSpPr>
        <p:spPr>
          <a:xfrm>
            <a:off x="4876920" y="5486400"/>
            <a:ext cx="0" cy="7621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9"/>
          <p:cNvSpPr/>
          <p:nvPr/>
        </p:nvSpPr>
        <p:spPr>
          <a:xfrm>
            <a:off x="2819520" y="2971800"/>
            <a:ext cx="50292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0"/>
          <p:cNvSpPr/>
          <p:nvPr/>
        </p:nvSpPr>
        <p:spPr>
          <a:xfrm>
            <a:off x="2590920" y="2819520"/>
            <a:ext cx="533376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ака грызёт кость под крыль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21"/>
          <p:cNvSpPr/>
          <p:nvPr/>
        </p:nvSpPr>
        <p:spPr>
          <a:xfrm flipV="1">
            <a:off x="3581280" y="3352680"/>
            <a:ext cx="152640" cy="1526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22"/>
          <p:cNvSpPr/>
          <p:nvPr/>
        </p:nvSpPr>
        <p:spPr>
          <a:xfrm flipV="1">
            <a:off x="5334120" y="3352680"/>
            <a:ext cx="152280" cy="1526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23"/>
          <p:cNvSpPr/>
          <p:nvPr/>
        </p:nvSpPr>
        <p:spPr>
          <a:xfrm flipV="1">
            <a:off x="2666880" y="3809880"/>
            <a:ext cx="152640" cy="1526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24"/>
          <p:cNvSpPr/>
          <p:nvPr/>
        </p:nvSpPr>
        <p:spPr>
          <a:xfrm flipV="1">
            <a:off x="4038480" y="3352680"/>
            <a:ext cx="152640" cy="1526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4"/>
          <p:cNvSpPr/>
          <p:nvPr/>
        </p:nvSpPr>
        <p:spPr>
          <a:xfrm>
            <a:off x="1828800" y="304920"/>
            <a:ext cx="59436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ени выполненную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5"/>
          <p:cNvSpPr/>
          <p:nvPr/>
        </p:nvSpPr>
        <p:spPr>
          <a:xfrm>
            <a:off x="609480" y="1371600"/>
            <a:ext cx="152424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6"/>
          <p:cNvSpPr/>
          <p:nvPr/>
        </p:nvSpPr>
        <p:spPr>
          <a:xfrm>
            <a:off x="3429000" y="1447920"/>
            <a:ext cx="1523880" cy="121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6400800" y="1447920"/>
            <a:ext cx="1523880" cy="121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8"/>
          <p:cNvSpPr/>
          <p:nvPr/>
        </p:nvSpPr>
        <p:spPr>
          <a:xfrm>
            <a:off x="152280" y="2819520"/>
            <a:ext cx="266724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письменные задания выполнены в полом объёме, аккуратно, без ошибок и исправл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9"/>
          <p:cNvSpPr/>
          <p:nvPr/>
        </p:nvSpPr>
        <p:spPr>
          <a:xfrm>
            <a:off x="3048120" y="2819520"/>
            <a:ext cx="26668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ХОРОШ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письменные задания выполнены в полом объёме, аккурат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имеются аккуратно исправленные ошиб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0"/>
          <p:cNvSpPr/>
          <p:nvPr/>
        </p:nvSpPr>
        <p:spPr>
          <a:xfrm>
            <a:off x="6019920" y="2819520"/>
            <a:ext cx="26668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УДУ СТАРА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исьменные задания выполнены не в полом объём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ются много исправленных ошиб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https://im0-tub-ru.yandex.net/i?id=818e9ad77f808e6010924722ce5740f7&amp;n=33&amp;w=141&amp;h=150"/>
          <p:cNvPicPr/>
          <p:nvPr/>
        </p:nvPicPr>
        <p:blipFill>
          <a:blip r:embed="rId1">
            <a:lum contrast="20000"/>
          </a:blip>
          <a:srcRect l="6674" t="13328" r="10989" b="6677"/>
          <a:stretch/>
        </p:blipFill>
        <p:spPr>
          <a:xfrm>
            <a:off x="6477120" y="1523880"/>
            <a:ext cx="1295280" cy="10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8" descr="https://partycity6.scene7.com/is/image/PartyCity/_pdp_sq_?$_1000x1000_$&amp;$product=PartyCity/802344_01"/>
          <p:cNvPicPr/>
          <p:nvPr/>
        </p:nvPicPr>
        <p:blipFill>
          <a:blip r:embed="rId2">
            <a:lum contrast="20000"/>
          </a:blip>
          <a:srcRect l="11123" t="0" r="11123" b="6677"/>
          <a:stretch/>
        </p:blipFill>
        <p:spPr>
          <a:xfrm>
            <a:off x="3505320" y="1523880"/>
            <a:ext cx="1295280" cy="10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2" name="Picture 10" descr="https://img2.freepng.ru/20180218/zcw/kisspng-green-star-clip-art-smiley-plant-cliparts-5a89c40eeeb036.5435197115189780629777.jpg"/>
          <p:cNvPicPr/>
          <p:nvPr/>
        </p:nvPicPr>
        <p:blipFill>
          <a:blip r:embed="rId3">
            <a:lum contrast="20000"/>
          </a:blip>
          <a:srcRect l="15626" t="0" r="15626" b="0"/>
          <a:stretch/>
        </p:blipFill>
        <p:spPr>
          <a:xfrm>
            <a:off x="685800" y="1447920"/>
            <a:ext cx="1371600" cy="113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13716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76520" y="144792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 согласный, парный, глухой, твёрд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8600" y="28195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600200" y="28954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 согласный, парный, звонкий, твёрд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tretch/>
        </p:blipFill>
        <p:spPr>
          <a:xfrm>
            <a:off x="4495680" y="5257800"/>
            <a:ext cx="114012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11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14156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Line 12"/>
          <p:cNvSpPr/>
          <p:nvPr/>
        </p:nvSpPr>
        <p:spPr>
          <a:xfrm>
            <a:off x="4724280" y="5638680"/>
            <a:ext cx="695520" cy="69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4572000" y="5943600"/>
            <a:ext cx="1036800" cy="31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>
            <a:hlinkClick r:id="" action="ppaction://hlinkshowjump?jump=nextslide"/>
          </p:cNvPr>
          <p:cNvSpPr/>
          <p:nvPr/>
        </p:nvSpPr>
        <p:spPr>
          <a:xfrm>
            <a:off x="822960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3"/>
          <p:cNvSpPr/>
          <p:nvPr/>
        </p:nvSpPr>
        <p:spPr>
          <a:xfrm>
            <a:off x="990720" y="228600"/>
            <a:ext cx="68580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 характеристики звуков. Чем они похож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1066680" y="4191120"/>
            <a:ext cx="6858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 чём отличие звук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 мягкие пары данных зву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>
            <a:off x="1828800" y="5410080"/>
            <a:ext cx="106668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mic Sans MS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>
            <a:off x="5867280" y="5410080"/>
            <a:ext cx="106704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mic Sans MS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2"/>
          <p:cNvSpPr/>
          <p:nvPr/>
        </p:nvSpPr>
        <p:spPr>
          <a:xfrm>
            <a:off x="3048120" y="5410080"/>
            <a:ext cx="106668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Comic Sans MS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>
            <a:off x="7086600" y="5410080"/>
            <a:ext cx="106668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Comic Sans MS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423C4D4"/>
          <p:cNvPicPr/>
          <p:nvPr/>
        </p:nvPicPr>
        <p:blipFill>
          <a:blip r:embed="rId1"/>
          <a:stretch/>
        </p:blipFill>
        <p:spPr>
          <a:xfrm>
            <a:off x="609480" y="2590920"/>
            <a:ext cx="325296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8" descr="808BE9F0"/>
          <p:cNvPicPr/>
          <p:nvPr/>
        </p:nvPicPr>
        <p:blipFill>
          <a:blip r:embed="rId2"/>
          <a:stretch/>
        </p:blipFill>
        <p:spPr>
          <a:xfrm>
            <a:off x="5029200" y="2590920"/>
            <a:ext cx="3200400" cy="215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6324480" y="5105520"/>
            <a:ext cx="135432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0" descr=""/>
          <p:cNvPicPr/>
          <p:nvPr/>
        </p:nvPicPr>
        <p:blipFill>
          <a:blip r:embed="rId4"/>
          <a:stretch/>
        </p:blipFill>
        <p:spPr>
          <a:xfrm>
            <a:off x="1447920" y="5029200"/>
            <a:ext cx="136368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Line 11"/>
          <p:cNvSpPr/>
          <p:nvPr/>
        </p:nvSpPr>
        <p:spPr>
          <a:xfrm>
            <a:off x="1711440" y="5629320"/>
            <a:ext cx="695160" cy="695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V="1">
            <a:off x="1482840" y="5934240"/>
            <a:ext cx="1036440" cy="31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34340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4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04920" y="457200"/>
            <a:ext cx="84582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Открой тетрадь и запиши дату выполнения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тренируйся в написании букв к, г (одна строка чередующихся заглавных и строчных букв Г и 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295280" y="609480"/>
            <a:ext cx="6477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omic Sans MS"/>
              </a:rPr>
              <a:t>Графический дикт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23880" y="1752480"/>
            <a:ext cx="5867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1  Запиши только буквы «к» или «г», обозначь соответствующи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1833480" cy="16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1962360" cy="16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AutoShape 11">
            <a:hlinkClick r:id="" action="ppaction://hlinkshowjump?jump=nextslide"/>
          </p:cNvPr>
          <p:cNvSpPr/>
          <p:nvPr/>
        </p:nvSpPr>
        <p:spPr>
          <a:xfrm>
            <a:off x="4724280" y="601992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>
            <a:hlinkClick r:id="rId3" action="ppaction://hlinksldjump"/>
          </p:cNvPr>
          <p:cNvSpPr/>
          <p:nvPr/>
        </p:nvSpPr>
        <p:spPr>
          <a:xfrm>
            <a:off x="4800600" y="6172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https://im0-tub-ru.yandex.net/i?id=64c615a128e85d0ce8df20f4d4a928d3&amp;n=33&amp;w=150&amp;h=150"/>
          <p:cNvPicPr/>
          <p:nvPr/>
        </p:nvPicPr>
        <p:blipFill>
          <a:blip r:embed="rId4"/>
          <a:stretch/>
        </p:blipFill>
        <p:spPr>
          <a:xfrm>
            <a:off x="4648320" y="3048120"/>
            <a:ext cx="1828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16" descr="https://im0-tub-ru.yandex.net/i?id=5c1cd8e48e6c6329d64f24aeea0beb18&amp;n=33&amp;w=200&amp;h=150"/>
          <p:cNvPicPr/>
          <p:nvPr/>
        </p:nvPicPr>
        <p:blipFill>
          <a:blip r:embed="rId5"/>
          <a:stretch/>
        </p:blipFill>
        <p:spPr>
          <a:xfrm>
            <a:off x="6781680" y="3048120"/>
            <a:ext cx="1828800" cy="158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295280" y="609480"/>
            <a:ext cx="6477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omic Sans MS"/>
              </a:rPr>
              <a:t>Графический дикт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447920" y="30481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К  Г  Г  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8"/>
          <p:cNvSpPr/>
          <p:nvPr/>
        </p:nvSpPr>
        <p:spPr>
          <a:xfrm>
            <a:off x="3962520" y="4038480"/>
            <a:ext cx="30456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9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0"/>
          <p:cNvSpPr/>
          <p:nvPr/>
        </p:nvSpPr>
        <p:spPr>
          <a:xfrm>
            <a:off x="6248520" y="4038480"/>
            <a:ext cx="30456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66680" y="1752480"/>
          <a:ext cx="7086600" cy="4648320"/>
        </p:xfrm>
        <a:graphic>
          <a:graphicData uri="http://schemas.openxmlformats.org/drawingml/2006/table">
            <a:tbl>
              <a:tblPr/>
              <a:tblGrid>
                <a:gridCol w="1368720"/>
                <a:gridCol w="1454040"/>
                <a:gridCol w="1454040"/>
                <a:gridCol w="1454040"/>
                <a:gridCol w="135576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Г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К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5" name="Прямоугольник 5"/>
          <p:cNvSpPr/>
          <p:nvPr/>
        </p:nvSpPr>
        <p:spPr>
          <a:xfrm>
            <a:off x="762120" y="304920"/>
            <a:ext cx="761976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2  Прочитай слоги по строчкам. А теперь потренируйся читать их не по порядку (я буду показывать, а ты чит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66680" y="1752480"/>
          <a:ext cx="7086600" cy="4648320"/>
        </p:xfrm>
        <a:graphic>
          <a:graphicData uri="http://schemas.openxmlformats.org/drawingml/2006/table">
            <a:tbl>
              <a:tblPr/>
              <a:tblGrid>
                <a:gridCol w="1368720"/>
                <a:gridCol w="1454040"/>
                <a:gridCol w="1454040"/>
                <a:gridCol w="1454040"/>
                <a:gridCol w="135576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О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У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Ы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Э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Я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Ё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Ю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О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У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Ы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Э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Я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Ё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Ю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И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</a:t>
                      </a:r>
                      <a:r>
                        <a:rPr b="1" lang="ru-RU" sz="4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5"/>
          <p:cNvSpPr/>
          <p:nvPr/>
        </p:nvSpPr>
        <p:spPr>
          <a:xfrm>
            <a:off x="762120" y="304920"/>
            <a:ext cx="761976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2  Прочитай слоги по строчкам. А теперь потренируйся читать их не по порядку (я буду показывать, а ты чит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447920" y="380880"/>
            <a:ext cx="6400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3  Найди в названиях картинок спрятанные слоги. Запиши их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>
            <a:hlinkClick r:id="" action="ppaction://hlinkshowjump?jump=nextslide"/>
          </p:cNvPr>
          <p:cNvSpPr/>
          <p:nvPr/>
        </p:nvSpPr>
        <p:spPr>
          <a:xfrm>
            <a:off x="4267080" y="586728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41972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8" descr="https://im0-tub-ru.yandex.net/i?id=000c99b14cbfb18310017839ce5840fe&amp;n=33&amp;w=153&amp;h=150"/>
          <p:cNvPicPr/>
          <p:nvPr/>
        </p:nvPicPr>
        <p:blipFill>
          <a:blip r:embed="rId1"/>
          <a:stretch/>
        </p:blipFill>
        <p:spPr>
          <a:xfrm>
            <a:off x="533520" y="1523880"/>
            <a:ext cx="145728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5" name="Picture 20" descr="https://im0-tub-ru.yandex.net/i?id=2f23c0d6b28caf333b7d3a0295192ca6&amp;n=33&amp;w=225&amp;h=150"/>
          <p:cNvPicPr/>
          <p:nvPr/>
        </p:nvPicPr>
        <p:blipFill>
          <a:blip r:embed="rId2"/>
          <a:stretch/>
        </p:blipFill>
        <p:spPr>
          <a:xfrm>
            <a:off x="2362320" y="1523880"/>
            <a:ext cx="190476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6" name="Picture 22" descr="https://im0-tub-ru.yandex.net/i?id=d245daca3cc2f18246f67ac0dbe3f8af&amp;n=33&amp;w=225&amp;h=150"/>
          <p:cNvPicPr/>
          <p:nvPr/>
        </p:nvPicPr>
        <p:blipFill>
          <a:blip r:embed="rId3"/>
          <a:stretch/>
        </p:blipFill>
        <p:spPr>
          <a:xfrm>
            <a:off x="4648320" y="1523880"/>
            <a:ext cx="182880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7" name="Picture 24" descr="https://im0-tub-ru.yandex.net/i?id=d6d46e95254c3052e09a81bcb3a85c42&amp;n=33&amp;w=189&amp;h=150"/>
          <p:cNvPicPr/>
          <p:nvPr/>
        </p:nvPicPr>
        <p:blipFill>
          <a:blip r:embed="rId4"/>
          <a:stretch/>
        </p:blipFill>
        <p:spPr>
          <a:xfrm>
            <a:off x="533520" y="3505320"/>
            <a:ext cx="1800000" cy="142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Picture 26" descr="https://im0-tub-ru.yandex.net/i?id=c48e7c2c6649bfd5ed6ef1360712cbee&amp;n=33&amp;w=222&amp;h=150"/>
          <p:cNvPicPr/>
          <p:nvPr/>
        </p:nvPicPr>
        <p:blipFill>
          <a:blip r:embed="rId5"/>
          <a:stretch/>
        </p:blipFill>
        <p:spPr>
          <a:xfrm>
            <a:off x="6781680" y="1523880"/>
            <a:ext cx="211464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9" name="Picture 28" descr="https://im0-tub-ru.yandex.net/i?id=6cff0f58fcfd8cfc654ac835ebd53103&amp;n=33&amp;w=220&amp;h=150"/>
          <p:cNvPicPr/>
          <p:nvPr/>
        </p:nvPicPr>
        <p:blipFill>
          <a:blip r:embed="rId6"/>
          <a:stretch/>
        </p:blipFill>
        <p:spPr>
          <a:xfrm>
            <a:off x="2590920" y="3505320"/>
            <a:ext cx="2095560" cy="142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0" name="Picture 30" descr="https://im0-tub-ru.yandex.net/i?id=4675cc2bd7ad182885bf01c12d4b9ad8&amp;n=33&amp;w=150&amp;h=150"/>
          <p:cNvPicPr/>
          <p:nvPr/>
        </p:nvPicPr>
        <p:blipFill>
          <a:blip r:embed="rId7"/>
          <a:stretch/>
        </p:blipFill>
        <p:spPr>
          <a:xfrm>
            <a:off x="5029200" y="3505320"/>
            <a:ext cx="1447920" cy="142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1" name="Picture 36" descr="https://im0-tub-ru.yandex.net/i?id=d37cb05c3d94fa00732684fdbfe59f6d&amp;n=33&amp;w=200&amp;h=150"/>
          <p:cNvPicPr/>
          <p:nvPr/>
        </p:nvPicPr>
        <p:blipFill>
          <a:blip r:embed="rId8"/>
          <a:stretch/>
        </p:blipFill>
        <p:spPr>
          <a:xfrm>
            <a:off x="6858000" y="3505320"/>
            <a:ext cx="1905120" cy="142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6d3f8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0880" y="1143000"/>
            <a:ext cx="23623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ЛИ-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34120" y="1143000"/>
            <a:ext cx="190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Н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895480" y="1143000"/>
            <a:ext cx="2286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ЗЕ-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48320" y="1981080"/>
            <a:ext cx="2438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80880" y="198108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80880" y="2895480"/>
            <a:ext cx="26672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276720" y="2895480"/>
            <a:ext cx="2438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И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514600" y="1981080"/>
            <a:ext cx="19051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НИ-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1066680" y="380880"/>
            <a:ext cx="6400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6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"/>
          <p:cNvSpPr/>
          <p:nvPr/>
        </p:nvSpPr>
        <p:spPr>
          <a:xfrm>
            <a:off x="457200" y="4038480"/>
            <a:ext cx="7848720" cy="16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, га, ки, ко, ги, го, ке, г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8"/>
          <p:cNvSpPr/>
          <p:nvPr/>
        </p:nvSpPr>
        <p:spPr>
          <a:xfrm>
            <a:off x="83808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9"/>
          <p:cNvSpPr/>
          <p:nvPr/>
        </p:nvSpPr>
        <p:spPr>
          <a:xfrm>
            <a:off x="175248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0"/>
          <p:cNvSpPr/>
          <p:nvPr/>
        </p:nvSpPr>
        <p:spPr>
          <a:xfrm>
            <a:off x="365760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1"/>
          <p:cNvSpPr/>
          <p:nvPr/>
        </p:nvSpPr>
        <p:spPr>
          <a:xfrm>
            <a:off x="548640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2"/>
          <p:cNvSpPr/>
          <p:nvPr/>
        </p:nvSpPr>
        <p:spPr>
          <a:xfrm>
            <a:off x="7315200" y="4800600"/>
            <a:ext cx="304920" cy="304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3"/>
          <p:cNvSpPr/>
          <p:nvPr/>
        </p:nvSpPr>
        <p:spPr>
          <a:xfrm>
            <a:off x="6400800" y="4800600"/>
            <a:ext cx="30492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4"/>
          <p:cNvSpPr/>
          <p:nvPr/>
        </p:nvSpPr>
        <p:spPr>
          <a:xfrm>
            <a:off x="4572000" y="4800600"/>
            <a:ext cx="30492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25"/>
          <p:cNvSpPr/>
          <p:nvPr/>
        </p:nvSpPr>
        <p:spPr>
          <a:xfrm>
            <a:off x="2666880" y="4800600"/>
            <a:ext cx="304920" cy="304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ндрей</cp:lastModifiedBy>
  <dcterms:modified xsi:type="dcterms:W3CDTF">2020-04-17T04:32:0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50000000000010250600207f3200358026400</vt:lpwstr>
  </property>
  <property fmtid="{D5CDD505-2E9C-101B-9397-08002B2CF9AE}" pid="3" name="Version">
    <vt:r8>1</vt:r8>
  </property>
</Properties>
</file>