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692-9603-473F-A490-6D17546B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EF7-71D1-4972-9B18-11212C0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41E-AE6E-432C-AFD5-0AFD6DC7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776-919B-4F21-A9A9-639B6B2D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A7E-3217-43F8-9B21-C791CB57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D46-0BBD-4D1B-9196-C3271C3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5DC-552F-45C8-BD49-E6DED28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974-B2BF-46CD-825C-507AF97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EEB-2244-4CDA-A94A-D2F1AF6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351-918A-47D1-9171-0940B13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854-38F6-4512-ABF7-A4C8178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D2E-6560-4D9D-A79F-4E850F4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137-818B-4B28-813C-9945F7D5A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0" y="981000"/>
            <a:ext cx="471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61" descr=""/>
          <p:cNvPicPr/>
          <p:nvPr/>
        </p:nvPicPr>
        <p:blipFill>
          <a:blip r:embed="rId1"/>
          <a:stretch/>
        </p:blipFill>
        <p:spPr>
          <a:xfrm>
            <a:off x="603360" y="2120760"/>
            <a:ext cx="7381800" cy="309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Admin\Рабочий стол\моё\Альбом север (+)\Презентация альбома\Можжевельник\Picture-4776 - копия.jpg"/>
          <p:cNvPicPr/>
          <p:nvPr/>
        </p:nvPicPr>
        <p:blipFill>
          <a:blip r:embed="rId2"/>
          <a:stretch/>
        </p:blipFill>
        <p:spPr>
          <a:xfrm>
            <a:off x="4432320" y="189000"/>
            <a:ext cx="208440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\Рабочий стол\моё\Альбом север (+)\Презентация альбома\Морошка\berry_cloudberries_2_h_orig.jpg"/>
          <p:cNvPicPr/>
          <p:nvPr/>
        </p:nvPicPr>
        <p:blipFill>
          <a:blip r:embed="rId3"/>
          <a:stretch/>
        </p:blipFill>
        <p:spPr>
          <a:xfrm>
            <a:off x="6035760" y="158760"/>
            <a:ext cx="172404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\Рабочий стол\моё\Альбом север (+)\Презентация альбома\Клюква\klukva3 - копия.jpg"/>
          <p:cNvPicPr/>
          <p:nvPr/>
        </p:nvPicPr>
        <p:blipFill>
          <a:blip r:embed="rId4"/>
          <a:stretch/>
        </p:blipFill>
        <p:spPr>
          <a:xfrm>
            <a:off x="7077240" y="725400"/>
            <a:ext cx="198108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ем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C:\Documents and Settings\Admin\Рабочий стол\моё\Альбом север (+)\Презентация альбома\Черёмуха\P9208001 - копия.JPG"/>
          <p:cNvPicPr/>
          <p:nvPr/>
        </p:nvPicPr>
        <p:blipFill>
          <a:blip r:embed="rId1"/>
          <a:stretch/>
        </p:blipFill>
        <p:spPr>
          <a:xfrm>
            <a:off x="2195640" y="1125360"/>
            <a:ext cx="53258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моро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Documents and Settings\Admin\Рабочий стол\моё\Альбом север (+)\Презентация альбома\Смородина красная\IMG_0305.jpg"/>
          <p:cNvPicPr/>
          <p:nvPr/>
        </p:nvPicPr>
        <p:blipFill>
          <a:blip r:embed="rId1"/>
          <a:stretch/>
        </p:blipFill>
        <p:spPr>
          <a:xfrm>
            <a:off x="539640" y="1149480"/>
            <a:ext cx="3745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Admin\Рабочий стол\моё\Альбом север (+)\Презентация альбома\Смородина чёрная\Смородина_чёрная - копия.jpg"/>
          <p:cNvPicPr/>
          <p:nvPr/>
        </p:nvPicPr>
        <p:blipFill>
          <a:blip r:embed="rId2"/>
          <a:stretch/>
        </p:blipFill>
        <p:spPr>
          <a:xfrm>
            <a:off x="4572000" y="1112760"/>
            <a:ext cx="40323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рус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Documents and Settings\Admin\Рабочий стол\моё\Альбом север (+)\Презентация альбома\Брусника\3.jpg"/>
          <p:cNvPicPr/>
          <p:nvPr/>
        </p:nvPicPr>
        <p:blipFill>
          <a:blip r:embed="rId1"/>
          <a:stretch/>
        </p:blipFill>
        <p:spPr>
          <a:xfrm>
            <a:off x="1403280" y="1125360"/>
            <a:ext cx="6558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Documents and Settings\Admin\Рабочий стол\моё\Альбом север (+)\Презентация альбома\Голубика\2.jpg"/>
          <p:cNvPicPr/>
          <p:nvPr/>
        </p:nvPicPr>
        <p:blipFill>
          <a:blip r:embed="rId1"/>
          <a:stretch/>
        </p:blipFill>
        <p:spPr>
          <a:xfrm>
            <a:off x="1332000" y="1125360"/>
            <a:ext cx="65768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лю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Documents and Settings\Admin\Рабочий стол\моё\Альбом север (+)\Презентация альбома\Клюква\1.jpg"/>
          <p:cNvPicPr/>
          <p:nvPr/>
        </p:nvPicPr>
        <p:blipFill>
          <a:blip r:embed="rId1"/>
          <a:stretch/>
        </p:blipFill>
        <p:spPr>
          <a:xfrm>
            <a:off x="1619280" y="1197000"/>
            <a:ext cx="6253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р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Documents and Settings\Admin\Рабочий стол\моё\Альбом север (+)\Презентация альбома\Морошка\233071518.jpg"/>
          <p:cNvPicPr/>
          <p:nvPr/>
        </p:nvPicPr>
        <p:blipFill>
          <a:blip r:embed="rId1"/>
          <a:stretch/>
        </p:blipFill>
        <p:spPr>
          <a:xfrm>
            <a:off x="1835280" y="1125360"/>
            <a:ext cx="6219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ер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:\Documents and Settings\Admin\Рабочий стол\моё\Альбом север (+)\Презентация альбома\Черника\91cb02d35e09.jpg"/>
          <p:cNvPicPr/>
          <p:nvPr/>
        </p:nvPicPr>
        <p:blipFill>
          <a:blip r:embed="rId1"/>
          <a:stretch/>
        </p:blipFill>
        <p:spPr>
          <a:xfrm>
            <a:off x="2556000" y="1125360"/>
            <a:ext cx="39686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д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C:\Documents and Settings\Admin\Рабочий стол\моё\Альбом север (+)\Презентация альбома\Водяника\4.jpg"/>
          <p:cNvPicPr/>
          <p:nvPr/>
        </p:nvPicPr>
        <p:blipFill>
          <a:blip r:embed="rId1"/>
          <a:stretch/>
        </p:blipFill>
        <p:spPr>
          <a:xfrm>
            <a:off x="1476360" y="1197000"/>
            <a:ext cx="60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ст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Admin\Рабочий стол\моё\Альбом север (+)\Презентация альбома\Костяника\1.jpg"/>
          <p:cNvPicPr/>
          <p:nvPr/>
        </p:nvPicPr>
        <p:blipFill>
          <a:blip r:embed="rId1"/>
          <a:stretch/>
        </p:blipFill>
        <p:spPr>
          <a:xfrm>
            <a:off x="1758960" y="1197000"/>
            <a:ext cx="6162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:\Documents and Settings\Admin\Рабочий стол\моё\Альбом север (+)\Презентация альбома\Рябина\5.jpg"/>
          <p:cNvPicPr/>
          <p:nvPr/>
        </p:nvPicPr>
        <p:blipFill>
          <a:blip r:embed="rId1"/>
          <a:stretch/>
        </p:blipFill>
        <p:spPr>
          <a:xfrm>
            <a:off x="1619280" y="1125360"/>
            <a:ext cx="62434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3:16:11Z</dcterms:created>
  <dc:creator>Ольга</dc:creator>
  <dc:description/>
  <dc:language>en-US</dc:language>
  <cp:lastModifiedBy>Ольга</cp:lastModifiedBy>
  <dcterms:modified xsi:type="dcterms:W3CDTF">2010-12-12T14:26:42Z</dcterms:modified>
  <cp:revision>85</cp:revision>
  <dc:subject/>
  <dc:title>Слайд 1</dc:title>
</cp:coreProperties>
</file>