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01847-C038-4C91-8E7D-A369811F0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40382-CFC5-41E1-BF3E-6CF48865E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9FDC6-E96A-4332-A5B7-28AF2123E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BBF8D-5509-45D8-A18B-735805FE6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5DDC6-C241-4656-B24A-0F0E6B386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E47A7-516E-407A-B063-ACFC33FCB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32039-7D7A-4108-82DC-2E22FF14C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26456-CFF3-45E8-AF66-688449E97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F0336-0A10-4660-A19F-AD88AC678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DD023-82C8-4D72-A591-7FA188CC0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65600-8E55-4821-A77E-9BEA7B594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99A5A-722A-49FA-8B76-AEEF5EF6A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8DBDB-7C51-4D95-9343-7003B9FB4A6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3"/>
          <p:cNvSpPr/>
          <p:nvPr/>
        </p:nvSpPr>
        <p:spPr>
          <a:xfrm>
            <a:off x="0" y="981000"/>
            <a:ext cx="47163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TextBox 61" descr=""/>
          <p:cNvPicPr/>
          <p:nvPr/>
        </p:nvPicPr>
        <p:blipFill>
          <a:blip r:embed="rId1"/>
          <a:stretch/>
        </p:blipFill>
        <p:spPr>
          <a:xfrm>
            <a:off x="603360" y="2120760"/>
            <a:ext cx="7381800" cy="30974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3" descr="C:\Documents and Settings\Admin\Рабочий стол\моё\Альбом север (+)\Презентация альбома\Можжевельник\Picture-4776 - копия.jpg"/>
          <p:cNvPicPr/>
          <p:nvPr/>
        </p:nvPicPr>
        <p:blipFill>
          <a:blip r:embed="rId2"/>
          <a:stretch/>
        </p:blipFill>
        <p:spPr>
          <a:xfrm>
            <a:off x="4432320" y="189000"/>
            <a:ext cx="2084400" cy="1785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C:\Documents and Settings\Admin\Рабочий стол\моё\Альбом север (+)\Презентация альбома\Морошка\berry_cloudberries_2_h_orig.jpg"/>
          <p:cNvPicPr/>
          <p:nvPr/>
        </p:nvPicPr>
        <p:blipFill>
          <a:blip r:embed="rId3"/>
          <a:stretch/>
        </p:blipFill>
        <p:spPr>
          <a:xfrm>
            <a:off x="6035760" y="158760"/>
            <a:ext cx="1724040" cy="14875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4" descr="C:\Documents and Settings\Admin\Рабочий стол\моё\Альбом север (+)\Презентация альбома\Клюква\klukva3 - копия.jpg"/>
          <p:cNvPicPr/>
          <p:nvPr/>
        </p:nvPicPr>
        <p:blipFill>
          <a:blip r:embed="rId4"/>
          <a:stretch/>
        </p:blipFill>
        <p:spPr>
          <a:xfrm>
            <a:off x="7077240" y="725400"/>
            <a:ext cx="1981080" cy="1347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1860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черемух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8" descr="C:\Documents and Settings\Admin\Рабочий стол\моё\Альбом север (+)\Презентация альбома\Черёмуха\P9208001 - копия.JPG"/>
          <p:cNvPicPr/>
          <p:nvPr/>
        </p:nvPicPr>
        <p:blipFill>
          <a:blip r:embed="rId1"/>
          <a:stretch/>
        </p:blipFill>
        <p:spPr>
          <a:xfrm>
            <a:off x="2195640" y="1125360"/>
            <a:ext cx="5325840" cy="471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418608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смороди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8" descr="C:\Documents and Settings\Admin\Рабочий стол\моё\Альбом север (+)\Презентация альбома\Смородина красная\IMG_0305.jpg"/>
          <p:cNvPicPr/>
          <p:nvPr/>
        </p:nvPicPr>
        <p:blipFill>
          <a:blip r:embed="rId1"/>
          <a:stretch/>
        </p:blipFill>
        <p:spPr>
          <a:xfrm>
            <a:off x="539640" y="1149480"/>
            <a:ext cx="3745080" cy="4703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9" descr="C:\Documents and Settings\Admin\Рабочий стол\моё\Альбом север (+)\Презентация альбома\Смородина чёрная\Смородина_чёрная - копия.jpg"/>
          <p:cNvPicPr/>
          <p:nvPr/>
        </p:nvPicPr>
        <p:blipFill>
          <a:blip r:embed="rId2"/>
          <a:stretch/>
        </p:blipFill>
        <p:spPr>
          <a:xfrm>
            <a:off x="4572000" y="1112760"/>
            <a:ext cx="4032360" cy="476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425916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брусн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8" descr="C:\Documents and Settings\Admin\Рабочий стол\моё\Альбом север (+)\Презентация альбома\Брусника\3.jpg"/>
          <p:cNvPicPr/>
          <p:nvPr/>
        </p:nvPicPr>
        <p:blipFill>
          <a:blip r:embed="rId1"/>
          <a:stretch/>
        </p:blipFill>
        <p:spPr>
          <a:xfrm>
            <a:off x="1403280" y="1125360"/>
            <a:ext cx="655812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41148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черн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8" descr="C:\Documents and Settings\Admin\Рабочий стол\моё\Альбом север (+)\Презентация альбома\Голубика\2.jpg"/>
          <p:cNvPicPr/>
          <p:nvPr/>
        </p:nvPicPr>
        <p:blipFill>
          <a:blip r:embed="rId1"/>
          <a:stretch/>
        </p:blipFill>
        <p:spPr>
          <a:xfrm>
            <a:off x="1332000" y="1125360"/>
            <a:ext cx="6576840" cy="46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418608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клюк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8" descr="C:\Documents and Settings\Admin\Рабочий стол\моё\Альбом север (+)\Презентация альбома\Клюква\1.jpg"/>
          <p:cNvPicPr/>
          <p:nvPr/>
        </p:nvPicPr>
        <p:blipFill>
          <a:blip r:embed="rId1"/>
          <a:stretch/>
        </p:blipFill>
        <p:spPr>
          <a:xfrm>
            <a:off x="1619280" y="1197000"/>
            <a:ext cx="6253200" cy="467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425916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морош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8" descr="C:\Documents and Settings\Admin\Рабочий стол\моё\Альбом север (+)\Презентация альбома\Морошка\233071518.jpg"/>
          <p:cNvPicPr/>
          <p:nvPr/>
        </p:nvPicPr>
        <p:blipFill>
          <a:blip r:embed="rId1"/>
          <a:stretch/>
        </p:blipFill>
        <p:spPr>
          <a:xfrm>
            <a:off x="1835280" y="1125360"/>
            <a:ext cx="6219720" cy="475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41148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черн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8" descr="C:\Documents and Settings\Admin\Рабочий стол\моё\Альбом север (+)\Презентация альбома\Черника\91cb02d35e09.jpg"/>
          <p:cNvPicPr/>
          <p:nvPr/>
        </p:nvPicPr>
        <p:blipFill>
          <a:blip r:embed="rId1"/>
          <a:stretch/>
        </p:blipFill>
        <p:spPr>
          <a:xfrm>
            <a:off x="2556000" y="1125360"/>
            <a:ext cx="3968640" cy="471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1860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водян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8" descr="C:\Documents and Settings\Admin\Рабочий стол\моё\Альбом север (+)\Презентация альбома\Водяника\4.jpg"/>
          <p:cNvPicPr/>
          <p:nvPr/>
        </p:nvPicPr>
        <p:blipFill>
          <a:blip r:embed="rId1"/>
          <a:stretch/>
        </p:blipFill>
        <p:spPr>
          <a:xfrm>
            <a:off x="1476360" y="1197000"/>
            <a:ext cx="60404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418608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костян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8" descr="C:\Documents and Settings\Admin\Рабочий стол\моё\Альбом север (+)\Презентация альбома\Костяника\1.jpg"/>
          <p:cNvPicPr/>
          <p:nvPr/>
        </p:nvPicPr>
        <p:blipFill>
          <a:blip r:embed="rId1"/>
          <a:stretch/>
        </p:blipFill>
        <p:spPr>
          <a:xfrm>
            <a:off x="1758960" y="1197000"/>
            <a:ext cx="616284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1148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ряби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8" descr="C:\Documents and Settings\Admin\Рабочий стол\моё\Альбом север (+)\Презентация альбома\Рябина\5.jpg"/>
          <p:cNvPicPr/>
          <p:nvPr/>
        </p:nvPicPr>
        <p:blipFill>
          <a:blip r:embed="rId1"/>
          <a:stretch/>
        </p:blipFill>
        <p:spPr>
          <a:xfrm>
            <a:off x="1619280" y="1125360"/>
            <a:ext cx="6243480" cy="468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30T13:16:11Z</dcterms:created>
  <dc:creator>Ольга</dc:creator>
  <dc:description/>
  <dc:language>en-US</dc:language>
  <cp:lastModifiedBy>Ольга</cp:lastModifiedBy>
  <dcterms:modified xsi:type="dcterms:W3CDTF">2010-12-12T14:26:42Z</dcterms:modified>
  <cp:revision>85</cp:revision>
  <dc:subject/>
  <dc:title>Слайд 1</dc:title>
</cp:coreProperties>
</file>