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DCC-E516-464F-A68C-609A362B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356E-88F2-4E05-AE7B-63F44095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356-9FE2-4200-963E-464848D4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FCA-B4B5-445B-943D-B4C62FD7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2F178-2533-4DE2-891F-769B8BD3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E4D23-2CDF-4944-B8E0-D8E90308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5F33E-29D5-4CD3-804C-9B22B678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BD947-BA74-4A05-BDAE-7F4D27BC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7E61D-C3A9-4FD7-A33C-8ABE7C09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065F9-6314-4B01-8B90-F7930DDE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DD120-68D5-49E7-A06C-58CEC521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52C-8BF1-442F-85B9-F1989C1B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A87FB-4D39-440A-899B-2BDDACA9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32950-9970-47AB-8992-C86886D0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6B8DB-8097-49D4-8664-45CE6B18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1C30D-E352-4058-8908-97F2DC2A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D8E43-2AC2-47A7-94B9-6E4F89F2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040D2-560A-420E-A0F2-00F52DE9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4CBA4-5585-48BA-8BF2-95E1F753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A4E71-9A7F-4B0C-A7AA-AFD5D7BC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405C3-D819-4862-9A01-C7F0DCC6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4CBEF-ED2F-4529-BCBF-80CCD7D6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606-F525-414B-A61A-CAB11E50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C5379-7D2C-4E71-AD55-DDD3AE6E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7F57D-F645-474B-A4FD-C271A4FA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40867-D2EF-4369-8CB7-2D175655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E5149-D0F0-4550-926A-451BA9FB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2FE8B-4E61-4CD5-8136-B27138C2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CD7FC-44E2-4E4E-95AF-B2013455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1BD93-FB23-4769-B8BD-57629CBD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0F7F26-361C-460F-A752-2953BA45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2D3CF3-77F8-4465-8EE8-9D2BFC43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EBB59E-22B1-43DC-957C-83AB7806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987-A87A-471D-A05B-59DB254E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1958EA-93A7-4DD0-BA74-88C8DEDE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E4B0B5-3C61-4345-8F89-C50446D8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7B84F2-2E28-4EAE-8FAC-5A09BBCD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05560D-886E-4D4E-A2E7-85E58C09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9D190F-C105-460A-A359-034A8224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1EDD3E-05F9-4B6C-A277-6BFA6076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9FD11A-A572-4EE3-B853-23DA1A45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7DCB91-8685-496C-8401-A428831F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84344E-8551-4EAE-BEAE-272FA064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01C7-0E74-4FFF-B1C5-8322279E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49E-DA65-4A25-9FBE-B873E82C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299-B1FF-4849-A6B3-2E1B9FB0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783-2988-4B31-BA82-233D7B3A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05B8-AA17-449E-81E9-617AC9BA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CDBE-AB86-44AA-9AE3-322C8909580A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F29C-B8A4-41AD-9113-680AA91D1223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BB74-63BD-4637-8C1B-79C93F180B9F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16AE-1253-4E7F-A3E6-B8EABC43CBE8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0" y="0"/>
            <a:ext cx="914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13" descr="Научно-практическая конференция &quot;Академик М.В.Ломоносов: вкл…"/>
          <p:cNvPicPr/>
          <p:nvPr/>
        </p:nvPicPr>
        <p:blipFill>
          <a:blip r:embed="rId1"/>
          <a:stretch/>
        </p:blipFill>
        <p:spPr>
          <a:xfrm>
            <a:off x="318960" y="843120"/>
            <a:ext cx="3743280" cy="487044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1"/>
          <p:cNvSpPr/>
          <p:nvPr/>
        </p:nvSpPr>
        <p:spPr>
          <a:xfrm>
            <a:off x="4067280" y="184644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2901"/>
                </a:solidFill>
                <a:latin typeface="Comic Sans MS"/>
              </a:rPr>
              <a:t>Михаил Васильевич Ломоносов - великий русский учёны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427280" y="1476360"/>
            <a:ext cx="425916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901"/>
                </a:solidFill>
                <a:latin typeface="Arial"/>
                <a:ea typeface="Arial"/>
              </a:rPr>
              <a:t>Знал несколько язык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901"/>
                </a:solidFill>
                <a:latin typeface="Arial"/>
                <a:ea typeface="Arial"/>
              </a:rPr>
              <a:t>Сочинил множество стих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901"/>
                </a:solidFill>
                <a:latin typeface="Arial"/>
                <a:ea typeface="Arial"/>
              </a:rPr>
              <a:t>Преподавал в Академии наук русский язык, историю, физику, химию и другие предмет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901"/>
                </a:solidFill>
                <a:latin typeface="Arial"/>
                <a:ea typeface="Arial"/>
              </a:rPr>
              <a:t>Написал первую русскую грамматику, учебник русской истор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901"/>
                </a:solidFill>
                <a:latin typeface="Arial"/>
                <a:ea typeface="Arial"/>
              </a:rPr>
              <a:t>Первым объяснил русским людям, откуда берётся тепло и дожди, что такое планеты и кометы, от чего происходит северное сияние и мн. др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210600" cy="1603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http://img1.liveinternet.ru/images/attach/c/8/99/35/99035389_lomonosov_en.jpg"/>
          <p:cNvPicPr/>
          <p:nvPr/>
        </p:nvPicPr>
        <p:blipFill>
          <a:blip r:embed="rId2"/>
          <a:stretch/>
        </p:blipFill>
        <p:spPr>
          <a:xfrm>
            <a:off x="468360" y="1476360"/>
            <a:ext cx="3524040" cy="50356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0" y="356760"/>
            <a:ext cx="914400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d2901"/>
                </a:solidFill>
                <a:latin typeface="Arial"/>
                <a:ea typeface="Arial"/>
              </a:rPr>
              <a:t>Михаил Васильевич Ломоносов  родился  </a:t>
            </a:r>
            <a:r>
              <a:rPr b="1" lang="ru-RU" sz="2600" spc="-1" strike="noStrike">
                <a:solidFill>
                  <a:srgbClr val="2d2901"/>
                </a:solidFill>
                <a:latin typeface="Comic Sans MS"/>
                <a:ea typeface="Arial"/>
              </a:rPr>
              <a:t>21 ноября 1711 года </a:t>
            </a:r>
            <a:r>
              <a:rPr b="1" lang="ru-RU" sz="2600" spc="-1" strike="noStrike">
                <a:solidFill>
                  <a:srgbClr val="2d2901"/>
                </a:solidFill>
                <a:latin typeface="Arial"/>
                <a:ea typeface="Arial"/>
              </a:rPr>
              <a:t>в Архангельской губернии в деревне Денисовка около села Холмогоры </a:t>
            </a:r>
            <a:br>
              <a:rPr sz="2600"/>
            </a:br>
            <a:r>
              <a:rPr b="1" lang="ru-RU" sz="2600" spc="-1" strike="noStrike">
                <a:solidFill>
                  <a:srgbClr val="2d2901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2d2901"/>
                </a:solidFill>
                <a:latin typeface="Arial"/>
                <a:ea typeface="Arial"/>
              </a:rPr>
              <a:t>в семье крестьянина-помора, занимавшегося морским промыслом на собственных судах. Мальчик начал помогать отцу с 10 лет. Вместе они ходили рыбачить в Белое море. Нередкие опасности плавания закаляли физические силы юноши и обогащали его ум разнообразными наблюдениям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2500200" y="2714760"/>
            <a:ext cx="457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C:\Users\muras\Desktop\0010-005-.jpg"/>
          <p:cNvPicPr/>
          <p:nvPr/>
        </p:nvPicPr>
        <p:blipFill>
          <a:blip r:embed="rId1"/>
          <a:stretch/>
        </p:blipFill>
        <p:spPr>
          <a:xfrm>
            <a:off x="4284720" y="3716280"/>
            <a:ext cx="4248000" cy="2927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0" y="4365720"/>
            <a:ext cx="9144000" cy="24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В 11-12 лет Михайло по собственному желанию выучился грамоте и пристрастился к чтению. Первым его учителем стал дьячок местной церкви. Ломоносов прочитал всё, что было под рукой: Часослов, Псалтырь и другие церковные книг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Содержимое 12" descr="5.jpg"/>
          <p:cNvPicPr/>
          <p:nvPr/>
        </p:nvPicPr>
        <p:blipFill>
          <a:blip r:embed="rId1"/>
          <a:stretch/>
        </p:blipFill>
        <p:spPr>
          <a:xfrm>
            <a:off x="4857840" y="549360"/>
            <a:ext cx="3925800" cy="35845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3" descr="5.jpg"/>
          <p:cNvPicPr/>
          <p:nvPr/>
        </p:nvPicPr>
        <p:blipFill>
          <a:blip r:embed="rId2"/>
          <a:stretch/>
        </p:blipFill>
        <p:spPr>
          <a:xfrm>
            <a:off x="542880" y="334800"/>
            <a:ext cx="3206880" cy="3859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780000" y="189000"/>
            <a:ext cx="536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901"/>
                </a:solidFill>
                <a:latin typeface="Arial"/>
                <a:ea typeface="Arial"/>
              </a:rPr>
              <a:t>Ломоносов решил  покинуть дом и пробраться в Москву, чтобы там поступить в школу.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901"/>
                </a:solidFill>
                <a:latin typeface="Arial"/>
                <a:ea typeface="Arial"/>
              </a:rPr>
              <a:t>Тайком от отца.  Морозным декабрьским днем 1730 года отправился юноша с рыбным обозом своих земляков в Москву, взяв с собой книги. Он выхлопотал себе паспорт и выпросил у соседа кафтан и занял три рубля. Через три недели Ломоносов был в Москве. Неприветливо встретила Москва молодого крестьянина, жаждавшего знаний. У Ломоносова не было здесь ни родных, ни знакомых, а в кармане – ни копейки. Первую ночь он провёл в санях под открытым небом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901"/>
                </a:solidFill>
                <a:latin typeface="Arial"/>
                <a:ea typeface="Arial"/>
              </a:rPr>
              <a:t>15 января 1731 года М.В. Ломоносов был зачислен в самый младший класс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Славяно-греко-латинской академии</a:t>
            </a:r>
            <a:r>
              <a:rPr b="1" lang="ru-RU" sz="2000" spc="-1" strike="noStrike">
                <a:solidFill>
                  <a:srgbClr val="2d2901"/>
                </a:solidFill>
                <a:latin typeface="Arial"/>
                <a:ea typeface="Arial"/>
              </a:rPr>
              <a:t>, так как он не знал латинского языка. Ломоносову пришлось скрыть своё происхождение и назваться сыном дворянин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Picture 8" descr="http://gagago.ru/imgs/plan-uroka--tema-uroka-m-v-lomonosov-velikij-russkij-uchen/19409.jpg"/>
          <p:cNvPicPr/>
          <p:nvPr/>
        </p:nvPicPr>
        <p:blipFill>
          <a:blip r:embed="rId1"/>
          <a:stretch/>
        </p:blipFill>
        <p:spPr>
          <a:xfrm>
            <a:off x="250920" y="1268280"/>
            <a:ext cx="3600360" cy="4241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0" y="3600360"/>
            <a:ext cx="9144000" cy="30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Нелегко пришлось Ломоносову на первых порах. По возрасту он был гораздо старше других учеников,</a:t>
            </a:r>
            <a:r>
              <a:rPr b="0" lang="ru-RU" sz="2800" spc="-1" strike="noStrike">
                <a:solidFill>
                  <a:srgbClr val="2d2901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которые смеялись над ним. Не хватало денег на жизнь. Он терпел большую нужду: школа выдавала только 90 копеек в месяц, чего едва хватало на хлеб и квас. Но Ломоносов  с жаром принялся за учение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Picture 7" descr="http://static.my-shop.ru/product/f2/9/87611.jpg"/>
          <p:cNvPicPr/>
          <p:nvPr/>
        </p:nvPicPr>
        <p:blipFill>
          <a:blip r:embed="rId1"/>
          <a:srcRect l="0" t="0" r="-43" b="0"/>
          <a:stretch/>
        </p:blipFill>
        <p:spPr>
          <a:xfrm>
            <a:off x="3132000" y="357120"/>
            <a:ext cx="3797280" cy="3243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0" y="328608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d2901"/>
                </a:solidFill>
                <a:latin typeface="Arial"/>
                <a:ea typeface="Arial"/>
              </a:rPr>
              <a:t>В 1735 году Ломоносова, как одного из лучших учеников, отправили на учёбу в Петербург в гимназию при Академии наук</a:t>
            </a:r>
            <a:r>
              <a:rPr b="1" lang="ru-RU" sz="2200" spc="-1" strike="noStrike">
                <a:solidFill>
                  <a:srgbClr val="2d2901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d2901"/>
                </a:solidFill>
                <a:latin typeface="Arial"/>
                <a:ea typeface="Arial"/>
              </a:rPr>
              <a:t>В Петербурге он проучился год, а потом, как лучший ученик, был отправлен за границу – учиться у немецких профессоров. Скоро выучил немецкий и французский языки, многие другие науки, стал</a:t>
            </a:r>
            <a:r>
              <a:rPr b="1" lang="ru-RU" sz="2200" spc="-1" strike="noStrike">
                <a:solidFill>
                  <a:srgbClr val="2d2901"/>
                </a:solidFill>
                <a:latin typeface="Comic Sans MS"/>
                <a:ea typeface="Arial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самым образованным человеком в России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d2901"/>
                </a:solidFill>
                <a:latin typeface="Arial"/>
                <a:ea typeface="Arial"/>
              </a:rPr>
              <a:t>Ломоносов прожил за границей около четырёх лет и всё это время неустанно работал. Профессора удивлялись его трудолюбию, успехам и дарованиям.</a:t>
            </a:r>
            <a:r>
              <a:rPr b="0" lang="ru-RU" sz="2200" spc="-1" strike="noStrike">
                <a:solidFill>
                  <a:srgbClr val="2d2901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Picture 7" descr="http://static.my-shop.ru/product/f3/9/87611.jpg"/>
          <p:cNvPicPr/>
          <p:nvPr/>
        </p:nvPicPr>
        <p:blipFill>
          <a:blip r:embed="rId1"/>
          <a:stretch/>
        </p:blipFill>
        <p:spPr>
          <a:xfrm>
            <a:off x="2914560" y="152280"/>
            <a:ext cx="3571920" cy="3143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-360" y="571680"/>
            <a:ext cx="57150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Любимая наука Ломоносова – химия. Учёный организовал при Академии первую в России Химическую лабораторию и открыл новый закон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Под его руководством построили фабрику цветного стекла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Занимаясь физикой, он раскрыл загадку грозы и северного сияния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Rectangle 2" descr=""/>
          <p:cNvPicPr/>
          <p:nvPr/>
        </p:nvPicPr>
        <p:blipFill>
          <a:blip r:embed="rId1"/>
          <a:stretch/>
        </p:blipFill>
        <p:spPr>
          <a:xfrm>
            <a:off x="0" y="-92160"/>
            <a:ext cx="9144000" cy="96372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4" descr="05labejri1301058147.jpg"/>
          <p:cNvPicPr/>
          <p:nvPr/>
        </p:nvPicPr>
        <p:blipFill>
          <a:blip r:embed="rId2"/>
          <a:stretch/>
        </p:blipFill>
        <p:spPr>
          <a:xfrm>
            <a:off x="5824440" y="4076640"/>
            <a:ext cx="300060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0" y="571320"/>
            <a:ext cx="9144000" cy="48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Он любил наблюдать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за звёздами, усовершенствовал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телескоп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Наблюдая за Венерой, установил,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что у этой планеты есть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атмосфера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Он первый в мире географ-полярник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Занимался историей древних славян историй изготовления фарфора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А сколько он сделал для совершенствования русского языка!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Сочинял стих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Picture 17" descr="http://www.xn----dtbhthpdbkkaet.xn--p1ai.images.1c-bitrix-cdn.ru/upload/resize_cache/iblock/64c/350_1000_1/ros_zem_rojden.jpg?1432041772106308"/>
          <p:cNvPicPr/>
          <p:nvPr/>
        </p:nvPicPr>
        <p:blipFill>
          <a:blip r:embed="rId1"/>
          <a:stretch/>
        </p:blipFill>
        <p:spPr>
          <a:xfrm>
            <a:off x="6443640" y="4640400"/>
            <a:ext cx="2460600" cy="2031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0" y="1341360"/>
            <a:ext cx="536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Великий учёный много сделал для развития и  образования России. По его предложению в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1755 году был открыт Московский университе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, </a:t>
            </a:r>
            <a:r>
              <a:rPr b="1" lang="ru-RU" sz="2800" spc="-1" strike="noStrike">
                <a:solidFill>
                  <a:srgbClr val="2d2901"/>
                </a:solidFill>
                <a:latin typeface="Arial"/>
                <a:ea typeface="Arial"/>
              </a:rPr>
              <a:t>который по праву носит имя Ломоносов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Picture 12" descr="http://www.kamensk-uralskiy.upstudy.ru/upload/703/main13332371_80eea1c2e31d0798a512e3561c1a149c.jpg"/>
          <p:cNvPicPr/>
          <p:nvPr/>
        </p:nvPicPr>
        <p:blipFill>
          <a:blip r:embed="rId1"/>
          <a:srcRect l="0" t="0" r="134" b="0"/>
          <a:stretch/>
        </p:blipFill>
        <p:spPr>
          <a:xfrm>
            <a:off x="5580000" y="1916280"/>
            <a:ext cx="3294000" cy="4500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7:14:20Z</dcterms:created>
  <dc:creator>User</dc:creator>
  <dc:description/>
  <dc:language>en-US</dc:language>
  <cp:lastModifiedBy>muraskinalena@yandex.ru</cp:lastModifiedBy>
  <dcterms:modified xsi:type="dcterms:W3CDTF">2020-11-28T16:10:22Z</dcterms:modified>
  <cp:revision>18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400000000000010243100207f6000400038000</vt:lpwstr>
  </property>
</Properties>
</file>