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FEB-0E5D-4AC5-B564-5517B631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7EC-C34D-406A-AF86-078F9AD4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67F-8FCA-4D2B-9CC5-511CDCF6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1DE-9CB4-4DBB-838A-BEBAA147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CDB69-8F16-4625-9809-6F83D659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544EF-9605-4147-8534-43C1C7BC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06821-84CB-484D-B65D-6B1565F7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64342-25C1-4153-8CCC-050CF794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8D9A1-F928-4482-8F78-2F3F022D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5019D-4EF7-4A0A-AF7C-4E5CC857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13E80-058F-4DB6-89DB-3070F2F3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86E-0BDF-426A-B63E-7CC43B38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53777-6CCE-4742-AA3D-28A29C71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979F0-98D3-4663-AC41-2BE9FA40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01B0E-DCF6-42EB-9FF8-42856BBA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A820D-BC38-424F-B84A-6EF3AC3F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F52A0-DF2B-4BA0-818D-0AF62C67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6FAF-C566-4E17-AA37-B4AAD888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74BCC-4401-4134-BA30-747731D3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79B5C-F6AF-4631-92FD-EA9AE4D2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6C81E-A0AF-4C93-8E32-2B0718AB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41BE2-D4CC-40E4-B999-36D212B9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0B2-9787-48B7-8CA7-78CE1B4F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E792-C8EE-4FC6-B072-783C5771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6735-5A33-4181-8D5A-9DE03C56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3AEBA-0281-4175-AD14-15EB7B31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2CCF8-31D0-4E2F-9571-7707A229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3F25-F27F-4242-AF1F-C5D9021B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8278C-8D76-4CCC-9DC5-4C2F6A0D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E6C3A-41E4-42D5-BA7B-DA20704C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E73607-CF98-4425-AB2A-29EB40F1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AAFB41-CF80-4097-B1A4-5DC5039D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D9DC07-1487-4B28-9021-4681F60E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7F2-082C-45B7-B547-BCC44312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6EF591-A3FC-4AC8-AA5C-B9B66EB4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2CB5F6-0431-4E8C-B108-DE9A64F4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1099D-0392-4DCF-96DD-4A5CE981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9B4A0-E9B3-416A-B86C-94D169BC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37CB3F-47B9-4AB2-8799-245E1F8F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9EA5E3-2145-49E3-972E-4AA81615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8F990-5EEB-4BBB-9D43-A7D1BD77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C71DDE-69C3-4E74-BA4A-D5786348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27C338-20AA-493D-99A7-9EEDD0CB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669-4D93-4D11-BB6A-141231EE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531-14E0-41B9-80FD-804B429B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4D5-0735-4E3A-BE5F-2C872401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A26-34E0-4456-9D4C-1F4CAA1A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694-346C-4F02-83BC-C2838A99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8ED4-FA3C-4BD0-9886-4AD3E6A890EF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AA8A-0836-4FBA-A115-82E2BCE8214A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9BDC-584B-41FD-ACC5-2B6F6E71885F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C2DD-4A39-414F-9107-AC8952E61144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0" y="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13" descr="Научно-практическая конференция &quot;Академик М.В.Ломоносов: вкл…"/>
          <p:cNvPicPr/>
          <p:nvPr/>
        </p:nvPicPr>
        <p:blipFill>
          <a:blip r:embed="rId1"/>
          <a:stretch/>
        </p:blipFill>
        <p:spPr>
          <a:xfrm>
            <a:off x="318960" y="843120"/>
            <a:ext cx="3743280" cy="487044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1"/>
          <p:cNvSpPr/>
          <p:nvPr/>
        </p:nvSpPr>
        <p:spPr>
          <a:xfrm>
            <a:off x="4067280" y="184644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901"/>
                </a:solidFill>
                <a:latin typeface="Comic Sans MS"/>
              </a:rPr>
              <a:t>Михаил Васильевич Ломоносов - великий русский учёны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427280" y="1476360"/>
            <a:ext cx="42591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901"/>
                </a:solidFill>
                <a:latin typeface="Arial"/>
                <a:ea typeface="Arial"/>
              </a:rPr>
              <a:t>Знал несколько язык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901"/>
                </a:solidFill>
                <a:latin typeface="Arial"/>
                <a:ea typeface="Arial"/>
              </a:rPr>
              <a:t>Сочинил множество стих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901"/>
                </a:solidFill>
                <a:latin typeface="Arial"/>
                <a:ea typeface="Arial"/>
              </a:rPr>
              <a:t>Преподавал в Академии наук русский язык, историю, физику, химию и другие предме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901"/>
                </a:solidFill>
                <a:latin typeface="Arial"/>
                <a:ea typeface="Arial"/>
              </a:rPr>
              <a:t>Написал первую русскую грамматику, учебник русской истор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901"/>
                </a:solidFill>
                <a:latin typeface="Arial"/>
                <a:ea typeface="Arial"/>
              </a:rPr>
              <a:t>Первым объяснил русским людям, откуда берётся тепло и дожди, что такое планеты и кометы, от чего происходит северное сияние и мн. др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210600" cy="1603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http://img1.liveinternet.ru/images/attach/c/8/99/35/99035389_lomonosov_en.jpg"/>
          <p:cNvPicPr/>
          <p:nvPr/>
        </p:nvPicPr>
        <p:blipFill>
          <a:blip r:embed="rId2"/>
          <a:stretch/>
        </p:blipFill>
        <p:spPr>
          <a:xfrm>
            <a:off x="468360" y="1476360"/>
            <a:ext cx="3524040" cy="5035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0" y="356760"/>
            <a:ext cx="91440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d2901"/>
                </a:solidFill>
                <a:latin typeface="Arial"/>
                <a:ea typeface="Arial"/>
              </a:rPr>
              <a:t>Михаил Васильевич Ломоносов  родился  </a:t>
            </a:r>
            <a:r>
              <a:rPr b="1" lang="ru-RU" sz="2600" spc="-1" strike="noStrike">
                <a:solidFill>
                  <a:srgbClr val="2d2901"/>
                </a:solidFill>
                <a:latin typeface="Comic Sans MS"/>
                <a:ea typeface="Arial"/>
              </a:rPr>
              <a:t>21 ноября 1711 года </a:t>
            </a:r>
            <a:r>
              <a:rPr b="1" lang="ru-RU" sz="2600" spc="-1" strike="noStrike">
                <a:solidFill>
                  <a:srgbClr val="2d2901"/>
                </a:solidFill>
                <a:latin typeface="Arial"/>
                <a:ea typeface="Arial"/>
              </a:rPr>
              <a:t>в Архангельской губернии в деревне Денисовка около села Холмогоры </a:t>
            </a:r>
            <a:br>
              <a:rPr sz="2600"/>
            </a:br>
            <a:r>
              <a:rPr b="1" lang="ru-RU" sz="2600" spc="-1" strike="noStrike">
                <a:solidFill>
                  <a:srgbClr val="2d2901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2d2901"/>
                </a:solidFill>
                <a:latin typeface="Arial"/>
                <a:ea typeface="Arial"/>
              </a:rPr>
              <a:t>в семье крестьянина-помора, занимавшегося морским промыслом на собственных судах. Мальчик начал помогать отцу с 10 лет. Вместе они ходили рыбачить в Белое море. Нередкие опасности плавания закаляли физические силы юноши и обогащали его ум разнообразными наблюдениям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2500200" y="2714760"/>
            <a:ext cx="457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C:\Users\muras\Desktop\0010-005-.jpg"/>
          <p:cNvPicPr/>
          <p:nvPr/>
        </p:nvPicPr>
        <p:blipFill>
          <a:blip r:embed="rId1"/>
          <a:stretch/>
        </p:blipFill>
        <p:spPr>
          <a:xfrm>
            <a:off x="4284720" y="3716280"/>
            <a:ext cx="4248000" cy="2927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0" y="4365720"/>
            <a:ext cx="9144000" cy="24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В 11-12 лет Михайло по собственному желанию выучился грамоте и пристрастился к чтению. Первым его учителем стал дьячок местной церкви. Ломоносов прочитал всё, что было под рукой: Часослов, Псалтырь и другие церковные книг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Содержимое 12" descr="5.jpg"/>
          <p:cNvPicPr/>
          <p:nvPr/>
        </p:nvPicPr>
        <p:blipFill>
          <a:blip r:embed="rId1"/>
          <a:stretch/>
        </p:blipFill>
        <p:spPr>
          <a:xfrm>
            <a:off x="4857840" y="549360"/>
            <a:ext cx="3925800" cy="35845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3" descr="5.jpg"/>
          <p:cNvPicPr/>
          <p:nvPr/>
        </p:nvPicPr>
        <p:blipFill>
          <a:blip r:embed="rId2"/>
          <a:stretch/>
        </p:blipFill>
        <p:spPr>
          <a:xfrm>
            <a:off x="542880" y="334800"/>
            <a:ext cx="3206880" cy="3859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780000" y="189000"/>
            <a:ext cx="536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901"/>
                </a:solidFill>
                <a:latin typeface="Arial"/>
                <a:ea typeface="Arial"/>
              </a:rPr>
              <a:t>Ломоносов решил  покинуть дом и пробраться в Москву, чтобы там поступить в школу.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901"/>
                </a:solidFill>
                <a:latin typeface="Arial"/>
                <a:ea typeface="Arial"/>
              </a:rPr>
              <a:t>Тайком от отца.  Морозным декабрьским днем 1730 года отправился юноша с рыбным обозом своих земляков в Москву, взяв с собой книги. Он выхлопотал себе паспорт и выпросил у соседа кафтан и занял три рубля. Через три недели Ломоносов был в Москве. Неприветливо встретила Москва молодого крестьянина, жаждавшего знаний. У Ломоносова не было здесь ни родных, ни знакомых, а в кармане – ни копейки. Первую ночь он провёл в санях под открытым небом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901"/>
                </a:solidFill>
                <a:latin typeface="Arial"/>
                <a:ea typeface="Arial"/>
              </a:rPr>
              <a:t>15 января 1731 года М.В. Ломоносов был зачислен в самый младший класс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Славяно-греко-латинской академии</a:t>
            </a:r>
            <a:r>
              <a:rPr b="1" lang="ru-RU" sz="2000" spc="-1" strike="noStrike">
                <a:solidFill>
                  <a:srgbClr val="2d2901"/>
                </a:solidFill>
                <a:latin typeface="Arial"/>
                <a:ea typeface="Arial"/>
              </a:rPr>
              <a:t>, так как он не знал латинского языка. Ломоносову пришлось скрыть своё происхождение и назваться сыном дворянин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Picture 8" descr="http://gagago.ru/imgs/plan-uroka--tema-uroka-m-v-lomonosov-velikij-russkij-uchen/19409.jpg"/>
          <p:cNvPicPr/>
          <p:nvPr/>
        </p:nvPicPr>
        <p:blipFill>
          <a:blip r:embed="rId1"/>
          <a:stretch/>
        </p:blipFill>
        <p:spPr>
          <a:xfrm>
            <a:off x="250920" y="1268280"/>
            <a:ext cx="3600360" cy="4241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0" y="3600360"/>
            <a:ext cx="9144000" cy="30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Нелегко пришлось Ломоносову на первых порах. По возрасту он был гораздо старше других учеников,</a:t>
            </a:r>
            <a:r>
              <a:rPr b="0" lang="ru-RU" sz="2800" spc="-1" strike="noStrike">
                <a:solidFill>
                  <a:srgbClr val="2d2901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которые смеялись над ним. Не хватало денег на жизнь. Он терпел большую нужду: школа выдавала только 90 копеек в месяц, чего едва хватало на хлеб и квас. Но Ломоносов  с жаром принялся за учение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Picture 7" descr="http://static.my-shop.ru/product/f2/9/87611.jpg"/>
          <p:cNvPicPr/>
          <p:nvPr/>
        </p:nvPicPr>
        <p:blipFill>
          <a:blip r:embed="rId1"/>
          <a:srcRect l="0" t="0" r="-43" b="0"/>
          <a:stretch/>
        </p:blipFill>
        <p:spPr>
          <a:xfrm>
            <a:off x="3132000" y="357120"/>
            <a:ext cx="3797280" cy="3243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0" y="328608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d2901"/>
                </a:solidFill>
                <a:latin typeface="Arial"/>
                <a:ea typeface="Arial"/>
              </a:rPr>
              <a:t>В 1735 году Ломоносова, как одного из лучших учеников, отправили на учёбу в Петербург в гимназию при Академии наук</a:t>
            </a:r>
            <a:r>
              <a:rPr b="1" lang="ru-RU" sz="2200" spc="-1" strike="noStrike">
                <a:solidFill>
                  <a:srgbClr val="2d2901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d2901"/>
                </a:solidFill>
                <a:latin typeface="Arial"/>
                <a:ea typeface="Arial"/>
              </a:rPr>
              <a:t>В Петербурге он проучился год, а потом, как лучший ученик, был отправлен за границу – учиться у немецких профессоров. Скоро выучил немецкий и французский языки, многие другие науки, стал</a:t>
            </a:r>
            <a:r>
              <a:rPr b="1" lang="ru-RU" sz="2200" spc="-1" strike="noStrike">
                <a:solidFill>
                  <a:srgbClr val="2d2901"/>
                </a:solidFill>
                <a:latin typeface="Comic Sans MS"/>
                <a:ea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самым образованным человеком в России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d2901"/>
                </a:solidFill>
                <a:latin typeface="Arial"/>
                <a:ea typeface="Arial"/>
              </a:rPr>
              <a:t>Ломоносов прожил за границей около четырёх лет и всё это время неустанно работал. Профессора удивлялись его трудолюбию, успехам и дарованиям.</a:t>
            </a:r>
            <a:r>
              <a:rPr b="0" lang="ru-RU" sz="2200" spc="-1" strike="noStrike">
                <a:solidFill>
                  <a:srgbClr val="2d2901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Picture 7" descr="http://static.my-shop.ru/product/f3/9/87611.jpg"/>
          <p:cNvPicPr/>
          <p:nvPr/>
        </p:nvPicPr>
        <p:blipFill>
          <a:blip r:embed="rId1"/>
          <a:stretch/>
        </p:blipFill>
        <p:spPr>
          <a:xfrm>
            <a:off x="2914560" y="152280"/>
            <a:ext cx="3571920" cy="3143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-360" y="571680"/>
            <a:ext cx="57150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Любимая наука Ломоносова – химия. Учёный организовал при Академии первую в России Химическую лабораторию и открыл новый закон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Под его руководством построили фабрику цветного стекла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Занимаясь физикой, он раскрыл загадку грозы и северного сияния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Rectangle 2" descr="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96372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4" descr="05labejri1301058147.jpg"/>
          <p:cNvPicPr/>
          <p:nvPr/>
        </p:nvPicPr>
        <p:blipFill>
          <a:blip r:embed="rId2"/>
          <a:stretch/>
        </p:blipFill>
        <p:spPr>
          <a:xfrm>
            <a:off x="5824440" y="4076640"/>
            <a:ext cx="300060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0" y="571320"/>
            <a:ext cx="9144000" cy="48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Он любил наблюдать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за звёздами, усовершенствовал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телескоп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Наблюдая за Венерой, установил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что у этой планеты есть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атмосфера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Он первый в мире географ-полярник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Занимался историей древних славян историй изготовления фарфора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А сколько он сделал для совершенствования русского языка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Сочинял стих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Picture 17" descr="http://www.xn----dtbhthpdbkkaet.xn--p1ai.images.1c-bitrix-cdn.ru/upload/resize_cache/iblock/64c/350_1000_1/ros_zem_rojden.jpg?1432041772106308"/>
          <p:cNvPicPr/>
          <p:nvPr/>
        </p:nvPicPr>
        <p:blipFill>
          <a:blip r:embed="rId1"/>
          <a:stretch/>
        </p:blipFill>
        <p:spPr>
          <a:xfrm>
            <a:off x="6443640" y="4640400"/>
            <a:ext cx="2460600" cy="2031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0" y="1341360"/>
            <a:ext cx="536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Великий учёный много сделал для развития и  образования России. По его предложению в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1755 году был открыт Московский университ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который по праву носит имя Ломоносов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Picture 12" descr="http://www.kamensk-uralskiy.upstudy.ru/upload/703/main13332371_80eea1c2e31d0798a512e3561c1a149c.jpg"/>
          <p:cNvPicPr/>
          <p:nvPr/>
        </p:nvPicPr>
        <p:blipFill>
          <a:blip r:embed="rId1"/>
          <a:srcRect l="0" t="0" r="134" b="0"/>
          <a:stretch/>
        </p:blipFill>
        <p:spPr>
          <a:xfrm>
            <a:off x="5580000" y="1916280"/>
            <a:ext cx="329400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7:14:20Z</dcterms:created>
  <dc:creator>User</dc:creator>
  <dc:description/>
  <dc:language>en-US</dc:language>
  <cp:lastModifiedBy>muraskinalena@yandex.ru</cp:lastModifiedBy>
  <dcterms:modified xsi:type="dcterms:W3CDTF">2020-11-28T16:10:22Z</dcterms:modified>
  <cp:revision>18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400000000000010243100207f6000400038000</vt:lpwstr>
  </property>
</Properties>
</file>