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AB2-48E9-49BE-9695-3ECC28A0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BDC-9FC9-4AEA-9133-9024F6B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C70-E934-4520-9825-3E021470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22E-736E-4E9A-98B5-B55A1CF7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890-B201-4F25-93D5-5C1175D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6FD-73D6-47FA-A758-22D8FA8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7BA-ED5D-4CB1-BC27-8CF0B7A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1F3-392B-4D80-9389-07E5DEA3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F63-AEAD-42C3-8779-2E05B26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A40-801E-4E54-AD8F-3823B3D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102-E0A7-4B8E-A907-EB9ED4C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4BC-3AC9-4ED6-97B9-34E4C2E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fb41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ED3-DB49-48AA-898D-71E6FF8F6F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tizi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филиал МАОУ «Староалександровская СОШ им.Калиева А.М.» </a:t>
            </a: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«Карбанская ООШ им.Неатбакова Х.А.»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28760" y="1341360"/>
            <a:ext cx="820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попугай Мальвина»</a:t>
            </a:r>
            <a:endParaRPr b="1" i="1" lang="en-US" sz="44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286680" y="3929040"/>
            <a:ext cx="32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Verdana"/>
              </a:rPr>
              <a:t>Ярмухаметова Гульн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Verdana"/>
              </a:rPr>
              <a:t>Ярмухаметов Булат, учащие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:\фотки для попугая\DSC01048.JPG"/>
          <p:cNvPicPr/>
          <p:nvPr/>
        </p:nvPicPr>
        <p:blipFill>
          <a:blip r:embed="rId1"/>
          <a:stretch/>
        </p:blipFill>
        <p:spPr>
          <a:xfrm>
            <a:off x="571680" y="2786040"/>
            <a:ext cx="5010120" cy="37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фотки для попугая\DSC01048.JPG"/>
          <p:cNvPicPr/>
          <p:nvPr/>
        </p:nvPicPr>
        <p:blipFill>
          <a:blip r:embed="rId2"/>
          <a:stretch/>
        </p:blipFill>
        <p:spPr>
          <a:xfrm>
            <a:off x="571680" y="2857680"/>
            <a:ext cx="50101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124000" y="333360"/>
            <a:ext cx="489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4724280"/>
            <a:ext cx="83516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Выдвинутая гипотеза не подтвердилась. Образ жизни, питание и особенности содержания попугаев разных видов не одинаковы. В зоомагазине мы видели, что для более крупных попугаев продают другие, более просторные клетки, другой по составу к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:\фотки для попугая\DSC01039.JPG"/>
          <p:cNvPicPr/>
          <p:nvPr/>
        </p:nvPicPr>
        <p:blipFill>
          <a:blip r:embed="rId1"/>
          <a:stretch/>
        </p:blipFill>
        <p:spPr>
          <a:xfrm>
            <a:off x="2268360" y="1197000"/>
            <a:ext cx="4415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826920" y="1197000"/>
            <a:ext cx="7345440" cy="37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Спасибо</a:t>
            </a:r>
            <a:endParaRPr b="1" i="1" lang="en-US" sz="80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за внимание!</a:t>
            </a:r>
            <a:endParaRPr b="1" i="1" lang="en-US" sz="80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5899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зучение биологии декоративных птиц на примере попугая волнист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1.Изучить литературу о волнистых попуга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2. Проанализировать результаты наблюдений и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3.Составить экономический расчет затрат на содержание попуг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508720" y="7893000"/>
            <a:ext cx="45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124000" y="549360"/>
            <a:ext cx="4464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1484280"/>
            <a:ext cx="84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Если все попугаи имеют общие чер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то я могу предполо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что образ жизни, питание и особенности содержания эти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должны быть одинак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Изображение 141"/>
          <p:cNvPicPr/>
          <p:nvPr/>
        </p:nvPicPr>
        <p:blipFill>
          <a:blip r:embed="rId1"/>
          <a:stretch/>
        </p:blipFill>
        <p:spPr>
          <a:xfrm>
            <a:off x="395280" y="3860640"/>
            <a:ext cx="3456000" cy="26895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52" name="Picture 10" descr="Изображение 147"/>
          <p:cNvPicPr/>
          <p:nvPr/>
        </p:nvPicPr>
        <p:blipFill>
          <a:blip r:embed="rId2"/>
          <a:stretch/>
        </p:blipFill>
        <p:spPr>
          <a:xfrm>
            <a:off x="4932360" y="3860640"/>
            <a:ext cx="3456000" cy="2664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3" name="WordArt 13"/>
          <p:cNvSpPr txBox="1"/>
          <p:nvPr/>
        </p:nvSpPr>
        <p:spPr>
          <a:xfrm>
            <a:off x="4067280" y="4292640"/>
            <a:ext cx="649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40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541440" y="5444640"/>
            <a:ext cx="7308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-468360" y="1197000"/>
            <a:ext cx="495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500720" y="5157720"/>
            <a:ext cx="4319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содержа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нистого попуг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24000" y="4365720"/>
            <a:ext cx="374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я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995640" y="3213000"/>
            <a:ext cx="4362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пугай волнист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8" descr="игрушки для волнистого попуг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89000"/>
            <a:ext cx="2592720" cy="2448000"/>
          </a:xfrm>
          <a:prstGeom prst="rect">
            <a:avLst/>
          </a:prstGeom>
          <a:ln w="4428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6264000" cy="448344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4146840" cy="33256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619280" y="260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Тропический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03280" y="6858000"/>
            <a:ext cx="9144000" cy="1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0" descr="фиолетовый рецессивный пегий волнистый попугайчик, фото, фотография"/>
          <p:cNvPicPr/>
          <p:nvPr/>
        </p:nvPicPr>
        <p:blipFill>
          <a:blip r:embed="rId1"/>
          <a:stretch/>
        </p:blipFill>
        <p:spPr>
          <a:xfrm>
            <a:off x="3995640" y="907920"/>
            <a:ext cx="1944720" cy="262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фиолетовый рецессивный пегий волнистый попугайчик, фото, фотография"/>
          <p:cNvPicPr/>
          <p:nvPr/>
        </p:nvPicPr>
        <p:blipFill>
          <a:blip r:embed="rId2"/>
          <a:stretch/>
        </p:blipFill>
        <p:spPr>
          <a:xfrm>
            <a:off x="5724360" y="836640"/>
            <a:ext cx="164484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окрас темноглазый желтый, волнистый попугайчик, фото, фотография"/>
          <p:cNvPicPr/>
          <p:nvPr/>
        </p:nvPicPr>
        <p:blipFill>
          <a:blip r:embed="rId3"/>
          <a:stretch/>
        </p:blipFill>
        <p:spPr>
          <a:xfrm>
            <a:off x="0" y="2276640"/>
            <a:ext cx="1714680" cy="21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серый волнистый попугайчик, фото, фотография"/>
          <p:cNvPicPr/>
          <p:nvPr/>
        </p:nvPicPr>
        <p:blipFill>
          <a:blip r:embed="rId4"/>
          <a:stretch/>
        </p:blipFill>
        <p:spPr>
          <a:xfrm>
            <a:off x="7596360" y="765000"/>
            <a:ext cx="1547640" cy="234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окрас доминантный пегий, волнистый попугайчик, фото, фотография"/>
          <p:cNvPicPr/>
          <p:nvPr/>
        </p:nvPicPr>
        <p:blipFill>
          <a:blip r:embed="rId5"/>
          <a:stretch/>
        </p:blipFill>
        <p:spPr>
          <a:xfrm>
            <a:off x="2195640" y="1557360"/>
            <a:ext cx="1436400" cy="23763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1"/>
          <p:cNvSpPr txBox="1"/>
          <p:nvPr/>
        </p:nvSpPr>
        <p:spPr>
          <a:xfrm rot="20687400">
            <a:off x="179280" y="3212640"/>
            <a:ext cx="871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истые попугайчик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Rectangle 12"/>
          <p:cNvSpPr/>
          <p:nvPr/>
        </p:nvSpPr>
        <p:spPr>
          <a:xfrm flipH="1" flipV="1">
            <a:off x="6300000" y="774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m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260280"/>
            <a:ext cx="822960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b0f0"/>
                </a:solidFill>
                <a:latin typeface="Arial Black"/>
              </a:rPr>
              <a:t>Клетку с попугайчиком нельзя ставить близко к окну.</a:t>
            </a:r>
            <a:br>
              <a:rPr sz="2000"/>
            </a:br>
            <a:r>
              <a:rPr b="1" i="1" lang="ru-RU" sz="2000" spc="-1" strike="noStrike">
                <a:solidFill>
                  <a:srgbClr val="f79646"/>
                </a:solidFill>
                <a:latin typeface="Arial Black"/>
              </a:rPr>
              <a:t>Кормушки и поилки надо мыть каждый день.</a:t>
            </a:r>
            <a:br>
              <a:rPr sz="2000"/>
            </a:br>
            <a:r>
              <a:rPr b="0" lang="ru-RU" sz="2000" spc="-1" strike="noStrike">
                <a:solidFill>
                  <a:srgbClr val="c0504d"/>
                </a:solidFill>
                <a:latin typeface="Arial Black"/>
              </a:rPr>
              <a:t>Можно баловать питомца фруктами и овощами. Их надо давать кусочками или натереть. Особенно полезна морков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70c0"/>
                </a:solidFill>
                <a:latin typeface="Arial Black"/>
              </a:rPr>
              <a:t>Летом полезны зелёные части таких растений, как одуванчик, салат, клевер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:\фотки для попугая\DSC01049.JPG"/>
          <p:cNvPicPr/>
          <p:nvPr/>
        </p:nvPicPr>
        <p:blipFill>
          <a:blip r:embed="rId1"/>
          <a:stretch/>
        </p:blipFill>
        <p:spPr>
          <a:xfrm>
            <a:off x="395280" y="2781360"/>
            <a:ext cx="4235400" cy="317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:\фотки для попугая\DSC01050.JPG"/>
          <p:cNvPicPr/>
          <p:nvPr/>
        </p:nvPicPr>
        <p:blipFill>
          <a:blip r:embed="rId2"/>
          <a:stretch/>
        </p:blipFill>
        <p:spPr>
          <a:xfrm>
            <a:off x="4427640" y="321300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Попугай не люб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громких звук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Мальвина не лю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резких движени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Наша любимица любит спокойную музы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Попугаю нравится темнот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Не любит оставаться дома од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792000" y="549360"/>
            <a:ext cx="756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едение Мальвинки в различных условиях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:\фотки для попугая\DSC01042.JPG"/>
          <p:cNvPicPr/>
          <p:nvPr/>
        </p:nvPicPr>
        <p:blipFill>
          <a:blip r:embed="rId1"/>
          <a:stretch/>
        </p:blipFill>
        <p:spPr>
          <a:xfrm>
            <a:off x="0" y="1773360"/>
            <a:ext cx="3724200" cy="496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s://www.metod-kopilka.ru/images/doc/37/31909/img4.jpg"/>
          <p:cNvPicPr/>
          <p:nvPr/>
        </p:nvPicPr>
        <p:blipFill>
          <a:blip r:embed="rId2"/>
          <a:stretch/>
        </p:blipFill>
        <p:spPr>
          <a:xfrm>
            <a:off x="4548240" y="2263680"/>
            <a:ext cx="4176720" cy="3986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237960" y="85680"/>
            <a:ext cx="8620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25:31Z</dcterms:created>
  <dc:creator>кирилл</dc:creator>
  <dc:description/>
  <dc:language>en-US</dc:language>
  <cp:lastModifiedBy>Тимур Бикшанов</cp:lastModifiedBy>
  <dcterms:modified xsi:type="dcterms:W3CDTF">2020-11-28T16:45:34Z</dcterms:modified>
  <cp:revision>63</cp:revision>
  <dc:subject/>
  <dc:title>Слайд 1</dc:title>
</cp:coreProperties>
</file>