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68E-12DF-427B-B963-496B1BB2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3B0-6929-4958-B021-E3FB9649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A9D21-7269-4070-A0AE-7676BD51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83F51-9022-4C40-A7A1-901A25B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CDDDF-3378-4616-84FA-8EC563A6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244E8-10F7-4B4B-ABDE-C7AE10D7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F6E7A-4C70-48BE-BA3A-4E2E6911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BEA99-56C7-44D9-B11F-D92A3E71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70DA4-4BC2-4AE2-AEE5-5A814CC9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28943-CB05-4FC8-86E9-34EE9588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CE08F-5B01-4127-BFF6-DC277536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F2E7D-5095-4849-9CBA-208AEF4B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0C6-B483-4A1F-9895-CA74D79E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1F61C-ECB3-4AF9-801C-24018C4B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63CFD-8026-4BDB-8A56-3452B3DE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F3076-8ACB-4F32-B5F7-8F33BAF5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B235E-DF0E-4903-A5C8-E74A4519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B0E9E-63BE-4156-B9D8-474DE1BF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84ABC-2BE1-427F-BFC6-1E71903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EE7A5-7EC2-4155-9C3A-118943B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497F6-5A3F-47F7-BF08-762ABEAB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EE63E-FD19-4059-88BF-1E04E579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3E46B-FCBB-4B1B-9777-DCD55E92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F2A-07D6-40DC-8B0C-8CF7A9F4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C65CA-50EA-44C6-81ED-ED0A78DF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E74D8-13FF-4CAB-94B6-70A20736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7698A-0823-45AE-969D-50A826F3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5F695-E298-492F-93CF-C916132D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60174-7B06-44DD-86EC-55E3522A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BCC31-E1A4-48BB-9D15-BB853886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C9CF2-E829-4DA0-99D2-202828ED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24A12-0EC2-434E-AA63-54A7DBE7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BADDB-944E-487D-827B-F5D645ED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C3A7D-C5FA-4664-8CA1-F904F05E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9E43-4DBE-4EFF-8D0F-2E57C12E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767B1-4AB4-482E-9ABD-BEA9DEE2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90B5B-DE1D-4513-83A0-82BCD094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0D390-0E25-4637-A243-39FD1A93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1BCB5-187B-4F3C-9564-93D8007A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996B0-8AA8-4207-92F9-A66DAB47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F10A1-F6F2-40D4-A6CA-3D80C46E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44E5B-9160-4AA8-8BEA-5A7BF43E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6AAB5-C2B4-4FBD-BDB6-C81843C2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5B368-4C56-414F-BC02-C4BA80D5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34ED9-BE30-4370-9B29-AF2E6E14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5CF8-2302-452E-AD5F-F1E8110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24E0D-D0A6-4AE3-AECF-DA9529DF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7E0A1-2953-4E3A-B881-8DFB531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91BBC-3D03-4F25-BFB4-FC820459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0B93C-A1EC-47E6-86BE-99D7A047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A15D3-E9E5-46F6-91B6-EB8E0B7D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FDCBF-E331-4773-AF3E-A6781945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25BDA-F837-465F-B770-3A25A490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D17A6-EAE1-4636-ABBB-74B39554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CCB17-4698-4227-A4BE-A6067ED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62B10-FEFB-47FA-AAA3-33B1E5AB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FA5B-E066-411C-AFF7-A4008D92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6326E-7C72-4F3B-B502-88154D29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CB7B8-6236-4A28-8CF5-DBE50427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428F6-0320-418B-8118-564DBDF6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B873B-C805-4879-85F6-9BA81CBB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B4692-2AAE-4735-A87E-095A1101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0193F-697E-47D8-9028-0D45459E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9BB62-3327-438D-A85C-9520B21C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F60AA-4155-40F4-927E-C5895019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31D11-AED7-4736-8B22-C2944F19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407F1-6DC8-46F9-BB30-E3BA994A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7692-4C11-43EF-A333-0E695D7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3FEF5-5275-452B-B9E7-8A4CF2F2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7EA6A-6360-4707-A17F-65F0CAA5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8EF65-D1B0-42D2-894C-63CA768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CF7A5-9389-4C0D-9245-1F8261E8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980D9-0BF5-4AE4-94EA-278742E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1C599-7D21-4DF0-850E-08F10E8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896D2-801A-4A33-8E5F-5325A79B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A5297-DE61-4A15-80D1-0A8ACADA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B6EC5-C7E3-4AB2-908C-13887364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00D7A-E43A-4BEA-B8A9-11848A78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79BA-9573-47F1-83A1-C7DBED41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BCCC5-E85C-443B-BC5E-963A19F9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5352F-0F34-46DC-924A-D1A0B904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8CABC-599A-4FB3-8330-6B996121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762FB2-49FF-4A89-97FE-BE341DF1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3D7947-2778-4A44-A723-DE02FD1D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698B58-FDA2-47C3-BD2C-2C4EE7CC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32D99-7E19-493C-9783-7EEA2722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76739-CC8A-4B2F-BC42-FA6B8085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8E596-C8C4-42F5-8409-FAE8E676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874F2-FCD2-4E9D-BA0F-3AD98444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3AFF-C905-454E-A68B-29B477E2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7E4FC-6954-483A-8A40-AC3C213F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87495-9991-4110-8271-0A9C17B3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31A31-AC7A-4C24-9ADA-6580910F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CE530-A11E-4C69-8EC9-50A3617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848F4-DCB0-4043-B0B4-2BE52D9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C0FC9-144D-41A3-A71C-94173A7A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6CD95-AAA0-4152-99FF-9E0DE980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0E9E3-7F8D-481A-9912-DD794D8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89184-4C7F-441E-9277-3B0969D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01428-D5E0-4BE9-B579-D1A97359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DE7B-3C1B-4C2C-ADAC-26C1188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E94FE-43F5-4259-80A0-83AE251E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FAAFC-FC62-4C94-A5D6-CB00E1AD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CD374-C2B6-4F61-9E0C-E8552607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FBE58-A0FE-4221-BD74-CFFB4A8B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98AAE-25A2-4C94-8B95-7EBAD23C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46204-9F04-410F-AF0D-C613E396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58DE02-9750-4658-8AB7-8D15E3E0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39140-A73F-4968-9066-B39F2D58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95A4B-C96E-4E77-8C81-29890C4E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102D0-1D57-43C3-8988-CFE2E2C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249-0503-4B43-9192-73E24FA3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C9D2-50B3-4CA4-8D15-49B7F8F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F8145-10DE-46BC-82A1-9635497B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F4F28-FD6C-4A1C-A851-F356FFB2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2453F-E8BA-4DF2-AE05-EA2B0D1D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76C1A-7F52-43DD-A525-C27733D8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24066-A719-4A1C-9CA6-8E789A53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2D1F-F814-41D9-BF70-6DEEC765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74C7-BF6E-4D35-9698-F4E21C21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3CEA-208D-4EA7-9D2F-1489132B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1DD1-EDB0-47CB-B567-4D8C6759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6CBC-7E54-47BE-984F-50263AF1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C6EC-4747-4ABA-96C7-C6F7A9B8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842D-4505-4F42-A306-6B533AB9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4972-E4B7-4363-B699-AB6665F9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37E6-39DC-4889-8B92-08DFCB3A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0D3-6990-4275-8260-2AC05A8F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E4CC-E787-40A0-88CE-7EECDC40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0EE9-68E0-499C-BA86-4EA565F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249D4-492B-4B18-ABA8-A6AD580B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4216-56A4-4E53-A97C-A47CED45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9B3E-B1A9-43C8-82DF-9FDE45BC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62974-26A3-4519-BF00-99C0E36B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0B11-A78A-4DA7-AD4D-9890C872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B170-9839-4AFE-A918-8ABBD2F5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E0900-E334-42A8-80F8-02AD0525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11818-02D9-40F7-976C-D58F3A47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84B-FE8C-4B6D-914C-6F2BD5B6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8523-C3A4-4D8B-8B76-C2847726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1445-D027-47F5-A826-69B16C46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02CE-BC3B-4F21-9459-2D042AB8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C3D2A-CDCA-4649-B54E-C1FB8FB4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910F-ED68-464C-A54D-FF0D01C6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C588-1F35-4869-95B8-1B4AC1A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2A0D8-8ABD-435B-9310-13C8FAA5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FC9B-F97D-4BFF-9AAF-6A860440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ACF2-4523-41C7-BB2A-854EEE38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F32C5-CA9E-43B6-975A-5FB34D8B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D5A-A1DE-4DFE-8922-04E25B39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0A7D-89B2-4C0F-B6F6-4FEF8FA3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9181E-218B-4AC5-8647-1A722A8B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798E-DD9F-4712-B54C-FD436BD9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9272-A5A3-407E-8527-905477A7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75BF-18F7-4478-ABD6-4D67EEC8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F237-CCE7-4B8F-AB38-2BFE4673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76D4F-1C84-4ABD-9CF5-27BAA70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2651E-9829-4D73-95DC-590E243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23AAD-6EE7-4685-B0DE-4120B982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E0F6C-CF22-4695-8D9F-98E97811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8BB-1EC1-4C97-B8BF-8538E6A7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4BB23-C6B7-49B0-98CA-D81344FD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6576C-4B3C-457C-B43D-8F3DBD7D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AD5AA-F0B5-4ACF-A7B6-DCA07F4F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E2E3A-EAE8-430C-8D29-6495CE9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FA90D-3D5F-42D2-9C30-17F83B42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F7C5C-2AF2-486F-BB70-8E395BD1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EC117-AA96-4921-9353-612168B6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4988F-2884-4EE8-A590-1C2B04FF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774AB-50A8-4796-8619-9B60B067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84B79-F6E2-4518-B676-67E404C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A7A-0CCF-4A68-B6EA-AFA64EF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D6000-AFAF-435E-B6EE-8FB4DD47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C0B94-CE75-4215-991D-A195E14A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A153F-E2FA-471F-A2DC-FA6346E4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8A636-3FB2-4604-8961-1E972EB8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3BFC6-5543-416F-A125-8C7EF41F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D827B-4416-4EA3-802B-3748D359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5F38B-3A27-48AF-96B8-357A0935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B224-1881-4B09-BE44-18452CED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DFD7A-9A7F-4A97-8A1E-E101714B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76791-4D23-4985-A9B1-6E192650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D9F-194C-4CE4-A365-7E8598E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FFBA-C2A5-43B2-BCDF-9E52B97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4CB25-7937-49B0-9EBC-C0ECF01F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DF988-EAE6-4024-87E1-E02886C0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100E2-D045-4DE1-A555-3E918067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8092-8758-42F1-B352-1C8EC111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ACAE4-D9E4-4881-8DAE-6B635508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82C0B-6BDD-442B-8B43-D65D8291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DDCB6-C8CA-42A2-B59F-ABA2D12F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49878-3857-4013-B39E-5A106F5A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4D8B0-2DFD-4E4C-A6E6-9F7789B5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F27-1940-442C-9415-5B224678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B7FD4-A3FF-4F6B-959B-AE47446F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04AC2-AD15-401C-8118-7BA9284B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12E5-8739-4A64-B124-88237FD1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4BA89-7773-4CEA-A004-64EDB9D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6B370-1B7B-462B-90AD-4AF3EBAF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382C0-31D8-4F6D-B298-687B33CE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7BC9-0591-4191-884F-3038E05D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A2484-76D1-4F7E-961C-E0A61496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0582E-B30A-4528-AF50-CA9A89AD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B367E-4CAD-4406-B101-2F88FCB2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7EC-9690-478E-BF34-4DF8FCA9780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536-DA08-442F-B109-84E485DF19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E1A-22E6-454D-80A0-40017977B5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0F9C-6651-431B-BF29-2960484F74B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ED0D-B095-42EE-97F5-550941A0DC0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8399-E3EF-4E59-B7CB-8ED60827B0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1560-43BC-474E-8A76-3183E813D8C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473F-F063-412A-8EEE-ED7A858E476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B2AF-98ED-4632-B00A-71EF4901E8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DE1F-D474-4B7B-B4BE-2F8B5D839E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ED5-FA6E-4632-88A3-27A3C03C0C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35CA-EE3F-42BA-8FC6-58C0DE1DB9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D65D-61AC-42C4-9C89-7D8E5F77CB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AF5B-43A7-4953-92F6-78E97256C1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D5E6-332C-4484-AC0B-3DF29B4CAE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AA9-8CA7-4921-ACCF-352D42D683C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17F1-63B9-44B1-A3BE-6A0826AEC95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77" name="WordArt 5"/>
          <p:cNvSpPr txBox="1"/>
          <p:nvPr/>
        </p:nvSpPr>
        <p:spPr>
          <a:xfrm>
            <a:off x="1042920" y="2708280"/>
            <a:ext cx="6335640" cy="21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8" name="Text Box 6"/>
          <p:cNvSpPr/>
          <p:nvPr/>
        </p:nvSpPr>
        <p:spPr>
          <a:xfrm>
            <a:off x="4467240" y="5349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1"/>
          <p:cNvSpPr/>
          <p:nvPr/>
        </p:nvSpPr>
        <p:spPr>
          <a:xfrm>
            <a:off x="2286000" y="310500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нятие по редактиров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30" name="Text Box 5"/>
          <p:cNvSpPr/>
          <p:nvPr/>
        </p:nvSpPr>
        <p:spPr>
          <a:xfrm>
            <a:off x="826920" y="1916280"/>
            <a:ext cx="7632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те логическую и временную связь между предлож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4)Разбудило его странное ощущение. (5)Кто-то копошился в его бор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6"/>
          <p:cNvSpPr/>
          <p:nvPr/>
        </p:nvSpPr>
        <p:spPr>
          <a:xfrm>
            <a:off x="900000" y="4005360"/>
            <a:ext cx="6337440" cy="2297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Разбудило его странное ощущение,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будто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кто-то копошится в его бо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7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8" descr="класс!"/>
          <p:cNvPicPr/>
          <p:nvPr/>
        </p:nvPicPr>
        <p:blipFill>
          <a:blip r:embed="rId2"/>
          <a:stretch/>
        </p:blipFill>
        <p:spPr>
          <a:xfrm>
            <a:off x="7380360" y="5084640"/>
            <a:ext cx="1152360" cy="1238400"/>
          </a:xfrm>
          <a:prstGeom prst="rect">
            <a:avLst/>
          </a:prstGeom>
          <a:ln w="0">
            <a:noFill/>
          </a:ln>
        </p:spPr>
      </p:pic>
      <p:sp>
        <p:nvSpPr>
          <p:cNvPr id="1234" name="WordArt 9"/>
          <p:cNvSpPr txBox="1"/>
          <p:nvPr/>
        </p:nvSpPr>
        <p:spPr>
          <a:xfrm>
            <a:off x="1476360" y="112536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дактирование  тек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2" descr="https://cf2.ppt-online.org/files2/slide/a/AwrMaJY92eTZgUto0yFIOCGKQ614Wj7um3bLfqdkp/slide-4.jpg"/>
          <p:cNvPicPr/>
          <p:nvPr/>
        </p:nvPicPr>
        <p:blipFill>
          <a:blip r:embed="rId1"/>
          <a:stretch/>
        </p:blipFill>
        <p:spPr>
          <a:xfrm>
            <a:off x="611280" y="476280"/>
            <a:ext cx="8123040" cy="608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Picture 2" descr="https://cf2.ppt-online.org/files2/slide/a/AwrMaJY92eTZgUto0yFIOCGKQ614Wj7um3bLfqdkp/slide-7.jpg"/>
          <p:cNvPicPr/>
          <p:nvPr/>
        </p:nvPicPr>
        <p:blipFill>
          <a:blip r:embed="rId1"/>
          <a:stretch/>
        </p:blipFill>
        <p:spPr>
          <a:xfrm>
            <a:off x="971640" y="404640"/>
            <a:ext cx="7912080" cy="592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Picture 2" descr="https://cf2.ppt-online.org/files2/slide/a/AwrMaJY92eTZgUto0yFIOCGKQ614Wj7um3bLfqdkp/slide-8.jpg"/>
          <p:cNvPicPr/>
          <p:nvPr/>
        </p:nvPicPr>
        <p:blipFill>
          <a:blip r:embed="rId1"/>
          <a:stretch/>
        </p:blipFill>
        <p:spPr>
          <a:xfrm>
            <a:off x="684360" y="333360"/>
            <a:ext cx="8205480" cy="6145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5"/>
          <p:cNvSpPr/>
          <p:nvPr/>
        </p:nvSpPr>
        <p:spPr>
          <a:xfrm>
            <a:off x="4535640" y="5493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WordArt 6"/>
          <p:cNvSpPr txBox="1"/>
          <p:nvPr/>
        </p:nvSpPr>
        <p:spPr>
          <a:xfrm>
            <a:off x="324000" y="1557360"/>
            <a:ext cx="8208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буч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дактировани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ходного тек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88" name="Rectangle 5"/>
          <p:cNvSpPr/>
          <p:nvPr/>
        </p:nvSpPr>
        <p:spPr>
          <a:xfrm>
            <a:off x="971640" y="2708280"/>
            <a:ext cx="76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Мы выполним задания  к «испорченному» тексту, которые помогут  вам отредактировать его и сжато пересказ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9" descr="класс!"/>
          <p:cNvPicPr/>
          <p:nvPr/>
        </p:nvPicPr>
        <p:blipFill>
          <a:blip r:embed="rId2"/>
          <a:stretch/>
        </p:blipFill>
        <p:spPr>
          <a:xfrm>
            <a:off x="1042920" y="907920"/>
            <a:ext cx="1420920" cy="1527480"/>
          </a:xfrm>
          <a:prstGeom prst="rect">
            <a:avLst/>
          </a:prstGeom>
          <a:ln w="0">
            <a:noFill/>
          </a:ln>
        </p:spPr>
      </p:pic>
      <p:sp>
        <p:nvSpPr>
          <p:cNvPr id="1190" name="Text Box 5"/>
          <p:cNvSpPr/>
          <p:nvPr/>
        </p:nvSpPr>
        <p:spPr>
          <a:xfrm>
            <a:off x="4307040" y="53028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94" name="Text Box 5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7" descr="класс!"/>
          <p:cNvPicPr/>
          <p:nvPr/>
        </p:nvPicPr>
        <p:blipFill>
          <a:blip r:embed="rId2"/>
          <a:stretch/>
        </p:blipFill>
        <p:spPr>
          <a:xfrm>
            <a:off x="7380360" y="5084640"/>
            <a:ext cx="1152360" cy="1238400"/>
          </a:xfrm>
          <a:prstGeom prst="rect">
            <a:avLst/>
          </a:prstGeom>
          <a:ln w="0">
            <a:noFill/>
          </a:ln>
        </p:spPr>
      </p:pic>
      <p:sp>
        <p:nvSpPr>
          <p:cNvPr id="1196" name="Rectangle 8"/>
          <p:cNvSpPr/>
          <p:nvPr/>
        </p:nvSpPr>
        <p:spPr>
          <a:xfrm>
            <a:off x="360360" y="865080"/>
            <a:ext cx="84232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Текс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это несколько предложений или абзацев, связанных в цело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ой и основной мыслью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ложения между собой соединены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смыслу и  грамматичес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9"/>
          <p:cNvSpPr/>
          <p:nvPr/>
        </p:nvSpPr>
        <p:spPr>
          <a:xfrm>
            <a:off x="1042920" y="515772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Текс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xtum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— ткань; связь, соеди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WordArt 10"/>
          <p:cNvSpPr txBox="1"/>
          <p:nvPr/>
        </p:nvSpPr>
        <p:spPr>
          <a:xfrm>
            <a:off x="1403280" y="907920"/>
            <a:ext cx="525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02" name="Text Box 5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6" descr="класс!"/>
          <p:cNvPicPr/>
          <p:nvPr/>
        </p:nvPicPr>
        <p:blipFill>
          <a:blip r:embed="rId2"/>
          <a:stretch/>
        </p:blipFill>
        <p:spPr>
          <a:xfrm>
            <a:off x="7380360" y="5084640"/>
            <a:ext cx="1152360" cy="123840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7"/>
          <p:cNvSpPr/>
          <p:nvPr/>
        </p:nvSpPr>
        <p:spPr>
          <a:xfrm>
            <a:off x="4067280" y="1557360"/>
            <a:ext cx="449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ем текст, определим его тему и основную мыс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Рисунок 1" descr=""/>
          <p:cNvPicPr/>
          <p:nvPr/>
        </p:nvPicPr>
        <p:blipFill>
          <a:blip r:embed="rId3"/>
          <a:stretch/>
        </p:blipFill>
        <p:spPr>
          <a:xfrm>
            <a:off x="1071720" y="1557360"/>
            <a:ext cx="2916000" cy="3811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7" name="Фон_6.mid" descr=""/>
          <p:cNvPicPr/>
          <p:nvPr/>
        </p:nvPicPr>
        <p:blipFill>
          <a:blip r:embed="rId1"/>
          <a:stretch/>
        </p:blipFill>
        <p:spPr>
          <a:xfrm>
            <a:off x="4933800" y="37180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09" name="Text Box 5"/>
          <p:cNvSpPr/>
          <p:nvPr/>
        </p:nvSpPr>
        <p:spPr>
          <a:xfrm>
            <a:off x="539640" y="105264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 Друзья крепко проспали всю ночь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первым открыл глаза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о поляне  гуляли  весёлые солнечные лучики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удило его вовсе не солнце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Разбудило его странное ощущение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Кто-то копошился в его бороде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решил расчесать бороду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поднял руку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тут же опустил её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испуганно вздрогнул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Из бороды выпорхнула птица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Это была крохотная серая птичка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тичка отлетела в сторонку. 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тичка уселась поблизости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тичка уселась на ветвистом суку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тичка стала смотреть на Моховую Бор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Э. Рауд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4535640" y="26028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611" fill="hold"/>
                                        <p:tgtEl>
                                          <p:spTgt spid="1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14" name="Text Box 5"/>
          <p:cNvSpPr/>
          <p:nvPr/>
        </p:nvSpPr>
        <p:spPr>
          <a:xfrm>
            <a:off x="826920" y="1341360"/>
            <a:ext cx="77043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текст называем «испорченны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е текст на абза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мните!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ая новая мысль начинается с красной ст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5"/>
          <p:cNvSpPr/>
          <p:nvPr/>
        </p:nvSpPr>
        <p:spPr>
          <a:xfrm>
            <a:off x="684360" y="1916280"/>
            <a:ext cx="81356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те логическую связь между предложе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)Моховая Борода испуганно вздрогнул.  (11)Из бороды выпорхнула пти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7"/>
          <p:cNvSpPr/>
          <p:nvPr/>
        </p:nvSpPr>
        <p:spPr>
          <a:xfrm>
            <a:off x="755640" y="4437000"/>
            <a:ext cx="6408720" cy="17474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Моховая Борода испуганно вздрогнул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отому (что)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из бороды выпорхнула п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WordArt 8"/>
          <p:cNvSpPr txBox="1"/>
          <p:nvPr/>
        </p:nvSpPr>
        <p:spPr>
          <a:xfrm>
            <a:off x="1692360" y="112536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дактирование  тек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0" name="Text Box 9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Picture 10" descr="класс!"/>
          <p:cNvPicPr/>
          <p:nvPr/>
        </p:nvPicPr>
        <p:blipFill>
          <a:blip r:embed="rId2"/>
          <a:stretch/>
        </p:blipFill>
        <p:spPr>
          <a:xfrm>
            <a:off x="7451640" y="5157720"/>
            <a:ext cx="1152720" cy="1238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25" name="Text Box 5"/>
          <p:cNvSpPr/>
          <p:nvPr/>
        </p:nvSpPr>
        <p:spPr>
          <a:xfrm>
            <a:off x="684360" y="1773360"/>
            <a:ext cx="777528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ем, какой союз можно использовать, чтобы соединить  действия Моховой Бороды, обозначенные глаголами: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поднял», «опусти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оховая Борода </a:t>
            </a:r>
            <a:r>
              <a:rPr b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однял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руку. Моховая Борода тут же </a:t>
            </a:r>
            <a:r>
              <a:rPr b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опустил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противоположность действий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Моховая Борода поднял ру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о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тут же опустил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Picture 6" descr="класс!"/>
          <p:cNvPicPr/>
          <p:nvPr/>
        </p:nvPicPr>
        <p:blipFill>
          <a:blip r:embed="rId2"/>
          <a:stretch/>
        </p:blipFill>
        <p:spPr>
          <a:xfrm>
            <a:off x="7524720" y="4869000"/>
            <a:ext cx="1152720" cy="1238040"/>
          </a:xfrm>
          <a:prstGeom prst="rect">
            <a:avLst/>
          </a:prstGeom>
          <a:ln w="0">
            <a:noFill/>
          </a:ln>
        </p:spPr>
      </p:pic>
      <p:sp>
        <p:nvSpPr>
          <p:cNvPr id="1227" name="WordArt 7"/>
          <p:cNvSpPr txBox="1"/>
          <p:nvPr/>
        </p:nvSpPr>
        <p:spPr>
          <a:xfrm>
            <a:off x="1692360" y="1052640"/>
            <a:ext cx="5410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дактирование  тек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8" name="Text Box 8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1:31:00Z</dcterms:created>
  <dc:creator>ПК</dc:creator>
  <dc:description/>
  <dc:language>en-US</dc:language>
  <cp:lastModifiedBy>Виктор</cp:lastModifiedBy>
  <dcterms:modified xsi:type="dcterms:W3CDTF">2020-11-28T08:04:55Z</dcterms:modified>
  <cp:revision>35</cp:revision>
  <dc:subject/>
  <dc:title>Слайд 1</dc:title>
</cp:coreProperties>
</file>