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CD7-DBD9-40C8-B3D4-16C1BB72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7F4-7DAB-49D0-9A01-6FFDB3DE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BF89D-1786-4280-B50F-FCBE6152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9590F-A30C-4CEE-A545-0C4B9030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018DA-4353-4656-8EB8-C4DFAE53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965C5-040B-4741-9AA5-AB796C6E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9593E-B229-4FF5-AA34-011634CF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EB592-B9B3-4307-833C-E0E25C48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FBFC0-522A-47A1-9C21-520687EB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912CD-1C4F-4DDB-8D5E-4D568F4F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B2EC4-A4C7-44D4-A2E7-D722E19C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43C1F-5332-43DB-A264-E09F7962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F7A-195D-4072-BE07-2AEADA04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734D0-5320-4C8A-8833-34B3E8BE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ADF7D-A5DF-4EE3-8F67-ADC65A3E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B08E4-7DA7-4560-B626-73FBA580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35FFE-94C5-474E-B4A1-A56DEF43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EF410-E598-4608-96CE-B1A71F85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4FCCC-2DDE-4A16-BA22-01B93180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F4CD9-4880-4C55-A584-58FB98AF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F1527-5796-41D5-81A0-0F6178A9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34B5C-33B9-4ECF-942A-58BEB7CE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D4952-93CD-4C86-B607-7442AF27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3E3-A073-479D-AE50-9E9426EC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5F1DC-28D9-4CE1-AA72-B66DCAC5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70B79-65AD-4E2D-BD14-4E946DA1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B3B9E-AA9A-4B9F-A44A-271C9418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C8686-35BD-4B7C-A26D-8EF02122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E5E35-969F-4B0B-B61C-670F4C87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C6834-5C29-4ABE-9BFF-FCB27163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28D8C-97C9-4D87-8200-5CD3D06F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00E7D-996C-4389-855B-89E741E4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EF190-3158-406B-8754-EA6CFD59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4112D-12E4-43A0-8133-73B19B04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BD66-C3CE-473D-A375-3615EA61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76A14-51A1-42D9-8CE7-0161E5C2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720AF-31EB-4FA1-BDB9-3FF29A6A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95A4C-9E59-4A37-82DD-CD038D69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A0C11-B481-450C-A86F-D1F65867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BD055-58F6-45A4-9975-39E6BB34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8EB9A-CD2E-487A-9BA0-2F2226C2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41AC0-8415-4AEA-9B48-80AB24BE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53D08-14C5-4675-A886-8DB00505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C2594-31B2-4721-A77C-0A6C3F98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1B5E6-0C6A-4F71-B6C4-F67B7612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B80A-8A75-4017-9680-19E158C3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E3E60-0990-4CDC-AB8E-4EF05474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EDFD2-11B3-41E9-8D83-FA881CA8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08B71-0FE9-4311-A383-CA6DC4CC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773B2-8B3F-45EA-89AF-B18F1EA5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24687-D6DD-4344-87F4-7B7F27D2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4FD51-E0E9-4802-A2B6-8019952A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5E32C-90FB-41EA-863D-81B06517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9972E-471C-4627-A34B-B948A7FD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5602C-E9C2-4739-A9CD-C4EA0978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64C85-1158-40CA-988D-8A211B84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8BC1-86D7-4CF2-A2D4-D4412028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07208-9B78-4098-858E-CC0E1163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8E32E-7FFC-4B1A-BFE6-3EB0CCA6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79AF9-EF0F-4C14-8A46-6CC033E0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C4A61-BF37-442B-883A-8661FA4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11874-841E-4AAD-AAEE-2B846911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A3723-82EB-4148-A385-60251CAB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50EA5-4DF5-49B7-9148-D21FC847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8C6A4-5416-47C0-929C-1FAA9BA3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37EA9-402E-4B80-AB54-7C709A2D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1EB8B-2E3F-44A9-B4C6-55F464C8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F82A-E654-4EBF-BAB8-B0059E7A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C97F0-A2DC-4185-874E-6903D763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72C78-E159-49EB-B848-0B679C6A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BD25E-A658-4C05-A359-8F86D0AD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6A20D-0424-4C23-AF39-D80B4C0C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0FB1E-EDB8-400F-979D-802AD05F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6C403-CDB2-4048-B528-F7B64B06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F39C4-A4B6-4744-A9D9-C248D499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66604-39B3-4517-8383-209F93E7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AFC34-1DE1-481A-82F4-7BB813FF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A5FF6-551D-448E-9C6C-D151D23B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A87A-2E9C-4A72-A4F5-91E6F1D7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18219-AF67-4E97-8B36-4C15554F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DB1E6-D770-4BC2-A42F-FCB05AB5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5A7B5-9DD6-48E7-BFC0-79637B82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16662-4665-4C8C-9635-4BAB476D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4DAABD-92CF-4121-84BC-C6A1474D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2BB7B-5D6D-405C-B87D-D29C8484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83956-B0A2-4822-BC4F-B729EDC6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90366-1766-4340-B4F6-0C8DDAE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292EF-B171-47A8-8352-E163E6E9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3DF77-66BB-4800-8C71-3CC247B6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6CC4-EFD7-4E52-962C-92395ABC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EE6C20-A9F1-4851-B248-EDF078FA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4A4EB-2DBA-4A5C-87CB-21C79DAA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D60FF-7FD6-4048-9CA5-D6D8AC8B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1AF04-7140-4AB2-9679-8D4CD7E9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62B8F-B378-476D-BC53-4C01482C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A8845-41AE-4391-9D11-3C260C50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BCA17-6FA2-4DA3-97B9-CC5F043D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F8C52-8B11-45DD-915F-A74FC4A5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37F80-E0FA-4474-B7CE-FAE31256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902E2-F649-4F9F-9E2E-61F729E2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E902-351E-417D-BDFD-ABBD39A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35EAD-10C5-49C3-8CDF-7B405F2B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51E4D-45F8-4FB1-9364-7B97B576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25F91-CA0F-4957-B272-9418258E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C8CFC-B546-435F-BE63-95BFEC41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1DB61-FD54-4A43-9339-7FE7B317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D7F173-12AC-4396-AE90-43070D4A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10314-789F-43C2-8976-AE422A54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9BA1C-78BF-4E02-A138-FE8DC097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9D2D0B-C880-48C6-8B0A-D5E9F3E7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DD34C-0AFB-4B34-B497-EEDCE1B1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697-CA02-4E38-97AE-608EFF26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7916-E212-40F9-B1EA-223EEAB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F6B30-0372-43D3-8FA7-D3778CA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2ED26-28F8-4343-BCF9-50121276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1FB5B-4266-434C-B67C-46C2197F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1FFCBC-30F5-49C0-9AE6-B61DAE41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22BCAD-8E6F-4E91-8055-326AB042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9A90-D339-4E7B-AFD7-3DEB78FC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EF37-F530-436F-AF47-8B2D6D1E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7B2B-37A6-4792-AF33-8F2837BB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359B-450E-413A-8967-0C8B4369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E3862-9748-4D33-8A4A-BE69E957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2D291-056D-4F6C-A78E-E0646478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540E-11BF-4357-AACB-56FA330D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FC67-B211-4FAC-B75E-AD9251F0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3634-992F-4DEF-A069-A6669AC9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889-40EE-463F-9B5A-5E72C3BF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1D451-BF8C-4D75-AAE5-52A4EC57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2EB39-7429-42E3-AF9F-091C791B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AC109-6D06-47B8-984B-933011DE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B16B-4CB1-4DFC-9739-D809B7BA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FA45-09BE-45F3-B5B7-8E47E177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D5A7B-3888-4A10-8F78-14007904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46E1-E7E5-405A-A31A-9D7E08C4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96A5F-8136-4490-A444-6928694A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3906C-52F6-4C73-B398-BCD6CC83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30F27-0D86-4AE8-892C-01D6D223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C36-040B-420B-8D9B-0E2E40D1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6758A-C994-4004-86D8-DA7EDA22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822C-1673-47DF-88F2-19254137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8A22A-FC4B-42C1-81BF-BD11C8A7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02206-D803-4CAD-8DB7-E676B598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A33F6-ABB2-4CAB-826E-264ACA71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1831B-70DA-4D46-81ED-FC968DB2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FE5B8-32C8-4EC1-8168-B472890A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FA623-38E0-4DB1-A1BC-2FB66417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552F2-8C20-4891-9649-F1939714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91733-476B-4769-93AE-2F05C837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CCF-6DB8-4A18-8D81-BF93C027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87D24-B334-4D29-8814-E324BE17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6ADED-7692-4E20-B741-FB757EBF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CCDBE-2652-4C46-B2E2-E341E5C9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724AC-5BA8-4270-B91D-73EC424D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2FEE1-48CA-44CC-BE21-9950B480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E1AAB-0155-4CAA-A833-6D5ED740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52E6-CDC0-4CD1-87D9-B512EF03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D0FFF-BF84-4890-AFDB-32C11080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51166-D7B2-4C93-B355-7D2EE615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E921C-BE06-4EA6-8757-AAB3ADC1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DB3-E8C6-4A3E-9C44-7B936369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9D292-8447-4612-A52E-C6C2CF16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EA3EE-D36C-49A2-A4D1-4014C9EF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B5FC1-3CF8-43C0-97CB-1347194B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559E1-E995-498A-A287-77075D2C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1C18E-5A48-4457-A5A8-45CCE991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0707A-8655-414E-AC8B-74FF0383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08385-4D77-4CE8-B682-AFF6DAE4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CD083-6657-422D-85B2-E67A4A90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2398F-E98A-4703-919E-FF2DF807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CBC8D-3330-41EF-A15A-EE0DC2D3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D31-A2BC-414E-B23D-9C74E71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FDB3B-9854-4B57-B6DD-ED5A681E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22065-2BCC-47F3-A888-3D00080F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A5B55-7EC1-41DC-85E1-06DD83BE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4A959-97B7-4A10-A382-5D50FC65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5D3A8-CF7F-4D52-AECD-2EAE2D10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FB909-AB56-4437-90EC-F90AA16D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AF219-851F-4E19-B3B6-FD34E3D9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E1801-ACB5-430A-9AA9-51D70654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4B8B7-872B-447F-ADF8-1FA56B7D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E661C-B72E-4473-92B7-1A2828E5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9F4-0A6D-425A-A06B-37AA3419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74F89-BFEA-46AA-BE45-60E45C8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2D62A-F7ED-480C-9EC4-D9EF69FC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AAA89-B30E-4129-88A9-995FAF3D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DAE7B-6322-4741-A81A-14CA4105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CE54D-B24A-484E-8DFD-11608976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CF32C-2A0D-4586-9761-B6B08B48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D68CB-53EF-44FE-8421-22605ACD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5724A-DDB0-4C3A-88DD-8300CA06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6FCAE-8C7C-44FC-866B-9ED41162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5633B-288B-4D03-A808-35B86A7B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EF1-03B2-44F4-BD6A-2F6E9051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C349A-F72C-4FFB-BA5B-8D4F668A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93AEF-E474-4A9B-919B-6E5019CC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B5DAB-D34F-466C-B162-41A61035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DE6B5-906A-4ACB-B1DC-B0AE9459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96A26-DF3F-4BD2-A5B9-88728C35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0AC0-D8C0-4183-9672-1041FDA1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3C61B-5239-4983-8A38-2F429039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89DF6-7BDD-453B-A1F2-2B93629C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3FC56-2F89-4C36-B936-438B444A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58F78-1B28-4CA7-A17F-E3828942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8991-1C96-43BA-954E-D4E4614334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6CD8-54BD-4B63-81F2-21822BC3094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9578-6277-4C5F-8EC1-6D733FDC32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356A-89B3-468C-A5B5-C41A3E343A6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1719-C0E1-4759-85DE-BDC21E94320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7BFD-E71E-403A-AA94-918B34C8C55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4128-9767-4150-BDFA-0DA9992E0AC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06DA-D93B-4B1C-960B-0D457670896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A182-6712-4F8D-AF38-05A2EA24BE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ABD2-80A9-469A-82EC-7D9206E3739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1D2B-AE24-4FB3-AA3A-5C2D7F16A95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C417-9746-483F-8660-AE4C64147FA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2084-EB4A-4E7D-8650-83AB3F104B3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2AD4-87B8-4FF5-A752-0248DBD0E54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9D50-1285-4FF5-9873-2A776B00469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FE0C-EDB1-43FA-9E7E-1AA8928FEB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21C6-3620-47C0-B96E-CE3379E282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77" name="WordArt 5"/>
          <p:cNvSpPr txBox="1"/>
          <p:nvPr/>
        </p:nvSpPr>
        <p:spPr>
          <a:xfrm>
            <a:off x="1042920" y="2708280"/>
            <a:ext cx="6335640" cy="21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8" name="Text Box 6"/>
          <p:cNvSpPr/>
          <p:nvPr/>
        </p:nvSpPr>
        <p:spPr>
          <a:xfrm>
            <a:off x="4467240" y="53496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1"/>
          <p:cNvSpPr/>
          <p:nvPr/>
        </p:nvSpPr>
        <p:spPr>
          <a:xfrm>
            <a:off x="2286000" y="310500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нятие по редактирова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30" name="Text Box 5"/>
          <p:cNvSpPr/>
          <p:nvPr/>
        </p:nvSpPr>
        <p:spPr>
          <a:xfrm>
            <a:off x="826920" y="1916280"/>
            <a:ext cx="7632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те логическую и временную связь между предлож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4)Разбудило его странное ощущение. (5)Кто-то копошился в его бор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6"/>
          <p:cNvSpPr/>
          <p:nvPr/>
        </p:nvSpPr>
        <p:spPr>
          <a:xfrm>
            <a:off x="900000" y="4005360"/>
            <a:ext cx="6337440" cy="2297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Разбудило его странное ощущение,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будто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 кто-то копошится в его бо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7"/>
          <p:cNvSpPr/>
          <p:nvPr/>
        </p:nvSpPr>
        <p:spPr>
          <a:xfrm>
            <a:off x="4535640" y="40464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Picture 8" descr="класс!"/>
          <p:cNvPicPr/>
          <p:nvPr/>
        </p:nvPicPr>
        <p:blipFill>
          <a:blip r:embed="rId2"/>
          <a:stretch/>
        </p:blipFill>
        <p:spPr>
          <a:xfrm>
            <a:off x="7380360" y="5084640"/>
            <a:ext cx="1152360" cy="1238400"/>
          </a:xfrm>
          <a:prstGeom prst="rect">
            <a:avLst/>
          </a:prstGeom>
          <a:ln w="0">
            <a:noFill/>
          </a:ln>
        </p:spPr>
      </p:pic>
      <p:sp>
        <p:nvSpPr>
          <p:cNvPr id="1234" name="WordArt 9"/>
          <p:cNvSpPr txBox="1"/>
          <p:nvPr/>
        </p:nvSpPr>
        <p:spPr>
          <a:xfrm>
            <a:off x="1476360" y="1125360"/>
            <a:ext cx="54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дактирование  текс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2" descr="https://cf2.ppt-online.org/files2/slide/a/AwrMaJY92eTZgUto0yFIOCGKQ614Wj7um3bLfqdkp/slide-4.jpg"/>
          <p:cNvPicPr/>
          <p:nvPr/>
        </p:nvPicPr>
        <p:blipFill>
          <a:blip r:embed="rId1"/>
          <a:stretch/>
        </p:blipFill>
        <p:spPr>
          <a:xfrm>
            <a:off x="611280" y="476280"/>
            <a:ext cx="8123040" cy="608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6" name="Picture 2" descr="https://cf2.ppt-online.org/files2/slide/a/AwrMaJY92eTZgUto0yFIOCGKQ614Wj7um3bLfqdkp/slide-7.jpg"/>
          <p:cNvPicPr/>
          <p:nvPr/>
        </p:nvPicPr>
        <p:blipFill>
          <a:blip r:embed="rId1"/>
          <a:stretch/>
        </p:blipFill>
        <p:spPr>
          <a:xfrm>
            <a:off x="971640" y="404640"/>
            <a:ext cx="7912080" cy="592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Picture 2" descr="https://cf2.ppt-online.org/files2/slide/a/AwrMaJY92eTZgUto0yFIOCGKQ614Wj7um3bLfqdkp/slide-8.jpg"/>
          <p:cNvPicPr/>
          <p:nvPr/>
        </p:nvPicPr>
        <p:blipFill>
          <a:blip r:embed="rId1"/>
          <a:stretch/>
        </p:blipFill>
        <p:spPr>
          <a:xfrm>
            <a:off x="684360" y="333360"/>
            <a:ext cx="8205480" cy="6145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Рисунок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Рисунок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Рисунок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Рисунок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83" name="Text Box 5"/>
          <p:cNvSpPr/>
          <p:nvPr/>
        </p:nvSpPr>
        <p:spPr>
          <a:xfrm>
            <a:off x="4535640" y="54936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WordArt 6"/>
          <p:cNvSpPr txBox="1"/>
          <p:nvPr/>
        </p:nvSpPr>
        <p:spPr>
          <a:xfrm>
            <a:off x="324000" y="1557360"/>
            <a:ext cx="8208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буче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дактировани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сходного текс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88" name="Rectangle 5"/>
          <p:cNvSpPr/>
          <p:nvPr/>
        </p:nvSpPr>
        <p:spPr>
          <a:xfrm>
            <a:off x="971640" y="2708280"/>
            <a:ext cx="763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Мы выполним задания  к «испорченному» тексту, которые помогут  вам отредактировать его и сжато пересказ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Picture 9" descr="класс!"/>
          <p:cNvPicPr/>
          <p:nvPr/>
        </p:nvPicPr>
        <p:blipFill>
          <a:blip r:embed="rId2"/>
          <a:stretch/>
        </p:blipFill>
        <p:spPr>
          <a:xfrm>
            <a:off x="1042920" y="907920"/>
            <a:ext cx="1420920" cy="1527480"/>
          </a:xfrm>
          <a:prstGeom prst="rect">
            <a:avLst/>
          </a:prstGeom>
          <a:ln w="0">
            <a:noFill/>
          </a:ln>
        </p:spPr>
      </p:pic>
      <p:sp>
        <p:nvSpPr>
          <p:cNvPr id="1190" name="Text Box 5"/>
          <p:cNvSpPr/>
          <p:nvPr/>
        </p:nvSpPr>
        <p:spPr>
          <a:xfrm>
            <a:off x="4307040" y="53028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94" name="Text Box 5"/>
          <p:cNvSpPr/>
          <p:nvPr/>
        </p:nvSpPr>
        <p:spPr>
          <a:xfrm>
            <a:off x="4535640" y="40464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7" descr="класс!"/>
          <p:cNvPicPr/>
          <p:nvPr/>
        </p:nvPicPr>
        <p:blipFill>
          <a:blip r:embed="rId2"/>
          <a:stretch/>
        </p:blipFill>
        <p:spPr>
          <a:xfrm>
            <a:off x="7380360" y="5084640"/>
            <a:ext cx="1152360" cy="1238400"/>
          </a:xfrm>
          <a:prstGeom prst="rect">
            <a:avLst/>
          </a:prstGeom>
          <a:ln w="0">
            <a:noFill/>
          </a:ln>
        </p:spPr>
      </p:pic>
      <p:sp>
        <p:nvSpPr>
          <p:cNvPr id="1196" name="Rectangle 8"/>
          <p:cNvSpPr/>
          <p:nvPr/>
        </p:nvSpPr>
        <p:spPr>
          <a:xfrm>
            <a:off x="360360" y="865080"/>
            <a:ext cx="84232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Текс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— это несколько предложений или абзацев, связанных в цело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мой и основной мыслью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едложения между собой соединены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смыслу и  грамматичес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9"/>
          <p:cNvSpPr/>
          <p:nvPr/>
        </p:nvSpPr>
        <p:spPr>
          <a:xfrm>
            <a:off x="1042920" y="515772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Текс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xtum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— ткань; связь, соеди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WordArt 10"/>
          <p:cNvSpPr txBox="1"/>
          <p:nvPr/>
        </p:nvSpPr>
        <p:spPr>
          <a:xfrm>
            <a:off x="1403280" y="907920"/>
            <a:ext cx="525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02" name="Text Box 5"/>
          <p:cNvSpPr/>
          <p:nvPr/>
        </p:nvSpPr>
        <p:spPr>
          <a:xfrm>
            <a:off x="4535640" y="40464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6" descr="класс!"/>
          <p:cNvPicPr/>
          <p:nvPr/>
        </p:nvPicPr>
        <p:blipFill>
          <a:blip r:embed="rId2"/>
          <a:stretch/>
        </p:blipFill>
        <p:spPr>
          <a:xfrm>
            <a:off x="7380360" y="5084640"/>
            <a:ext cx="1152360" cy="123840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7"/>
          <p:cNvSpPr/>
          <p:nvPr/>
        </p:nvSpPr>
        <p:spPr>
          <a:xfrm>
            <a:off x="4067280" y="1557360"/>
            <a:ext cx="449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ем текст, определим его тему и основную мыс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Рисунок 1" descr=""/>
          <p:cNvPicPr/>
          <p:nvPr/>
        </p:nvPicPr>
        <p:blipFill>
          <a:blip r:embed="rId3"/>
          <a:stretch/>
        </p:blipFill>
        <p:spPr>
          <a:xfrm>
            <a:off x="1071720" y="1557360"/>
            <a:ext cx="2916000" cy="3811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7" name="Фон_6.mid" descr=""/>
          <p:cNvPicPr/>
          <p:nvPr/>
        </p:nvPicPr>
        <p:blipFill>
          <a:blip r:embed="rId1"/>
          <a:stretch/>
        </p:blipFill>
        <p:spPr>
          <a:xfrm>
            <a:off x="4933800" y="37180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09" name="Text Box 5"/>
          <p:cNvSpPr/>
          <p:nvPr/>
        </p:nvSpPr>
        <p:spPr>
          <a:xfrm>
            <a:off x="539640" y="105264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 Друзья крепко проспали всю ночь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Моховая Борода первым открыл глаза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По поляне  гуляли  весёлые солнечные лучики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удило его вовсе не солнце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Разбудило его странное ощущение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Кто-то копошился в его бороде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Моховая Борода решил расчесать бороду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Моховая Борода поднял руку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Моховая Борода тут же опустил её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Моховая Борода испуганно вздрогнул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Из бороды выпорхнула птица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Это была крохотная серая птичка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Птичка отлетела в сторонку. 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Птичка уселась поблизости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Птичка уселась на ветвистом суку. 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Птичка стала смотреть на Моховую Бор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 Э. Рауд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4535640" y="26028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611" fill="hold"/>
                                        <p:tgtEl>
                                          <p:spTgt spid="1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14" name="Text Box 5"/>
          <p:cNvSpPr/>
          <p:nvPr/>
        </p:nvSpPr>
        <p:spPr>
          <a:xfrm>
            <a:off x="826920" y="1341360"/>
            <a:ext cx="770436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текст называем «испорченным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елите текст на абза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мните!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ая новая мысль начинается с красной ст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4535640" y="40464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17" name="Text Box 5"/>
          <p:cNvSpPr/>
          <p:nvPr/>
        </p:nvSpPr>
        <p:spPr>
          <a:xfrm>
            <a:off x="684360" y="1916280"/>
            <a:ext cx="81356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те логическую связь между предложен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)Моховая Борода испуганно вздрогнул.  (11)Из бороды выпорхнула пти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7"/>
          <p:cNvSpPr/>
          <p:nvPr/>
        </p:nvSpPr>
        <p:spPr>
          <a:xfrm>
            <a:off x="755640" y="4437000"/>
            <a:ext cx="6408720" cy="174744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Моховая Борода испуганно вздрогнул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отому (что)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из бороды выпорхнула пт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WordArt 8"/>
          <p:cNvSpPr txBox="1"/>
          <p:nvPr/>
        </p:nvSpPr>
        <p:spPr>
          <a:xfrm>
            <a:off x="1692360" y="1125360"/>
            <a:ext cx="54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дактирование  текс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0" name="Text Box 9"/>
          <p:cNvSpPr/>
          <p:nvPr/>
        </p:nvSpPr>
        <p:spPr>
          <a:xfrm>
            <a:off x="4535640" y="40464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Picture 10" descr="класс!"/>
          <p:cNvPicPr/>
          <p:nvPr/>
        </p:nvPicPr>
        <p:blipFill>
          <a:blip r:embed="rId2"/>
          <a:stretch/>
        </p:blipFill>
        <p:spPr>
          <a:xfrm>
            <a:off x="7451640" y="5157720"/>
            <a:ext cx="1152720" cy="1238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25" name="Text Box 5"/>
          <p:cNvSpPr/>
          <p:nvPr/>
        </p:nvSpPr>
        <p:spPr>
          <a:xfrm>
            <a:off x="684360" y="1773360"/>
            <a:ext cx="777528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ем, какой союз можно использовать, чтобы соединить  действия Моховой Бороды, обозначенные глаголами: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поднял», «опусти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оховая Борода </a:t>
            </a:r>
            <a:r>
              <a:rPr b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однял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руку. Моховая Борода тут же </a:t>
            </a:r>
            <a:r>
              <a:rPr b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опустил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 противоположность действий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Моховая Борода поднял ру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о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 тут же опустил 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Picture 6" descr="класс!"/>
          <p:cNvPicPr/>
          <p:nvPr/>
        </p:nvPicPr>
        <p:blipFill>
          <a:blip r:embed="rId2"/>
          <a:stretch/>
        </p:blipFill>
        <p:spPr>
          <a:xfrm>
            <a:off x="7524720" y="4869000"/>
            <a:ext cx="1152720" cy="1238040"/>
          </a:xfrm>
          <a:prstGeom prst="rect">
            <a:avLst/>
          </a:prstGeom>
          <a:ln w="0">
            <a:noFill/>
          </a:ln>
        </p:spPr>
      </p:pic>
      <p:sp>
        <p:nvSpPr>
          <p:cNvPr id="1227" name="WordArt 7"/>
          <p:cNvSpPr txBox="1"/>
          <p:nvPr/>
        </p:nvSpPr>
        <p:spPr>
          <a:xfrm>
            <a:off x="1692360" y="1052640"/>
            <a:ext cx="5410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дактирование  текс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8" name="Text Box 8"/>
          <p:cNvSpPr/>
          <p:nvPr/>
        </p:nvSpPr>
        <p:spPr>
          <a:xfrm>
            <a:off x="4535640" y="404640"/>
            <a:ext cx="46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1:31:00Z</dcterms:created>
  <dc:creator>ПК</dc:creator>
  <dc:description/>
  <dc:language>en-US</dc:language>
  <cp:lastModifiedBy>Виктор</cp:lastModifiedBy>
  <dcterms:modified xsi:type="dcterms:W3CDTF">2020-11-28T08:04:55Z</dcterms:modified>
  <cp:revision>35</cp:revision>
  <dc:subject/>
  <dc:title>Слайд 1</dc:title>
</cp:coreProperties>
</file>