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7D9-1CDF-4C93-9975-91E5580AD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1D23-3DCD-43FC-925E-578CC4CD8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8B0-A142-4286-82AA-D0DB1D72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013-D609-4E86-985B-065DDFF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6BD-F809-4837-8A16-6A5F5DB1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2DF-1F0A-4C83-91A0-B59AD40A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712-3F52-453F-997A-5F982AAF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903-7021-4403-B54C-F8A7C4CD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543-2584-458E-A85F-F1AEC11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2762-AD15-43D4-BE5B-A430C7B7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A33-B273-4DAF-AB37-A56B0FDF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CA19-1847-4BD1-826C-E596E81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4BBD-B663-4DE2-B82E-9FDA52B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4EC-0E3D-40D8-BB4D-F4436583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AE3-99C9-4612-BA99-174913D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2AB-3606-4F77-9C7A-1CB49F9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1247-05AF-4BE5-A6E1-7EDD987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81F-4DB4-435D-BE9A-E36F2F38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C79C-C578-4E7E-B45D-740E06A8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515E-5DAB-4603-829B-5D52793B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C3B9-0142-4014-8356-F80CD04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47CB-C21C-4C77-94EE-DDC717F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0254-4A70-4DA0-A0AC-2D42E4E7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20C9-6099-4772-9C14-3B3D748C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13C-1690-4B04-95EF-BE3BA91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DA30-2E2F-4B02-9F84-4E63D647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7045-87C9-45AC-8617-F83565C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3246-7D0F-40A8-B5F2-6D1E510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2B94-DCC1-4C7B-8622-FA81B3C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2F63-E628-4DE2-A93D-5717900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3543-FE5A-4DC7-B282-952EFA35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1C81-79F8-4207-B162-7633E218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9A3B-F36D-408E-A439-B52EB6D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59CC-A8C0-4F5C-A5B5-17DBD430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4127-55C5-4555-B2B8-B922140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6F3-285B-45B0-980F-1FD0205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270D-880B-458A-B522-E3B8067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AE84-20D3-4F6C-B7EF-6832A94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4EB4-8B4A-4EF7-BCC9-54CADBE3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8DD2-9BF1-4347-8D57-2538780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898E-FE81-4432-BB35-0B9A22C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09F4-68DA-4CF5-A6D4-01B0D857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3FFB-5AA8-4BA2-9DAF-7D36A7D6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E69C-7774-4459-AECA-EF91B352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9D72-0F18-4B25-AE1E-66B0F769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862C-11C9-41DB-B512-792B1CD2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3DC-6F6E-4B78-8DFF-EA9EF48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5FD92-3F1F-4862-A712-7A4D601D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93F0-7068-4B00-9877-515536D8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8E026-D3B6-460A-AA23-C1326C2A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D003-DB02-4044-9552-12EAAB52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2520-A00C-4034-B326-6839B6D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1618-21E1-4A47-8AEB-F2DB620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A835-5DEA-4C76-A62A-142ADA4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5E7F-18BD-4F4C-9FF7-46ABEDE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43FF-55A6-4415-BB4A-AF1A0DB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EAA7-8690-4EE6-B7F4-92AC8A08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82C-B681-40E1-8073-098CCF6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37F1-8231-400B-9297-22812811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CE6-4D07-4650-A385-A69155F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6DD-D2D0-45E0-A458-A5D12AB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07D-64D0-4A36-A5A4-AE5BE7E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CE8B-D6FB-4CF3-ACB7-2C8E3B2C32A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961-49E9-4C3A-ADDB-E5BD338B26D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B0C-6953-4F60-9A97-3D8A459BDA4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5C7-9321-47F2-AB23-DA8589A2F2F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7B0-CF76-460C-82E6-92DFC4102A3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image" Target="../media/image10.png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image" Target="../media/image11.png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image" Target="../media/image12.png"/><Relationship Id="rId13" Type="http://schemas.openxmlformats.org/officeDocument/2006/relationships/slide" Target="slide12.xml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7"/>
          <p:cNvSpPr/>
          <p:nvPr/>
        </p:nvSpPr>
        <p:spPr>
          <a:xfrm>
            <a:off x="181080" y="2698920"/>
            <a:ext cx="89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article114"/>
          <p:cNvPicPr/>
          <p:nvPr/>
        </p:nvPicPr>
        <p:blipFill>
          <a:blip r:embed="rId1"/>
          <a:stretch/>
        </p:blipFill>
        <p:spPr>
          <a:xfrm>
            <a:off x="7316640" y="0"/>
            <a:ext cx="1827360" cy="19494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4"/>
          <p:cNvSpPr txBox="1"/>
          <p:nvPr/>
        </p:nvSpPr>
        <p:spPr>
          <a:xfrm>
            <a:off x="336600" y="1041480"/>
            <a:ext cx="695016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и обязанности </a:t>
            </a:r>
            <a:endParaRPr b="1" lang="en-US" sz="2000" spc="1" strike="noStrike">
              <a:ln w="9360">
                <a:solidFill>
                  <a:srgbClr val="cc0066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  нашей жизни.  </a:t>
            </a:r>
            <a:endParaRPr b="1" lang="en-US" sz="2000" spc="1" strike="noStrike">
              <a:ln w="9360">
                <a:solidFill>
                  <a:srgbClr val="cc0066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957480" y="3754800"/>
            <a:ext cx="53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йко Наталья Дмитриевна, учитель истории и обществознания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циальный педагог МБОУ «Колыванская СОШ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Скругленный прямоугольник 30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31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32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33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34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5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36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37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38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39">
            <a:hlinkClick r:id="rId10" action="ppaction://hlinksldjump"/>
          </p:cNvPr>
          <p:cNvSpPr/>
          <p:nvPr/>
        </p:nvSpPr>
        <p:spPr>
          <a:xfrm>
            <a:off x="8315280" y="558792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40">
            <a:hlinkClick r:id="rId11" action="ppaction://hlinksldjump"/>
          </p:cNvPr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50">
            <a:hlinkClick r:id="rId12" action="ppaction://hlinksldjump"/>
          </p:cNvPr>
          <p:cNvSpPr/>
          <p:nvPr/>
        </p:nvSpPr>
        <p:spPr>
          <a:xfrm>
            <a:off x="8159760" y="6407280"/>
            <a:ext cx="642960" cy="272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23920" y="1825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25"/>
          <p:cNvGrpSpPr/>
          <p:nvPr/>
        </p:nvGrpSpPr>
        <p:grpSpPr>
          <a:xfrm>
            <a:off x="5116680" y="2651040"/>
            <a:ext cx="3611520" cy="1380960"/>
            <a:chOff x="5116680" y="2651040"/>
            <a:chExt cx="3611520" cy="1380960"/>
          </a:xfrm>
        </p:grpSpPr>
        <p:pic>
          <p:nvPicPr>
            <p:cNvPr id="330" name="Рисунок 16" descr="2.png"/>
            <p:cNvPicPr/>
            <p:nvPr/>
          </p:nvPicPr>
          <p:blipFill>
            <a:blip r:embed="rId13"/>
            <a:stretch/>
          </p:blipFill>
          <p:spPr>
            <a:xfrm>
              <a:off x="7894800" y="265104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WordArt 127"/>
            <p:cNvSpPr txBox="1"/>
            <p:nvPr/>
          </p:nvSpPr>
          <p:spPr>
            <a:xfrm>
              <a:off x="5116680" y="282240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490680" y="714240"/>
          <a:ext cx="3168360" cy="319248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6720"/>
              </a:tblGrid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6280" y="727200"/>
          <a:ext cx="3168720" cy="3160440"/>
        </p:xfrm>
        <a:graphic>
          <a:graphicData uri="http://schemas.openxmlformats.org/drawingml/2006/table">
            <a:tbl>
              <a:tblPr/>
              <a:tblGrid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7080"/>
              </a:tblGrid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Calibri"/>
                        </a:rPr>
                        <a:t>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c66bb"/>
                          </a:solidFill>
                          <a:latin typeface="Calibri"/>
                        </a:rPr>
                        <a:t>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b83d68"/>
                          </a:solidFill>
                          <a:latin typeface="Calibri"/>
                        </a:rPr>
                        <a:t>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Calibri"/>
                        </a:rPr>
                        <a:t>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490c5"/>
                          </a:solidFill>
                          <a:latin typeface="Calibri"/>
                        </a:rPr>
                        <a:t>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b7dee8"/>
                      </a:solidFill>
                    </a:lnL>
                    <a:lnR w="5760">
                      <a:solidFill>
                        <a:srgbClr val="b7dee8"/>
                      </a:solidFill>
                    </a:lnR>
                    <a:lnT w="5760">
                      <a:solidFill>
                        <a:srgbClr val="b7dee8"/>
                      </a:solidFill>
                    </a:lnT>
                    <a:lnB w="5760">
                      <a:solidFill>
                        <a:srgbClr val="b7dee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4" name="Rectangle 1"/>
          <p:cNvSpPr/>
          <p:nvPr/>
        </p:nvSpPr>
        <p:spPr>
          <a:xfrm>
            <a:off x="3841920" y="692640"/>
            <a:ext cx="502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Calibri"/>
                <a:ea typeface="Calibri"/>
              </a:rPr>
              <a:t>Найдите все слова, которые «спрятались» в этом кроссворде. Слова могут быть изогнуты змейк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5"/>
          <p:cNvSpPr/>
          <p:nvPr/>
        </p:nvSpPr>
        <p:spPr>
          <a:xfrm>
            <a:off x="3291480" y="22536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ИМЕЮ ПРАВО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96"/>
          <p:cNvSpPr/>
          <p:nvPr/>
        </p:nvSpPr>
        <p:spPr>
          <a:xfrm>
            <a:off x="4813200" y="1952640"/>
            <a:ext cx="274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изнь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ых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у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ажение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бо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ная права, не надо забывать об обязанностях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44680" y="1603440"/>
            <a:ext cx="85993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соблюдение Устава Школы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добросовестное обучение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бережное отношение к имуществу школы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e66"/>
                </a:solidFill>
                <a:latin typeface="Calibri"/>
              </a:rPr>
              <a:t>соблюдение правил поведения обучающихс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1200240" y="1214280"/>
            <a:ext cx="71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e66"/>
                </a:solidFill>
                <a:latin typeface="Arial"/>
              </a:rPr>
              <a:t>Все стоят в кругу. Глядя соседу в глаза, надо сказать: «Я уважаю твое право на безопасность и не стану тебя бить». Собеседник кивает головой, благодарит и говорит своему соседу (игра идет по кругу): «Я уважаю твое право на учебу и не стану отвлекать тебя на уроке...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929960" y="37944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гра. Я уважаю твое право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8" descr="3.png"/>
          <p:cNvPicPr/>
          <p:nvPr/>
        </p:nvPicPr>
        <p:blipFill>
          <a:blip r:embed="rId1"/>
          <a:stretch/>
        </p:blipFill>
        <p:spPr>
          <a:xfrm>
            <a:off x="173160" y="2938320"/>
            <a:ext cx="915840" cy="1060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2" descr="12.png"/>
          <p:cNvPicPr/>
          <p:nvPr/>
        </p:nvPicPr>
        <p:blipFill>
          <a:blip r:embed="rId2"/>
          <a:stretch/>
        </p:blipFill>
        <p:spPr>
          <a:xfrm>
            <a:off x="7826400" y="1658880"/>
            <a:ext cx="1077840" cy="1057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204840" y="1848240"/>
            <a:ext cx="860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b13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Чтобы права человека были защищены, недостаточно написать их на бумаге: надо, чтобы сам человек хотел и умел их защища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2. Твои права действительны только в том случае, если ты не нарушаешь права других людей</a:t>
            </a:r>
            <a:r>
              <a:rPr b="0" lang="ru-RU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455760" y="309600"/>
            <a:ext cx="7904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0000"/>
                </a:solidFill>
                <a:latin typeface="Arial"/>
              </a:rPr>
              <a:t>«Важные правила»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4"/>
          <p:cNvSpPr/>
          <p:nvPr/>
        </p:nvSpPr>
        <p:spPr>
          <a:xfrm>
            <a:off x="938160" y="952560"/>
            <a:ext cx="72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Вот и все!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До новых встреч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5" descr="13.png"/>
          <p:cNvPicPr/>
          <p:nvPr/>
        </p:nvPicPr>
        <p:blipFill>
          <a:blip r:embed="rId1"/>
          <a:stretch/>
        </p:blipFill>
        <p:spPr>
          <a:xfrm>
            <a:off x="7950240" y="401760"/>
            <a:ext cx="655560" cy="847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7" descr="2.png"/>
          <p:cNvPicPr/>
          <p:nvPr/>
        </p:nvPicPr>
        <p:blipFill>
          <a:blip r:embed="rId2"/>
          <a:stretch/>
        </p:blipFill>
        <p:spPr>
          <a:xfrm>
            <a:off x="473040" y="555480"/>
            <a:ext cx="830160" cy="10782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9" descr="5.png"/>
          <p:cNvPicPr/>
          <p:nvPr/>
        </p:nvPicPr>
        <p:blipFill>
          <a:blip r:embed="rId3"/>
          <a:stretch/>
        </p:blipFill>
        <p:spPr>
          <a:xfrm>
            <a:off x="284040" y="3019320"/>
            <a:ext cx="870120" cy="10368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1" descr="11.png"/>
          <p:cNvPicPr/>
          <p:nvPr/>
        </p:nvPicPr>
        <p:blipFill>
          <a:blip r:embed="rId4"/>
          <a:stretch/>
        </p:blipFill>
        <p:spPr>
          <a:xfrm>
            <a:off x="6869160" y="2844720"/>
            <a:ext cx="1157400" cy="1185840"/>
          </a:xfrm>
          <a:prstGeom prst="rect">
            <a:avLst/>
          </a:prstGeom>
          <a:ln w="0">
            <a:noFill/>
          </a:ln>
        </p:spPr>
      </p:pic>
      <p:pic>
        <p:nvPicPr>
          <p:cNvPr id="350" name="Фанфары 3 - Детские задорные 1.mp3" descr=""/>
          <p:cNvPicPr/>
          <p:nvPr/>
        </p:nvPicPr>
        <p:blipFill>
          <a:blip r:embed="rId5"/>
          <a:stretch/>
        </p:blipFill>
        <p:spPr>
          <a:xfrm>
            <a:off x="4813200" y="50594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1" name="Скругленный прямоугольник 24">
            <a:hlinkClick r:id="rId6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25">
            <a:hlinkClick r:id="rId7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26">
            <a:hlinkClick r:id="rId8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27"/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28"/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9"/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0"/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31"/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32"/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33"/>
          <p:cNvSpPr/>
          <p:nvPr/>
        </p:nvSpPr>
        <p:spPr>
          <a:xfrm>
            <a:off x="8315280" y="600876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34"/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4"/>
          <p:cNvSpPr/>
          <p:nvPr/>
        </p:nvSpPr>
        <p:spPr>
          <a:xfrm>
            <a:off x="8202600" y="6375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2345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641520" y="1096920"/>
            <a:ext cx="434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это совокупность норм, с одной стороны, предоставляющих, а с другой стороны, ограничивающих внешнюю свободу лиц в их взаимных отношениях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40360" y="42696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 Р А В 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5226120" y="485640"/>
            <a:ext cx="3917880" cy="413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0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жизн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2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: каждый имеет право на свободу и личную неприкосновен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6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: каждый имеет право указывать свою национальную принадлеж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7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, кто законно находится на территории РФ, имеет право выбирать место прожи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29: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 каждый имеет право свободно искать, получать, передавать, производить и распространять информацию любым законным способ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1: 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граждане РФ имеют право собираться мирно, без оружия. Проводить собрания и митин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4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свободное использование своих возможност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8: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 з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а о детях, их воспитание - равное право и обязанность родител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0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жилищ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1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охрану здоровья и медицинскую помощ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43: </a:t>
            </a: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каждый имеет право на образ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тья 31 Конвенции о правах ребен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1. Государства-участники признают право ребенка на отдых и досуг, право участвовать в играх и развлекательных мероприятиях, соответствующих его возрасту, и свободно участвовать в культурной жизни и заниматься искусств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14200" y="293760"/>
          <a:ext cx="8696520" cy="4682880"/>
        </p:xfrm>
        <a:graphic>
          <a:graphicData uri="http://schemas.openxmlformats.org/drawingml/2006/table">
            <a:tbl>
              <a:tblPr/>
              <a:tblGrid>
                <a:gridCol w="609840"/>
                <a:gridCol w="2979720"/>
                <a:gridCol w="5106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Что я делал(а) сегодн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Как это связано с правами челове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Ночью спа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Завтракал, обеда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Смотрел телевиз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Сходил в школ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Лечил зуб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всестороннее развит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отдых и досу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праведливое вознагражд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вободу мирных собран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de66"/>
                          </a:solidFill>
                          <a:latin typeface="Times New Roman"/>
                          <a:ea typeface="Times New Roman"/>
                        </a:rPr>
                        <a:t>право на свободу убеждений и на их свободное выраж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кругленный прямоугольник 3">
            <a:hlinkClick r:id="rId1" action="ppaction://hlinksldjump"/>
          </p:cNvPr>
          <p:cNvSpPr/>
          <p:nvPr/>
        </p:nvSpPr>
        <p:spPr>
          <a:xfrm>
            <a:off x="0" y="6291360"/>
            <a:ext cx="946080" cy="34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>
            <a:hlinkClick r:id="rId2" action="ppaction://hlinksldjump"/>
          </p:cNvPr>
          <p:cNvSpPr/>
          <p:nvPr/>
        </p:nvSpPr>
        <p:spPr>
          <a:xfrm>
            <a:off x="1079640" y="6332400"/>
            <a:ext cx="669960" cy="31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">
            <a:hlinkClick r:id="rId3" action="ppaction://hlinksldjump"/>
          </p:cNvPr>
          <p:cNvSpPr/>
          <p:nvPr/>
        </p:nvSpPr>
        <p:spPr>
          <a:xfrm>
            <a:off x="1906560" y="6321600"/>
            <a:ext cx="696960" cy="326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6">
            <a:hlinkClick r:id="rId4" action="ppaction://hlinksldjump"/>
          </p:cNvPr>
          <p:cNvSpPr/>
          <p:nvPr/>
        </p:nvSpPr>
        <p:spPr>
          <a:xfrm>
            <a:off x="2760840" y="6321600"/>
            <a:ext cx="582480" cy="3412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7">
            <a:hlinkClick r:id="rId5" action="ppaction://hlinksldjump"/>
          </p:cNvPr>
          <p:cNvSpPr/>
          <p:nvPr/>
        </p:nvSpPr>
        <p:spPr>
          <a:xfrm>
            <a:off x="3456000" y="6318360"/>
            <a:ext cx="627120" cy="328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8">
            <a:hlinkClick r:id="rId6" action="ppaction://hlinksldjump"/>
          </p:cNvPr>
          <p:cNvSpPr/>
          <p:nvPr/>
        </p:nvSpPr>
        <p:spPr>
          <a:xfrm>
            <a:off x="4241880" y="6291360"/>
            <a:ext cx="609480" cy="355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>
            <a:hlinkClick r:id="rId7" action="ppaction://hlinksldjump"/>
          </p:cNvPr>
          <p:cNvSpPr/>
          <p:nvPr/>
        </p:nvSpPr>
        <p:spPr>
          <a:xfrm>
            <a:off x="5038560" y="6289560"/>
            <a:ext cx="595440" cy="355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0">
            <a:hlinkClick r:id="rId8" action="ppaction://hlinksldjump"/>
          </p:cNvPr>
          <p:cNvSpPr/>
          <p:nvPr/>
        </p:nvSpPr>
        <p:spPr>
          <a:xfrm>
            <a:off x="5807160" y="6278400"/>
            <a:ext cx="639720" cy="339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1">
            <a:hlinkClick r:id="rId9" action="ppaction://hlinksldjump"/>
          </p:cNvPr>
          <p:cNvSpPr/>
          <p:nvPr/>
        </p:nvSpPr>
        <p:spPr>
          <a:xfrm>
            <a:off x="6588000" y="6289560"/>
            <a:ext cx="654120" cy="325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2">
            <a:hlinkClick r:id="rId10" action="ppaction://hlinksldjump"/>
          </p:cNvPr>
          <p:cNvSpPr/>
          <p:nvPr/>
        </p:nvSpPr>
        <p:spPr>
          <a:xfrm>
            <a:off x="8204040" y="5800680"/>
            <a:ext cx="939960" cy="407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ини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">
            <a:hlinkClick r:id="rId11" action="ppaction://hlinksldjump"/>
          </p:cNvPr>
          <p:cNvSpPr/>
          <p:nvPr/>
        </p:nvSpPr>
        <p:spPr>
          <a:xfrm>
            <a:off x="7372440" y="6259680"/>
            <a:ext cx="581040" cy="34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">
            <a:hlinkClick r:id="rId12" action="ppaction://hlinksldjump"/>
          </p:cNvPr>
          <p:cNvSpPr/>
          <p:nvPr/>
        </p:nvSpPr>
        <p:spPr>
          <a:xfrm>
            <a:off x="8131320" y="6278400"/>
            <a:ext cx="581040" cy="3430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8"/>
          <p:cNvSpPr/>
          <p:nvPr/>
        </p:nvSpPr>
        <p:spPr>
          <a:xfrm>
            <a:off x="3341520" y="33984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 Б Я З А Н Н О С Т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13.png"/>
          <p:cNvPicPr/>
          <p:nvPr/>
        </p:nvPicPr>
        <p:blipFill>
          <a:blip r:embed="rId13"/>
          <a:stretch/>
        </p:blipFill>
        <p:spPr>
          <a:xfrm>
            <a:off x="631800" y="324000"/>
            <a:ext cx="693720" cy="901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0"/>
          <p:cNvSpPr/>
          <p:nvPr/>
        </p:nvSpPr>
        <p:spPr>
          <a:xfrm>
            <a:off x="336600" y="1149480"/>
            <a:ext cx="8532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это необходимость, предписывающая каждому человеку определенные вид и меру поведения, и ответственность за ненадлежащее его исполн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Обязанности устанавливаются как в целях осуществления интересов всего общества, государства, так и в интересах каждого отдельного граждани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440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Trebuchet MS"/>
              </a:rPr>
              <a:t>Заявляя о своих личных правах, надо помнить, что они есть и у всех остальных люд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Trebuchet MS"/>
              </a:rPr>
              <a:t>Нужно учиться уважать личные права других так же, как вы хотите, чтобы уважали ваши прав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1"/>
          <p:cNvSpPr/>
          <p:nvPr/>
        </p:nvSpPr>
        <p:spPr>
          <a:xfrm>
            <a:off x="152280" y="19692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13.png"/>
          <p:cNvPicPr/>
          <p:nvPr/>
        </p:nvPicPr>
        <p:blipFill>
          <a:blip r:embed="rId1"/>
          <a:stretch/>
        </p:blipFill>
        <p:spPr>
          <a:xfrm>
            <a:off x="8224920" y="225360"/>
            <a:ext cx="695160" cy="898560"/>
          </a:xfrm>
          <a:prstGeom prst="rect">
            <a:avLst/>
          </a:prstGeom>
          <a:ln w="0">
            <a:noFill/>
          </a:ln>
        </p:spPr>
      </p:pic>
      <p:sp>
        <p:nvSpPr>
          <p:cNvPr id="255" name="Скругленный прямоугольник 28">
            <a:hlinkClick r:id="rId2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30">
            <a:hlinkClick r:id="rId3" action="ppaction://hlinksldjump"/>
          </p:cNvPr>
          <p:cNvSpPr/>
          <p:nvPr/>
        </p:nvSpPr>
        <p:spPr>
          <a:xfrm>
            <a:off x="93816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31">
            <a:hlinkClick r:id="rId4" action="ppaction://hlinksldjump"/>
          </p:cNvPr>
          <p:cNvSpPr/>
          <p:nvPr/>
        </p:nvSpPr>
        <p:spPr>
          <a:xfrm>
            <a:off x="1765440" y="6384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32">
            <a:hlinkClick r:id="rId5" action="ppaction://hlinksldjump"/>
          </p:cNvPr>
          <p:cNvSpPr/>
          <p:nvPr/>
        </p:nvSpPr>
        <p:spPr>
          <a:xfrm>
            <a:off x="256068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33">
            <a:hlinkClick r:id="rId6" action="ppaction://hlinksldjump"/>
          </p:cNvPr>
          <p:cNvSpPr/>
          <p:nvPr/>
        </p:nvSpPr>
        <p:spPr>
          <a:xfrm>
            <a:off x="335772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34">
            <a:hlinkClick r:id="rId7" action="ppaction://hlinksldjump"/>
          </p:cNvPr>
          <p:cNvSpPr/>
          <p:nvPr/>
        </p:nvSpPr>
        <p:spPr>
          <a:xfrm>
            <a:off x="415440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35">
            <a:hlinkClick r:id="rId8" action="ppaction://hlinksldjump"/>
          </p:cNvPr>
          <p:cNvSpPr/>
          <p:nvPr/>
        </p:nvSpPr>
        <p:spPr>
          <a:xfrm>
            <a:off x="4937040" y="6384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36">
            <a:hlinkClick r:id="rId9" action="ppaction://hlinksldjump"/>
          </p:cNvPr>
          <p:cNvSpPr/>
          <p:nvPr/>
        </p:nvSpPr>
        <p:spPr>
          <a:xfrm>
            <a:off x="5749920" y="63579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37">
            <a:hlinkClick r:id="rId10" action="ppaction://hlinksldjump"/>
          </p:cNvPr>
          <p:cNvSpPr/>
          <p:nvPr/>
        </p:nvSpPr>
        <p:spPr>
          <a:xfrm>
            <a:off x="6573960" y="635652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38">
            <a:hlinkClick r:id="rId11" action="ppaction://hlinksldjump"/>
          </p:cNvPr>
          <p:cNvSpPr/>
          <p:nvPr/>
        </p:nvSpPr>
        <p:spPr>
          <a:xfrm>
            <a:off x="8315280" y="5965920"/>
            <a:ext cx="82872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39">
            <a:hlinkClick r:id="rId12" action="ppaction://hlinksldjump"/>
          </p:cNvPr>
          <p:cNvSpPr/>
          <p:nvPr/>
        </p:nvSpPr>
        <p:spPr>
          <a:xfrm>
            <a:off x="7370640" y="63705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334800" y="806400"/>
            <a:ext cx="84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На улице шестнадцатилетние парни пристают к прохожим, нарушают общественный порядок и спокойств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3816360" y="193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туация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338040" y="2557440"/>
            <a:ext cx="85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. Это расценивается как мелкое хулиганство (ст. 158 КОАП). Нецензурная брань в общественных местах, оскорбительное поведение по отношению к прохожим и другие действия, нарушающие порядок и спокойствие граждан – это мелкое хулиганство, и за него предусмотрен штраф, а так же – постановка на учет в КД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782800" y="3187800"/>
            <a:ext cx="3606840" cy="1380960"/>
            <a:chOff x="2782800" y="3187800"/>
            <a:chExt cx="3606840" cy="1380960"/>
          </a:xfrm>
        </p:grpSpPr>
        <p:pic>
          <p:nvPicPr>
            <p:cNvPr id="270" name="Рисунок 16" descr="2.png"/>
            <p:cNvPicPr/>
            <p:nvPr/>
          </p:nvPicPr>
          <p:blipFill>
            <a:blip r:embed="rId13"/>
            <a:stretch/>
          </p:blipFill>
          <p:spPr>
            <a:xfrm>
              <a:off x="5560920" y="3187800"/>
              <a:ext cx="82872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WordArt 31"/>
            <p:cNvSpPr txBox="1"/>
            <p:nvPr/>
          </p:nvSpPr>
          <p:spPr>
            <a:xfrm>
              <a:off x="2782800" y="33591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72" name="Rectangle 33"/>
          <p:cNvSpPr/>
          <p:nvPr/>
        </p:nvSpPr>
        <p:spPr>
          <a:xfrm>
            <a:off x="469800" y="1708200"/>
            <a:ext cx="867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de66"/>
                </a:solidFill>
                <a:latin typeface="Arial"/>
              </a:rPr>
              <a:t>Как вы оцениваете данные действия и можно ли этих подростков наказ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13">
            <a:hlinkClick r:id="rId14" action="ppaction://hlinksldjump"/>
          </p:cNvPr>
          <p:cNvSpPr/>
          <p:nvPr/>
        </p:nvSpPr>
        <p:spPr>
          <a:xfrm>
            <a:off x="8258040" y="6361200"/>
            <a:ext cx="581040" cy="2998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1"/>
          <p:cNvSpPr/>
          <p:nvPr/>
        </p:nvSpPr>
        <p:spPr>
          <a:xfrm>
            <a:off x="168120" y="18108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29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30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1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2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33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34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35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6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37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38">
            <a:hlinkClick r:id="rId10" action="ppaction://hlinksldjump"/>
          </p:cNvPr>
          <p:cNvSpPr/>
          <p:nvPr/>
        </p:nvSpPr>
        <p:spPr>
          <a:xfrm>
            <a:off x="8315280" y="599436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39">
            <a:hlinkClick r:id="rId11" action="ppaction://hlinksldjump"/>
          </p:cNvPr>
          <p:cNvSpPr/>
          <p:nvPr/>
        </p:nvSpPr>
        <p:spPr>
          <a:xfrm>
            <a:off x="7370640" y="6372360"/>
            <a:ext cx="642960" cy="2854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7"/>
          <p:cNvGrpSpPr/>
          <p:nvPr/>
        </p:nvGrpSpPr>
        <p:grpSpPr>
          <a:xfrm>
            <a:off x="3000240" y="3362400"/>
            <a:ext cx="3611520" cy="1380960"/>
            <a:chOff x="3000240" y="3362400"/>
            <a:chExt cx="3611520" cy="1380960"/>
          </a:xfrm>
        </p:grpSpPr>
        <p:pic>
          <p:nvPicPr>
            <p:cNvPr id="287" name="Рисунок 16" descr="2.png"/>
            <p:cNvPicPr/>
            <p:nvPr/>
          </p:nvPicPr>
          <p:blipFill>
            <a:blip r:embed="rId12"/>
            <a:stretch/>
          </p:blipFill>
          <p:spPr>
            <a:xfrm>
              <a:off x="5778360" y="336240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25"/>
            <p:cNvSpPr txBox="1"/>
            <p:nvPr/>
          </p:nvSpPr>
          <p:spPr>
            <a:xfrm>
              <a:off x="3000240" y="35337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89" name="Rectangle 28"/>
          <p:cNvSpPr/>
          <p:nvPr/>
        </p:nvSpPr>
        <p:spPr>
          <a:xfrm>
            <a:off x="3819240" y="14292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итуация 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196920" y="100296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Между одноклассниками Женей и Кириллом произошел спор, после которого мальчики подрались. В результате у Жени был сломан нос, а Кирилл получил удар в живот. Рядом находившийся Артем не остановил драк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252360" y="2347920"/>
            <a:ext cx="86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de66"/>
                </a:solidFill>
                <a:latin typeface="Arial"/>
              </a:rPr>
              <a:t>Какие обязанности и права были нарушены?</a:t>
            </a:r>
            <a:r>
              <a:rPr b="0" lang="ru-RU" sz="2000" spc="-1" strike="noStrike">
                <a:solidFill>
                  <a:srgbClr val="ffde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655560" y="307332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язанность пресекать проявление грубости и бестактности. Право на уважение человеческого достоин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9">
            <a:hlinkClick r:id="rId13" action="ppaction://hlinksldjump"/>
          </p:cNvPr>
          <p:cNvSpPr/>
          <p:nvPr/>
        </p:nvSpPr>
        <p:spPr>
          <a:xfrm>
            <a:off x="8217000" y="636120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Скругленный прямоугольник 9">
            <a:hlinkClick r:id="rId1" action="ppaction://hlinksldjump"/>
          </p:cNvPr>
          <p:cNvSpPr/>
          <p:nvPr/>
        </p:nvSpPr>
        <p:spPr>
          <a:xfrm>
            <a:off x="157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ар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10">
            <a:hlinkClick r:id="rId2" action="ppaction://hlinksldjump"/>
          </p:cNvPr>
          <p:cNvSpPr/>
          <p:nvPr/>
        </p:nvSpPr>
        <p:spPr>
          <a:xfrm>
            <a:off x="9525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1">
            <a:hlinkClick r:id="rId3" action="ppaction://hlinksldjump"/>
          </p:cNvPr>
          <p:cNvSpPr/>
          <p:nvPr/>
        </p:nvSpPr>
        <p:spPr>
          <a:xfrm>
            <a:off x="174960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2">
            <a:hlinkClick r:id="rId4" action="ppaction://hlinksldjump"/>
          </p:cNvPr>
          <p:cNvSpPr/>
          <p:nvPr/>
        </p:nvSpPr>
        <p:spPr>
          <a:xfrm>
            <a:off x="25462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3">
            <a:hlinkClick r:id="rId5" action="ppaction://hlinksldjump"/>
          </p:cNvPr>
          <p:cNvSpPr/>
          <p:nvPr/>
        </p:nvSpPr>
        <p:spPr>
          <a:xfrm>
            <a:off x="33433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4">
            <a:hlinkClick r:id="rId6" action="ppaction://hlinksldjump"/>
          </p:cNvPr>
          <p:cNvSpPr/>
          <p:nvPr/>
        </p:nvSpPr>
        <p:spPr>
          <a:xfrm>
            <a:off x="4140360" y="6429240"/>
            <a:ext cx="64260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5">
            <a:hlinkClick r:id="rId7" action="ppaction://hlinksldjump"/>
          </p:cNvPr>
          <p:cNvSpPr/>
          <p:nvPr/>
        </p:nvSpPr>
        <p:spPr>
          <a:xfrm>
            <a:off x="493704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16">
            <a:hlinkClick r:id="rId8" action="ppaction://hlinksldjump"/>
          </p:cNvPr>
          <p:cNvSpPr/>
          <p:nvPr/>
        </p:nvSpPr>
        <p:spPr>
          <a:xfrm>
            <a:off x="573408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17">
            <a:hlinkClick r:id="rId9" action="ppaction://hlinksldjump"/>
          </p:cNvPr>
          <p:cNvSpPr/>
          <p:nvPr/>
        </p:nvSpPr>
        <p:spPr>
          <a:xfrm>
            <a:off x="653112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18">
            <a:hlinkClick r:id="rId10" action="ppaction://hlinksldjump"/>
          </p:cNvPr>
          <p:cNvSpPr/>
          <p:nvPr/>
        </p:nvSpPr>
        <p:spPr>
          <a:xfrm>
            <a:off x="8315280" y="6022800"/>
            <a:ext cx="82872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Финиш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19">
            <a:hlinkClick r:id="rId11" action="ppaction://hlinksldjump"/>
          </p:cNvPr>
          <p:cNvSpPr/>
          <p:nvPr/>
        </p:nvSpPr>
        <p:spPr>
          <a:xfrm>
            <a:off x="7326360" y="642924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Учитель.594-6F881932895\Рабочий стол\9.png"/>
          <p:cNvPicPr/>
          <p:nvPr/>
        </p:nvPicPr>
        <p:blipFill>
          <a:blip r:embed="rId12"/>
          <a:stretch/>
        </p:blipFill>
        <p:spPr>
          <a:xfrm>
            <a:off x="6372360" y="5345280"/>
            <a:ext cx="1136520" cy="1002960"/>
          </a:xfrm>
          <a:prstGeom prst="rect">
            <a:avLst/>
          </a:prstGeom>
          <a:ln w="0">
            <a:noFill/>
          </a:ln>
        </p:spPr>
      </p:pic>
      <p:sp>
        <p:nvSpPr>
          <p:cNvPr id="306" name="Скругленный прямоугольник 50">
            <a:hlinkClick r:id="rId13" action="ppaction://hlinksldjump"/>
          </p:cNvPr>
          <p:cNvSpPr/>
          <p:nvPr/>
        </p:nvSpPr>
        <p:spPr>
          <a:xfrm>
            <a:off x="8159760" y="6378480"/>
            <a:ext cx="642960" cy="30168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223920" y="1825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анция 3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Рисунок 21" descr="3.png"/>
          <p:cNvPicPr/>
          <p:nvPr/>
        </p:nvPicPr>
        <p:blipFill>
          <a:blip r:embed="rId14"/>
          <a:stretch/>
        </p:blipFill>
        <p:spPr>
          <a:xfrm>
            <a:off x="8170920" y="122400"/>
            <a:ext cx="772920" cy="8953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221"/>
          <p:cNvGrpSpPr/>
          <p:nvPr/>
        </p:nvGrpSpPr>
        <p:grpSpPr>
          <a:xfrm>
            <a:off x="3000240" y="3362400"/>
            <a:ext cx="3611520" cy="1380960"/>
            <a:chOff x="3000240" y="3362400"/>
            <a:chExt cx="3611520" cy="1380960"/>
          </a:xfrm>
        </p:grpSpPr>
        <p:pic>
          <p:nvPicPr>
            <p:cNvPr id="310" name="Рисунок 16" descr="2.png"/>
            <p:cNvPicPr/>
            <p:nvPr/>
          </p:nvPicPr>
          <p:blipFill>
            <a:blip r:embed="rId15"/>
            <a:stretch/>
          </p:blipFill>
          <p:spPr>
            <a:xfrm>
              <a:off x="5778360" y="3362400"/>
              <a:ext cx="8334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WordArt 223"/>
            <p:cNvSpPr txBox="1"/>
            <p:nvPr/>
          </p:nvSpPr>
          <p:spPr>
            <a:xfrm>
              <a:off x="3000240" y="3533760"/>
              <a:ext cx="2811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9080">
                    <a:solidFill>
                      <a:srgbClr val="b13f9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Правильный  ответ</a:t>
              </a:r>
              <a:endParaRPr b="1" lang="en-US" sz="2000" spc="1" strike="noStrike">
                <a:ln w="19080">
                  <a:solidFill>
                    <a:srgbClr val="b13f9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312" name="Rectangle 224"/>
          <p:cNvSpPr/>
          <p:nvPr/>
        </p:nvSpPr>
        <p:spPr>
          <a:xfrm>
            <a:off x="361800" y="788760"/>
            <a:ext cx="85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Группа школьников пришла на прогулку в парк. Побегали, попрыгали, поели, поиграли, все разбросали, поломали и уш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5"/>
          <p:cNvSpPr/>
          <p:nvPr/>
        </p:nvSpPr>
        <p:spPr>
          <a:xfrm>
            <a:off x="3816360" y="193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туация 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6"/>
          <p:cNvSpPr/>
          <p:nvPr/>
        </p:nvSpPr>
        <p:spPr>
          <a:xfrm>
            <a:off x="527400" y="210024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90c5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de66"/>
                </a:solidFill>
                <a:latin typeface="Arial"/>
              </a:rPr>
              <a:t>Какие обязанности они нарушил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27"/>
          <p:cNvSpPr/>
          <p:nvPr/>
        </p:nvSpPr>
        <p:spPr>
          <a:xfrm>
            <a:off x="880920" y="2741760"/>
            <a:ext cx="73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язанность сохранить окружающую среду, бережно относиться к природным богатств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20:11Z</dcterms:created>
  <dc:creator>школа</dc:creator>
  <dc:description/>
  <dc:language>en-US</dc:language>
  <cp:lastModifiedBy>Пользователь</cp:lastModifiedBy>
  <dcterms:modified xsi:type="dcterms:W3CDTF">2020-11-28T10:19:15Z</dcterms:modified>
  <cp:revision>290</cp:revision>
  <dc:subject/>
  <dc:title>Слайд 1</dc:title>
</cp:coreProperties>
</file>