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D38-1DBA-4C63-A905-4D42192A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46B-108A-4008-9AB2-21006688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460-944A-489C-9EE3-5BA3EF8A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1DF-FE35-48F7-BEEF-F91FCD87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E65-5E77-412C-8812-DA5A98A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FB2-1829-425C-9D17-2B68D7C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E22-90A7-437A-B32D-F82C3656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A90-8B49-49B3-A61C-3D9687F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4B6-0C23-4B8A-83E2-1A307B95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990-FBEC-4DDB-A582-349577C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EBB-1219-4C86-ACD1-74CB0B5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D93-ED2B-40C7-8416-316B198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3B7-B2A9-45F3-9279-4922EFE58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66600"/>
            <a:ext cx="7785000" cy="2371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" descr="1.jpg"/>
          <p:cNvPicPr/>
          <p:nvPr/>
        </p:nvPicPr>
        <p:blipFill>
          <a:blip r:embed="rId2"/>
          <a:stretch/>
        </p:blipFill>
        <p:spPr>
          <a:xfrm>
            <a:off x="1332000" y="2781360"/>
            <a:ext cx="6480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6.jpg"/>
          <p:cNvPicPr/>
          <p:nvPr/>
        </p:nvPicPr>
        <p:blipFill>
          <a:blip r:embed="rId1"/>
          <a:stretch/>
        </p:blipFill>
        <p:spPr>
          <a:xfrm>
            <a:off x="250920" y="1484280"/>
            <a:ext cx="424332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– дипломатичность, гибк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17.jpg"/>
          <p:cNvPicPr/>
          <p:nvPr/>
        </p:nvPicPr>
        <p:blipFill>
          <a:blip r:embed="rId1"/>
          <a:stretch/>
        </p:blipFill>
        <p:spPr>
          <a:xfrm>
            <a:off x="395280" y="3789360"/>
            <a:ext cx="3816360" cy="2641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трудничество – уважение своих и чужих интересов.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5" descr="25.jpg"/>
          <p:cNvPicPr/>
          <p:nvPr/>
        </p:nvPicPr>
        <p:blipFill>
          <a:blip r:embed="rId2"/>
          <a:stretch/>
        </p:blipFill>
        <p:spPr>
          <a:xfrm>
            <a:off x="395280" y="112536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тетради аргументировано ответьте на следующие вопро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Конфликты делятся на споры и ссоры. Как вы думаете, чем они отличаютс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Решить возникшее противоречие можно только путём спора,  а не ссоры. Почем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Попробуйте определить, какую позицию в конфликте вы чаще всего занимаете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а:  придумать ситуацию,  где необходима именно ваша стратегия поведения в конфлик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фликт-это столкновение противоположных интересов,  целей,  позици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ний и взглядов оппонент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11.jpg"/>
          <p:cNvPicPr/>
          <p:nvPr/>
        </p:nvPicPr>
        <p:blipFill>
          <a:blip r:embed="rId1"/>
          <a:stretch/>
        </p:blipFill>
        <p:spPr>
          <a:xfrm>
            <a:off x="2627280" y="306864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ый конфл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циальный конфликт –это особый вид взаимодействия социальных сил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котором действие одной стороны,  столкнувшись с противодейств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ругой, делает невозможным реализацию её целей  и интерес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8" descr="9.jpg"/>
          <p:cNvPicPr/>
          <p:nvPr/>
        </p:nvPicPr>
        <p:blipFill>
          <a:blip r:embed="rId1"/>
          <a:stretch/>
        </p:blipFill>
        <p:spPr>
          <a:xfrm>
            <a:off x="179280" y="1700280"/>
            <a:ext cx="4748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бъекты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13.jpg"/>
          <p:cNvPicPr/>
          <p:nvPr/>
        </p:nvPicPr>
        <p:blipFill>
          <a:blip r:embed="rId1"/>
          <a:stretch/>
        </p:blipFill>
        <p:spPr>
          <a:xfrm>
            <a:off x="468360" y="184464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средственные участ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торы, подстрекатели, пособники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,   заинтересованные в урегулиров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дии протекания конфли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7.jpg"/>
          <p:cNvPicPr/>
          <p:nvPr/>
        </p:nvPicPr>
        <p:blipFill>
          <a:blip r:embed="rId1"/>
          <a:stretch/>
        </p:blipFill>
        <p:spPr>
          <a:xfrm>
            <a:off x="250920" y="1989000"/>
            <a:ext cx="439884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конфликтная стадия. Накапливается эмоциональное напряжение, раздражение. Выбирается стратег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осредственно конфликт. Происходит инцидент (словесное/физическое воздействие)  и переход к действи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длительности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, краткоср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объёму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обальные, национальные, локальные, региональные, групповые, ли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используемым средствам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сильственные, ненасиль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форм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ие, внеш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сферам общественной жизни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е, политические, этнические, семейно-быт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ак да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5.jpg"/>
          <p:cNvPicPr/>
          <p:nvPr/>
        </p:nvPicPr>
        <p:blipFill>
          <a:blip r:embed="rId1"/>
          <a:stretch/>
        </p:blipFill>
        <p:spPr>
          <a:xfrm>
            <a:off x="250920" y="393372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16.jpg"/>
          <p:cNvPicPr/>
          <p:nvPr/>
        </p:nvPicPr>
        <p:blipFill>
          <a:blip r:embed="rId2"/>
          <a:stretch/>
        </p:blipFill>
        <p:spPr>
          <a:xfrm>
            <a:off x="2700360" y="1413000"/>
            <a:ext cx="1655640" cy="2403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4.jpg"/>
          <p:cNvPicPr/>
          <p:nvPr/>
        </p:nvPicPr>
        <p:blipFill>
          <a:blip r:embed="rId3"/>
          <a:stretch/>
        </p:blipFill>
        <p:spPr>
          <a:xfrm>
            <a:off x="108000" y="2133720"/>
            <a:ext cx="2627280" cy="17128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1" descr="27.jpg"/>
          <p:cNvPicPr/>
          <p:nvPr/>
        </p:nvPicPr>
        <p:blipFill>
          <a:blip r:embed="rId4"/>
          <a:stretch/>
        </p:blipFill>
        <p:spPr>
          <a:xfrm>
            <a:off x="2556000" y="3933720"/>
            <a:ext cx="2016000" cy="2127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2" descr="3.jpg"/>
          <p:cNvPicPr/>
          <p:nvPr/>
        </p:nvPicPr>
        <p:blipFill>
          <a:blip r:embed="rId5"/>
          <a:stretch/>
        </p:blipFill>
        <p:spPr>
          <a:xfrm>
            <a:off x="108000" y="404640"/>
            <a:ext cx="252900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атегия поведения в конфлик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30.jpg"/>
          <p:cNvPicPr/>
          <p:nvPr/>
        </p:nvPicPr>
        <p:blipFill>
          <a:blip r:embed="rId1"/>
          <a:stretch/>
        </p:blipFill>
        <p:spPr>
          <a:xfrm>
            <a:off x="826920" y="148428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бег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неуверенность в себе, неумение отстоять свои интересы, ощущение своей неполноценности, уход от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28.jpg"/>
          <p:cNvPicPr/>
          <p:nvPr/>
        </p:nvPicPr>
        <p:blipFill>
          <a:blip r:embed="rId1"/>
          <a:stretch/>
        </p:blipFill>
        <p:spPr>
          <a:xfrm>
            <a:off x="755640" y="1773360"/>
            <a:ext cx="3529080" cy="352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ки –  чувство приниженности,  нежелание отстаивать свои интерес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шательство с другими в ущерб себ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15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авление –  чувство превосходства,  агрессия,  нападение,  унижение друг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8:03:10Z</dcterms:created>
  <dc:creator>User</dc:creator>
  <dc:description/>
  <dc:language>en-US</dc:language>
  <cp:lastModifiedBy>Admin</cp:lastModifiedBy>
  <dcterms:modified xsi:type="dcterms:W3CDTF">2015-10-13T17:07:06Z</dcterms:modified>
  <cp:revision>17</cp:revision>
  <dc:subject/>
  <dc:title>Социальный конфликт</dc:title>
</cp:coreProperties>
</file>