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332-0457-4DA8-B7B9-F037BDE6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A76-AF24-4EA2-A91C-7C0C0ACF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2FB-5D20-48D1-9662-AD0455C1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336-ED74-4C80-A098-F033CCF2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E3D4-C5F9-464D-9568-69B63595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339B-45E5-4477-9035-C0242EB5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3B45-1F3C-4521-8043-3FB64A0F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11FF-8983-40EF-B660-3C01B909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76D1-3F22-44C8-A460-B0F52B19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F899-A17F-4DC9-9D06-A5F356DD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7717-41BE-4F34-B0B0-4CB6DEC2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CA4-A361-40DB-AF11-C88EC4EF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7B3A-361F-4C3D-A620-D684FEE5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2C08-4957-4359-AF55-1A81C493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C211-51DF-4559-81C4-2B1B2E32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BC7A-398A-4318-BAC9-C2BD2BC5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9D5D-859C-4A1F-8C2F-31104EA0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177-E389-4D47-A7C9-24493787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DBE-6BDD-496A-BCEB-9E45E1E0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D5D-D059-4543-A93A-0E86BB6B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21A-9122-4F73-AFC9-B05C2961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A54-9C43-474D-95DA-91CE5B4F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9AD-27D1-45A5-8D09-B6B4060F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A2B-94D6-453B-B9E5-43D6B9D0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2FBF-44BE-4E45-BC56-13F35C66B8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A05A-8662-4A97-A159-1B2DC9F252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Профессиональный стандарт педагога в ДОУ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118200" cy="13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Детский сад №112 «Сибирячо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Овчинникова Е 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переход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этап: Подготовительный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ведение мероприятий информационногосопровождения, разработка нормативных правовых акто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 : Внедренческий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Внедрение профессионального стандарта «Педагог» в МБДОУ№112 «Сибирячок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826920" y="834480"/>
            <a:ext cx="7632720" cy="46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андар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- это перечень требований, определяющих квалификацию работника, необходимую для качественного выполнения возложенных на нег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ый стандар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– характеристика квалификации, которая необходима работнику для осуществления определенного вида профессиональной деятельности или выполнения трудовой функции (ч. 2 ст. 195.1 ТК РФ). Профстандарт объединил в себе требования к педагогам всех ступеней образования, которые сегодня представлены в федеральном государственном образовательном стандарте и в квалификационных характеристиках должностей работников образования, утвержденных приказом Министерства здравоохранения и социального развития РФ от 26 августа 2010 г. №761н (зарегистрирован в Минюсте России 06 октября 2010 г. №18638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язанностей.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еспечение перехода учреждения на работу в условиях действия профессионального стандар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ние системы повышения квалификации педагогических работников учреждения в соответствии с требованиями профстандарта «Педагог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дрение локально-нормативных актов МБДОУ №112 «Сибирячок» работающего в условиях профстандарта «Педагог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пробация методики оценки соответствия педагогических работников уровню профстандарта «Педагог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фессиональный стандарт призван повысить мотивацию педагогических работников к повышению качества профессиональной деятельности. Профессиональный стандарт является инструментом повышения качества образования как объективный измеритель квалификации педагог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фессиональный стандарт рассматривается как основополагающий документ, содержащий перечень следующих норм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Трудовые функции работника в соответствии с его квалификацией и занимаемой должностью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Требования к его опыту и знания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Цели профессионального стандарт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ление единых требований к содержанию и качеству профессиональной педагогической деятельност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оценки уровня квалификации педагоговпри приеме на работу, при аттестации, планирование карьеры и в профессиональной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формирования должностных инструкций и разработки федеральных государтвенных образовательных стандартов педагогического образ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недрение профессионального стандарта приведет к измененю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ия процедуры аттестации пед. работников, повышению их квалифик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ректировке нормативных правовых актов : должностных инструкций пед. работников , трудовых договоров и других документо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ан мероприят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накомление пед. Работников с содержанием профессионального стандарта « Педагог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тестирования воспитателей на знание содержания проф. Стандар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мероприятий по информированию педагогических работников о содержании профессионального стандарта по результатам тестир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и утверждение (приказом) рабочей группы по внедрению профессионального стандарта в ДО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и утверждение (приказом) плана мероприятий по внедрению профессионального стандар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недрение профессионального стандарта в ДО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рганизация обучения педагогических работн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1. Планирование и осуществление повышения квалификац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  Совершенствование методической работ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1 Консультационная поддержк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2 Участие педагогов в работе семинаров, вебинарах, научно практических конференц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3 Участие педагогов ДОУ в конкурсах проф. Мастерст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Аттестация педагогических работн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1 Планирование аттестации пед. работников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2 Консультационная поддержка при прохожденнии аттестац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3Организация деятельности аттестационной комиссии в ДОУ с целью подтверждения соответствия занимаемой долж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Повышение уровня профессиональной компетентности педагогов ДО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1 Проведение пед. Работниками самооценки профессионального уровн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2 Составление индивидуальных планов проф, развития педагогов ДО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3 Утверждение планов саморазвития педагог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анируемые результа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современной, гибкой системы повышения квалификации педагогов ДО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единых, индивидуальных подходов к определениб, содержанию повышения квалификации педагогических работников ДО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ние учебно- методического сопровождения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офессионального мастерства педагог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дрение современных технологий в образовательный  процес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9T05:48:04Z</dcterms:created>
  <dc:creator>User</dc:creator>
  <dc:description/>
  <dc:language>en-US</dc:language>
  <cp:lastModifiedBy>User</cp:lastModifiedBy>
  <dcterms:modified xsi:type="dcterms:W3CDTF">2020-11-22T08:14:28Z</dcterms:modified>
  <cp:revision>3</cp:revision>
  <dc:subject/>
  <dc:title>Профстандарт Педагога</dc:title>
</cp:coreProperties>
</file>