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15D-1AE0-4893-AF3E-81F73BD7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06C-6016-4C24-A9D1-7A5F3FE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7A5-AECD-4E8C-9FC2-C76D672F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904-76DA-4609-AB2D-CF3C2402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CC74-315D-4ECC-BC51-057D7427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EDD-C0AB-404A-A37F-EFAD9BBE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7E1-54FD-433A-B4A5-0BD55CA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AE9-4005-4AEB-90F8-3A8F488B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BEB3-8F82-4719-9AF9-3A80EB2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216-81D8-44EF-854A-375A2C8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68B-B220-4179-9E04-CE977BC5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BFC-6192-494D-A733-C97CE16C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3750-792F-4905-B9A8-460ACD55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3C05-C45E-40FE-B17C-6424EEE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DBB-3D37-4BEF-9BA8-A1F9A07B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1960-4ADF-4656-8488-B1F7998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7D3E-B164-4E3D-A08E-A4FFB4BC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33E-2049-4B45-BC1B-CA8BB9A5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B71-A474-4A49-8FC5-F26446B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372-94A2-41D1-A1D7-CD08007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B91-E35A-4BFA-8FF7-4E00DE8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E19-62D5-4432-95B0-7E5F49D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6CE-0A93-4E88-BC01-0DD1585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49A-BA63-47CC-AB56-242325E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81A-EC83-4434-A37C-400197B84C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6C55-E5B8-4114-8A5F-BEF450452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Профессиональный стандарт педагога в ДОУ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118200" cy="13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Детский сад №112 «Сибирячо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Овчинникова Е 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перех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ап: Подготовительны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дение мероприятий информационногосопровождения, разработка нормативных правовых ак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: Внедренческий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недрение профессионального стандарта «Педагог» в МБДОУ№112 «Сибирячок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826920" y="834480"/>
            <a:ext cx="763272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 (ч. 2 ст. 195.1 ТК РФ). Профстандарт объединил в себе требования к педагогам всех ступеней образования, которые сегодня представлены в федеральном государственном образовательном стандарте и в квалификационных характеристиках должностей работников образования, утвержденных приказом Министерства здравоохранения и социального развития РФ от 26 августа 2010 г. №761н (зарегистрирован в Минюсте России 06 октября 2010 г. №18638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нностей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еспечение перехода учреждения на работу в условиях действия профессионального стандар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повышения квалификации педагогических работников учреждения в соответствии с требованиями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локально-нормативных актов МБДОУ №112 «Сибирячок» работающего в условиях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робация методики оценки соответствия педагогических работников уровню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ый стандарт призван повысить мотивацию педагогических работников к повышению качества профессиональной деятельности. Профессиональный стандарт является инструментом повышения качества образования как объективный измеритель квалификации педагог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ый стандарт рассматривается как основополагающий документ, содержащий перечень следующих нор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Трудовые функции работника в соответствии с его квалификацией и занимаемой должность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Требования к его опыту и знан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Цели профессионального стандар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единых требований к содержанию и качеству профессиональной педагог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ценки уровня квалификации педагоговпри приеме на работу, при аттестации, планирование карьеры и в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формирования должностных инструкций и разработки федеральных государтвенных образовательных стандартов педагогического образ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дрение профессионального стандарта приведет к изменен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я процедуры аттестации пед. работников, повышению их квалифик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тировке нормативных правовых актов : должностных инструкций пед. работников , трудовых договоров и других докумен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 мероприя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комление пед. Работников с содержанием профессионального стандарта « Педагог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тестирования воспитателей на знание содержания проф. Стандар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мероприятий по информированию педагогических работников о содержании профессионального стандарта по результатам тест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утверждение (приказом) рабочей группы по внедрению профессионального стандарта в ДО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и утверждение (приказом) плана мероприятий по внедрению профессионального стандар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дрение профессионального стандарта в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рганизация обучения педагогических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. Планирование и осуществление повышения квалифик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 Совершенствование методической работ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 Консультационная поддерж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 Участие педагогов в работе семинаров, вебинарах, научно практических конференц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3 Участие педагогов ДОУ в конкурсах проф. Мастер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Аттестация педагогических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 Планирование аттестации пед. работнико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 Консультационная поддержка при прохожденнии аттестац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Организация деятельности аттестационной комиссии в ДОУ с целью подтверждения соответствия занимаемой долж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Повышение уровня профессиональной компетентности педагогов ДО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1 Проведение пед. Работниками самооценки профессионального уровн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2 Составление индивидуальных планов проф, развития педагогов ДО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3 Утверждение планов саморазвития педагог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ируемые результа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современной, гибкой системы повышения квалификации педагогов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единых, индивидуальных подходов к определениб, содержанию повышения квалификации педагогических работников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учебно- методического сопровождения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офессионального мастерства педагог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дрение современных технологий в образовательный  процес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9T05:48:04Z</dcterms:created>
  <dc:creator>User</dc:creator>
  <dc:description/>
  <dc:language>en-US</dc:language>
  <cp:lastModifiedBy>User</cp:lastModifiedBy>
  <dcterms:modified xsi:type="dcterms:W3CDTF">2020-11-22T08:14:28Z</dcterms:modified>
  <cp:revision>3</cp:revision>
  <dc:subject/>
  <dc:title>Профстандарт Педагога</dc:title>
</cp:coreProperties>
</file>