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4F4-49A4-4FFD-9041-B6053062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BE8-43D8-4FC5-9AE8-0DB776C4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F73-B828-476A-9279-3E387CBF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C71-D06C-4D20-8D14-9588E24C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9D24-B788-4AD6-B7CA-C9CAB2CF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509D-0F11-48D4-A7F7-5B7423B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6007-7714-4535-919C-F46498D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00E-0A51-4DC9-B66C-57B5137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70C7-6006-4560-BB47-7A4F263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AE4-0184-4E17-A53A-D9F93C8A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23A8-8E6D-4635-ACBD-39ADC2F2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6B1-1A5E-42ED-9757-C242714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8C9-38AC-4A58-A52C-81C047E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B30B-7120-45AB-B5E6-8AFD3A2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9B73-BA42-44A5-B866-77CD8FC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3CD5-5183-4904-BDE5-4C2D46FB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B156-3971-4981-B9AA-802ED31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276-815D-4D03-A453-4FDF20F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A3D-03D8-4D67-9DC4-934D6B7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8FE-4634-47D4-A855-68DF9F6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089-0448-443E-B406-9C96150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23B-69F9-421D-92AE-7BFAAF9C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0D4-324B-423E-AB6C-D7A8503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099-016C-41D1-B692-B3791C5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7A3-37B4-495C-9276-2778A04C0E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D3F-C31F-4FD9-98D0-391CCBDFE6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019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тат Монтан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21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&amp;Scy;&amp;kcy;&amp;acy;&amp;lcy;&amp;icy;&amp;scy;&amp;tcy;&amp;ycy;&amp;iecy; &amp;gcy;&amp;ocy;&amp;rcy;&amp;ycy; &amp;Kcy;&amp;acy;&amp;ncy;&amp;acy;&amp;dcy;&amp;ycy; - &amp;Vcy;&amp;ocy;&amp;rcy;&amp;ocy;&amp;tcy;&amp;icy;&amp;l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&amp;Vcy;&amp;ocy;&amp;rcy;&amp;ocy;&amp;tcy;&amp;icy;&amp;l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йеллоустонский национальный парк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Yellowstone National Park Picture Gallery - Photo Gallery - …"/>
          <p:cNvPicPr/>
          <p:nvPr/>
        </p:nvPicPr>
        <p:blipFill>
          <a:blip r:embed="rId1"/>
          <a:stretch/>
        </p:blipFill>
        <p:spPr>
          <a:xfrm>
            <a:off x="179280" y="1333440"/>
            <a:ext cx="8785440" cy="552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&amp;Jcy;&amp;iecy;&amp;lcy;&amp;lcy;&amp;ocy;&amp;ucy;&amp;scy;&amp;tcy;&amp;ocy;&amp;ucy;&amp;ncy;&amp;scy;&amp;kcy;&amp;icy;&amp;jcy; &amp;ncy;&amp;acy;&amp;tscy;&amp;icy;&amp;ocy;&amp;ncy;&amp;acy;&amp;lcy;&amp;softcy;&amp;ncy;&amp;ycy;&amp;jcy; &amp;pcy;&amp;acy;&amp;rcy;&amp;kcy; / &amp;Scy;&amp;SHcy;&amp;Acy; &amp;Icy;&amp;scy;&amp;k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щера Льюиса и Клар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Cave Spikes"/>
          <p:cNvPicPr/>
          <p:nvPr/>
        </p:nvPicPr>
        <p:blipFill>
          <a:blip r:embed="rId1"/>
          <a:stretch/>
        </p:blipFill>
        <p:spPr>
          <a:xfrm>
            <a:off x="468360" y="1386000"/>
            <a:ext cx="817236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рк Макошик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&amp;Pcy;&amp;rcy;&amp;icy;&amp;chcy;&amp;ucy;&amp;dcy;&amp;ycy; &amp;pcy;&amp;rcy;&amp;icy;&amp;rcy;&amp;ocy;&amp;dcy;&amp;ycy;. &amp;Ncy;&amp;iecy;&amp;ocy;&amp;bcy;&amp;ycy;&amp;chcy;&amp;ncy;&amp;ycy;&amp;iecy; &amp;mcy;&amp;iecy;&amp;scy;&amp;tcy;&amp;acy; &amp;Mcy;&amp;icy;&amp;rcy;&amp;acy; &amp;vcy; &amp;fcy;&amp;ocy;&amp;tcy;&amp;ocy;&amp;gcy;&amp;rcy;&amp;acy;&amp;fcy;&amp;icy;&amp;yacy;&amp;khcy; - &amp;Scy;&amp;tcy;&amp;rcy;&amp;acy;&amp;ncy;&amp;icy;&amp;tscy;&amp;acy; 21 * &amp;Fcy;&amp;ocy;&amp;rcy;&amp;ucy;&amp;mcy; &amp;Vcy;&amp;icy;&amp;ncy;&amp;scy;&amp;kcy;&amp;ocy;&amp;gcy;&amp;ocy;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рк Макоши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&amp;Pcy;&amp;acy;&amp;rcy;&amp;kcy; &amp;Mcy;&amp;acy;&amp;kcy;&amp;ocy;&amp;shcy;&amp;icy;&amp;kcy;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27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чать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шта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87680" y="260280"/>
            <a:ext cx="65563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лотность населения Монтан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&amp;Dcy;&amp;ycy;&amp;mcy;&amp;ocy;&amp;vcy;&amp;acy;&amp;yacy; &amp;tcy;&amp;rcy;&amp;ucy;&amp;bcy;&amp;acy; &amp;Acy;&amp;ncy;&amp;acy;&amp;kcy;&amp;ocy;&amp;ncy;&amp;dcy;&amp;ycy;., 2. &amp;Fcy;&amp;ocy;&amp;tcy;&amp;ocy;&amp;gcy;&amp;rcy;&amp;acy;&amp;fcy;&amp;icy;&amp;icy; &amp;Dcy;&amp;ycy;&amp;mcy;&amp;ocy;&amp;vcy;&amp;acy;&amp;yacy; &amp;tcy;&amp;rcy;&amp;ucy;&amp;bcy;&amp;acy; &amp;Acy;&amp;ncy;&amp;acy;&amp;kcy;&amp;ocy;&amp;ncy;&amp;dcy;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&amp;Gcy;&amp;lcy;&amp;iecy;&amp;jcy;&amp;shcy;&amp;iecy;&amp;rcy;, &amp;ncy;&amp;acy;&amp;tscy;&amp;icy;&amp;ocy;&amp;ncy;&amp;acy;&amp;lcy;&amp;softcy;&amp;ncy;&amp;ycy;&amp;jcy; &amp;pcy;&amp;acy;&amp;rcy;&amp;kcy; &amp;Scy;&amp;SHcy;&amp;Acy; - &amp;Fcy;&amp;Ocy;&amp;Tcy;&amp;O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&amp;Ncy;&amp;acy;&amp;tscy;&amp;icy;&amp;ocy;&amp;ncy;&amp;acy;&amp;lcy;&amp;softcy;&amp;ncy;&amp;ycy;&amp;jcy; &amp;pcy;&amp;acy;&amp;rcy;&amp;kcy; &amp;Gcy;&amp;lcy;&amp;iecy;&amp;jcy;&amp;shcy;&amp;iecy;&amp;rcy;, &amp;Mcy;&amp;ocy;&amp;ncy;&amp;tcy;&amp;acy;&amp;ncy;&amp;acy;, &amp;Scy;&amp;SHcy;&amp;Acy;. / &amp;Pcy;&amp;ucy;&amp;tcy;&amp;iecy;&amp;shcy;&amp;iecy;&amp;scy;&amp;tcy;&amp;vcy;&amp;icy;&amp;yacy; / &amp;Acy;mazing world / Pinme.ru / &amp;Acy;&amp;lcy;&amp;iocy;&amp;ncy;&amp;acy; &amp;SHcy;&amp;iecy;&amp;bcy;&amp;acy;&amp;lcy;&amp;icy;&amp;n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&amp;Pcy;&amp;icy;&amp;kcy; &amp;Gcy;&amp;rcy;&amp;acy;&amp;ncy;&amp;icy;&amp;tcy; - &amp;Scy;&amp;iecy;&amp;vcy;&amp;iecy;&amp;rcy;&amp;ncy;&amp;acy;&amp;yacy; &amp;Acy;&amp;mcy;&amp;iecy;&amp;rcy;&amp;icy;&amp;kcy;&amp;acy; - &amp;Gcy;&amp;ocy;&amp;rcy;&amp;ycy;, &amp;pcy;&amp;icy;&amp;kcy;&amp;icy;, &amp;vcy;&amp;iecy;&amp;rcy;&amp;shcy;&amp;icy;&amp;ncy;&amp;y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8:31:13Z</dcterms:created>
  <dc:creator>Ира</dc:creator>
  <dc:description/>
  <dc:language>en-US</dc:language>
  <cp:lastModifiedBy>Ира</cp:lastModifiedBy>
  <dcterms:modified xsi:type="dcterms:W3CDTF">2015-03-15T18:56:57Z</dcterms:modified>
  <cp:revision>3</cp:revision>
  <dc:subject/>
  <dc:title>Штат Монтана</dc:title>
</cp:coreProperties>
</file>