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6C7-2E05-4DE6-90E3-4F6BA5CF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B30-62A1-44CF-9DA8-6E52F40E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2E0C-7D3C-4BC0-8AC4-29132F4B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7EC-90C3-4C8B-AD2B-8FCD44A0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1DCE-0820-4C7A-BD52-CFE95A95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C508-84AA-4ED7-BCBF-D59471D1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49EC-4842-486C-A6C5-CE6DC6B1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91C8-BBD8-49F0-BB3B-F49A3EBE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90B7-164D-4CE7-9FDB-907CEA3C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969D-A5AF-4E9A-8B0E-EEEDD94C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C479-93C5-454E-BB3B-DEB2CDAA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E1C8-5CF5-4F0F-BAA7-9E034F86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5B31-8197-406E-A419-BA0DF831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2BC0-2ABB-4008-99D8-693E4EEF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8278-15A9-4323-A289-24713CAF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6C44-5F15-4223-B730-6D317742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15CB-98B6-405A-A255-62712996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B7DC-E580-4520-9064-45921824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69E-EBDD-4368-84F7-7E81028D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0DA-FED0-451F-98E1-D43311F3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77D-C124-43A9-ABD9-9E4C542B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80B-C504-45BD-BD0F-8E8402D4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1C0-E3E7-419D-8DBC-058C95EF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798-D0FB-4343-899E-181F4E87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BE83-0AD2-4F79-81CE-85428939ACE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287C-C0CD-4FE6-8969-2D8E3D2B42D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6019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Штат Монтан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82160" cy="558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&amp;Scy;&amp;kcy;&amp;acy;&amp;lcy;&amp;icy;&amp;scy;&amp;tcy;&amp;ycy;&amp;iecy; &amp;gcy;&amp;ocy;&amp;rcy;&amp;ycy; &amp;Kcy;&amp;acy;&amp;ncy;&amp;acy;&amp;dcy;&amp;ycy; - &amp;Vcy;&amp;ocy;&amp;rcy;&amp;ocy;&amp;tcy;&amp;icy;&amp;lcy;&amp;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&amp;Vcy;&amp;ocy;&amp;rcy;&amp;ocy;&amp;tcy;&amp;icy;&amp;lcy;&amp;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йеллоустонский национальный парк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Yellowstone National Park Picture Gallery - Photo Gallery - …"/>
          <p:cNvPicPr/>
          <p:nvPr/>
        </p:nvPicPr>
        <p:blipFill>
          <a:blip r:embed="rId1"/>
          <a:stretch/>
        </p:blipFill>
        <p:spPr>
          <a:xfrm>
            <a:off x="179280" y="1333440"/>
            <a:ext cx="8785440" cy="552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&amp;Jcy;&amp;iecy;&amp;lcy;&amp;lcy;&amp;ocy;&amp;ucy;&amp;scy;&amp;tcy;&amp;ocy;&amp;ucy;&amp;ncy;&amp;scy;&amp;kcy;&amp;icy;&amp;jcy; &amp;ncy;&amp;acy;&amp;tscy;&amp;icy;&amp;ocy;&amp;ncy;&amp;acy;&amp;lcy;&amp;softcy;&amp;ncy;&amp;ycy;&amp;jcy; &amp;pcy;&amp;acy;&amp;rcy;&amp;kcy; / &amp;Scy;&amp;SHcy;&amp;Acy; &amp;Icy;&amp;scy;&amp;kcy;&amp;acy;&amp;tcy;&amp;iecy;&amp;lcy;&amp;soft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ещера Льюиса и Клар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Cave Spikes"/>
          <p:cNvPicPr/>
          <p:nvPr/>
        </p:nvPicPr>
        <p:blipFill>
          <a:blip r:embed="rId1"/>
          <a:stretch/>
        </p:blipFill>
        <p:spPr>
          <a:xfrm>
            <a:off x="468360" y="1386000"/>
            <a:ext cx="817236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25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арк Макошика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&amp;Pcy;&amp;rcy;&amp;icy;&amp;chcy;&amp;ucy;&amp;dcy;&amp;ycy; &amp;pcy;&amp;rcy;&amp;icy;&amp;rcy;&amp;ocy;&amp;dcy;&amp;ycy;. &amp;Ncy;&amp;iecy;&amp;ocy;&amp;bcy;&amp;ycy;&amp;chcy;&amp;ncy;&amp;ycy;&amp;iecy; &amp;mcy;&amp;iecy;&amp;scy;&amp;tcy;&amp;acy; &amp;Mcy;&amp;icy;&amp;rcy;&amp;acy; &amp;vcy; &amp;fcy;&amp;ocy;&amp;tcy;&amp;ocy;&amp;gcy;&amp;rcy;&amp;acy;&amp;fcy;&amp;icy;&amp;yacy;&amp;khcy; - &amp;Scy;&amp;tcy;&amp;rcy;&amp;acy;&amp;ncy;&amp;icy;&amp;tscy;&amp;acy; 21 * &amp;Fcy;&amp;ocy;&amp;rcy;&amp;ucy;&amp;mcy; &amp;Vcy;&amp;icy;&amp;ncy;&amp;scy;&amp;kcy;&amp;ocy;&amp;gcy;&amp;ocy;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арк Макоши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&amp;Pcy;&amp;acy;&amp;rcy;&amp;kcy; &amp;Mcy;&amp;acy;&amp;kcy;&amp;ocy;&amp;shcy;&amp;icy;&amp;kcy;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27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ечать</a:t>
            </a:r>
            <a:br>
              <a:rPr sz="4400"/>
            </a:b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шта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87680" y="260280"/>
            <a:ext cx="6556320" cy="65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лотность населения Монтаны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&amp;Dcy;&amp;ycy;&amp;mcy;&amp;ocy;&amp;vcy;&amp;acy;&amp;yacy; &amp;tcy;&amp;rcy;&amp;ucy;&amp;bcy;&amp;acy; &amp;Acy;&amp;ncy;&amp;acy;&amp;kcy;&amp;ocy;&amp;ncy;&amp;dcy;&amp;ycy;., 2. &amp;Fcy;&amp;ocy;&amp;tcy;&amp;ocy;&amp;gcy;&amp;rcy;&amp;acy;&amp;fcy;&amp;icy;&amp;icy; &amp;Dcy;&amp;ycy;&amp;mcy;&amp;ocy;&amp;vcy;&amp;acy;&amp;yacy; &amp;tcy;&amp;rcy;&amp;ucy;&amp;bcy;&amp;acy; &amp;Acy;&amp;ncy;&amp;acy;&amp;kcy;&amp;ocy;&amp;ncy;&amp;dcy;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&amp;Gcy;&amp;lcy;&amp;iecy;&amp;jcy;&amp;shcy;&amp;iecy;&amp;rcy;, &amp;ncy;&amp;acy;&amp;tscy;&amp;icy;&amp;ocy;&amp;ncy;&amp;acy;&amp;lcy;&amp;softcy;&amp;ncy;&amp;ycy;&amp;jcy; &amp;pcy;&amp;acy;&amp;rcy;&amp;kcy; &amp;Scy;&amp;SHcy;&amp;Acy; - &amp;Fcy;&amp;Ocy;&amp;Tcy;&amp;O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&amp;Ncy;&amp;acy;&amp;tscy;&amp;icy;&amp;ocy;&amp;ncy;&amp;acy;&amp;lcy;&amp;softcy;&amp;ncy;&amp;ycy;&amp;jcy; &amp;pcy;&amp;acy;&amp;rcy;&amp;kcy; &amp;Gcy;&amp;lcy;&amp;iecy;&amp;jcy;&amp;shcy;&amp;iecy;&amp;rcy;, &amp;Mcy;&amp;ocy;&amp;ncy;&amp;tcy;&amp;acy;&amp;ncy;&amp;acy;, &amp;Scy;&amp;SHcy;&amp;Acy;. / &amp;Pcy;&amp;ucy;&amp;tcy;&amp;iecy;&amp;shcy;&amp;iecy;&amp;scy;&amp;tcy;&amp;vcy;&amp;icy;&amp;yacy; / &amp;Acy;mazing world / Pinme.ru / &amp;Acy;&amp;lcy;&amp;iocy;&amp;ncy;&amp;acy; &amp;SHcy;&amp;iecy;&amp;bcy;&amp;acy;&amp;lcy;&amp;icy;&amp;ncy;&amp;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&amp;Pcy;&amp;icy;&amp;kcy; &amp;Gcy;&amp;rcy;&amp;acy;&amp;ncy;&amp;icy;&amp;tcy; - &amp;Scy;&amp;iecy;&amp;vcy;&amp;iecy;&amp;rcy;&amp;ncy;&amp;acy;&amp;yacy; &amp;Acy;&amp;mcy;&amp;iecy;&amp;rcy;&amp;icy;&amp;kcy;&amp;acy; - &amp;Gcy;&amp;ocy;&amp;rcy;&amp;ycy;, &amp;pcy;&amp;icy;&amp;kcy;&amp;icy;, &amp;vcy;&amp;iecy;&amp;rcy;&amp;shcy;&amp;icy;&amp;ncy;&amp;y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1T18:31:13Z</dcterms:created>
  <dc:creator>Ира</dc:creator>
  <dc:description/>
  <dc:language>en-US</dc:language>
  <cp:lastModifiedBy>Ира</cp:lastModifiedBy>
  <dcterms:modified xsi:type="dcterms:W3CDTF">2015-03-15T18:56:57Z</dcterms:modified>
  <cp:revision>3</cp:revision>
  <dc:subject/>
  <dc:title>Штат Монтана</dc:title>
</cp:coreProperties>
</file>