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AD9-464C-49EA-9EE3-7B3FD030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046-B26C-4CC8-99E4-749B7B88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976-F43B-4B60-8B55-A45F9E02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4BA-D09B-4B96-90B1-74765E7D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6B6-DA32-40B8-83BC-808DDBD6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885-FFC2-46CD-8740-0DBAD65F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4EF-C9E3-43B1-82F4-CE0D52B8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373-C00E-4336-B5E0-C92F4C7D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907-7190-4F47-A60F-835F6EE2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0B4-46C6-44AF-AB6E-8F4B5438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9C9-15CF-41BA-B3D0-F7731904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10D-3209-4122-9B88-8288775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937C-EA9D-4E19-ADC3-791CEE7F6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rousa.ru/manhattan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таты США. Штат Нью-Йор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6215040"/>
            <a:ext cx="73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тат Нью-Йорк на карте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&amp;SHcy;&amp;tcy;&amp;acy;&amp;tcy; &amp;Ncy;&amp;softcy;&amp;yucy;-&amp;Jcy;&amp;ocy;&amp;rcy;&amp;kcy;, &amp;Scy;&amp;SHcy;&amp;Acy;"/>
          <p:cNvPicPr/>
          <p:nvPr/>
        </p:nvPicPr>
        <p:blipFill>
          <a:blip r:embed="rId1"/>
          <a:stretch/>
        </p:blipFill>
        <p:spPr>
          <a:xfrm>
            <a:off x="428760" y="1285920"/>
            <a:ext cx="78534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0" y="999720"/>
            <a:ext cx="375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йоны Нью-Йор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3857760"/>
          <a:ext cx="9144000" cy="2743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 Нью-Йо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, км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енность населения,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тность населения, человек/км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Манхэтт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1 6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2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ук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2 6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14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он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1 4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12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и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2 3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8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тен-Айле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5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3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2" descr="&amp;Rcy;&amp;acy;&amp;jcy;&amp;ocy;&amp;ncy;&amp;ycy; &amp;Ncy;&amp;softcy;&amp;yucy;-&amp;Jcy;&amp;ocy;&amp;rcy;&amp;kcy;&amp;acy;"/>
          <p:cNvPicPr/>
          <p:nvPr/>
        </p:nvPicPr>
        <p:blipFill>
          <a:blip r:embed="rId2"/>
          <a:stretch/>
        </p:blipFill>
        <p:spPr>
          <a:xfrm>
            <a:off x="285840" y="285840"/>
            <a:ext cx="3943440" cy="3836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нхэтт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643360" y="928440"/>
            <a:ext cx="3043080" cy="67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&amp;Mcy;&amp;icy;&amp;dcy;&amp;tcy;&amp;acy;&amp;ucy;&amp;ncy; &amp;Mcy;&amp;acy;&amp;ncy;&amp;khcy;&amp;ecy;&amp;tcy;&amp;tcy;&amp;iecy;&amp;ncy;&amp;acy;"/>
          <p:cNvPicPr/>
          <p:nvPr/>
        </p:nvPicPr>
        <p:blipFill>
          <a:blip r:embed="rId2"/>
          <a:stretch/>
        </p:blipFill>
        <p:spPr>
          <a:xfrm>
            <a:off x="428760" y="1000080"/>
            <a:ext cx="8381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560" y="285480"/>
            <a:ext cx="2428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гионы Манхэтт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жний Манхэтт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дтау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тральный пар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хний Вест-Сай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хний Ист-Сай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хний Манхэтт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&amp;Mcy;&amp;acy;&amp;ncy;&amp;khcy;&amp;ecy;&amp;tcy;&amp;tcy;&amp;iecy;&amp;ncy; &amp;ncy;&amp;acy; &amp;kcy;&amp;acy;&amp;rcy;&amp;tcy;&amp;iecy; &amp;Ncy;&amp;softcy;&amp;yucy;-&amp;Jcy;&amp;ocy;&amp;rcy;&amp;kcy;&amp;acy;"/>
          <p:cNvPicPr/>
          <p:nvPr/>
        </p:nvPicPr>
        <p:blipFill>
          <a:blip r:embed="rId1"/>
          <a:stretch/>
        </p:blipFill>
        <p:spPr>
          <a:xfrm>
            <a:off x="142920" y="428760"/>
            <a:ext cx="3333600" cy="257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&amp;Mcy;&amp;acy;&amp;ncy;&amp;khcy;&amp;ecy;&amp;tcy;&amp;tcy;&amp;iecy;&amp;ncy;"/>
          <p:cNvPicPr/>
          <p:nvPr/>
        </p:nvPicPr>
        <p:blipFill>
          <a:blip r:embed="rId2"/>
          <a:stretch/>
        </p:blipFill>
        <p:spPr>
          <a:xfrm>
            <a:off x="285840" y="3357720"/>
            <a:ext cx="4564080" cy="33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&amp;Rcy;&amp;acy;&amp;jcy;&amp;ocy;&amp;ncy;&amp;ycy; &amp;Mcy;&amp;acy;&amp;ncy;&amp;khcy;&amp;ecy;&amp;tcy;&amp;tcy;&amp;iecy;&amp;ncy;&amp;acy;"/>
          <p:cNvPicPr/>
          <p:nvPr/>
        </p:nvPicPr>
        <p:blipFill>
          <a:blip r:embed="rId3"/>
          <a:stretch/>
        </p:blipFill>
        <p:spPr>
          <a:xfrm>
            <a:off x="6000840" y="285840"/>
            <a:ext cx="29858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тров Манхэтт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&amp;Ocy;&amp;scy;&amp;tcy;&amp;rcy;&amp;ocy;&amp;vcy; &amp;Mcy;&amp;acy;&amp;ncy;&amp;khcy;&amp;ecy;&amp;tcy;&amp;tcy;&amp;iecy;&amp;ncy;"/>
          <p:cNvPicPr/>
          <p:nvPr/>
        </p:nvPicPr>
        <p:blipFill>
          <a:blip r:embed="rId2"/>
          <a:stretch/>
        </p:blipFill>
        <p:spPr>
          <a:xfrm>
            <a:off x="428760" y="950760"/>
            <a:ext cx="84484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&amp;Ocy;&amp;gcy;&amp;ncy;&amp;icy; &amp;Mcy;&amp;acy;&amp;ncy;&amp;khcy;&amp;ecy;&amp;tcy;&amp;tcy;&amp;iecy;&amp;ncy;&amp;acy;"/>
          <p:cNvPicPr/>
          <p:nvPr/>
        </p:nvPicPr>
        <p:blipFill>
          <a:blip r:embed="rId2"/>
          <a:stretch/>
        </p:blipFill>
        <p:spPr>
          <a:xfrm>
            <a:off x="285840" y="857160"/>
            <a:ext cx="8472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929120" y="4928760"/>
            <a:ext cx="3686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ланетарий Хейдена в Верхнем Вест-Сайде - одно из самых необычных сооружений Манхэтт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&amp;TScy;&amp;iecy;&amp;ncy;&amp;tcy;&amp;rcy;&amp;acy;&amp;lcy;&amp;softcy;&amp;ncy;&amp;ycy;&amp;jcy; &amp;pcy;&amp;acy;&amp;rcy;&amp;kcy;"/>
          <p:cNvPicPr/>
          <p:nvPr/>
        </p:nvPicPr>
        <p:blipFill>
          <a:blip r:embed="rId1"/>
          <a:stretch/>
        </p:blipFill>
        <p:spPr>
          <a:xfrm>
            <a:off x="4214880" y="214200"/>
            <a:ext cx="4762440" cy="3251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&amp;Pcy;&amp;lcy;&amp;acy;&amp;ncy;&amp;iecy;&amp;tcy;&amp;acy;&amp;rcy;&amp;icy;&amp;jcy; &amp;KHcy;&amp;iecy;&amp;jcy;&amp;dcy;&amp;iecy;&amp;ncy;&amp;acy;"/>
          <p:cNvPicPr/>
          <p:nvPr/>
        </p:nvPicPr>
        <p:blipFill>
          <a:blip r:embed="rId2"/>
          <a:stretch/>
        </p:blipFill>
        <p:spPr>
          <a:xfrm>
            <a:off x="285840" y="3857760"/>
            <a:ext cx="4203720" cy="278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&amp;Kcy;&amp;ocy;&amp;lcy;&amp;ucy;&amp;mcy;&amp;bcy;&amp;icy;&amp;jcy;&amp;scy;&amp;kcy;&amp;icy;&amp;jcy; &amp;ucy;&amp;ncy;&amp;icy;&amp;vcy;&amp;iecy;&amp;rcy;&amp;scy;&amp;icy;&amp;tcy;&amp;iecy;&amp;tcy;"/>
          <p:cNvPicPr/>
          <p:nvPr/>
        </p:nvPicPr>
        <p:blipFill>
          <a:blip r:embed="rId3"/>
          <a:stretch/>
        </p:blipFill>
        <p:spPr>
          <a:xfrm>
            <a:off x="285840" y="500040"/>
            <a:ext cx="380664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рукли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120" y="5929200"/>
            <a:ext cx="842976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наменитый Бруклинский мост в Нью-Йорке, соединяющий районы Бруклин и Манхэтте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&amp;Rcy;&amp;acy;&amp;jcy;&amp;ocy;&amp;ncy;&amp;ycy; &amp;Ncy;&amp;softcy;&amp;yucy;-&amp;Jcy;&amp;ocy;&amp;rcy;&amp;kcy;&amp;acy;"/>
          <p:cNvPicPr/>
          <p:nvPr/>
        </p:nvPicPr>
        <p:blipFill>
          <a:blip r:embed="rId1"/>
          <a:stretch/>
        </p:blipFill>
        <p:spPr>
          <a:xfrm>
            <a:off x="785880" y="928800"/>
            <a:ext cx="7143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4257720" cy="1328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&amp;Vcy;&amp;icy;&amp;dcy; &amp;ncy;&amp;acy; &amp;Ncy;&amp;icy;&amp;acy;&amp;gcy;&amp;acy;&amp;rcy;&amp;ucy;"/>
          <p:cNvPicPr/>
          <p:nvPr/>
        </p:nvPicPr>
        <p:blipFill>
          <a:blip r:embed="rId2"/>
          <a:stretch/>
        </p:blipFill>
        <p:spPr>
          <a:xfrm>
            <a:off x="4529160" y="-7920"/>
            <a:ext cx="4614840" cy="3008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&amp;Ncy;&amp;icy;&amp;acy;&amp;gcy;&amp;acy;&amp;rcy;&amp;scy;&amp;kcy;&amp;icy;&amp;jcy; &amp;vcy;&amp;ocy;&amp;dcy;&amp;ocy;&amp;pcy;&amp;acy;&amp;dcy;"/>
          <p:cNvPicPr/>
          <p:nvPr/>
        </p:nvPicPr>
        <p:blipFill>
          <a:blip r:embed="rId3"/>
          <a:stretch/>
        </p:blipFill>
        <p:spPr>
          <a:xfrm>
            <a:off x="0" y="0"/>
            <a:ext cx="4857840" cy="3247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&amp;Dcy;&amp;iecy;&amp;vcy;&amp;acy; &amp;tcy;&amp;ucy;&amp;mcy;&amp;acy;&amp;ncy;&amp;acy;"/>
          <p:cNvPicPr/>
          <p:nvPr/>
        </p:nvPicPr>
        <p:blipFill>
          <a:blip r:embed="rId4"/>
          <a:stretch/>
        </p:blipFill>
        <p:spPr>
          <a:xfrm>
            <a:off x="0" y="3214800"/>
            <a:ext cx="4853160" cy="3643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&amp;Scy;&amp;ucy;&amp;khcy;&amp;ocy;&amp;jcy; &amp;Ncy;&amp;icy;&amp;acy;&amp;gcy;&amp;acy;&amp;rcy;&amp;scy;&amp;kcy;&amp;icy;&amp;jcy; &amp;vcy;&amp;ocy;&amp;dcy;&amp;ocy;&amp;pcy;&amp;acy;&amp;dcy;"/>
          <p:cNvPicPr/>
          <p:nvPr/>
        </p:nvPicPr>
        <p:blipFill>
          <a:blip r:embed="rId5"/>
          <a:stretch/>
        </p:blipFill>
        <p:spPr>
          <a:xfrm>
            <a:off x="3892680" y="3000240"/>
            <a:ext cx="5251320" cy="385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иагара-Фолс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Niagara Fall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&amp;Vcy;&amp;ocy;&amp;dcy;&amp;ocy;&amp;pcy;&amp;acy;&amp;dcy; &amp;Pcy;&amp;ocy;&amp;dcy;&amp;kcy;&amp;ocy;&amp;vcy;&amp;acy;"/>
          <p:cNvPicPr/>
          <p:nvPr/>
        </p:nvPicPr>
        <p:blipFill>
          <a:blip r:embed="rId2"/>
          <a:stretch/>
        </p:blipFill>
        <p:spPr>
          <a:xfrm>
            <a:off x="857160" y="642960"/>
            <a:ext cx="71438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&amp;Ncy;&amp;icy;&amp;acy;&amp;gcy;&amp;acy;&amp;rcy;&amp;acy;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лаг штата Нью-Йорк              Печать штата Нью-Йор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99920" y="4643280"/>
            <a:ext cx="41864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роль Англии Яков II Стюарт, в честь которого был назван штат Нью-Йорк, СШ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&amp;Fcy;&amp;lcy;&amp;acy;&amp;gcy; &amp;shcy;&amp;tcy;&amp;acy;&amp;tcy;&amp;acy; &amp;Ncy;&amp;softcy;&amp;yucy;-&amp;Jcy;&amp;ocy;&amp;rcy;&amp;kcy;, &amp;Scy;&amp;SHcy;&amp;Acy;"/>
          <p:cNvPicPr/>
          <p:nvPr/>
        </p:nvPicPr>
        <p:blipFill>
          <a:blip r:embed="rId1"/>
          <a:stretch/>
        </p:blipFill>
        <p:spPr>
          <a:xfrm>
            <a:off x="214200" y="857160"/>
            <a:ext cx="4357800" cy="21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&amp;Pcy;&amp;iecy;&amp;chcy;&amp;acy;&amp;tcy;&amp;softcy; &amp;shcy;&amp;tcy;&amp;acy;&amp;tcy;&amp;acy; &amp;Ncy;&amp;softcy;&amp;yucy;-&amp;Jcy;&amp;ocy;&amp;rcy;&amp;kcy;, &amp;Scy;&amp;SHcy;&amp;Acy;"/>
          <p:cNvPicPr/>
          <p:nvPr/>
        </p:nvPicPr>
        <p:blipFill>
          <a:blip r:embed="rId2"/>
          <a:stretch/>
        </p:blipFill>
        <p:spPr>
          <a:xfrm>
            <a:off x="5214960" y="107172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&amp;SHcy;&amp;tcy;&amp;acy;&amp;tcy; &amp;Ncy;&amp;softcy;&amp;yucy;-&amp;Jcy;&amp;ocy;&amp;rcy;&amp;kcy;, &amp;Scy;&amp;SHcy;&amp;Acy;"/>
          <p:cNvPicPr/>
          <p:nvPr/>
        </p:nvPicPr>
        <p:blipFill>
          <a:blip r:embed="rId3"/>
          <a:stretch/>
        </p:blipFill>
        <p:spPr>
          <a:xfrm>
            <a:off x="642960" y="3286080"/>
            <a:ext cx="26668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&amp;Scy;&amp;icy;&amp;mcy;&amp;vcy;&amp;ocy;&amp;lcy; &amp;shcy;&amp;tcy;&amp;acy;&amp;tcy;&amp;acy; &amp;Ncy;&amp;softcy;&amp;yucy;-&amp;Jcy;&amp;ocy;&amp;rcy;&amp;kcy;, &amp;Scy;&amp;SHcy;&amp;Acy;"/>
          <p:cNvPicPr/>
          <p:nvPr/>
        </p:nvPicPr>
        <p:blipFill>
          <a:blip r:embed="rId1"/>
          <a:stretch/>
        </p:blipFill>
        <p:spPr>
          <a:xfrm>
            <a:off x="500040" y="1214280"/>
            <a:ext cx="1857240" cy="1727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6840" y="21384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мволы штата Нью-Йор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43680" y="3499920"/>
            <a:ext cx="3614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бочка штата Нью-Йорк - белый адмиралСамоцвет штата Нью-Йорк - гран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иток штата Нью-Йорк - моло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рукт штата Нью-Йорк - ябло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серт штата Нью-Йорк - яблочный мафф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ган штата Нью-Йорк -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 Love New Yor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"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люблю Нью-Йорк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а штата Нью-Йорк - голубой и зол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&amp;Scy;&amp;icy;&amp;mcy;&amp;vcy;&amp;ocy;&amp;lcy; &amp;shcy;&amp;tcy;&amp;acy;&amp;tcy;&amp;acy; &amp;Ncy;&amp;softcy;&amp;yucy;-&amp;Jcy;&amp;ocy;&amp;rcy;&amp;kcy;, &amp;Scy;&amp;SHcy;&amp;Acy;"/>
          <p:cNvPicPr/>
          <p:nvPr/>
        </p:nvPicPr>
        <p:blipFill>
          <a:blip r:embed="rId2"/>
          <a:stretch/>
        </p:blipFill>
        <p:spPr>
          <a:xfrm>
            <a:off x="5357880" y="1071720"/>
            <a:ext cx="3333600" cy="209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&amp;Scy;&amp;icy;&amp;mcy;&amp;vcy;&amp;ocy;&amp;lcy; &amp;shcy;&amp;tcy;&amp;acy;&amp;tcy;&amp;acy; &amp;Ncy;&amp;softcy;&amp;yucy;-&amp;Jcy;&amp;ocy;&amp;rcy;&amp;kcy;, &amp;Scy;&amp;SHcy;&amp;Acy;"/>
          <p:cNvPicPr/>
          <p:nvPr/>
        </p:nvPicPr>
        <p:blipFill>
          <a:blip r:embed="rId3"/>
          <a:stretch/>
        </p:blipFill>
        <p:spPr>
          <a:xfrm>
            <a:off x="642960" y="4857840"/>
            <a:ext cx="3214800" cy="1805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2571840" y="857160"/>
            <a:ext cx="2571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ево штата Нью-Йорк - сахарный к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ба штата Нью-Йорк - американский голец и полосатый лавр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секомое штата Нью-Йорк - девятиточечная божья коров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2"/>
          <p:cNvSpPr/>
          <p:nvPr/>
        </p:nvSpPr>
        <p:spPr>
          <a:xfrm>
            <a:off x="285840" y="3357720"/>
            <a:ext cx="45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ок штата Нью-Йорк - р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старник штата Нью-Йорк - сир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верь штата Нью-Йорк - канадский боб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тица штата Нью-Йорк - восточная сиал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4009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рты США. Карта штата Нью-Йор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&amp;Kcy;&amp;acy;&amp;rcy;&amp;tcy;&amp;ycy; &amp;Scy;&amp;SHcy;&amp;Acy;. &amp;Kcy;&amp;acy;&amp;rcy;&amp;tcy;&amp;acy; &amp;shcy;&amp;tcy;&amp;acy;&amp;tcy;&amp;acy; &amp;Ncy;&amp;softcy;&amp;yucy;-&amp;Jcy;&amp;ocy;&amp;rcy;&amp;kcy;"/>
          <p:cNvPicPr/>
          <p:nvPr/>
        </p:nvPicPr>
        <p:blipFill>
          <a:blip r:embed="rId2"/>
          <a:stretch/>
        </p:blipFill>
        <p:spPr>
          <a:xfrm>
            <a:off x="500040" y="714240"/>
            <a:ext cx="79437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рода США. Нью-Йорк, штат Нью-Йорк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&amp;Pcy;&amp;acy;&amp;ncy;&amp;ocy;&amp;rcy;&amp;acy;&amp;mcy;&amp;acy; &amp;Ncy;&amp;softcy;&amp;yucy;-&amp;Jcy;&amp;ocy;&amp;rcy;&amp;kcy;&amp;acy;"/>
          <p:cNvPicPr/>
          <p:nvPr/>
        </p:nvPicPr>
        <p:blipFill>
          <a:blip r:embed="rId2"/>
          <a:stretch/>
        </p:blipFill>
        <p:spPr>
          <a:xfrm>
            <a:off x="214200" y="1143000"/>
            <a:ext cx="87472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14880" y="4143240"/>
            <a:ext cx="4471920" cy="1982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upload.wikimedia.org/wikipedia/commons/thumb/9/9c/Liberty_Island.jpg/300px-Liberty_Island.jpg"/>
          <p:cNvPicPr/>
          <p:nvPr/>
        </p:nvPicPr>
        <p:blipFill>
          <a:blip r:embed="rId2"/>
          <a:stretch/>
        </p:blipFill>
        <p:spPr>
          <a:xfrm>
            <a:off x="285840" y="3929040"/>
            <a:ext cx="4627440" cy="271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upload.wikimedia.org/wikipedia/commons/thumb/4/42/US_-_Liberty_Island_-_05.JPG/300px-US_-_Liberty_Island_-_05.JPG"/>
          <p:cNvPicPr/>
          <p:nvPr/>
        </p:nvPicPr>
        <p:blipFill>
          <a:blip r:embed="rId3"/>
          <a:stretch/>
        </p:blipFill>
        <p:spPr>
          <a:xfrm>
            <a:off x="5072040" y="642960"/>
            <a:ext cx="3697200" cy="4929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upload.wikimedia.org/wikipedia/commons/thumb/c/ca/Statue_of_Liberty_April_2008.JPG/180px-Statue_of_Liberty_April_2008.JPG"/>
          <p:cNvPicPr/>
          <p:nvPr/>
        </p:nvPicPr>
        <p:blipFill>
          <a:blip r:embed="rId4"/>
          <a:stretch/>
        </p:blipFill>
        <p:spPr>
          <a:xfrm>
            <a:off x="928800" y="214200"/>
            <a:ext cx="27144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560" y="6071760"/>
            <a:ext cx="5729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ймс-сквер в Нью-Йор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6760" y="356760"/>
            <a:ext cx="3643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та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Нью-Йор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ион СШ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реднеатлантические штаты С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та основания Нью-Йор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162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селение Нью-Йор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выше 8 175 000 человек (1 место в СШ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тность населения в Нью-Йорк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около 10 630 человек/к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ходит в мегаполис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льшой Нью-Йор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населением свыше 19 000 000 человек (1 место в СШ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звища Нью-Йор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"Большое яблоко", "Столица мира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асовой пояс Нью-Йор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восточный часовой пояс США (UTC-05, ES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&amp;Ncy;&amp;softcy;&amp;yucy;-&amp;Jcy;&amp;ocy;&amp;rcy;&amp;kcy;"/>
          <p:cNvPicPr/>
          <p:nvPr/>
        </p:nvPicPr>
        <p:blipFill>
          <a:blip r:embed="rId1"/>
          <a:stretch/>
        </p:blipFill>
        <p:spPr>
          <a:xfrm>
            <a:off x="4429080" y="285840"/>
            <a:ext cx="43401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&amp;Ncy;&amp;ocy;&amp;chcy;&amp;ncy;&amp;ocy;&amp;jcy; &amp;Ncy;&amp;softcy;&amp;yucy;-&amp;Jcy;&amp;ocy;&amp;rcy;&amp;kcy;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2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лбани, Нью-Йор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&amp;Ocy;&amp;lcy;&amp;bcy;&amp;acy;&amp;ncy;&amp;icy;, &amp;scy;&amp;tcy;&amp;ocy;&amp;lcy;&amp;icy;&amp;tscy;&amp;acy; &amp;shcy;&amp;tcy;&amp;acy;&amp;tcy;&amp;acy; &amp;Ncy;&amp;softcy;&amp;yucy;-&amp;Jcy;&amp;ocy;&amp;rcy;&amp;kcy;"/>
          <p:cNvPicPr/>
          <p:nvPr/>
        </p:nvPicPr>
        <p:blipFill>
          <a:blip r:embed="rId2"/>
          <a:stretch/>
        </p:blipFill>
        <p:spPr>
          <a:xfrm>
            <a:off x="785880" y="1500120"/>
            <a:ext cx="72388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0:07:35Z</dcterms:created>
  <dc:creator>Алена</dc:creator>
  <dc:description/>
  <dc:language>en-US</dc:language>
  <cp:lastModifiedBy>Марина Серафимовна</cp:lastModifiedBy>
  <dcterms:modified xsi:type="dcterms:W3CDTF">2013-03-11T05:40:51Z</dcterms:modified>
  <cp:revision>7</cp:revision>
  <dc:subject/>
  <dc:title>Штаты США. Штат Нью-Йорк</dc:title>
</cp:coreProperties>
</file>