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EB0-CB7A-4A14-9FA5-958BF9D0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A07-897C-4089-AB06-B5F748C3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7E9-0361-4C06-B032-06E1A5B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2E5-BFD4-4CB1-A90A-47D4CCF9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1FA-3B37-448C-AE6F-7C99FECA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EEE-BE5F-46EC-A725-833674D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DD4-8612-4BDF-A434-66FDE38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9AE-9F88-4217-B2FE-B31C349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285-D1AF-4CA4-9414-14F09FC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E4B-77AF-400C-8C09-A8BCFA5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A0B-CDC0-4D09-A7B1-434E845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23C-681E-4420-ABC4-8190CC3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D8F-6031-4D4F-A601-5AD94F015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usa.ru/manhattan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таты США. Штат Нью-Йор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6215040"/>
            <a:ext cx="73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тат Нью-Йорк на карте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&amp;SHcy;&amp;tcy;&amp;acy;&amp;t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428760" y="1285920"/>
            <a:ext cx="78534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0" y="999720"/>
            <a:ext cx="375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йоны Нью-Йор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3857760"/>
          <a:ext cx="9144000" cy="2743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 Нью-Йо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, км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населения,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ость населения, человек/км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Манхэт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 6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ук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 6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4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н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 4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и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 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8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ен-Айле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3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" descr="&amp;Rcy;&amp;acy;&amp;jcy;&amp;ocy;&amp;ncy;&amp;ycy; &amp;Ncy;&amp;softcy;&amp;yucy;-&amp;Jcy;&amp;ocy;&amp;rcy;&amp;kcy;&amp;acy;"/>
          <p:cNvPicPr/>
          <p:nvPr/>
        </p:nvPicPr>
        <p:blipFill>
          <a:blip r:embed="rId2"/>
          <a:stretch/>
        </p:blipFill>
        <p:spPr>
          <a:xfrm>
            <a:off x="285840" y="285840"/>
            <a:ext cx="3943440" cy="3836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нхэтт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43360" y="928440"/>
            <a:ext cx="3043080" cy="67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&amp;Mcy;&amp;icy;&amp;dcy;&amp;tcy;&amp;acy;&amp;ucy;&amp;ncy; &amp;Mcy;&amp;acy;&amp;ncy;&amp;khcy;&amp;ecy;&amp;tcy;&amp;tcy;&amp;iecy;&amp;ncy;&amp;acy;"/>
          <p:cNvPicPr/>
          <p:nvPr/>
        </p:nvPicPr>
        <p:blipFill>
          <a:blip r:embed="rId2"/>
          <a:stretch/>
        </p:blipFill>
        <p:spPr>
          <a:xfrm>
            <a:off x="428760" y="1000080"/>
            <a:ext cx="838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560" y="285480"/>
            <a:ext cx="2428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гионы Манхэтт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жний Манхэт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дтау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й пар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Вест-С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Ист-С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Манхэт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&amp;Mcy;&amp;acy;&amp;ncy;&amp;khcy;&amp;ecy;&amp;tcy;&amp;tcy;&amp;iecy;&amp;ncy; &amp;ncy;&amp;acy; &amp;kcy;&amp;acy;&amp;rcy;&amp;tcy;&amp;iecy; &amp;Ncy;&amp;softcy;&amp;yucy;-&amp;Jcy;&amp;ocy;&amp;rcy;&amp;kcy;&amp;acy;"/>
          <p:cNvPicPr/>
          <p:nvPr/>
        </p:nvPicPr>
        <p:blipFill>
          <a:blip r:embed="rId1"/>
          <a:stretch/>
        </p:blipFill>
        <p:spPr>
          <a:xfrm>
            <a:off x="142920" y="428760"/>
            <a:ext cx="3333600" cy="25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&amp;Mcy;&amp;acy;&amp;ncy;&amp;khcy;&amp;ecy;&amp;tcy;&amp;tcy;&amp;iecy;&amp;ncy;"/>
          <p:cNvPicPr/>
          <p:nvPr/>
        </p:nvPicPr>
        <p:blipFill>
          <a:blip r:embed="rId2"/>
          <a:stretch/>
        </p:blipFill>
        <p:spPr>
          <a:xfrm>
            <a:off x="285840" y="3357720"/>
            <a:ext cx="4564080" cy="33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&amp;Rcy;&amp;acy;&amp;jcy;&amp;ocy;&amp;ncy;&amp;ycy; &amp;Mcy;&amp;acy;&amp;ncy;&amp;khcy;&amp;ecy;&amp;tcy;&amp;tcy;&amp;iecy;&amp;ncy;&amp;acy;"/>
          <p:cNvPicPr/>
          <p:nvPr/>
        </p:nvPicPr>
        <p:blipFill>
          <a:blip r:embed="rId3"/>
          <a:stretch/>
        </p:blipFill>
        <p:spPr>
          <a:xfrm>
            <a:off x="6000840" y="285840"/>
            <a:ext cx="2985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 Манхэтт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&amp;Ocy;&amp;scy;&amp;tcy;&amp;rcy;&amp;ocy;&amp;vcy; &amp;Mcy;&amp;acy;&amp;ncy;&amp;khcy;&amp;ecy;&amp;tcy;&amp;tcy;&amp;iecy;&amp;ncy;"/>
          <p:cNvPicPr/>
          <p:nvPr/>
        </p:nvPicPr>
        <p:blipFill>
          <a:blip r:embed="rId2"/>
          <a:stretch/>
        </p:blipFill>
        <p:spPr>
          <a:xfrm>
            <a:off x="428760" y="950760"/>
            <a:ext cx="8448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&amp;Ocy;&amp;gcy;&amp;ncy;&amp;icy; &amp;Mcy;&amp;acy;&amp;ncy;&amp;khcy;&amp;ecy;&amp;tcy;&amp;tcy;&amp;iecy;&amp;ncy;&amp;acy;"/>
          <p:cNvPicPr/>
          <p:nvPr/>
        </p:nvPicPr>
        <p:blipFill>
          <a:blip r:embed="rId2"/>
          <a:stretch/>
        </p:blipFill>
        <p:spPr>
          <a:xfrm>
            <a:off x="285840" y="857160"/>
            <a:ext cx="8472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929120" y="4928760"/>
            <a:ext cx="3686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етарий Хейдена в Верхнем Вест-Сайде - одно из самых необычных сооружений Манхэтт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&amp;TScy;&amp;iecy;&amp;ncy;&amp;tcy;&amp;rcy;&amp;acy;&amp;lcy;&amp;softcy;&amp;ncy;&amp;ycy;&amp;jcy; &amp;pcy;&amp;acy;&amp;rcy;&amp;kcy;"/>
          <p:cNvPicPr/>
          <p:nvPr/>
        </p:nvPicPr>
        <p:blipFill>
          <a:blip r:embed="rId1"/>
          <a:stretch/>
        </p:blipFill>
        <p:spPr>
          <a:xfrm>
            <a:off x="4214880" y="214200"/>
            <a:ext cx="4762440" cy="3251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&amp;Pcy;&amp;lcy;&amp;acy;&amp;ncy;&amp;iecy;&amp;tcy;&amp;acy;&amp;rcy;&amp;icy;&amp;jcy; &amp;KHcy;&amp;iecy;&amp;jcy;&amp;dcy;&amp;iecy;&amp;ncy;&amp;acy;"/>
          <p:cNvPicPr/>
          <p:nvPr/>
        </p:nvPicPr>
        <p:blipFill>
          <a:blip r:embed="rId2"/>
          <a:stretch/>
        </p:blipFill>
        <p:spPr>
          <a:xfrm>
            <a:off x="285840" y="3857760"/>
            <a:ext cx="420372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&amp;Kcy;&amp;ocy;&amp;lcy;&amp;ucy;&amp;mcy;&amp;bcy;&amp;icy;&amp;jcy;&amp;scy;&amp;kcy;&amp;icy;&amp;jcy; &amp;ucy;&amp;ncy;&amp;icy;&amp;vcy;&amp;iecy;&amp;rcy;&amp;scy;&amp;icy;&amp;tcy;&amp;iecy;&amp;tcy;"/>
          <p:cNvPicPr/>
          <p:nvPr/>
        </p:nvPicPr>
        <p:blipFill>
          <a:blip r:embed="rId3"/>
          <a:stretch/>
        </p:blipFill>
        <p:spPr>
          <a:xfrm>
            <a:off x="285840" y="500040"/>
            <a:ext cx="380664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укл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5929200"/>
            <a:ext cx="842976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менитый Бруклинский мост в Нью-Йорке, соединяющий районы Бруклин и Манхэтт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&amp;Rcy;&amp;acy;&amp;jcy;&amp;ocy;&amp;ncy;&amp;ycy; &amp;Ncy;&amp;softcy;&amp;yucy;-&amp;Jcy;&amp;ocy;&amp;rcy;&amp;kcy;&amp;acy;"/>
          <p:cNvPicPr/>
          <p:nvPr/>
        </p:nvPicPr>
        <p:blipFill>
          <a:blip r:embed="rId1"/>
          <a:stretch/>
        </p:blipFill>
        <p:spPr>
          <a:xfrm>
            <a:off x="785880" y="9288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25772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&amp;Vcy;&amp;icy;&amp;dcy; &amp;ncy;&amp;acy; &amp;Ncy;&amp;icy;&amp;acy;&amp;gcy;&amp;acy;&amp;rcy;&amp;ucy;"/>
          <p:cNvPicPr/>
          <p:nvPr/>
        </p:nvPicPr>
        <p:blipFill>
          <a:blip r:embed="rId2"/>
          <a:stretch/>
        </p:blipFill>
        <p:spPr>
          <a:xfrm>
            <a:off x="4529160" y="-7920"/>
            <a:ext cx="4614840" cy="300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&amp;Ncy;&amp;icy;&amp;acy;&amp;gcy;&amp;acy;&amp;rcy;&amp;scy;&amp;kcy;&amp;icy;&amp;jcy; &amp;vcy;&amp;ocy;&amp;dcy;&amp;ocy;&amp;pcy;&amp;acy;&amp;dcy;"/>
          <p:cNvPicPr/>
          <p:nvPr/>
        </p:nvPicPr>
        <p:blipFill>
          <a:blip r:embed="rId3"/>
          <a:stretch/>
        </p:blipFill>
        <p:spPr>
          <a:xfrm>
            <a:off x="0" y="0"/>
            <a:ext cx="4857840" cy="32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&amp;Dcy;&amp;iecy;&amp;vcy;&amp;acy; &amp;tcy;&amp;ucy;&amp;mcy;&amp;acy;&amp;ncy;&amp;acy;"/>
          <p:cNvPicPr/>
          <p:nvPr/>
        </p:nvPicPr>
        <p:blipFill>
          <a:blip r:embed="rId4"/>
          <a:stretch/>
        </p:blipFill>
        <p:spPr>
          <a:xfrm>
            <a:off x="0" y="3214800"/>
            <a:ext cx="4853160" cy="36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&amp;Scy;&amp;ucy;&amp;khcy;&amp;ocy;&amp;jcy; &amp;Ncy;&amp;icy;&amp;acy;&amp;gcy;&amp;acy;&amp;rcy;&amp;scy;&amp;kcy;&amp;icy;&amp;jcy; &amp;vcy;&amp;ocy;&amp;dcy;&amp;ocy;&amp;pcy;&amp;acy;&amp;dcy;"/>
          <p:cNvPicPr/>
          <p:nvPr/>
        </p:nvPicPr>
        <p:blipFill>
          <a:blip r:embed="rId5"/>
          <a:stretch/>
        </p:blipFill>
        <p:spPr>
          <a:xfrm>
            <a:off x="3892680" y="3000240"/>
            <a:ext cx="5251320" cy="385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иагара-Фолс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Niagara Fall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&amp;Vcy;&amp;ocy;&amp;dcy;&amp;ocy;&amp;pcy;&amp;acy;&amp;dcy; &amp;Pcy;&amp;ocy;&amp;dcy;&amp;kcy;&amp;ocy;&amp;vcy;&amp;acy;"/>
          <p:cNvPicPr/>
          <p:nvPr/>
        </p:nvPicPr>
        <p:blipFill>
          <a:blip r:embed="rId2"/>
          <a:stretch/>
        </p:blipFill>
        <p:spPr>
          <a:xfrm>
            <a:off x="857160" y="642960"/>
            <a:ext cx="71438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&amp;Ncy;&amp;icy;&amp;acy;&amp;gcy;&amp;acy;&amp;rcy;&amp;acy;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лаг штата Нью-Йорк              Печать штата Нью-Йор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9920" y="4643280"/>
            <a:ext cx="41864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роль Англии Яков II Стюарт, в честь которого был назван штат Нью-Йорк, СШ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&amp;Fcy;&amp;lcy;&amp;acy;&amp;gcy; &amp;shcy;&amp;tcy;&amp;acy;&amp;tcy;&amp;a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214200" y="857160"/>
            <a:ext cx="4357800" cy="21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Pcy;&amp;iecy;&amp;chcy;&amp;acy;&amp;tcy;&amp;softcy; &amp;shcy;&amp;tcy;&amp;acy;&amp;tcy;&amp;acy; &amp;Ncy;&amp;softcy;&amp;yucy;-&amp;Jcy;&amp;ocy;&amp;rcy;&amp;kcy;, &amp;Scy;&amp;SHcy;&amp;Acy;"/>
          <p:cNvPicPr/>
          <p:nvPr/>
        </p:nvPicPr>
        <p:blipFill>
          <a:blip r:embed="rId2"/>
          <a:stretch/>
        </p:blipFill>
        <p:spPr>
          <a:xfrm>
            <a:off x="5214960" y="10717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&amp;SHcy;&amp;tcy;&amp;acy;&amp;tcy; &amp;Ncy;&amp;softcy;&amp;yucy;-&amp;Jcy;&amp;ocy;&amp;rcy;&amp;kcy;, &amp;Scy;&amp;SHcy;&amp;Acy;"/>
          <p:cNvPicPr/>
          <p:nvPr/>
        </p:nvPicPr>
        <p:blipFill>
          <a:blip r:embed="rId3"/>
          <a:stretch/>
        </p:blipFill>
        <p:spPr>
          <a:xfrm>
            <a:off x="642960" y="3286080"/>
            <a:ext cx="2666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500040" y="1214280"/>
            <a:ext cx="1857240" cy="1727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мволы штата Нью-Йо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43680" y="3499920"/>
            <a:ext cx="3614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штата Нью-Йорк - белый адмиралСамоцвет штата Нью-Йорк - гра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иток штата Нью-Йорк - 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укт штата Нью-Йорк - яб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серт штата Нью-Йорк - яблочный мафф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ган штата Нью-Йорк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 Love New Yor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"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люблю Нью-Йорк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а штата Нью-Йорк - голубой и зо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2"/>
          <a:stretch/>
        </p:blipFill>
        <p:spPr>
          <a:xfrm>
            <a:off x="5357880" y="1071720"/>
            <a:ext cx="3333600" cy="209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3"/>
          <a:stretch/>
        </p:blipFill>
        <p:spPr>
          <a:xfrm>
            <a:off x="642960" y="4857840"/>
            <a:ext cx="3214800" cy="1805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2571840" y="857160"/>
            <a:ext cx="257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штата Нью-Йорк - сахарный к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 штата Нью-Йорк - американский голец и полосатый лавр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екомое штата Нью-Йорк - девятиточечная божья кор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285840" y="335772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ок штата Нью-Йорк - р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старник штата Нью-Йорк - сир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верь штата Нью-Йорк - канадский боб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тица штата Нью-Йорк - восточная сиа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4009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ы США. Карта штата Нью-Йо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Kcy;&amp;acy;&amp;rcy;&amp;tcy;&amp;ycy; &amp;Scy;&amp;SHcy;&amp;Acy;. &amp;Kcy;&amp;acy;&amp;rcy;&amp;tcy;&amp;acy; &amp;shcy;&amp;tcy;&amp;acy;&amp;tcy;&amp;a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500040" y="714240"/>
            <a:ext cx="7943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ода США. Нью-Йорк, штат Нью-Йорк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&amp;Pcy;&amp;acy;&amp;ncy;&amp;ocy;&amp;rcy;&amp;acy;&amp;mcy;&amp;acy; &amp;Ncy;&amp;softcy;&amp;yucy;-&amp;Jcy;&amp;ocy;&amp;rcy;&amp;kcy;&amp;acy;"/>
          <p:cNvPicPr/>
          <p:nvPr/>
        </p:nvPicPr>
        <p:blipFill>
          <a:blip r:embed="rId2"/>
          <a:stretch/>
        </p:blipFill>
        <p:spPr>
          <a:xfrm>
            <a:off x="214200" y="1143000"/>
            <a:ext cx="8747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4880" y="4143240"/>
            <a:ext cx="4471920" cy="198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upload.wikimedia.org/wikipedia/commons/thumb/9/9c/Liberty_Island.jpg/300px-Liberty_Island.jpg"/>
          <p:cNvPicPr/>
          <p:nvPr/>
        </p:nvPicPr>
        <p:blipFill>
          <a:blip r:embed="rId2"/>
          <a:stretch/>
        </p:blipFill>
        <p:spPr>
          <a:xfrm>
            <a:off x="285840" y="3929040"/>
            <a:ext cx="4627440" cy="271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upload.wikimedia.org/wikipedia/commons/thumb/4/42/US_-_Liberty_Island_-_05.JPG/300px-US_-_Liberty_Island_-_05.JPG"/>
          <p:cNvPicPr/>
          <p:nvPr/>
        </p:nvPicPr>
        <p:blipFill>
          <a:blip r:embed="rId3"/>
          <a:stretch/>
        </p:blipFill>
        <p:spPr>
          <a:xfrm>
            <a:off x="5072040" y="642960"/>
            <a:ext cx="3697200" cy="492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upload.wikimedia.org/wikipedia/commons/thumb/c/ca/Statue_of_Liberty_April_2008.JPG/180px-Statue_of_Liberty_April_2008.JPG"/>
          <p:cNvPicPr/>
          <p:nvPr/>
        </p:nvPicPr>
        <p:blipFill>
          <a:blip r:embed="rId4"/>
          <a:stretch/>
        </p:blipFill>
        <p:spPr>
          <a:xfrm>
            <a:off x="928800" y="214200"/>
            <a:ext cx="27144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560" y="6071760"/>
            <a:ext cx="572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ймс-сквер в Нью-Йор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356760"/>
            <a:ext cx="3643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Нью-Йор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ион СШ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реднеатлантические штаты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та основания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162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ие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выше 8 175 000 человек (1 место в СШ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населения в Нью-Йор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около 10 630 человек/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ходит в мегаполи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льшой Нью-Йор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населением свыше 19 000 000 человек (1 место в СШ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звища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"Большое яблоко", "Столица мир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овой пояс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восточный часовой пояс США (UTC-05, E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&amp;Ncy;&amp;softcy;&amp;yucy;-&amp;Jcy;&amp;ocy;&amp;rcy;&amp;kcy;"/>
          <p:cNvPicPr/>
          <p:nvPr/>
        </p:nvPicPr>
        <p:blipFill>
          <a:blip r:embed="rId1"/>
          <a:stretch/>
        </p:blipFill>
        <p:spPr>
          <a:xfrm>
            <a:off x="4429080" y="285840"/>
            <a:ext cx="4340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&amp;Ncy;&amp;ocy;&amp;chcy;&amp;ncy;&amp;ocy;&amp;j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бани, Нью-Йо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&amp;Ocy;&amp;lcy;&amp;bcy;&amp;acy;&amp;ncy;&amp;icy;, &amp;scy;&amp;tcy;&amp;ocy;&amp;lcy;&amp;icy;&amp;tscy;&amp;acy; &amp;shcy;&amp;tcy;&amp;acy;&amp;tcy;&amp;a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785880" y="1500120"/>
            <a:ext cx="72388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0:07:35Z</dcterms:created>
  <dc:creator>Алена</dc:creator>
  <dc:description/>
  <dc:language>en-US</dc:language>
  <cp:lastModifiedBy>Марина Серафимовна</cp:lastModifiedBy>
  <dcterms:modified xsi:type="dcterms:W3CDTF">2013-03-11T05:40:51Z</dcterms:modified>
  <cp:revision>7</cp:revision>
  <dc:subject/>
  <dc:title>Штаты США. Штат Нью-Йорк</dc:title>
</cp:coreProperties>
</file>