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D71-1BFD-4B7B-B624-EB2ACB25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E2D-A713-41C2-BB8B-906F9FD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BD3-EF06-4C91-9934-58DFD2B7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3A4-7AE1-4086-91C8-924DC304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8872-9858-42A5-82A7-840CFEBE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63D1-533F-4355-BB91-29698A92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CFAA-1B43-48BE-8BE7-ED7C475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D3B6-0FF6-45AC-8A95-D89DD54B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89CE-C05E-4C19-8DAB-BBE494B7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8F8-D227-4964-B98C-BB2BCBB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9C40-89F5-469A-8FEE-D41E2DB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61C-D45B-40A9-8A3C-4C82D21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42A-81DA-4B05-8450-612525A3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AB8F-6116-46F5-A55F-F9C69B4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96B9-0E99-4960-8C52-D6A87EE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A0A-229C-435B-89DD-7C3AB4D1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453-17F1-45E1-886C-F6095C1E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17E-0D63-4052-A06D-C055948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F8D-C6C3-46A7-8FC6-8B6AED1C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1E5-6DDD-45E0-AF86-06C04EF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E77-CD3F-4872-97F5-5475E8B0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75F-6B9D-4527-A0CA-024BF58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95A-018A-4CEF-A258-EE58EFB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318-D487-45D3-AF66-EC20E62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0BC1-BD0E-439A-BA8A-C2F19912A3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84A-B3C4-419A-A804-6E8AEDE7E1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Segoe UI Semibold"/>
                <a:ea typeface="Times New Roman"/>
              </a:rPr>
              <a:t>Коррекционно- развивающая работа  с учетом нейропсихологического подхода 1 блока мозг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048200" y="3357720"/>
            <a:ext cx="4740120" cy="295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:\38389598-bebé-que-juega-educación-juguetes-kid-jugar-alfabeto-toy-letras-números-lógica-poco-temprano-niño-concepto-desarrol.jpg"/>
          <p:cNvPicPr/>
          <p:nvPr/>
        </p:nvPicPr>
        <p:blipFill>
          <a:blip r:embed="rId2"/>
          <a:stretch/>
        </p:blipFill>
        <p:spPr>
          <a:xfrm>
            <a:off x="858960" y="3357720"/>
            <a:ext cx="35701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инезиологические упражнения помогают улучшит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56800" y="1499760"/>
            <a:ext cx="7829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енные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ую и общ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зить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способность к произвольному контр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жнения активизир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специф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его моз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http://www.b17.ru/foto/uploaded/upl_1520144257_21745.jpg"/>
          <p:cNvPicPr/>
          <p:nvPr/>
        </p:nvPicPr>
        <p:blipFill>
          <a:blip r:embed="rId1"/>
          <a:stretch/>
        </p:blipFill>
        <p:spPr>
          <a:xfrm>
            <a:off x="6215040" y="857160"/>
            <a:ext cx="2786040" cy="2154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:\Без названия (1).jpg"/>
          <p:cNvPicPr/>
          <p:nvPr/>
        </p:nvPicPr>
        <p:blipFill>
          <a:blip r:embed="rId2"/>
          <a:stretch/>
        </p:blipFill>
        <p:spPr>
          <a:xfrm>
            <a:off x="5929200" y="4572000"/>
            <a:ext cx="31435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5520" y="1571760"/>
            <a:ext cx="790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Картинки по запросу 1 блок мозга по лурия"/>
          <p:cNvPicPr/>
          <p:nvPr/>
        </p:nvPicPr>
        <p:blipFill>
          <a:blip r:embed="rId1"/>
          <a:stretch/>
        </p:blipFill>
        <p:spPr>
          <a:xfrm>
            <a:off x="611280" y="785880"/>
            <a:ext cx="8288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Энергетический  блок мозг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энергетический блок - формируется от внутриутробного периода до 2-3 лет, Ребѐнок рождается с уже почти готовым 1-м блоком мозга на 75%. включает: ретикулярную формацию ствола мозга, неспецифические структуры среднего мозга, диэнцефальных отдел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бическ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обазальные отде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ы лобных и височных долей мозга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и по запросу 1 блок мозга по лурия"/>
          <p:cNvPicPr/>
          <p:nvPr/>
        </p:nvPicPr>
        <p:blipFill>
          <a:blip r:embed="rId1"/>
          <a:stretch/>
        </p:blipFill>
        <p:spPr>
          <a:xfrm>
            <a:off x="4876920" y="2184480"/>
            <a:ext cx="3809880" cy="3362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11680" y="1643040"/>
            <a:ext cx="4200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табилизация и активация энергетического потенциала организма. Повышение пластичности сенсомоторного обеспечения психических процессов (1-й ФБМ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620280"/>
            <a:ext cx="77724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саж и само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яжки. Релаксационные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зодвигательны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сомоторн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229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Дыхательные упражнения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557360"/>
            <a:ext cx="8002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упраж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ют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000"/>
                </a:solidFill>
                <a:latin typeface="Arial"/>
              </a:rPr>
              <a:t>Стволовых структур моз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ют мозговое кровообращение, укрепляют нервную сист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окаивают и расслаб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ка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развитие-дыхания.jpg"/>
          <p:cNvPicPr/>
          <p:nvPr/>
        </p:nvPicPr>
        <p:blipFill>
          <a:blip r:embed="rId1"/>
          <a:stretch/>
        </p:blipFill>
        <p:spPr>
          <a:xfrm>
            <a:off x="6715080" y="1216080"/>
            <a:ext cx="2017800" cy="19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stroenie-golovnogo-mozga-risunok.jpg"/>
          <p:cNvPicPr/>
          <p:nvPr/>
        </p:nvPicPr>
        <p:blipFill>
          <a:blip r:embed="rId2"/>
          <a:stretch/>
        </p:blipFill>
        <p:spPr>
          <a:xfrm>
            <a:off x="5899320" y="3645000"/>
            <a:ext cx="3159000" cy="309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04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Массаж и самомассаж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052640"/>
            <a:ext cx="8002440" cy="489744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пальцев рук, ушных раковин,головы,шеи стимулирует нервные окончания на теле. Развивает память,интеллект,улучшает речь. Развивается тонкая двигательная координация а следовательно активизируетс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Мозолистого тела головного моз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медиобазальные отделы коры лобных и височных долей мозга. </a:t>
            </a:r>
            <a:br>
              <a:rPr sz="2800"/>
            </a:b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samomassazh-dlja-detej-doshkolnogo-vozrasta-29_1.jpg"/>
          <p:cNvPicPr/>
          <p:nvPr/>
        </p:nvPicPr>
        <p:blipFill>
          <a:blip r:embed="rId1"/>
          <a:stretch/>
        </p:blipFill>
        <p:spPr>
          <a:xfrm>
            <a:off x="4932360" y="4292640"/>
            <a:ext cx="36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0000"/>
                </a:solidFill>
                <a:latin typeface="Times New Roman"/>
              </a:rPr>
              <a:t>Растяжки. Релаксационные упражн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1640" y="155736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ют тонус мыш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изуют гипертонус (мышечное напряжение) и гипотонус (неконтролируемая мышечная вялость). Упражнения позволяют отдохнуть, восстановить силы, улучшают психические функции, память, воображение, внимание, образное мышление активизируют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Левого полушария моз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Медиобазальные от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коры лобных и височ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долей мозг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F:\DSC_0311_Fotor-1024x685.jpg"/>
          <p:cNvPicPr/>
          <p:nvPr/>
        </p:nvPicPr>
        <p:blipFill>
          <a:blip r:embed="rId1"/>
          <a:stretch/>
        </p:blipFill>
        <p:spPr>
          <a:xfrm>
            <a:off x="5580000" y="4076640"/>
            <a:ext cx="3444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d0000"/>
                </a:solidFill>
                <a:latin typeface="Times New Roman"/>
              </a:rPr>
              <a:t>Коррекционная рит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, музыкальная терап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ют работоспособность мышц, снимают раздражение, нервное напряжение, развивают мыслительные процессы и повышают работ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ая рит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ет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Лимб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мозга,мозже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F:\logoritmika3.png.jpg"/>
          <p:cNvPicPr/>
          <p:nvPr/>
        </p:nvPicPr>
        <p:blipFill>
          <a:blip r:embed="rId1"/>
          <a:stretch/>
        </p:blipFill>
        <p:spPr>
          <a:xfrm>
            <a:off x="5219640" y="4005360"/>
            <a:ext cx="3348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Глазодвигательные упраж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413000"/>
            <a:ext cx="8219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ют расширить пространство зрительного восприятия. Движения глаз и языка развив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жполушарное взаимодействие и повышают энергетику моз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 Развитие и коррекция глазных мышц способствует развит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рвных сетей центрального зрительного поля и моторного слежения </a:t>
            </a: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активизирует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специф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ы сред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F:\gl4.jpg"/>
          <p:cNvPicPr/>
          <p:nvPr/>
        </p:nvPicPr>
        <p:blipFill>
          <a:blip r:embed="rId1"/>
          <a:stretch/>
        </p:blipFill>
        <p:spPr>
          <a:xfrm>
            <a:off x="3786120" y="4143240"/>
            <a:ext cx="4429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User</cp:lastModifiedBy>
  <dcterms:modified xsi:type="dcterms:W3CDTF">2018-10-23T17:55:05Z</dcterms:modified>
  <cp:revision>89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