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D62-39AA-4F4C-B02D-8A4F3F90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832-369E-4931-A9E5-6933513C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3F3-278E-4C0C-A171-B9F4BE45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BE8-4E39-4A89-A00B-4A5655F7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48B4-BB06-43C0-9DD5-A03987CC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F0E7-A8F8-4CD9-A7B2-2DC12BBD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21F2-2F4F-4F18-B204-534B160F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CB1C-2F07-4886-B353-E66D7F55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AB55-C189-4844-9163-469CF462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4A67-5C8F-4DB8-B7B7-95D831E1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F8B8-740C-47A9-98D0-83AED0A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50A-0CB0-435A-99CF-A4DF8CBF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1192-33A5-4402-93D3-D9A27439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F29D-861E-4420-85AE-52581B1C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5F94-751E-480C-B1F9-0676FF4A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A758-3222-4887-AAF7-929385F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4CC6-E397-4E8C-A452-83009953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261-1F9F-4E83-9A72-C562957C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D82-9598-4F21-A02B-83DDED27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1D6-573F-4AE8-95B3-06D3CDD6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56B-7C7F-4833-9151-7ED2F953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AF8-140D-4E6E-A32B-012604A2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A69-F93C-40BE-BD67-055A252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FD4-8298-4645-BF24-AEC4DA9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65EB-E11C-4D5F-ACD3-6F4AB7125A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947F-933A-48CB-A616-7E712AC2B6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2760" y="1125000"/>
            <a:ext cx="80708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Segoe UI Semibold"/>
                <a:ea typeface="Times New Roman"/>
              </a:rPr>
              <a:t>Коррекционно- развивающая работа  с учетом нейропсихологического подхода 1 блока мозг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24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ÐÐ°ÑÑÐ¸Ð½ÐºÐ¸ Ð¿Ð¾ Ð·Ð°Ð¿ÑÐ¾ÑÑ ÐºÐ°ÑÑÐ¸Ð½ÐºÐ¸ Ð½ÐµÐ¹ÑÐ¾Ð¿ÑÐ¸ÑÐ¾Ð»Ð¾Ð³Ð¸Ð¸"/>
          <p:cNvPicPr/>
          <p:nvPr/>
        </p:nvPicPr>
        <p:blipFill>
          <a:blip r:embed="rId1"/>
          <a:stretch/>
        </p:blipFill>
        <p:spPr>
          <a:xfrm>
            <a:off x="4048200" y="3357720"/>
            <a:ext cx="4740120" cy="295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F:\38389598-bebé-que-juega-educación-juguetes-kid-jugar-alfabeto-toy-letras-números-lógica-poco-temprano-niño-concepto-desarrol.jpg"/>
          <p:cNvPicPr/>
          <p:nvPr/>
        </p:nvPicPr>
        <p:blipFill>
          <a:blip r:embed="rId2"/>
          <a:stretch/>
        </p:blipFill>
        <p:spPr>
          <a:xfrm>
            <a:off x="858960" y="3357720"/>
            <a:ext cx="35701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инезиологические упражнения помогают улучшить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56800" y="1499760"/>
            <a:ext cx="7829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анственные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лкую и общую мотор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зить утомля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способность к произвольному контро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пражнения активизир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специфические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днего моз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" descr="http://www.b17.ru/foto/uploaded/upl_1520144257_21745.jpg"/>
          <p:cNvPicPr/>
          <p:nvPr/>
        </p:nvPicPr>
        <p:blipFill>
          <a:blip r:embed="rId1"/>
          <a:stretch/>
        </p:blipFill>
        <p:spPr>
          <a:xfrm>
            <a:off x="6215040" y="857160"/>
            <a:ext cx="2786040" cy="2154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F:\Без названия (1).jpg"/>
          <p:cNvPicPr/>
          <p:nvPr/>
        </p:nvPicPr>
        <p:blipFill>
          <a:blip r:embed="rId2"/>
          <a:stretch/>
        </p:blipFill>
        <p:spPr>
          <a:xfrm>
            <a:off x="5929200" y="4572000"/>
            <a:ext cx="31435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85520" y="1571760"/>
            <a:ext cx="790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7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Картинки по запросу 1 блок мозга по лурия"/>
          <p:cNvPicPr/>
          <p:nvPr/>
        </p:nvPicPr>
        <p:blipFill>
          <a:blip r:embed="rId1"/>
          <a:stretch/>
        </p:blipFill>
        <p:spPr>
          <a:xfrm>
            <a:off x="611280" y="785880"/>
            <a:ext cx="82882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Times New Roman"/>
              </a:rPr>
              <a:t>Энергетический  блок мозг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энергетический блок - формируется от внутриутробного периода до 2-3 лет, Ребѐнок рождается с уже почти готовым 1-м блоком мозга на 75%. включает: ретикулярную формацию ствола мозга, неспецифические структуры среднего мозга, диэнцефальных отдел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мбическую сист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обазальные отде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ы лобных и височных долей мозга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Картинки по запросу 1 блок мозга по лурия"/>
          <p:cNvPicPr/>
          <p:nvPr/>
        </p:nvPicPr>
        <p:blipFill>
          <a:blip r:embed="rId1"/>
          <a:stretch/>
        </p:blipFill>
        <p:spPr>
          <a:xfrm>
            <a:off x="4876920" y="2184480"/>
            <a:ext cx="3809880" cy="3362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711680" y="1643040"/>
            <a:ext cx="42004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табилизация и активация энергетического потенциала организма. Повышение пластичности сенсомоторного обеспечения психических процессов (1-й ФБМ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620280"/>
            <a:ext cx="77724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ыхательны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ссаж и самомасс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яжки. Релаксационные упраж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зодвигательные упраж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нсомоторные упраж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2295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ad0000"/>
                </a:solidFill>
                <a:latin typeface="Times New Roman"/>
              </a:rPr>
              <a:t>Дыхательные упражнения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557360"/>
            <a:ext cx="80024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хательные упраж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ируют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000"/>
                </a:solidFill>
                <a:latin typeface="Arial"/>
              </a:rPr>
              <a:t>Стволовых структур моз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ют мозговое кровообращение, укрепляют нервную систе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покаивают и расслаб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ка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F:\развитие-дыхания.jpg"/>
          <p:cNvPicPr/>
          <p:nvPr/>
        </p:nvPicPr>
        <p:blipFill>
          <a:blip r:embed="rId1"/>
          <a:stretch/>
        </p:blipFill>
        <p:spPr>
          <a:xfrm>
            <a:off x="6715080" y="1216080"/>
            <a:ext cx="2017800" cy="1930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:\stroenie-golovnogo-mozga-risunok.jpg"/>
          <p:cNvPicPr/>
          <p:nvPr/>
        </p:nvPicPr>
        <p:blipFill>
          <a:blip r:embed="rId2"/>
          <a:stretch/>
        </p:blipFill>
        <p:spPr>
          <a:xfrm>
            <a:off x="5899320" y="3645000"/>
            <a:ext cx="3159000" cy="309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048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d0000"/>
                </a:solidFill>
                <a:latin typeface="Times New Roman"/>
              </a:rPr>
              <a:t>Массаж и самомассаж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000" y="1052640"/>
            <a:ext cx="8002440" cy="4897440"/>
          </a:xfrm>
          <a:prstGeom prst="rect">
            <a:avLst/>
          </a:prstGeom>
          <a:noFill/>
          <a:ln w="9360">
            <a:solidFill>
              <a:srgbClr val="cc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ж пальцев рук, ушных раковин,головы,шеи стимулирует нервные окончания на теле. Развивает память,интеллект,улучшает речь. Развивается тонкая двигательная координация а следовательно активизируетс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d0000"/>
                </a:solidFill>
                <a:latin typeface="Arial"/>
              </a:rPr>
              <a:t>Мозолистого тела головного моз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медиобазальные отделы коры лобных и височных долей мозга. </a:t>
            </a:r>
            <a:br>
              <a:rPr sz="2800"/>
            </a:b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samomassazh-dlja-detej-doshkolnogo-vozrasta-29_1.jpg"/>
          <p:cNvPicPr/>
          <p:nvPr/>
        </p:nvPicPr>
        <p:blipFill>
          <a:blip r:embed="rId1"/>
          <a:stretch/>
        </p:blipFill>
        <p:spPr>
          <a:xfrm>
            <a:off x="4932360" y="4292640"/>
            <a:ext cx="36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0000"/>
                </a:solidFill>
                <a:latin typeface="Times New Roman"/>
              </a:rPr>
              <a:t>Растяжки. Релаксационные упражне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71640" y="155736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ают тонус мыш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изуют гипертонус (мышечное напряжение) и гипотонус (неконтролируемая мышечная вялость). Упражнения позволяют отдохнуть, восстановить силы, улучшают психические функции, память, воображение, внимание, образное мышление активизируют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Левого полушария моз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Медиобазальные от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коры лобных и височ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0000"/>
                </a:solidFill>
                <a:latin typeface="Arial"/>
              </a:rPr>
              <a:t>долей мозг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F:\DSC_0311_Fotor-1024x685.jpg"/>
          <p:cNvPicPr/>
          <p:nvPr/>
        </p:nvPicPr>
        <p:blipFill>
          <a:blip r:embed="rId1"/>
          <a:stretch/>
        </p:blipFill>
        <p:spPr>
          <a:xfrm>
            <a:off x="5580000" y="4076640"/>
            <a:ext cx="3444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d0000"/>
                </a:solidFill>
                <a:latin typeface="Times New Roman"/>
              </a:rPr>
              <a:t>Коррекционная ритми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ые игры, музыкальная терап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вают работоспособность мышц, снимают раздражение, нервное напряжение, развивают мыслительные процессы и повышают работоспособ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онная рит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ирует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0000"/>
                </a:solidFill>
                <a:latin typeface="Arial"/>
              </a:rPr>
              <a:t>Лимбическ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d0000"/>
                </a:solidFill>
                <a:latin typeface="Arial"/>
              </a:rPr>
              <a:t>мозга,мозже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F:\logoritmika3.png.jpg"/>
          <p:cNvPicPr/>
          <p:nvPr/>
        </p:nvPicPr>
        <p:blipFill>
          <a:blip r:embed="rId1"/>
          <a:stretch/>
        </p:blipFill>
        <p:spPr>
          <a:xfrm>
            <a:off x="5219640" y="4005360"/>
            <a:ext cx="3348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277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Глазодвигательные упражн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0920" y="1413000"/>
            <a:ext cx="8219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ют расширить пространство зрительного восприятия. Движения глаз и языка развива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жполушарное взаимодействие и повышают энергетику моз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. Развитие и коррекция глазных мышц способствует развит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рвных сетей центрального зрительного поля и моторного слежения </a:t>
            </a: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активизирует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специф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руктуры сред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з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F:\gl4.jpg"/>
          <p:cNvPicPr/>
          <p:nvPr/>
        </p:nvPicPr>
        <p:blipFill>
          <a:blip r:embed="rId1"/>
          <a:stretch/>
        </p:blipFill>
        <p:spPr>
          <a:xfrm>
            <a:off x="3786120" y="4143240"/>
            <a:ext cx="4429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6:53:28Z</dcterms:created>
  <dc:creator>Леха</dc:creator>
  <dc:description/>
  <dc:language>en-US</dc:language>
  <cp:lastModifiedBy>User</cp:lastModifiedBy>
  <dcterms:modified xsi:type="dcterms:W3CDTF">2018-10-23T17:55:05Z</dcterms:modified>
  <cp:revision>89</cp:revision>
  <dc:subject/>
  <dc:title>Использование нейропсихологических приемов в формировании навыков самоконтроля учащихся начальной школы</dc:title>
</cp:coreProperties>
</file>