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57A-F6CB-456A-8BC6-01135B46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D67-9727-4602-86CE-AA0DCF81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86A-9482-4C57-8985-CC007425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9A6-E8A5-4BAC-8EA9-0765B816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C932-01A6-4914-B85F-C8852AF4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DCBA-1B72-4B24-B18E-40C9D9C4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EA91-2054-4645-895E-716DCCEC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B6AA-6F13-4400-90B2-82CA0F35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41DE-1081-48F6-8BEE-CCF7534B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2D39-B60B-4908-8677-ED60645E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F354-5FBF-4496-96D6-C84E2B93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B81-1D9C-4A86-A9F9-1A3FD572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529A-8F9E-4AE0-B6EB-EF165DC4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9172-D170-4474-B815-533FAA49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0B96-7713-4954-B904-2BDAD402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AFAD-3AB7-4940-953B-4D8DAF78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4B19-9D74-4CB4-A08C-F065F4E8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89D-ED71-414B-A9C5-4CACBDB2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FAD-D419-4B0C-8DC3-FEF26F4A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104-943C-4E9F-8309-4DA5F613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0FD-54BB-4494-ADD6-3650D447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928-4F5E-4369-A790-09DB9420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BA3-F3DC-486C-8FC6-2096C879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668-81B6-48BC-A0C7-F1DFD2AA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7CC2-F237-4A30-BE78-0637F43438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BFF1-BE2E-4862-AD1B-C11427818D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2760" y="1125000"/>
            <a:ext cx="80708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5400" spc="-1" strike="noStrike" u="sng">
                <a:solidFill>
                  <a:srgbClr val="330033"/>
                </a:solidFill>
                <a:uFillTx/>
                <a:latin typeface="Times New Roman"/>
              </a:rPr>
              <a:t>Второй блок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(приема, переработки и хранения                       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экстероцептивной информ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24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ÐÐ°ÑÑÐ¸Ð½ÐºÐ¸ Ð¿Ð¾ Ð·Ð°Ð¿ÑÐ¾ÑÑ ÐºÐ°ÑÑÐ¸Ð½ÐºÐ¸ Ð½ÐµÐ¹ÑÐ¾Ð¿ÑÐ¸ÑÐ¾Ð»Ð¾Ð³Ð¸Ð¸"/>
          <p:cNvPicPr/>
          <p:nvPr/>
        </p:nvPicPr>
        <p:blipFill>
          <a:blip r:embed="rId1"/>
          <a:stretch/>
        </p:blipFill>
        <p:spPr>
          <a:xfrm>
            <a:off x="4714920" y="3392640"/>
            <a:ext cx="4073400" cy="25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F:\razvitie-rebenka-v-2-goda-20.jpg"/>
          <p:cNvPicPr/>
          <p:nvPr/>
        </p:nvPicPr>
        <p:blipFill>
          <a:blip r:embed="rId2"/>
          <a:stretch/>
        </p:blipFill>
        <p:spPr>
          <a:xfrm>
            <a:off x="853920" y="3357720"/>
            <a:ext cx="3861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Упражнения для развития артикуляции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1320" y="1500120"/>
            <a:ext cx="60721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имулируют работу тех систем мозга, которые отвечают за контроль высших психических функций – речь, мышление, поведение. В процессе упражнений у ребѐнка постепенно вырабатывается чѐткая координация движений артикуляцио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ппарата,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зыка и гу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новятся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очны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user\Desktop\0_9a1a3_2eddd3c2_XL.jpg"/>
          <p:cNvPicPr/>
          <p:nvPr/>
        </p:nvPicPr>
        <p:blipFill>
          <a:blip r:embed="rId1"/>
          <a:stretch/>
        </p:blipFill>
        <p:spPr>
          <a:xfrm>
            <a:off x="4786200" y="392904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0033"/>
                </a:solidFill>
                <a:uFillTx/>
                <a:latin typeface="Times New Roman"/>
              </a:rPr>
              <a:t>Второй блок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иема, переработки и хранения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    экстероцептивной информац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1500120"/>
            <a:ext cx="70722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ок получения, переработки и хранения информации – формируется от 3 до 7-8 лет, отвечает за обеспечение операционально-технической стороны психическ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ключает в себя центральные части основных анализаторных систем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рительной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слуховой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жно-кинестетической, корковые з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торых расположены в затылоч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менных и височных долях мозга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F:\БЛОКИ\kora-golovnogo-mozga2.jpg"/>
          <p:cNvPicPr/>
          <p:nvPr/>
        </p:nvPicPr>
        <p:blipFill>
          <a:blip r:embed="rId1"/>
          <a:stretch/>
        </p:blipFill>
        <p:spPr>
          <a:xfrm>
            <a:off x="6000840" y="4038480"/>
            <a:ext cx="30718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рушения второго блока: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9680" y="1600200"/>
            <a:ext cx="8358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еделах височной доли — может существенно пострадать слу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поражение теменных долей — нарушение кожной чувствительности, осязания (больному сложно узнать предмет на ощупь, нарушается ощущение нормального положения тела, что влечѐт за собой потерю чѐткости движений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поражения в затылочной области и прилегающих участков мозговой коры — ухудшается процесс приѐма и обработки зрительной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357720" y="2786040"/>
            <a:ext cx="2571480" cy="11430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0033"/>
                </a:solidFill>
                <a:uFillTx/>
                <a:latin typeface="Arial"/>
              </a:rPr>
              <a:t>Второй блок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3714840" y="1643040"/>
            <a:ext cx="1785960" cy="64296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рительные нару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785880" y="1928880"/>
            <a:ext cx="20001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ройства слухового восприят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785880" y="3571920"/>
            <a:ext cx="20001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имание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6500880" y="3571920"/>
            <a:ext cx="20001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тикуляция</a:t>
            </a: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6572160" y="1928880"/>
            <a:ext cx="200052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пам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3571920" y="5000760"/>
            <a:ext cx="20001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ушения вним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6286680" y="5000760"/>
            <a:ext cx="20001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моторик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1071720" y="5000760"/>
            <a:ext cx="20001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тильные  расстрои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2"/>
          <p:cNvSpPr/>
          <p:nvPr/>
        </p:nvSpPr>
        <p:spPr>
          <a:xfrm>
            <a:off x="1428840" y="357120"/>
            <a:ext cx="63579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йропсихологическая  коррекция нарушений второго бл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14"/>
          <p:cNvCxnSpPr>
            <a:stCxn id="106" idx="3"/>
          </p:cNvCxnSpPr>
          <p:nvPr/>
        </p:nvCxnSpPr>
        <p:spPr>
          <a:xfrm>
            <a:off x="5928840" y="3357360"/>
            <a:ext cx="700920" cy="8434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17" name="Прямая со стрелкой 16"/>
          <p:cNvCxnSpPr>
            <a:stCxn id="106" idx="2"/>
          </p:cNvCxnSpPr>
          <p:nvPr/>
        </p:nvCxnSpPr>
        <p:spPr>
          <a:xfrm>
            <a:off x="4643280" y="3929040"/>
            <a:ext cx="1501200" cy="12153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18" name="Прямая со стрелкой 19"/>
          <p:cNvCxnSpPr/>
          <p:nvPr/>
        </p:nvCxnSpPr>
        <p:spPr>
          <a:xfrm>
            <a:off x="4500720" y="3786120"/>
            <a:ext cx="72000" cy="92952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19" name="Прямая со стрелкой 23"/>
          <p:cNvCxnSpPr/>
          <p:nvPr/>
        </p:nvCxnSpPr>
        <p:spPr>
          <a:xfrm flipH="1">
            <a:off x="3285720" y="3785760"/>
            <a:ext cx="929520" cy="107244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0" name="Прямая со стрелкой 25"/>
          <p:cNvCxnSpPr>
            <a:stCxn id="106" idx="1"/>
          </p:cNvCxnSpPr>
          <p:nvPr/>
        </p:nvCxnSpPr>
        <p:spPr>
          <a:xfrm flipH="1" flipV="1">
            <a:off x="2928240" y="2928240"/>
            <a:ext cx="429480" cy="4294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1" name="Прямая со стрелкой 27"/>
          <p:cNvCxnSpPr/>
          <p:nvPr/>
        </p:nvCxnSpPr>
        <p:spPr>
          <a:xfrm flipH="1">
            <a:off x="2999520" y="3357720"/>
            <a:ext cx="358200" cy="64332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2" name="Прямая со стрелкой 29"/>
          <p:cNvCxnSpPr/>
          <p:nvPr/>
        </p:nvCxnSpPr>
        <p:spPr>
          <a:xfrm flipV="1">
            <a:off x="5785920" y="2285640"/>
            <a:ext cx="715320" cy="35784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3" name="Прямая со стрелкой 31"/>
          <p:cNvCxnSpPr>
            <a:stCxn id="106" idx="0"/>
            <a:endCxn id="107" idx="2"/>
          </p:cNvCxnSpPr>
          <p:nvPr/>
        </p:nvCxnSpPr>
        <p:spPr>
          <a:xfrm flipH="1" flipV="1">
            <a:off x="4607640" y="2285280"/>
            <a:ext cx="35640" cy="5007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Зрительные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 нарушения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13840" y="1428480"/>
            <a:ext cx="8472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рительные нарушения. Упражнения должны быть направлены на опознавание реальных предметов, если у ребенка есть сложности в их узнавании. Опознание реалистичных изображений. Ребѐнок учится определять соответствие между картинкой и предм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ознан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шумленных изображений. После того, как ребѐнок научился устанавливать взаимосвязь между предметами и их иллюстрациями, задачу усложняют. Ему предлагают схематичные, контурные, черно-белые или зашумленные картинки. Полезно конструирование изображений. В этом случае ребѐнок учиться узнавать картинку по еѐ фрагмен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F:\na-chem-osnovivaetsya-motornaya-zritelnaya-pamyat-u-detei.jpg"/>
          <p:cNvPicPr/>
          <p:nvPr/>
        </p:nvPicPr>
        <p:blipFill>
          <a:blip r:embed="rId1"/>
          <a:stretch/>
        </p:blipFill>
        <p:spPr>
          <a:xfrm>
            <a:off x="5549760" y="71280"/>
            <a:ext cx="3380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Слуховое 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восприятия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9680" y="1599840"/>
            <a:ext cx="81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сстройства слухов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сприятия. В этом случае нейропсихологическая коррекция детей включает в себя задания на различение: звуков неречевого характера, речевых контрастных звуков. Ребенка, научившегося различать разные шумы, может заинтересовать и реч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F:\Без названия.jpg"/>
          <p:cNvPicPr/>
          <p:nvPr/>
        </p:nvPicPr>
        <p:blipFill>
          <a:blip r:embed="rId1"/>
          <a:stretch/>
        </p:blipFill>
        <p:spPr>
          <a:xfrm>
            <a:off x="5640480" y="0"/>
            <a:ext cx="33415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b050"/>
                </a:solidFill>
                <a:latin typeface="Times New Roman"/>
              </a:rPr>
              <a:t>Тактильные и кинестетические процессы развивают:</a:t>
            </a:r>
            <a:br>
              <a:rPr sz="40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2960" y="1428480"/>
            <a:ext cx="65008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м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странственные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лкую и общую мотор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низить утомля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ысить способ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 произвольному контро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ктивизиру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тем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труктуры мозга  двух полушар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F:\7f5325b1e2aba486c3073f0602fa6da9.jpg"/>
          <p:cNvPicPr/>
          <p:nvPr/>
        </p:nvPicPr>
        <p:blipFill>
          <a:blip r:embed="rId1"/>
          <a:stretch/>
        </p:blipFill>
        <p:spPr>
          <a:xfrm>
            <a:off x="5214960" y="3143160"/>
            <a:ext cx="34416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b050"/>
                </a:solidFill>
                <a:latin typeface="Arial"/>
              </a:rPr>
              <a:t>Понимание речи.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йропсихологическая коррекция в детском возрасте осуществляется от простого к сложному. Сначала ребѐнка учат понимать простые отдельные слова. Затем ребенок учится воспринимать и выполнять инструкции . В процессе работы необходимо включать упражнения в игровой контекст. В таком случае ребѐнок не выполняет какое-либо задание, а совершает действ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b050"/>
                </a:solidFill>
                <a:latin typeface="Arial"/>
              </a:rPr>
              <a:t>Развитие памя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Нейропсихологическая коррекция трудностей в обучении в детском возрасте направлена на фокусировании внимания ребѐнка на конкретном предмете. Как показывают наблюдения, при нарушении запоминания материала, полученного с помощью одного канала восприятия, отмечается способность воспроизводить данные, принятые другим способ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6:53:28Z</dcterms:created>
  <dc:creator>Леха</dc:creator>
  <dc:description/>
  <dc:language>en-US</dc:language>
  <cp:lastModifiedBy>www</cp:lastModifiedBy>
  <dcterms:modified xsi:type="dcterms:W3CDTF">2018-10-24T02:00:56Z</dcterms:modified>
  <cp:revision>52</cp:revision>
  <dc:subject/>
  <dc:title>Использование нейропсихологических приемов в формировании навыков самоконтроля учащихся начальной школы</dc:title>
</cp:coreProperties>
</file>