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78B-3B8D-4E1B-9352-2AAD8399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825-8F13-4632-A358-B976E557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BED-CE58-4F1C-A358-75570205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C1B-DC17-44B2-A3B0-6FDE6F6C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621B-F4CA-455E-9311-017F067F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E50A-4B70-42B6-B83D-A739D1D5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4720-C014-4C54-B274-AA94C546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E688-5FA9-4C78-9C55-66E066D8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7416-3C23-473F-BF0B-2E221399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49EF-1C5C-4D6E-8F1C-102A5E36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A7B2-7A00-406F-AE15-5B18A675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D38-7E69-4FBD-AD87-9F146E70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4D6D-50DC-40A9-9545-5F33C10C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E531-EC3C-426C-9F5A-46F8D53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7551-0EE6-4FDE-8AFA-C24D2B9B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5962-CFE6-4D8C-9834-606E7759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0D1D-CDB6-4C6B-A478-A4798E53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0FD-AAB8-4DF7-9B95-2C049E9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7E6-C91E-48B3-9D38-0C705A1A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390-4643-443B-A7C8-BA508C92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AB3-3249-4225-8E64-8EDBAC91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313-D50B-4B9B-A843-DBC4D320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B96-2E24-45A3-823E-90FD5E7C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C3A-6745-40D1-A4C1-AD3A9CC9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A6CB-87FC-4288-9CC2-F1FF082BA2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8C20-9E56-43C1-9EFF-408F1A4E58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760" y="1125000"/>
            <a:ext cx="80708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5400" spc="-1" strike="noStrike" u="sng">
                <a:solidFill>
                  <a:srgbClr val="330033"/>
                </a:solidFill>
                <a:uFillTx/>
                <a:latin typeface="Times New Roman"/>
              </a:rPr>
              <a:t>Второй блок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(приема, переработки и хранения                       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  экстероцептивной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24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ÐÐ°ÑÑÐ¸Ð½ÐºÐ¸ Ð¿Ð¾ Ð·Ð°Ð¿ÑÐ¾ÑÑ ÐºÐ°ÑÑÐ¸Ð½ÐºÐ¸ Ð½ÐµÐ¹ÑÐ¾Ð¿ÑÐ¸ÑÐ¾Ð»Ð¾Ð³Ð¸Ð¸"/>
          <p:cNvPicPr/>
          <p:nvPr/>
        </p:nvPicPr>
        <p:blipFill>
          <a:blip r:embed="rId1"/>
          <a:stretch/>
        </p:blipFill>
        <p:spPr>
          <a:xfrm>
            <a:off x="4714920" y="3392640"/>
            <a:ext cx="4073400" cy="25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F:\razvitie-rebenka-v-2-goda-20.jpg"/>
          <p:cNvPicPr/>
          <p:nvPr/>
        </p:nvPicPr>
        <p:blipFill>
          <a:blip r:embed="rId2"/>
          <a:stretch/>
        </p:blipFill>
        <p:spPr>
          <a:xfrm>
            <a:off x="853920" y="3357720"/>
            <a:ext cx="3861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Упражнения для развития артикуляции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1320" y="1500120"/>
            <a:ext cx="60721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имулируют работу тех систем мозга, которые отвечают за контроль высших психических функций – речь, мышление, поведение. В процессе упражнений у ребѐнка постепенно вырабатывается чѐткая координация движений артикуляци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ппарата,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зыка и гу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новятся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очны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user\Desktop\0_9a1a3_2eddd3c2_XL.jpg"/>
          <p:cNvPicPr/>
          <p:nvPr/>
        </p:nvPicPr>
        <p:blipFill>
          <a:blip r:embed="rId1"/>
          <a:stretch/>
        </p:blipFill>
        <p:spPr>
          <a:xfrm>
            <a:off x="4786200" y="392904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0033"/>
                </a:solidFill>
                <a:uFillTx/>
                <a:latin typeface="Times New Roman"/>
              </a:rPr>
              <a:t>Второй блок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иема, переработки и хранения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    экстероцептивной информац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500120"/>
            <a:ext cx="7072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ок получения, переработки и хранения информации – формируется от 3 до 7-8 лет, отвечает за обеспечение операционально-технической стороны психи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ключает в себя центральные части основных анализаторных систем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рительной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луховой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жно-кинестетической, корковые з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торых расположены в затылоч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енных и височных долях мозг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F:\БЛОКИ\kora-golovnogo-mozga2.jpg"/>
          <p:cNvPicPr/>
          <p:nvPr/>
        </p:nvPicPr>
        <p:blipFill>
          <a:blip r:embed="rId1"/>
          <a:stretch/>
        </p:blipFill>
        <p:spPr>
          <a:xfrm>
            <a:off x="6000840" y="4038480"/>
            <a:ext cx="3071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рушения второго блока: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9680" y="1600200"/>
            <a:ext cx="8358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еделах височной доли — может существенно пострадать слу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поражение теменных долей — нарушение кожной чувствительности, осязания (больному сложно узнать предмет на ощупь, нарушается ощущение нормального положения тела, что влечѐт за собой потерю чѐткости движений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поражения в затылочной области и прилегающих участков мозговой коры — ухудшается процесс приѐма и обработки зрительной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357720" y="2786040"/>
            <a:ext cx="2571480" cy="11430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0033"/>
                </a:solidFill>
                <a:uFillTx/>
                <a:latin typeface="Arial"/>
              </a:rPr>
              <a:t>Второй блок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3714840" y="1643040"/>
            <a:ext cx="1785960" cy="64296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рительные нару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785880" y="192888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ройства слухового восприят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785880" y="357192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мание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500880" y="357192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тикуляция</a:t>
            </a: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6572160" y="1928880"/>
            <a:ext cx="200052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571920" y="500076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ушения вним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6286680" y="500076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мотори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1071720" y="5000760"/>
            <a:ext cx="20001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тильные  расстрои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1428840" y="357120"/>
            <a:ext cx="6357960" cy="100008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йропсихологическая  коррекция нарушений второго 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4"/>
          <p:cNvCxnSpPr>
            <a:stCxn id="106" idx="3"/>
          </p:cNvCxnSpPr>
          <p:nvPr/>
        </p:nvCxnSpPr>
        <p:spPr>
          <a:xfrm>
            <a:off x="5928840" y="3357360"/>
            <a:ext cx="700920" cy="843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17" name="Прямая со стрелкой 16"/>
          <p:cNvCxnSpPr>
            <a:stCxn id="106" idx="2"/>
          </p:cNvCxnSpPr>
          <p:nvPr/>
        </p:nvCxnSpPr>
        <p:spPr>
          <a:xfrm>
            <a:off x="4643280" y="3929040"/>
            <a:ext cx="1501200" cy="12153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18" name="Прямая со стрелкой 19"/>
          <p:cNvCxnSpPr/>
          <p:nvPr/>
        </p:nvCxnSpPr>
        <p:spPr>
          <a:xfrm>
            <a:off x="4500720" y="3786120"/>
            <a:ext cx="72000" cy="92952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19" name="Прямая со стрелкой 23"/>
          <p:cNvCxnSpPr/>
          <p:nvPr/>
        </p:nvCxnSpPr>
        <p:spPr>
          <a:xfrm flipH="1">
            <a:off x="3285720" y="3785760"/>
            <a:ext cx="929520" cy="107244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0" name="Прямая со стрелкой 25"/>
          <p:cNvCxnSpPr>
            <a:stCxn id="106" idx="1"/>
          </p:cNvCxnSpPr>
          <p:nvPr/>
        </p:nvCxnSpPr>
        <p:spPr>
          <a:xfrm flipH="1" flipV="1">
            <a:off x="2928240" y="2928240"/>
            <a:ext cx="429480" cy="429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1" name="Прямая со стрелкой 27"/>
          <p:cNvCxnSpPr/>
          <p:nvPr/>
        </p:nvCxnSpPr>
        <p:spPr>
          <a:xfrm flipH="1">
            <a:off x="2999520" y="3357720"/>
            <a:ext cx="358200" cy="64332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2" name="Прямая со стрелкой 29"/>
          <p:cNvCxnSpPr/>
          <p:nvPr/>
        </p:nvCxnSpPr>
        <p:spPr>
          <a:xfrm flipV="1">
            <a:off x="5785920" y="2285640"/>
            <a:ext cx="715320" cy="35784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3" name="Прямая со стрелкой 31"/>
          <p:cNvCxnSpPr>
            <a:stCxn id="106" idx="0"/>
            <a:endCxn id="107" idx="2"/>
          </p:cNvCxnSpPr>
          <p:nvPr/>
        </p:nvCxnSpPr>
        <p:spPr>
          <a:xfrm flipH="1" flipV="1">
            <a:off x="4607640" y="2285280"/>
            <a:ext cx="35640" cy="5007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Зрительные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 нарушения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13840" y="1428480"/>
            <a:ext cx="8472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рительные нарушения. Упражнения должны быть направлены на опознавание реальных предметов, если у ребенка есть сложности в их узнавании. Опознание реалистичных изображений. Ребѐнок учится определять соответствие между картинкой и предм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озна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шумленных изображений. После того, как ребѐнок научился устанавливать взаимосвязь между предметами и их иллюстрациями, задачу усложняют. Ему предлагают схематичные, контурные, черно-белые или зашумленные картинки. Полезно конструирование изображений. В этом случае ребѐнок учиться узнавать картинку по еѐ фрагмен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F:\na-chem-osnovivaetsya-motornaya-zritelnaya-pamyat-u-detei.jpg"/>
          <p:cNvPicPr/>
          <p:nvPr/>
        </p:nvPicPr>
        <p:blipFill>
          <a:blip r:embed="rId1"/>
          <a:stretch/>
        </p:blipFill>
        <p:spPr>
          <a:xfrm>
            <a:off x="5549760" y="71280"/>
            <a:ext cx="3380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Слуховое 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восприятия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968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стройства слухов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сприятия. В этом случае нейропсихологическая коррекция детей включает в себя задания на различение: звуков неречевого характера, речевых контрастных звуков. Ребенка, научившегося различать разные шумы, может заинтересовать и ре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F:\Без названия.jpg"/>
          <p:cNvPicPr/>
          <p:nvPr/>
        </p:nvPicPr>
        <p:blipFill>
          <a:blip r:embed="rId1"/>
          <a:stretch/>
        </p:blipFill>
        <p:spPr>
          <a:xfrm>
            <a:off x="5640480" y="0"/>
            <a:ext cx="3341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b050"/>
                </a:solidFill>
                <a:latin typeface="Times New Roman"/>
              </a:rPr>
              <a:t>Тактильные и кинестетические процессы развивают:</a:t>
            </a:r>
            <a:br>
              <a:rPr sz="40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2960" y="1428480"/>
            <a:ext cx="65008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м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странственные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лкую и общую мотор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низить утомля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ысить способ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 произвольному контро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ктивизиру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тем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труктуры мозга  двух полушар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F:\7f5325b1e2aba486c3073f0602fa6da9.jpg"/>
          <p:cNvPicPr/>
          <p:nvPr/>
        </p:nvPicPr>
        <p:blipFill>
          <a:blip r:embed="rId1"/>
          <a:stretch/>
        </p:blipFill>
        <p:spPr>
          <a:xfrm>
            <a:off x="5214960" y="3143160"/>
            <a:ext cx="34416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b050"/>
                </a:solidFill>
                <a:latin typeface="Arial"/>
              </a:rPr>
              <a:t>Понимание речи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йропсихологическая коррекция в детском возрасте осуществляется от простого к сложному. Сначала ребѐнка учат понимать простые отдельные слова. Затем ребенок учится воспринимать и выполнять инструкции . В процессе работы необходимо включать упражнения в игровой контекст. В таком случае ребѐнок не выполняет какое-либо задание, а совершает действ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b050"/>
                </a:solidFill>
                <a:latin typeface="Arial"/>
              </a:rPr>
              <a:t>Развитие памя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Нейропсихологическая коррекция трудностей в обучении в детском возрасте направлена на фокусировании внимания ребѐнка на конкретном предмете. Как показывают наблюдения, при нарушении запоминания материала, полученного с помощью одного канала восприятия, отмечается способность воспроизводить данные, принятые другим способ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6:53:28Z</dcterms:created>
  <dc:creator>Леха</dc:creator>
  <dc:description/>
  <dc:language>en-US</dc:language>
  <cp:lastModifiedBy>www</cp:lastModifiedBy>
  <dcterms:modified xsi:type="dcterms:W3CDTF">2018-10-24T02:00:56Z</dcterms:modified>
  <cp:revision>52</cp:revision>
  <dc:subject/>
  <dc:title>Использование нейропсихологических приемов в формировании навыков самоконтроля учащихся начальной школы</dc:title>
</cp:coreProperties>
</file>