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FCA-6B6C-4DD1-9781-68044388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A777-3CF5-41EF-A0C8-DBF48BAD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83C-AB9A-4951-A971-4D12783C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97C-0F16-4515-9748-BE1BADD7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8219-C584-4D98-A2B0-890A92D4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FB6B-FE33-40C5-B30D-9044055A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B0C6-97D9-4741-95AE-05029A94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845D-341C-4DE5-8B46-E1432FC9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FD8D-5CB2-4FC9-8240-06151B9A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DD66-8CF7-4470-81A9-AFCE160E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7918-E4DB-4DC2-9BCA-6BA94F61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D2D-5DA9-4AC6-9E4D-341029CA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9893-41E6-47C6-9A3E-9AB19B32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F6E8-6463-4C76-A387-9038200E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E1DC-ED87-4C06-89C1-9A609212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7C25-4132-44FA-B449-D602A760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D6E2-19C7-4232-82CF-DB524B5B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4FE-D820-4BCD-AB96-4341CA31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92A-7BDC-431C-9D0B-AE23AFE8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2EE-D1F9-4EC0-B6CC-71DAE355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CC5-519F-4487-B8EA-F940D7FF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621-6849-43F0-BB7D-C6BAB775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00B-A9E5-42E6-BC80-7D68955E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F56-A23C-4918-8F6A-81520387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0D9D-2B2C-48BC-A918-CEA1509E96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5787-4BFE-47EB-B161-3BE49999E6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2760" y="1125000"/>
            <a:ext cx="80708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0000"/>
                </a:solidFill>
                <a:latin typeface="Times New Roman"/>
              </a:rPr>
              <a:t>Третий блок</a:t>
            </a:r>
            <a:r>
              <a:rPr b="1" lang="ru-RU" sz="4400" spc="-1" strike="noStrike">
                <a:solidFill>
                  <a:srgbClr val="ad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ad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ad0000"/>
                </a:solidFill>
                <a:latin typeface="Times New Roman"/>
              </a:rPr>
              <a:t>( </a:t>
            </a:r>
            <a:r>
              <a:rPr b="1" lang="ru-RU" sz="3200" spc="-1" strike="noStrike">
                <a:solidFill>
                  <a:srgbClr val="ad0000"/>
                </a:solidFill>
                <a:latin typeface="Times New Roman"/>
              </a:rPr>
              <a:t>программирования, регуляции и                    контроля)</a:t>
            </a:r>
            <a:r>
              <a:rPr b="1" lang="ru-RU" sz="4000" spc="-1" strike="noStrike">
                <a:solidFill>
                  <a:srgbClr val="ad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24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ÐÐ°ÑÑÐ¸Ð½ÐºÐ¸ Ð¿Ð¾ Ð·Ð°Ð¿ÑÐ¾ÑÑ ÐºÐ°ÑÑÐ¸Ð½ÐºÐ¸ Ð½ÐµÐ¹ÑÐ¾Ð¿ÑÐ¸ÑÐ¾Ð»Ð¾Ð³Ð¸Ð¸"/>
          <p:cNvPicPr/>
          <p:nvPr/>
        </p:nvPicPr>
        <p:blipFill>
          <a:blip r:embed="rId1"/>
          <a:stretch/>
        </p:blipFill>
        <p:spPr>
          <a:xfrm>
            <a:off x="4429080" y="3357720"/>
            <a:ext cx="4359240" cy="2714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ÐÐ°ÑÑÐ¸Ð½ÐºÐ¸ Ð¿Ð¾ Ð·Ð°Ð¿ÑÐ¾ÑÑ ÐºÐ°ÑÑÐ¸Ð½ÐºÐ¸ Ð½ÐµÐ¹ÑÐ¾Ð¿ÑÐ¸ÑÐ¾Ð»Ð¾Ð³Ð¸Ð¸"/>
          <p:cNvPicPr/>
          <p:nvPr/>
        </p:nvPicPr>
        <p:blipFill>
          <a:blip r:embed="rId2"/>
          <a:stretch/>
        </p:blipFill>
        <p:spPr>
          <a:xfrm>
            <a:off x="723960" y="3357720"/>
            <a:ext cx="388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                              </a:t>
            </a:r>
            <a:r>
              <a:rPr b="1" i="1" lang="ru-RU" sz="2800" spc="-1" strike="noStrike">
                <a:solidFill>
                  <a:srgbClr val="ad0000"/>
                </a:solidFill>
                <a:latin typeface="Times New Roman"/>
              </a:rPr>
              <a:t>Третий блок</a:t>
            </a:r>
            <a:r>
              <a:rPr b="1" i="1" lang="ru-RU" sz="3600" spc="-1" strike="noStrike">
                <a:solidFill>
                  <a:srgbClr val="ad0000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ad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ad0000"/>
                </a:solidFill>
                <a:latin typeface="Times New Roman"/>
              </a:rPr>
              <a:t>( программирования, регуляции и   контроля</a:t>
            </a:r>
            <a:r>
              <a:rPr b="1" i="1" lang="ru-RU" sz="4000" spc="-1" strike="noStrike">
                <a:solidFill>
                  <a:srgbClr val="ad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ок программирования, регуляции и контроля – формируется от 7-8 до 12-15 лет, включает в себя лобные доли головного мозга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чает за целесообразность поведения в целом. Полное созревание лобных долей происходит до 20-21 лет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ключае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тор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моторные отделы коры лобных долей мозг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85520" y="1571760"/>
            <a:ext cx="79009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07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F:\БЛОКИ\kora-golovnogo-mozg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Times New Roman"/>
              </a:rPr>
              <a:t>Формирование смыслообразующей функции психических процессов и произвольной саморегуляции (3-й ФБМ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714240" y="1857240"/>
            <a:ext cx="7143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произвольности в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граммирование, целеполагание и самоконтр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муникативные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чинно – следственные отнош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Times New Roman"/>
              </a:rPr>
              <a:t>Коррекционная работа 3 блока мозг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714240" y="1857240"/>
            <a:ext cx="714384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ижны  игры (стоп- упражнения,зеваки,хлоп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ционно- развивающие игры( внимание,памя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мелкой моторик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Users\user\Desktop\img16.jpg"/>
          <p:cNvPicPr/>
          <p:nvPr/>
        </p:nvPicPr>
        <p:blipFill>
          <a:blip r:embed="rId1"/>
          <a:stretch/>
        </p:blipFill>
        <p:spPr>
          <a:xfrm>
            <a:off x="4836960" y="3627360"/>
            <a:ext cx="40212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витие мелкой моторик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мелкой моторики влияет на работу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левого полушар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преимущественно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лобной до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 отвечает за формирование многих сложнейших психических функций и учебных навы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user\Desktop\osnovnye-napravleniya-raboty-po-razvitiyu-melkoj-motoriki-ruki-u-detej-s-onr.jpg"/>
          <p:cNvPicPr/>
          <p:nvPr/>
        </p:nvPicPr>
        <p:blipFill>
          <a:blip r:embed="rId1"/>
          <a:stretch/>
        </p:blipFill>
        <p:spPr>
          <a:xfrm>
            <a:off x="4714920" y="3822840"/>
            <a:ext cx="420516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Подвижны  иг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99680" y="1599840"/>
            <a:ext cx="8186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ижные игры снижают чувство усталости, тонизируют нервную систему, улучшают эмоциональное состояние, повышают работоспособность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изирую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вого полушар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еимущественно лоб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user\Desktop\deti-vzyavshis-za-ruki-igrayut-v-podvizhnuyu-igru.jpg"/>
          <p:cNvPicPr/>
          <p:nvPr/>
        </p:nvPicPr>
        <p:blipFill>
          <a:blip r:embed="rId1"/>
          <a:stretch/>
        </p:blipFill>
        <p:spPr>
          <a:xfrm>
            <a:off x="5072040" y="350028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Коррекционно- развивающие иг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428480"/>
            <a:ext cx="797256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аждого возраста существует ведущая деятельность, в процессе которой и происходит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Для маленького ребенка такой ведущей деятельностью является – игра. Именно в ней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ются те каче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становятся основой успешного обучения- самосознание, воля и произвольность, целеустремленность,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ланирования и последовательности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онно- развивающ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гры сложное явление- они являются игровыми методами обучения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ей и формой обуч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 средством всестороннего воспитания личности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уют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развитию высших психических функций (память,вним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Взаимодействия всех трех функциональных блоков мозг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400" y="1599840"/>
            <a:ext cx="8258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это делает очевидным, что только учет взаимодействия всех трех функциональных блоков мозга, их совместной работы и того, каков специфический вклад каждого из них в отражательную деятельность мозга, позволяет правильно ре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 о мозговых механиз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user\Desktop\0002-001-.jpg"/>
          <p:cNvPicPr/>
          <p:nvPr/>
        </p:nvPicPr>
        <p:blipFill>
          <a:blip r:embed="rId1"/>
          <a:stretch/>
        </p:blipFill>
        <p:spPr>
          <a:xfrm>
            <a:off x="7143840" y="3424320"/>
            <a:ext cx="20001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6:53:28Z</dcterms:created>
  <dc:creator>Леха</dc:creator>
  <dc:description/>
  <dc:language>en-US</dc:language>
  <cp:lastModifiedBy>user</cp:lastModifiedBy>
  <dcterms:modified xsi:type="dcterms:W3CDTF">2018-10-23T13:37:42Z</dcterms:modified>
  <cp:revision>36</cp:revision>
  <dc:subject/>
  <dc:title>Использование нейропсихологических приемов в формировании навыков самоконтроля учащихся начальной школы</dc:title>
</cp:coreProperties>
</file>