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49C-E298-4D91-83A2-4D5BE965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F7E-373B-45D2-B70C-27561F45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415-C5F0-48A9-A0F9-A0CA0EF1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B65-D10A-4C94-B6C6-70352CD0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10E2-5BB4-4F78-BEEF-6D1F4A7E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839B-C76D-4353-BC5D-E520F690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AD4B-ABDC-4B04-91F1-AF66987D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0AC8-D8EA-496A-9451-1128003F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19B2-7286-411F-BAFD-13DE343C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7056-700F-4A14-84AB-2712BA2A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651F-6BDB-4E8F-9CA8-C1BDE922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987-B990-46E4-BBD7-037767D6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1BB8-0A49-4F03-9B74-80019BF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7613-0F35-4130-943D-F2AC220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38DD-4C8A-4E36-858F-0C18F084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8DFE-87A9-4404-B540-32336D56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EB3E-75D6-4A24-9C7C-ED918D26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9E4-2336-48B9-B0C9-4583B127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284-C9CB-4150-9FF5-45019D99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279-2D0D-471C-94B5-9F0F5E83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CF5-C1EA-4C3D-AD63-7C95FAD6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2F1-9AED-4085-B855-2F8316CB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AE6-10B2-4417-B4FF-2F2368BA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D6A-922D-4E0A-A1EB-09AA2C68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2ECA-C493-4306-BF3E-532D703C4D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91B-A816-4054-BA12-5BD87145D2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2760" y="1125000"/>
            <a:ext cx="80708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0000"/>
                </a:solidFill>
                <a:latin typeface="Times New Roman"/>
              </a:rPr>
              <a:t>Третий блок</a:t>
            </a:r>
            <a:r>
              <a:rPr b="1" lang="ru-RU" sz="4400" spc="-1" strike="noStrike">
                <a:solidFill>
                  <a:srgbClr val="ad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ad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d0000"/>
                </a:solidFill>
                <a:latin typeface="Times New Roman"/>
              </a:rPr>
              <a:t>( </a:t>
            </a:r>
            <a:r>
              <a:rPr b="1" lang="ru-RU" sz="3200" spc="-1" strike="noStrike">
                <a:solidFill>
                  <a:srgbClr val="ad0000"/>
                </a:solidFill>
                <a:latin typeface="Times New Roman"/>
              </a:rPr>
              <a:t>программирования, регуляции и                    контроля)</a:t>
            </a:r>
            <a:r>
              <a:rPr b="1" lang="ru-RU" sz="4000" spc="-1" strike="noStrike">
                <a:solidFill>
                  <a:srgbClr val="ad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24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ÐÐ°ÑÑÐ¸Ð½ÐºÐ¸ Ð¿Ð¾ Ð·Ð°Ð¿ÑÐ¾ÑÑ ÐºÐ°ÑÑÐ¸Ð½ÐºÐ¸ Ð½ÐµÐ¹ÑÐ¾Ð¿ÑÐ¸ÑÐ¾Ð»Ð¾Ð³Ð¸Ð¸"/>
          <p:cNvPicPr/>
          <p:nvPr/>
        </p:nvPicPr>
        <p:blipFill>
          <a:blip r:embed="rId1"/>
          <a:stretch/>
        </p:blipFill>
        <p:spPr>
          <a:xfrm>
            <a:off x="4429080" y="3357720"/>
            <a:ext cx="4359240" cy="271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ÐÐ°ÑÑÐ¸Ð½ÐºÐ¸ Ð¿Ð¾ Ð·Ð°Ð¿ÑÐ¾ÑÑ ÐºÐ°ÑÑÐ¸Ð½ÐºÐ¸ Ð½ÐµÐ¹ÑÐ¾Ð¿ÑÐ¸ÑÐ¾Ð»Ð¾Ð³Ð¸Ð¸"/>
          <p:cNvPicPr/>
          <p:nvPr/>
        </p:nvPicPr>
        <p:blipFill>
          <a:blip r:embed="rId2"/>
          <a:stretch/>
        </p:blipFill>
        <p:spPr>
          <a:xfrm>
            <a:off x="723960" y="3357720"/>
            <a:ext cx="388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                              </a:t>
            </a:r>
            <a:r>
              <a:rPr b="1" i="1" lang="ru-RU" sz="2800" spc="-1" strike="noStrike">
                <a:solidFill>
                  <a:srgbClr val="ad0000"/>
                </a:solidFill>
                <a:latin typeface="Times New Roman"/>
              </a:rPr>
              <a:t>Третий блок</a:t>
            </a:r>
            <a:r>
              <a:rPr b="1" i="1" lang="ru-RU" sz="3600" spc="-1" strike="noStrike">
                <a:solidFill>
                  <a:srgbClr val="ad00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ad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ad0000"/>
                </a:solidFill>
                <a:latin typeface="Times New Roman"/>
              </a:rPr>
              <a:t>( программирования, регуляции и   контроля</a:t>
            </a:r>
            <a:r>
              <a:rPr b="1" i="1" lang="ru-RU" sz="4000" spc="-1" strike="noStrike">
                <a:solidFill>
                  <a:srgbClr val="ad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 программирования, регуляции и контроля – формируется от 7-8 до 12-15 лет, включает в себя лобные доли головного мозга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чает за целесообразность поведения в целом. Полное созревание лобных долей происходит до 20-21 лет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ключае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тор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моторные отделы коры лобных долей моз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85520" y="1571760"/>
            <a:ext cx="790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7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F:\БЛОКИ\kora-golovnogo-mozg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Times New Roman"/>
              </a:rPr>
              <a:t>Формирование смыслообразующей функции психических процессов и произвольной саморегуляции (3-й ФБМ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4240" y="1857240"/>
            <a:ext cx="7143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произвольности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раммирование, целеполагание и самоконт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муникативны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но – следственные отнош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Times New Roman"/>
              </a:rPr>
              <a:t>Коррекционная работа 3 блока мозг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714240" y="1857240"/>
            <a:ext cx="71438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ижны  игры (стоп- упражнения,зеваки,хлоп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онно- развивающие игры( внимание,памя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мелкой моторик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Users\user\Desktop\img16.jpg"/>
          <p:cNvPicPr/>
          <p:nvPr/>
        </p:nvPicPr>
        <p:blipFill>
          <a:blip r:embed="rId1"/>
          <a:stretch/>
        </p:blipFill>
        <p:spPr>
          <a:xfrm>
            <a:off x="4836960" y="3627360"/>
            <a:ext cx="40212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витие мелкой моторик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мелкой моторики влияет на работу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евого полушар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преимущественн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обной до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 отвечает за формирование многих сложнейших психических функций и учебных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user\Desktop\osnovnye-napravleniya-raboty-po-razvitiyu-melkoj-motoriki-ruki-u-detej-s-onr.jpg"/>
          <p:cNvPicPr/>
          <p:nvPr/>
        </p:nvPicPr>
        <p:blipFill>
          <a:blip r:embed="rId1"/>
          <a:stretch/>
        </p:blipFill>
        <p:spPr>
          <a:xfrm>
            <a:off x="4714920" y="3822840"/>
            <a:ext cx="42051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Подвижны  иг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968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ые игры снижают чувство усталости, тонизируют нервную систему, улучшают эмоциональное состояние, повышают работоспособность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ирую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вого полушар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имущественно лоб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user\Desktop\deti-vzyavshis-za-ruki-igrayut-v-podvizhnuyu-igru.jpg"/>
          <p:cNvPicPr/>
          <p:nvPr/>
        </p:nvPicPr>
        <p:blipFill>
          <a:blip r:embed="rId1"/>
          <a:stretch/>
        </p:blipFill>
        <p:spPr>
          <a:xfrm>
            <a:off x="5072040" y="350028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Коррекционно- развивающие иг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428480"/>
            <a:ext cx="79725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ждого возраста существует ведущая деятельность, в процессе которой и происходит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ля маленького ребенка такой ведущей деятельностью является – игра. Именно в не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ются те каче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становятся основой успешного обучения- самосознание, воля и произвольность, целеустремленность,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ланирования и последовательности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онно- развивающ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гры сложное явление- они являются игровыми методами обучения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ей и формой обу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 средством всестороннего воспитания личности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ют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развитию высших психических функций (память,вни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Взаимодействия всех трех функциональных блоков мозг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1599840"/>
            <a:ext cx="8258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это делает очевидным, что только учет взаимодействия всех трех функциональных блоков мозга, их совместной работы и того, каков специфический вклад каждого из них в отражательную деятельность мозга, позволяет правильно ре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 о мозговых механи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user\Desktop\0002-001-.jpg"/>
          <p:cNvPicPr/>
          <p:nvPr/>
        </p:nvPicPr>
        <p:blipFill>
          <a:blip r:embed="rId1"/>
          <a:stretch/>
        </p:blipFill>
        <p:spPr>
          <a:xfrm>
            <a:off x="7143840" y="3424320"/>
            <a:ext cx="20001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6:53:28Z</dcterms:created>
  <dc:creator>Леха</dc:creator>
  <dc:description/>
  <dc:language>en-US</dc:language>
  <cp:lastModifiedBy>user</cp:lastModifiedBy>
  <dcterms:modified xsi:type="dcterms:W3CDTF">2018-10-23T13:37:42Z</dcterms:modified>
  <cp:revision>36</cp:revision>
  <dc:subject/>
  <dc:title>Использование нейропсихологических приемов в формировании навыков самоконтроля учащихся начальной школы</dc:title>
</cp:coreProperties>
</file>