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421-487B-48C0-9231-1764D782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AD3-FE94-434A-9F48-3A8DC0E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913-8720-4731-9B3F-27C53D61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B29-FA47-45F1-A8AF-7228AE4E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1845-E0BD-469C-9D08-67986277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12E8-8468-4C09-A039-7C0BD99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4853-A358-46ED-BCE5-BF3AA001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EE7E-46FA-4EF3-8331-082F0026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B91-E9F6-42CC-8D8C-3CE166E5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3A2E-826E-48B3-9E42-E3EA688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BB9A-40F4-4D6A-A8E7-907A89E0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7A7-87B1-473D-A4C1-F836FA88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953-2299-4F8C-AF53-B5F0A8E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4B2-6179-432A-9C13-C443F58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C76-5DA5-4B61-9051-917CACA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8FB5-C3A0-4E7D-8AE7-FF41FEDE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082B-45E3-4FD2-87D7-EEA853DE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201-D9C6-4C72-861F-3240AB4E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8E5-E90C-45E4-9073-F274947D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84E-9585-4F71-BFE7-CAAF18C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FEB-202F-4A2F-BFAC-5150E3F8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D5B-462A-4298-B1D5-E886620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841-AF44-4250-9100-FAE5D38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3A1-269A-4931-A5FC-8055DBD1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4F271C-2FCD-4A71-866D-6CE2FDF6B9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D1B224-3222-47C1-A66F-F7A63B0DA5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papers/src/9162.jpg" TargetMode="External"/><Relationship Id="rId2" Type="http://schemas.openxmlformats.org/officeDocument/2006/relationships/hyperlink" Target="http://historydoc.edu.ru/catalog.asp?cat_ob_no=&amp;ob_no=1401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ПЕРВАЯ МИРОВАЯ ВОЙНА</a:t>
            </a:r>
            <a:br>
              <a:rPr sz="6000"/>
            </a:br>
            <a:r>
              <a:rPr b="1" lang="ru-RU" sz="6000" spc="-1" strike="noStrike">
                <a:solidFill>
                  <a:srgbClr val="99ff33"/>
                </a:solidFill>
                <a:latin typeface="Tahoma"/>
              </a:rPr>
              <a:t>1914-1918г</a:t>
            </a:r>
            <a:endParaRPr b="0" lang="ru-RU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ентябрь 1914г- битва на Марне. Переход к позиционной вой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4г- вступление в войну Турции. Открытие военных действий в Чёрном море и в Закавказ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ай 1915г- вступление в войну Италии на стороне Ант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 1915г- «великое отступление» русской армии на Восточном фро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5г- вступление в войну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9640" y="1773360"/>
            <a:ext cx="286920" cy="288720"/>
          </a:xfrm>
          <a:prstGeom prst="star24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95280" y="2708280"/>
            <a:ext cx="36000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95280" y="4149720"/>
            <a:ext cx="2887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24000" y="4869000"/>
            <a:ext cx="360000" cy="2887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39640" y="5950080"/>
            <a:ext cx="2869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90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Первая мировая война</a:t>
            </a:r>
            <a:br>
              <a:rPr sz="2400"/>
            </a:b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77528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915г-морская война с Англией(подло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евраль –март 1916г- Верденская мясорубка(1млн.солд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юнь-август1916г- брусиловский прор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ень 1916г- битва на р.Сомма(та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й 1916г- Ютландское морское с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611280" y="5157720"/>
            <a:ext cx="791496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Итог 1916г: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перевес сил АНТАНТЫ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animClr clrSpc="rgb">
                                      <p:cBhvr>
                                        <p:cTn id="384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set>
                                      <p:cBhvr>
                                        <p:cTn id="385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прель 1917г- вступление США в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арт 1918г- Брест-Литовский мир Германии с Росс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густ 1918г- массовое наступление Антанты на Западном фро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11 ноября 1918г-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Компьенское переми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476360" y="5445000"/>
            <a:ext cx="6551280" cy="12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c0c0"/>
                </a:solidFill>
                <a:latin typeface="Arial"/>
              </a:rPr>
              <a:t>Окончание войны</a:t>
            </a:r>
            <a:endParaRPr b="0" lang="en-US" sz="3600" spc="-1" strike="noStrike">
              <a:ln w="0">
                <a:noFill/>
              </a:ln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4800"/>
            </a:b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240" cy="439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 u="sng">
                <a:solidFill>
                  <a:srgbClr val="990000"/>
                </a:solidFill>
                <a:uFillTx/>
                <a:latin typeface="Tahoma"/>
              </a:rPr>
              <a:t>ИТОГИ: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3 стран участвовало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(1,5 млрд.человек)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спад империй: Германской, Российской, Австро-Венгерской, Османской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ее 10 млн. погибших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Эк. кризис, голод, разрух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284720" y="5229360"/>
            <a:ext cx="647280" cy="431280"/>
          </a:xfrm>
          <a:prstGeom prst="downArrow">
            <a:avLst>
              <a:gd name="adj1" fmla="val 50000"/>
              <a:gd name="adj2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971640" y="5734080"/>
            <a:ext cx="7272000" cy="820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ИРОВАЯ КАТАСТРОФА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animClr clrSpc="rgb">
                                      <p:cBhvr>
                                        <p:cTn id="5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set>
                                      <p:cBhvr>
                                        <p:cTn id="5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Литература и источники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ravda-nn.ru/upl/newspapers/src/9162.jpg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historydoc.edu.ru/catalog.asp?cat_ob_no=&amp;ob_no=14011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ирная история. Первая мировая война. В 24 т., т.19, «Современный литератор», Минск, 1991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А.Улунян. Новейшая история зарубежных стран. «Просвещение», Москва, 2009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21c0c"/>
                </a:solidFill>
                <a:latin typeface="Tahoma"/>
              </a:rPr>
              <a:t>2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АИ                                     Ф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г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ер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т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стро-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.01226 L 0.25 0.01226 E">
                                      <p:cBhvr>
                                        <p:cTn id="73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лан Шлифф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лниеносн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Франция                             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591200">
            <a:off x="2484360" y="3141360"/>
            <a:ext cx="1007640" cy="1439640"/>
          </a:xfrm>
          <a:prstGeom prst="downArrow">
            <a:avLst>
              <a:gd name="adj1" fmla="val 50000"/>
              <a:gd name="adj2" fmla="val 35709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9"/>
          <p:cNvSpPr/>
          <p:nvPr/>
        </p:nvSpPr>
        <p:spPr>
          <a:xfrm rot="19959000">
            <a:off x="5148000" y="3141720"/>
            <a:ext cx="1152000" cy="1439640"/>
          </a:xfrm>
          <a:prstGeom prst="downArrow">
            <a:avLst>
              <a:gd name="adj1" fmla="val 50000"/>
              <a:gd name="adj2" fmla="val 31233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476360" y="494172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7308720" y="501336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17826 L -0.00782 0.15468 E">
                                      <p:cBhvr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16786 L -1.66667E-006 0.16509 E">
                                      <p:cBhvr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ahoma"/>
              </a:rPr>
              <a:t>Причины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Экономические(монополиям нужны рынки сбыта и источники сыр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Идеологические(имперские взгляды Германии, создание военных бло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Социальные(война как отвлечение от револю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Цели сторон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36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колоний Англии и Франции, захват части русск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сохранение «статус-кво»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возвращение Эльзаса и Лотарин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70105"/>
                </a:solidFill>
                <a:latin typeface="Tahoma"/>
              </a:rPr>
              <a:t>Росс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укрепление позиций на Балканах, контроль над проливами Босфор и Дардан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Балканского полу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Ита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захват Тироля и фр.колоний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Планы сторон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881964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план «блиц-крига», сначало                  разгром Франции, зате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Росс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основной удар по Австро-Венг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защита своей границы с Бель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война на 2 фронта:       против России и Сер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  ограниченное участие в войне(чужими руками жар загреб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: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476360" y="2060640"/>
            <a:ext cx="612108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историческая 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неизбеж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492360" y="4005360"/>
            <a:ext cx="1871280" cy="534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Right"/>
              <a:lightRig dir="t" rig="legacyHarsh3"/>
            </a:scene3d>
            <a:sp3d extrusionH="100000" prstMaterial="legacyMatte">
              <a:extrusionClr>
                <a:srgbClr val="6633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2340000" y="5084640"/>
            <a:ext cx="4103280" cy="8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случай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Tahoma"/>
              </a:rPr>
              <a:t>Исторический календ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ня 1914г- убийство в Сараево наследника австрийского престола Франца-Фердин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ля 1914г-объявление Австро-Венгрии войны Серб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 августа 1914г- объявление Германией войны России, НАЧАЛО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 августа 1914г-вступление Франции в вой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 августа 1914г-вступление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бийство в Сараево наследника австрийского престола Франца-Фердинанда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187280" y="2124000"/>
            <a:ext cx="6362280" cy="473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8A29945EC1E99F4791332017D530DDB2" ma:contentTypeVersion="0" ma:contentTypeDescription="Создание документа." ma:contentTypeScope="" ma:versionID="3f39d3ca21f6d723d7dce6f89c3d1adc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02f955febea7e716b4e91cddba171100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контента"/>
        <xsd:element ref="dc:title" minOccurs="0" maxOccurs="1" ma:index="4" ma:displayName="Название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E8C8CD35-F719-44A9-8228-815A399864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8DA1F4CD-4E7B-4BD8-8E53-FFD73EBB1CBA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Competition</Template>
  <TotalTime>220</TotalTime>
  <Application>LibreOffice/7.4.7.2$Linux_X86_64 LibreOffice_project/40$Build-2</Application>
  <AppVersion>15.0000</AppVersion>
  <Words>387</Words>
  <Paragraphs>89</Paragraphs>
  <Company>МОУ СОШ №2 им. А.Г.Малышкин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4:36:45Z</dcterms:created>
  <dc:creator>Бунин А.А.</dc:creator>
  <dc:description/>
  <dc:language>en-US</dc:language>
  <cp:lastModifiedBy>Admin</cp:lastModifiedBy>
  <dcterms:modified xsi:type="dcterms:W3CDTF">2014-09-12T17:30:46Z</dcterms:modified>
  <cp:revision>17</cp:revision>
  <dc:subject/>
  <dc:title>Первая мировая во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A29945EC1E99F4791332017D530DDB2</vt:lpwstr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