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9417-7ECA-451A-B221-601776F8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280"/>
            <a:ext cx="822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EC03-A6D8-4194-A8A2-10B1F403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2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2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F3CF-46A1-4BF3-9295-0598D94A6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2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2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2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50C0-00D6-45BB-9A3B-E445FA086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4AF4-6D49-45BF-B8D7-FDE55C3B8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2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0321-1FD7-44EE-8118-5F96F948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2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C141-44EB-4491-8175-BCC373F2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4CA6-64DF-45C5-9A58-57C3A781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911C-17FF-4D89-AB9D-9950FF60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240" cy="63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EAF3-1F5D-49CB-A625-67C313FE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2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5444-A534-4992-A058-22F68749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2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FE26-3D23-4559-9FA2-EEBB0139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2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0865-FEEC-4B52-9C7B-EB5C48C4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280"/>
            <a:ext cx="822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9FE5-9F91-4568-91A3-32E8F27A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280"/>
            <a:ext cx="822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9377-C25F-4D27-82C0-A41EA2C4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2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2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AD41-DE46-46CD-B15B-FA4A3096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2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2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2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8651-9C39-4E02-86B5-A2CFD430A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2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4D2C-5FDE-43EE-89C3-2BE5679F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CB78-9008-4288-BE50-5EB182DC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BB59-67AD-4D34-8FC3-155E4F00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240" cy="63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BF8B-323A-416A-A453-CB3DC19B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2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E977-D821-45F9-968E-B53D1E58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2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0136-A561-4F02-9A77-77611850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280"/>
            <a:ext cx="822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E7D5-E1B9-4633-8A09-B1E91F49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ccff99"/>
                </a:solidFill>
                <a:latin typeface="Tahoma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2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9999"/>
              </a:buClr>
              <a:buSzPct val="65000"/>
              <a:buFont typeface="Wingdings" charset="2"/>
              <a:buChar char=""/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cccc00"/>
              </a:buClr>
              <a:buSzPct val="65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9999"/>
              </a:buClr>
              <a:buSzPct val="65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cccc00"/>
              </a:buClr>
              <a:buSzPct val="65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9999"/>
              </a:buClr>
              <a:buSzPct val="65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380250-9F99-403C-AF48-0E681B6B785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0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ccff99"/>
                </a:solidFill>
                <a:latin typeface="Tahoma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51AE7E-9441-4A73-9404-E0636C39010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ravda-nn.ru/upl/newspapers/src/9162.jpg" TargetMode="External"/><Relationship Id="rId2" Type="http://schemas.openxmlformats.org/officeDocument/2006/relationships/hyperlink" Target="http://historydoc.edu.ru/catalog.asp?cat_ob_no=&amp;ob_no=14011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907920"/>
            <a:ext cx="8229240" cy="137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006600"/>
                </a:solidFill>
                <a:latin typeface="Tahoma"/>
              </a:rPr>
              <a:t>ПЕРВАЯ МИРОВАЯ ВОЙНА</a:t>
            </a:r>
            <a:br>
              <a:rPr sz="6000"/>
            </a:br>
            <a:r>
              <a:rPr b="1" lang="ru-RU" sz="6000" spc="-1" strike="noStrike">
                <a:solidFill>
                  <a:srgbClr val="99ff33"/>
                </a:solidFill>
                <a:latin typeface="Tahoma"/>
              </a:rPr>
              <a:t>1914-1918г</a:t>
            </a:r>
            <a:endParaRPr b="0" lang="ru-RU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0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70105"/>
                </a:solidFill>
                <a:latin typeface="Tahoma"/>
              </a:rPr>
              <a:t>Первая мировая </a:t>
            </a: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война</a:t>
            </a:r>
            <a:br>
              <a:rPr sz="5400"/>
            </a:b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1914-1918гг.</a:t>
            </a:r>
            <a:endParaRPr b="0" lang="ru-RU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5280" cy="489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Сентябрь 1914г- битва на Марне. Переход к позиционной вой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Октябрь 1914г- вступление в войну Турции. Открытие военных действий в Чёрном море и в Закавказ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Май 1915г- вступление в войну Италии на стороне Анта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Лето 1915г- «великое отступление» русской армии на Восточном фрон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Октябрь 1915г- вступление в войну Болга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539640" y="1773360"/>
            <a:ext cx="286920" cy="288720"/>
          </a:xfrm>
          <a:prstGeom prst="star24">
            <a:avLst>
              <a:gd name="adj" fmla="val 37500"/>
            </a:avLst>
          </a:prstGeom>
          <a:solidFill>
            <a:srgbClr val="ff6600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395280" y="2708280"/>
            <a:ext cx="360000" cy="286920"/>
          </a:xfrm>
          <a:prstGeom prst="star16">
            <a:avLst>
              <a:gd name="adj" fmla="val 37500"/>
            </a:avLst>
          </a:prstGeom>
          <a:solidFill>
            <a:srgbClr val="ff6600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395280" y="4149720"/>
            <a:ext cx="288720" cy="286920"/>
          </a:xfrm>
          <a:prstGeom prst="star16">
            <a:avLst>
              <a:gd name="adj" fmla="val 37500"/>
            </a:avLst>
          </a:prstGeom>
          <a:solidFill>
            <a:srgbClr val="ff6600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324000" y="4869000"/>
            <a:ext cx="360000" cy="288720"/>
          </a:xfrm>
          <a:prstGeom prst="star16">
            <a:avLst>
              <a:gd name="adj" fmla="val 37500"/>
            </a:avLst>
          </a:prstGeom>
          <a:solidFill>
            <a:srgbClr val="ff6600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539640" y="5950080"/>
            <a:ext cx="286920" cy="286920"/>
          </a:xfrm>
          <a:prstGeom prst="star16">
            <a:avLst>
              <a:gd name="adj" fmla="val 37500"/>
            </a:avLst>
          </a:prstGeom>
          <a:solidFill>
            <a:srgbClr val="ff6600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3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3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3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3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3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3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3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040" cy="907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70105"/>
                </a:solidFill>
                <a:latin typeface="Tahoma"/>
              </a:rPr>
              <a:t>Первая мировая война</a:t>
            </a:r>
            <a:br>
              <a:rPr sz="2400"/>
            </a:br>
            <a:r>
              <a:rPr b="0" lang="ru-RU" sz="2400" spc="-1" strike="noStrike">
                <a:solidFill>
                  <a:srgbClr val="070105"/>
                </a:solidFill>
                <a:latin typeface="Tahoma"/>
              </a:rPr>
              <a:t>1914-1918гг.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775280" cy="5616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1915г-морская война с Англией(подлод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Февраль –март 1916г- Верденская мясорубка(1млн.солда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Июнь-август1916г- брусиловский проры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Осень 1916г- битва на р.Сомма(тан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Май 1916г- Ютландское морское сра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4"/>
          <p:cNvSpPr txBox="1"/>
          <p:nvPr/>
        </p:nvSpPr>
        <p:spPr>
          <a:xfrm>
            <a:off x="611280" y="5157720"/>
            <a:ext cx="7914960" cy="10792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46562a"/>
                </a:solidFill>
                <a:latin typeface="Arial"/>
              </a:rPr>
              <a:t>Итог 1916г:</a:t>
            </a:r>
            <a:endParaRPr b="0" lang="en-US" sz="3600" spc="-1" strike="noStrike">
              <a:ln w="0">
                <a:noFill/>
              </a:ln>
              <a:solidFill>
                <a:srgbClr val="46562a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46562a"/>
                </a:solidFill>
                <a:latin typeface="Arial"/>
              </a:rPr>
              <a:t> </a:t>
            </a:r>
            <a:r>
              <a:rPr b="1" lang="ru-RU" sz="3600" spc="-1" strike="noStrike">
                <a:ln w="0">
                  <a:noFill/>
                </a:ln>
                <a:solidFill>
                  <a:srgbClr val="46562a"/>
                </a:solidFill>
                <a:latin typeface="Arial"/>
              </a:rPr>
              <a:t>перевес сил АНТАНТЫ</a:t>
            </a:r>
            <a:endParaRPr b="0" lang="en-US" sz="3600" spc="-1" strike="noStrike">
              <a:ln w="0">
                <a:noFill/>
              </a:ln>
              <a:solidFill>
                <a:srgbClr val="46562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250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d6a2a"/>
                                      </p:to>
                                    </p:animClr>
                                    <p:animClr clrSpc="rgb">
                                      <p:cBhvr>
                                        <p:cTn id="384" dur="250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d6a2a"/>
                                      </p:to>
                                    </p:animClr>
                                    <p:set>
                                      <p:cBhvr>
                                        <p:cTn id="385" dur="250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6" dur="250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2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5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8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1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0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70105"/>
                </a:solidFill>
                <a:latin typeface="Tahoma"/>
              </a:rPr>
              <a:t>Первая мировая </a:t>
            </a: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война</a:t>
            </a:r>
            <a:br>
              <a:rPr sz="5400"/>
            </a:b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1914-1918гг.</a:t>
            </a:r>
            <a:endParaRPr b="0" lang="ru-RU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5280" cy="489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Апрель 1917г- вступление США в вой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Март 1918г- Брест-Литовский мир Германии с Росс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Август 1918г- массовое наступление Антанты на Западном фрон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ahoma"/>
              </a:rPr>
              <a:t>11 ноября 1918г-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Компьенское перемир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4"/>
          <p:cNvSpPr txBox="1"/>
          <p:nvPr/>
        </p:nvSpPr>
        <p:spPr>
          <a:xfrm>
            <a:off x="1476360" y="5445000"/>
            <a:ext cx="6551280" cy="1223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c0c0c0"/>
                </a:solidFill>
                <a:latin typeface="Arial"/>
              </a:rPr>
              <a:t>Окончание войны</a:t>
            </a:r>
            <a:endParaRPr b="0" lang="en-US" sz="3600" spc="-1" strike="noStrike">
              <a:ln w="0">
                <a:noFill/>
              </a:ln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3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70105"/>
                </a:solidFill>
                <a:latin typeface="Tahoma"/>
              </a:rPr>
              <a:t>Первая мировая </a:t>
            </a:r>
            <a:r>
              <a:rPr b="0" lang="ru-RU" sz="4800" spc="-1" strike="noStrike">
                <a:solidFill>
                  <a:srgbClr val="070105"/>
                </a:solidFill>
                <a:latin typeface="Tahoma"/>
              </a:rPr>
              <a:t>война</a:t>
            </a:r>
            <a:br>
              <a:rPr sz="4800"/>
            </a:br>
            <a:r>
              <a:rPr b="0" lang="ru-RU" sz="4800" spc="-1" strike="noStrike">
                <a:solidFill>
                  <a:srgbClr val="070105"/>
                </a:solidFill>
                <a:latin typeface="Tahoma"/>
              </a:rPr>
              <a:t>1914-1918гг.</a:t>
            </a:r>
            <a:endParaRPr b="0" lang="ru-RU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240" cy="4395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9999"/>
              </a:buClr>
              <a:buSzPct val="65000"/>
              <a:buFont typeface="Wingdings" charset="2"/>
              <a:buChar char=""/>
            </a:pPr>
            <a:r>
              <a:rPr b="0" lang="ru-RU" sz="3200" spc="-1" strike="noStrike" u="sng">
                <a:solidFill>
                  <a:srgbClr val="990000"/>
                </a:solidFill>
                <a:uFillTx/>
                <a:latin typeface="Tahoma"/>
              </a:rPr>
              <a:t>ИТОГИ:</a:t>
            </a:r>
            <a:br>
              <a:rPr sz="3200"/>
            </a:b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33 стран участвовало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(1,5 млрд.человек)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Распад империй: Германской, Российской, Австро-Венгерской, Османской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Более 10 млн. погибших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Эк. кризис, голод, разруха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4284720" y="5229360"/>
            <a:ext cx="647280" cy="431280"/>
          </a:xfrm>
          <a:prstGeom prst="downArrow">
            <a:avLst>
              <a:gd name="adj1" fmla="val 50000"/>
              <a:gd name="adj2" fmla="val 25000"/>
            </a:avLst>
          </a:prstGeom>
          <a:solidFill>
            <a:schemeClr val="accent1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971640" y="5734080"/>
            <a:ext cx="7272000" cy="8204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МИРОВАЯ КАТАСТРОФА</a:t>
            </a:r>
            <a:endParaRPr b="0" lang="en-US" sz="3600" spc="-1" strike="noStrike">
              <a:ln w="0">
                <a:noFill/>
              </a:ln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6562a"/>
                                      </p:to>
                                    </p:animClr>
                                    <p:animClr clrSpc="rgb">
                                      <p:cBhvr>
                                        <p:cTn id="5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6562a"/>
                                      </p:to>
                                    </p:animClr>
                                    <p:set>
                                      <p:cBhvr>
                                        <p:cTn id="52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Scale>
                                      <p:cBhvr>
                                        <p:cTn id="5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2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ccff99"/>
                </a:solidFill>
                <a:latin typeface="Tahoma"/>
              </a:rPr>
              <a:t>Литература и источники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2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609480" indent="-609480">
              <a:lnSpc>
                <a:spcPct val="90000"/>
              </a:lnSpc>
              <a:spcBef>
                <a:spcPts val="561"/>
              </a:spcBef>
              <a:buClr>
                <a:srgbClr val="009999"/>
              </a:buClr>
              <a:buSzPct val="65000"/>
              <a:buFont typeface="Wingdings" charset="2"/>
              <a:buAutoNum type="arabicPeriod"/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ww.pravda-nn.ru/upl/newspapers/src/9162.jpg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009999"/>
              </a:buClr>
              <a:buSzPct val="65000"/>
              <a:buFont typeface="Wingdings" charset="2"/>
              <a:buAutoNum type="arabicPeriod"/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historydoc.edu.ru/catalog.asp?cat_ob_no=&amp;ob_no=14011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561"/>
              </a:spcBef>
              <a:buClr>
                <a:srgbClr val="009999"/>
              </a:buClr>
              <a:buSzPct val="65000"/>
              <a:buFont typeface="Wingdings" charset="2"/>
              <a:buAutoNum type="arabicPeriod"/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мирная история. Первая мировая война. В 24 т., т.19, «Современный литератор», Минск, 1991г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561"/>
              </a:spcBef>
              <a:buClr>
                <a:srgbClr val="009999"/>
              </a:buClr>
              <a:buSzPct val="65000"/>
              <a:buFont typeface="Wingdings" charset="2"/>
              <a:buAutoNum type="arabicPeriod"/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.А.Улунян. Новейшая история зарубежных стран. «Просвещение», Москва, 2009г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0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70105"/>
                </a:solidFill>
                <a:latin typeface="Tahoma"/>
              </a:rPr>
              <a:t>Первая мировая </a:t>
            </a: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война</a:t>
            </a:r>
            <a:br>
              <a:rPr sz="5400"/>
            </a:b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1914-1918гг.</a:t>
            </a:r>
            <a:endParaRPr b="0" lang="ru-RU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5280" cy="489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21c0c"/>
                </a:solidFill>
                <a:latin typeface="Tahoma"/>
              </a:rPr>
              <a:t>2 бл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ГАИ                                     Ф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Анг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Герм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Ита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Фра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Австро-Венг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Ро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0 E">
                                      <p:cBhvr>
                                        <p:cTn id="53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-0.25 0 E">
                                      <p:cBhvr>
                                        <p:cTn id="57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-0.25 0 E">
                                      <p:cBhvr>
                                        <p:cTn id="61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0 E">
                                      <p:cBhvr>
                                        <p:cTn id="65" dur="2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-0.25 0 E">
                                      <p:cBhvr>
                                        <p:cTn id="69" dur="2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.01226 L 0.25 0.01226 E">
                                      <p:cBhvr>
                                        <p:cTn id="73" dur="2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0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70105"/>
                </a:solidFill>
                <a:latin typeface="Tahoma"/>
              </a:rPr>
              <a:t>Первая мировая </a:t>
            </a: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война</a:t>
            </a:r>
            <a:br>
              <a:rPr sz="5400"/>
            </a:b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1914-1918гг.</a:t>
            </a:r>
            <a:endParaRPr b="0" lang="ru-RU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5280" cy="489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План Шлиффе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Молниеносная вой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Франция                             Рос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/>
          <p:cNvSpPr/>
          <p:nvPr/>
        </p:nvSpPr>
        <p:spPr>
          <a:xfrm rot="1591200">
            <a:off x="2484360" y="3141360"/>
            <a:ext cx="1007640" cy="1439640"/>
          </a:xfrm>
          <a:prstGeom prst="downArrow">
            <a:avLst>
              <a:gd name="adj1" fmla="val 50000"/>
              <a:gd name="adj2" fmla="val 35709"/>
            </a:avLst>
          </a:prstGeom>
          <a:solidFill>
            <a:schemeClr val="accent1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AutoShape 9"/>
          <p:cNvSpPr/>
          <p:nvPr/>
        </p:nvSpPr>
        <p:spPr>
          <a:xfrm rot="19959000">
            <a:off x="5148000" y="3141720"/>
            <a:ext cx="1152000" cy="1439640"/>
          </a:xfrm>
          <a:prstGeom prst="downArrow">
            <a:avLst>
              <a:gd name="adj1" fmla="val 50000"/>
              <a:gd name="adj2" fmla="val 31233"/>
            </a:avLst>
          </a:prstGeom>
          <a:solidFill>
            <a:schemeClr val="accent1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WordArt 10"/>
          <p:cNvSpPr txBox="1"/>
          <p:nvPr/>
        </p:nvSpPr>
        <p:spPr>
          <a:xfrm>
            <a:off x="1476360" y="4941720"/>
            <a:ext cx="401400" cy="3884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1</a:t>
            </a:r>
            <a:endParaRPr b="0" lang="en-US" sz="3600" spc="-1" strike="noStrike">
              <a:ln w="0">
                <a:noFill/>
              </a:ln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WordArt 11"/>
          <p:cNvSpPr txBox="1"/>
          <p:nvPr/>
        </p:nvSpPr>
        <p:spPr>
          <a:xfrm>
            <a:off x="7308720" y="5013360"/>
            <a:ext cx="401400" cy="3884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ln w="0">
                <a:noFill/>
              </a:ln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2 -0.17826 L -0.00782 0.15468 E">
                                      <p:cBhvr>
                                        <p:cTn id="10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0.16786 L -1.66667E-006 0.16509 E">
                                      <p:cBhvr>
                                        <p:cTn id="10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0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70105"/>
                </a:solidFill>
                <a:latin typeface="Tahoma"/>
              </a:rPr>
              <a:t>Первая мировая </a:t>
            </a: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война</a:t>
            </a:r>
            <a:br>
              <a:rPr sz="5400"/>
            </a:b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1914-1918гг.</a:t>
            </a:r>
            <a:endParaRPr b="0" lang="ru-RU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5280" cy="489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990000"/>
                </a:solidFill>
                <a:uFillTx/>
                <a:latin typeface="Tahoma"/>
              </a:rPr>
              <a:t>Причины вой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1.Экономические(монополиям нужны рынки сбыта и источники сырь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2.Идеологические(имперские взгляды Германии, создание военных блок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3. Социальные(война как отвлечение от революц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77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040" cy="549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990000"/>
                </a:solidFill>
                <a:latin typeface="Tahoma"/>
              </a:rPr>
              <a:t>Цели сторон</a:t>
            </a:r>
            <a:endParaRPr b="0" lang="ru-RU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0" y="907920"/>
            <a:ext cx="9143640" cy="5616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 u="sng">
                <a:solidFill>
                  <a:srgbClr val="070105"/>
                </a:solidFill>
                <a:uFillTx/>
                <a:latin typeface="Tahoma"/>
              </a:rPr>
              <a:t>Германия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- захват колоний Англии и Франции, захват части русской терри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 u="sng">
                <a:solidFill>
                  <a:srgbClr val="070105"/>
                </a:solidFill>
                <a:uFillTx/>
                <a:latin typeface="Tahoma"/>
              </a:rPr>
              <a:t>Англия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- разгром Германии и сохранение «статус-кво» в ми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 u="sng">
                <a:solidFill>
                  <a:srgbClr val="070105"/>
                </a:solidFill>
                <a:uFillTx/>
                <a:latin typeface="Tahoma"/>
              </a:rPr>
              <a:t>Франция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- разгром Германии и возвращение Эльзаса и Лотарин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70105"/>
                </a:solidFill>
                <a:latin typeface="Tahoma"/>
              </a:rPr>
              <a:t>Россия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- укрепление позиций на Балканах, контроль над проливами Босфор и Дарданел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 u="sng">
                <a:solidFill>
                  <a:srgbClr val="070105"/>
                </a:solidFill>
                <a:uFillTx/>
                <a:latin typeface="Tahoma"/>
              </a:rPr>
              <a:t>Австро-Венгрия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- захват Балканского полуостр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 u="sng">
                <a:solidFill>
                  <a:srgbClr val="070105"/>
                </a:solidFill>
                <a:uFillTx/>
                <a:latin typeface="Tahoma"/>
              </a:rPr>
              <a:t>Италия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-захват Тироля и фр.колоний в Афр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0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990000"/>
                </a:solidFill>
                <a:latin typeface="Tahoma"/>
              </a:rPr>
              <a:t>Планы сторон</a:t>
            </a: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1628640"/>
            <a:ext cx="8819640" cy="489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 u="sng">
                <a:solidFill>
                  <a:srgbClr val="070105"/>
                </a:solidFill>
                <a:uFillTx/>
                <a:latin typeface="Tahoma"/>
              </a:rPr>
              <a:t>Германия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-      план «блиц-крига», сначало                  разгром Франции, затем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 u="sng">
                <a:solidFill>
                  <a:srgbClr val="070105"/>
                </a:solidFill>
                <a:uFillTx/>
                <a:latin typeface="Tahoma"/>
              </a:rPr>
              <a:t>Россия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-    основной удар по Австро-Венг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 u="sng">
                <a:solidFill>
                  <a:srgbClr val="070105"/>
                </a:solidFill>
                <a:uFillTx/>
                <a:latin typeface="Tahoma"/>
              </a:rPr>
              <a:t>Франция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- защита своей границы с Бельг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 u="sng">
                <a:solidFill>
                  <a:srgbClr val="070105"/>
                </a:solidFill>
                <a:uFillTx/>
                <a:latin typeface="Tahoma"/>
              </a:rPr>
              <a:t>Австро-Венгрия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- война на 2 фронта:       против России и Серб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 u="sng">
                <a:solidFill>
                  <a:srgbClr val="070105"/>
                </a:solidFill>
                <a:uFillTx/>
                <a:latin typeface="Tahoma"/>
              </a:rPr>
              <a:t>Англия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-        ограниченное участие в войне(чужими руками жар загреба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0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70105"/>
                </a:solidFill>
                <a:latin typeface="Tahoma"/>
              </a:rPr>
              <a:t>Первая мировая </a:t>
            </a: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война</a:t>
            </a:r>
            <a:br>
              <a:rPr sz="5400"/>
            </a:b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1914-1918гг:</a:t>
            </a:r>
            <a:endParaRPr b="0" lang="ru-RU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1476360" y="2060640"/>
            <a:ext cx="6121080" cy="12949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историческая </a:t>
            </a:r>
            <a:endParaRPr b="0" lang="en-US" sz="5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5400" spc="-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неизбежность</a:t>
            </a:r>
            <a:endParaRPr b="0" lang="en-US" sz="5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3492360" y="4005360"/>
            <a:ext cx="1871280" cy="5346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  <a:scene3d>
              <a:camera prst="legacyObliqueRight"/>
              <a:lightRig dir="t" rig="legacyHarsh3"/>
            </a:scene3d>
            <a:sp3d extrusionH="100000" prstMaterial="legacyMatte">
              <a:extrusionClr>
                <a:srgbClr val="663300"/>
              </a:extrusionClr>
            </a:sp3d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или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6"/>
          <p:cNvSpPr txBox="1"/>
          <p:nvPr/>
        </p:nvSpPr>
        <p:spPr>
          <a:xfrm>
            <a:off x="2340000" y="5084640"/>
            <a:ext cx="4103280" cy="8283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случайность</a:t>
            </a:r>
            <a:endParaRPr b="0" lang="en-US" sz="5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77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2" dur="770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4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0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70105"/>
                </a:solidFill>
                <a:latin typeface="Tahoma"/>
              </a:rPr>
              <a:t>Первая мировая </a:t>
            </a: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война</a:t>
            </a:r>
            <a:br>
              <a:rPr sz="5400"/>
            </a:b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1914-1918гг.</a:t>
            </a:r>
            <a:endParaRPr b="0" lang="ru-RU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5280" cy="489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 u="sng">
                <a:solidFill>
                  <a:srgbClr val="990000"/>
                </a:solidFill>
                <a:uFillTx/>
                <a:latin typeface="Tahoma"/>
              </a:rPr>
              <a:t>Исторический календа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28 июня 1914г- убийство в Сараево наследника австрийского престола Франца-Фердинан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28 июля 1914г-объявление Австро-Венгрии войны Серб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1 августа 1914г- объявление Германией войны России, НАЧАЛО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3 августа 1914г-вступление Франции в вой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4 августа 1914г-вступление Англ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Убийство в Сараево наследника австрийского престола Франца-Фердинанда</a:t>
            </a: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187280" y="2124000"/>
            <a:ext cx="6362280" cy="4733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кстура">
  <a:themeElements>
    <a:clrScheme name="Текстура 2">
      <a:dk1>
        <a:srgbClr val="003300"/>
      </a:dk1>
      <a:lt1>
        <a:srgbClr val="ffffff"/>
      </a:lt1>
      <a:dk2>
        <a:srgbClr val="4d6a2a"/>
      </a:dk2>
      <a:lt2>
        <a:srgbClr val="ccff99"/>
      </a:lt2>
      <a:accent1>
        <a:srgbClr val="33cc33"/>
      </a:accent1>
      <a:accent2>
        <a:srgbClr val="46562a"/>
      </a:accent2>
      <a:accent3>
        <a:srgbClr val="b2b9ac"/>
      </a:accent3>
      <a:accent4>
        <a:srgbClr val="dadada"/>
      </a:accent4>
      <a:accent5>
        <a:srgbClr val="ade2ad"/>
      </a:accent5>
      <a:accent6>
        <a:srgbClr val="3f4d25"/>
      </a:accent6>
      <a:hlink>
        <a:srgbClr val="009999"/>
      </a:hlink>
      <a:folHlink>
        <a:srgbClr val="cc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кстура">
  <a:themeElements>
    <a:clrScheme name="Текстура 2">
      <a:dk1>
        <a:srgbClr val="003300"/>
      </a:dk1>
      <a:lt1>
        <a:srgbClr val="ffffff"/>
      </a:lt1>
      <a:dk2>
        <a:srgbClr val="4d6a2a"/>
      </a:dk2>
      <a:lt2>
        <a:srgbClr val="ccff99"/>
      </a:lt2>
      <a:accent1>
        <a:srgbClr val="33cc33"/>
      </a:accent1>
      <a:accent2>
        <a:srgbClr val="46562a"/>
      </a:accent2>
      <a:accent3>
        <a:srgbClr val="b2b9ac"/>
      </a:accent3>
      <a:accent4>
        <a:srgbClr val="dadada"/>
      </a:accent4>
      <a:accent5>
        <a:srgbClr val="ade2ad"/>
      </a:accent5>
      <a:accent6>
        <a:srgbClr val="3f4d25"/>
      </a:accent6>
      <a:hlink>
        <a:srgbClr val="009999"/>
      </a:hlink>
      <a:folHlink>
        <a:srgbClr val="cc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Документ" ma:contentTypeID="0x0101008A29945EC1E99F4791332017D530DDB2" ma:contentTypeVersion="0" ma:contentTypeDescription="Создание документа." ma:contentTypeScope="" ma:versionID="3f39d3ca21f6d723d7dce6f89c3d1adc">
  <xsd:schema xmlns:xsd="http://www.w3.org/2001/XMLSchema" xmlns:xs="http://www.w3.org/2001/XMLSchema" xmlns:p="http://schemas.microsoft.com/office/2006/metadata/properties" targetNamespace="http://schemas.microsoft.com/office/2006/metadata/properties" ma:root="true" ma:fieldsID="02f955febea7e716b4e91cddba171100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Тип контента"/>
        <xsd:element ref="dc:title" minOccurs="0" maxOccurs="1" ma:index="4" ma:displayName="Название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E8C8CD35-F719-44A9-8228-815A399864C8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  <ds:schemaRef ds:uri="http://schemas.microsoft.com/office/infopath/2007/PartnerControls"/>
  </ds:schemaRefs>
</ds:datastoreItem>
</file>

<file path=customXml/itemProps2.xml><?xml version="1.0" encoding="utf-8"?>
<ds:datastoreItem xmlns:ds="http://schemas.openxmlformats.org/officeDocument/2006/customXml" ds:itemID="{8DA1F4CD-4E7B-4BD8-8E53-FFD73EBB1CBA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Competition</Template>
  <TotalTime>220</TotalTime>
  <Application>LibreOffice/7.4.7.2$Linux_X86_64 LibreOffice_project/40$Build-2</Application>
  <AppVersion>15.0000</AppVersion>
  <Words>387</Words>
  <Paragraphs>89</Paragraphs>
  <Company>МОУ СОШ №2 им. А.Г.Малышкина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4:36:45Z</dcterms:created>
  <dc:creator>Бунин А.А.</dc:creator>
  <dc:description/>
  <dc:language>en-US</dc:language>
  <cp:lastModifiedBy>Admin</cp:lastModifiedBy>
  <dcterms:modified xsi:type="dcterms:W3CDTF">2014-09-12T17:30:46Z</dcterms:modified>
  <cp:revision>17</cp:revision>
  <dc:subject/>
  <dc:title>Первая мировая вой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A29945EC1E99F4791332017D530DDB2</vt:lpwstr>
  </property>
  <property fmtid="{D5CDD505-2E9C-101B-9397-08002B2CF9AE}" pid="3" name="PresentationFormat">
    <vt:lpwstr>Экран (4:3)</vt:lpwstr>
  </property>
  <property fmtid="{D5CDD505-2E9C-101B-9397-08002B2CF9AE}" pid="4" name="Slides">
    <vt:r8>14</vt:r8>
  </property>
</Properties>
</file>