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96C6-7114-4051-869F-317A933C00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25E2-9A7A-49FA-A64E-41D8398728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собранием проводится анкетиров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мся предлагается оценить степень их согласия с предложенными утверждениями. Родителям представляются результаты по всему классу в виде таблицы с процентными показа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D4CC-1359-417D-A22E-075E98940A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уемая литература: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Лашина О. Ваш ребенок – пятиклассник. Занятия родительского клуба  // Школьный психолог. Прил.к газ. Первое сентября. – 2006. - № 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2F72-69ED-4FDA-82DF-A35A89B8BC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отвечают на вопросы предыдущего слайда и заполняется сравнительная табл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0226-79FA-4958-8236-D8D4086615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кие проблемы возникли у ваших детей с переходом в 5 класс?» -вопрос родителям. Список дополняется ответами на этот вопрос учителями и деть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FB1E-AF1E-414B-B695-C8C96100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543B-4C82-4763-86FB-5913F853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DFB3-2DE1-4411-AFB1-1FC8BCD4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667B-B94B-4BB2-8FCE-5B17DD10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508A-1667-4098-8602-FF29D11B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F4C3-B398-4058-9BD8-98F3D649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5A95-8BF9-4671-8C8B-7D12B94F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6FC9-A961-4675-8EE8-A6C4B868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4235-350F-4A96-9C56-F9C08B16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3631-057B-4750-ABDD-1E92C529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2FF4-D23A-4014-ABA7-D054FDEE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2DE8-1D0B-4FDB-93E4-FB20335E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3929-471F-44F4-AD9B-1E1410F5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C1BD-B2EE-46F1-8EF5-19BCD57A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D7DF-6A50-441E-9B4E-13C28371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D51C-493E-492C-8438-CFFB6FE8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88C4-06CF-4575-86E9-3EF5F1E0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10761-B0FC-4B55-91EC-D614B0F0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37A85-D352-47C6-A2F3-98338320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07EAC-58FA-40C8-B1BC-EF66C04D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3E4B9-3C0E-4AF9-8A7D-BD2E5AF5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62BB0-5C94-46F8-86A5-A35CD6F5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A63B-F1F0-4BE8-82A1-F1D9902A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564E9-CEA2-4727-BECF-3DCBDB25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10CBD-47F2-47EA-B11E-0D455319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B8958-4117-440B-BD77-BD152F92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E903A-B408-47E5-912D-9F32E4E4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FFA3E-2E83-448E-9A11-785F4246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CB767-6206-4523-ABA1-B1E71BEE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27ED6-954F-4FE5-9466-3481E41E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FB75-B76C-4D62-AF18-D34D356A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8C0B-BF47-4C05-A875-0B8A64BB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C2C9-518A-4315-BA34-0320BF22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3D05-8675-40FF-83C6-ACE57D11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90C-142D-49EB-9681-ABEEF14D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C101-0770-4EDC-8855-5E3560BA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EE9E-320D-4CA9-A107-E0D15446F9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ad2"/>
            </a:gs>
            <a:gs pos="100000">
              <a:srgbClr val="ebf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A217-2CB7-490A-A267-7E67CAFBC17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ad2"/>
            </a:gs>
            <a:gs pos="100000">
              <a:srgbClr val="ebf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8280" y="63360"/>
              <a:ext cx="3622320" cy="6129000"/>
              <a:chOff x="5408280" y="63360"/>
              <a:chExt cx="3622320" cy="612900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8840"/>
                <a:ext cx="211500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2480" y="1960920"/>
                <a:ext cx="905760" cy="8434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740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256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608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168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892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400" y="2000160"/>
              <a:ext cx="199764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080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416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20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8560" y="5195880"/>
              <a:ext cx="175824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8640" y="1033560"/>
              <a:ext cx="1015200" cy="1261800"/>
              <a:chOff x="4148640" y="1033560"/>
              <a:chExt cx="1015200" cy="126180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62640" y="1071360"/>
                <a:ext cx="285840" cy="378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760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8680" y="1962000"/>
                <a:ext cx="511200" cy="1598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53080" y="293040"/>
              <a:ext cx="889200" cy="834120"/>
              <a:chOff x="5653080" y="293040"/>
              <a:chExt cx="889200" cy="83412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6468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1320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5248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61920" y="5253480"/>
              <a:ext cx="1062720" cy="834840"/>
              <a:chOff x="961920" y="5253480"/>
              <a:chExt cx="1062720" cy="83484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70784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9088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5328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75480" y="450000"/>
              <a:ext cx="1689840" cy="1146600"/>
              <a:chOff x="375480" y="450000"/>
              <a:chExt cx="1689840" cy="114660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75000" y="1068480"/>
                <a:ext cx="355320" cy="530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22040" y="59364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78280" y="11070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77840" y="3712320"/>
              <a:ext cx="1155600" cy="1607760"/>
              <a:chOff x="7377840" y="3712320"/>
              <a:chExt cx="1155600" cy="160776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3256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88328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7584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1400" y="3240"/>
              <a:ext cx="136764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3960" y="160560"/>
              <a:ext cx="108036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836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2872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376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08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78C8-6BD6-4199-94BB-869AF37F81D7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Родительское собрание в 5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7416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"Адапт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ятикласс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 нов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слов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чёбы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4056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зможные реак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ллекту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нарушение интеллектуальной деятельности. Отставание в развитии от сверст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еден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несоответствие поведения ребёнка правовым и моральным нормам (агрессивность, асоциальное повед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муникативна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труднения в общении со сверстниками и взросл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мат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отклонения в здоровье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моцион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моциональные трудности, тревоги по поводу переживания проблем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Методика изучения удовлетворенностью учащихся школьной жизнью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дложите ребенку оценить утвержд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ледующей шкале( 13- 16баллов- выс уровень, 8-10-средний,ниже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зк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 – нет; 1 – не всегда; 2 – 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Я иду в школу с радост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 школе у меня обычно хорошее настро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У нас хороший классный руководител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У меня есть любимые школьные предмет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Я привык к новым учителя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В начальной школе было лучш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На летних каникулах я скучал по школ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Продолжи предложение: мне не нрав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ли нравится) в школе (чт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people3026"/>
          <p:cNvPicPr/>
          <p:nvPr/>
        </p:nvPicPr>
        <p:blipFill>
          <a:blip r:embed="rId1"/>
          <a:stretch/>
        </p:blipFill>
        <p:spPr>
          <a:xfrm>
            <a:off x="7308720" y="4869000"/>
            <a:ext cx="152892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е условие школьного успеха пятиклассника —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езусловное принятие ребенка, несмотря на те неудачи, с которыми он уже столкнулся или может столкнуть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ас, что-то беспокоит в поведении ребенка, постарайтесь, как можно скорее встретиться и обсудить это с классным руководителем или психоло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 семье произошли какие то события, повлиявшие на психологическое состояние ребенка (развод, отъезд в долгую командировку кого-то из родителей, рождение еще одного ребенка и тд.) сообщите об этом классному руководит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йте интерес к школьным делам, обсуждайте сложные ситуации, вместе ищите выход из конфликтов. Неформальное общение со своим ребенком после прошедшего школьного д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гите ребенку выучить имена новых уч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ледует сразу ослаблять контроль за учебной деятельностью ребенка, если в период начальной школы он привык к вашему контро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учайте его к самостоятельности постеп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тельное знакомство с его одноклассниками и возможность общения ребят после шко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пустимость физических мер воздействия, запугивания, критики в адрес ребенка, особенно в присутствии других людей (бабушек, дедушек, сверстников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лючение таких мер наказания, как лишение удовольствий, физические и психические наказ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т темперамента ребенка в период адаптации к школьному обучению. Медлительные и малообщительные дети гораздо труднее привыкают к классу, быстро теряют к нему интерес, если чувствуют со стороны взрослых и сверстников насилие, сарказм и жесток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ение ребенку самостоятельности в учебной работе и организация обоснованного контроля за его учебной деятельн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ение ребенка, и не только за учебные успехи. Моральное стимулирование достижений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ми помощниками родителей в сложных ситуациях являются терпение, внимание и понимание. Постарайтесь создать благоприятный климат в семье для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вайте условия для развит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мостоятельности в поведении ребенка. У пятиклассника непременно должны быть домашние обязанности, за выполнение которых он несет ответств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мотря на кажущуюся взрослость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ятиклассник нуждается в ненавязчивом контроле со стороны родителей, поскольку не всегда может сам сориентироваться в новых требованиях школьной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пятиклассника 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же не такой непререкаемый авторитет, как раньше, в адрес учителей могут звучать критические замечания. Важно обсудить с ребенком причины его недовольства, поддерживая при этом авторитет учит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ятикласснику уже не так интересна учеб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ма по себе, многим в школе интересно бывать потому, что там много друзей. Важно, чтобы у ребенка была возможность обсудить свои школьные дела, учебу и отношения с друзьями в семье, с родител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Слова, которые поддерживают и которые разрушают его веру в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ова поддерж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я тебя, я уверен, что вы все сделали, хорош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ы делаешь это очень хорош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тебя есть некоторые соображения по этому поводу? Готов ли ты нач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серьезный вызов. Но я уверен. Что ты готов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424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лова разоча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я тебя и твои способности. Я думаю. Ты смог бы сделать это гораздо луч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 идея никогда не сможет быть реализ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для тебя слишком трудно, поэтому я сам это сдел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super027"/>
          <p:cNvPicPr/>
          <p:nvPr/>
        </p:nvPicPr>
        <p:blipFill>
          <a:blip r:embed="rId1"/>
          <a:stretch/>
        </p:blipFill>
        <p:spPr>
          <a:xfrm>
            <a:off x="7164360" y="5229360"/>
            <a:ext cx="152892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особы преодоления тревож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равнивайте ребенка с окружающ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веряйте ребе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ще хвалите его, но так, чтобы он знал, за ч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монстрируйте образцы уверенного поведения, будьте во всем примером ребе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редъявляйте к ребенку завышенных требов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ьте последовательны в воспитании ребенка. Не запрещайте без всяких причин того, что разрешали ра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айтесь делать ребенку меньше замеч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уйте наказание лишь в крайних случа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унижайте ребенка, наказывая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аясь с ребенком, не подрывайте авторитет других значимых взрослых людей. Например, нельзя говорить ребенку: «Много ваша учительница понимает, лучше меня слушай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огите ему найти дело по ду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lands078"/>
          <p:cNvPicPr/>
          <p:nvPr/>
        </p:nvPicPr>
        <p:blipFill>
          <a:blip r:embed="rId1"/>
          <a:stretch/>
        </p:blipFill>
        <p:spPr>
          <a:xfrm>
            <a:off x="179280" y="189000"/>
            <a:ext cx="1440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2843280" y="2349360"/>
            <a:ext cx="4056120" cy="3657600"/>
          </a:xfrm>
          <a:prstGeom prst="rect">
            <a:avLst/>
          </a:prstGeom>
          <a:ln w="0">
            <a:noFill/>
          </a:ln>
        </p:spPr>
      </p:pic>
      <p:sp>
        <p:nvSpPr>
          <p:cNvPr id="261" name="WordArt 3"/>
          <p:cNvSpPr txBox="1"/>
          <p:nvPr/>
        </p:nvSpPr>
        <p:spPr>
          <a:xfrm>
            <a:off x="1692360" y="189000"/>
            <a:ext cx="532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спех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зрастные особенности младшего подрост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требность в достойном положении в коллективе сверстников, в семь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ная утомляем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емление обзавестись верным друго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емление избежать изоляции, как в классе, так и в малом коллектив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ный интерес к вопросу о “соотношении сил” в класс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емление отмежеваться от всего подчеркнуто детског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авторитета возраст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ращение к необоснованным запрета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риимчивость к промахам учител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оценка своих возможностей, реализация которых предполагается в отдаленном будуще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адаптации к неудача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адаптации к положению “худшего”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рко выраженная эмоциональ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бовательность к соответствию слова делу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ный интерес к спорту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лечение коллекционированием, увлечение музыкой и киноискусств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ми должны быть пятиклассни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ятиклассники долж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ть общаться с одноклассниками, иметь свое мнение и формировать его с учетом мнения других, уметь поддерживать отно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ть правильно распределять и планировать свое время, проявлять самостоятельность в своих делах и в случае необходимости обещаться за помощью взросл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аться учиться, стремиться овладевать знаниями, уметь заниматься самостоятель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ть дружить, иметь постоянного друга, общаться с мальчиками и девочками, самостоятельно разрешать возникающие конфликт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ть постоянные обязанности дома, выполнять их без напоминания, помогать родителя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ть общаться с продавцом, врачом и т. д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ть предвидеть последствия своих действий, делать безопасный, правильный вы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J0233966"/>
          <p:cNvPicPr/>
          <p:nvPr/>
        </p:nvPicPr>
        <p:blipFill>
          <a:blip r:embed="rId1"/>
          <a:stretch/>
        </p:blipFill>
        <p:spPr>
          <a:xfrm>
            <a:off x="324000" y="115920"/>
            <a:ext cx="235584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итерии готовности к обучению в средней школ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нность основных компонентов учебной деятельности, успешное усвоение программного матери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ообразования младшего школьного возраста – произвольность, рефлексия, мышление в понятиях (в соответствующих возрасту формах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о иной, более «взрослый» тип взаимоотношений с учителями и одноклассн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 родителя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учебных предметов изучалось Вашим ребёнком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а недельная учебная нагрузка была у Вашего ребёнка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учителей обучало Вашего ребёнка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времени в среднем тратил Ваш ребёнок на подготовку домашних заданий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J0233964"/>
          <p:cNvPicPr/>
          <p:nvPr/>
        </p:nvPicPr>
        <p:blipFill>
          <a:blip r:embed="rId1"/>
          <a:stretch/>
        </p:blipFill>
        <p:spPr>
          <a:xfrm>
            <a:off x="468360" y="115920"/>
            <a:ext cx="194472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авнительная таб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11280" y="1557360"/>
          <a:ext cx="6337080" cy="5025960"/>
        </p:xfrm>
        <a:graphic>
          <a:graphicData uri="http://schemas.openxmlformats.org/drawingml/2006/table">
            <a:tbl>
              <a:tblPr/>
              <a:tblGrid>
                <a:gridCol w="619200"/>
                <a:gridCol w="2622240"/>
                <a:gridCol w="3095640"/>
              </a:tblGrid>
              <a:tr h="88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9 предм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– 1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– 2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– 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2,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0" name="Picture 42" descr="SCALES"/>
          <p:cNvPicPr/>
          <p:nvPr/>
        </p:nvPicPr>
        <p:blipFill>
          <a:blip r:embed="rId1"/>
          <a:stretch/>
        </p:blipFill>
        <p:spPr>
          <a:xfrm>
            <a:off x="6588000" y="1268280"/>
            <a:ext cx="231480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зникающие пробл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чень много разных учит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привычное распис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го новых кабине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вые дети в класс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вый классный руководит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блемы со старшеклассник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росший темп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росший объем работ в классе и д/з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огласованность, даже противоречивость требований отдельных педагог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лабление или отсутствие контро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бходимость на каждом уроке приспосабливаться к своеобразно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пу, особенностям речи учителей;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самостоятельность в работе с текс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зкий уровень развития реч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бое развитие навыков самостоятельной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еобразие подросткового возраста.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PE02288_"/>
          <p:cNvPicPr/>
          <p:nvPr/>
        </p:nvPicPr>
        <p:blipFill>
          <a:blip r:embed="rId1"/>
          <a:stretch/>
        </p:blipFill>
        <p:spPr>
          <a:xfrm>
            <a:off x="6516720" y="4249800"/>
            <a:ext cx="22176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знаки успешной адап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ребенка процессо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легко справляется с програм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межличностными отношениями – с одноклассниками и уч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знаки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гативные характеристики в адрес школы, учителей, однокласс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покойный с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people1840"/>
          <p:cNvPicPr/>
          <p:nvPr/>
        </p:nvPicPr>
        <p:blipFill>
          <a:blip r:embed="rId1"/>
          <a:stretch/>
        </p:blipFill>
        <p:spPr>
          <a:xfrm>
            <a:off x="108000" y="549360"/>
            <a:ext cx="1150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30:51Z</dcterms:created>
  <dc:creator>Сухорученкова Н.Н.</dc:creator>
  <dc:description/>
  <dc:language>en-US</dc:language>
  <cp:lastModifiedBy>User</cp:lastModifiedBy>
  <dcterms:modified xsi:type="dcterms:W3CDTF">2020-11-29T17:44:30Z</dcterms:modified>
  <cp:revision>145</cp:revision>
  <dc:subject/>
  <dc:title>Родительское собрание в 5 классе</dc:title>
</cp:coreProperties>
</file>