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5ACF-301D-4A22-9740-654D597D28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AB77-A04C-4857-A4DF-5A86E5512A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собранием проводится анкетиров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мся предлагается оценить степень их согласия с предложенными утверждениями. Родителям представляются результаты по всему классу в виде таблицы с процентными показ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83F0-28BE-4D73-B51B-D2FFFE7610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Лашина О. Ваш ребенок – пятиклассник. Занятия родительского клуба  // Школьный психолог. Прил.к газ. Первое сентября. – 2006. - № 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3920-24CE-4FE8-9DA2-CE48FE2F23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отвечают на вопросы предыдущего слайда и заполняется сравнительная табл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5D36-3C93-4719-B15E-32CD181780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кие проблемы возникли у ваших детей с переходом в 5 класс?» -вопрос родителям. Список дополняется ответами на этот вопрос учителями и деть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66D-6077-460A-A029-39401AFE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FE72-4B3A-4C70-86B8-A9032A2D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324-3337-4AE2-A957-781D889E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1B6-9869-4362-91D3-34180D6F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932B-558B-4B22-BBCE-D253E7E9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BF3D-2030-4F8E-AA51-EAFE6202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FEFD-CE59-40BD-AC87-5ED0550E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FD21-8C0C-4960-A28A-868C718C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D965-C881-4F5B-B0A6-49AC8189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A95E-0691-477E-BEA9-A2C1F995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32B9-4B9A-4B0F-B4C5-2E8987D7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A5B-ABA0-48C7-BEAF-D847637D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9BD8-3840-4549-BE66-9B9C8EF4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20BE-0973-4E27-8D4E-D2278179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BBC3-6638-4A28-8A4A-D1989424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4F23-4C8E-4F4C-9904-DC168923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66E3-51A8-4591-939A-5368F84A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60D41-3C6C-49D4-B9AF-CAB3607B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9A7E3-894F-489F-8603-EE1A6036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40EF3-A8BC-4991-AB12-C493EA3C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57EE0-1777-431E-B69B-E99387AD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9CD47-3082-48FD-848B-A772DF8F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81B-0177-4F2C-8E4A-DCBCFA3B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5095E-86EF-4E9C-90CA-C509D9BC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62224-370B-4E7F-86F4-A21406D5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430A9-93C9-4929-811D-6E417984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6B37D-40B0-4E5B-B14D-43CF709A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8971A-5D3B-4747-9457-BA5B55E2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E45FA-22D1-41AD-B1FC-8B260A4E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50F2B-A285-41C1-9F59-2792E265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F8F-BB7C-40C1-848B-35815B43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8C42-CEB2-4C65-BC48-EA1BCDB7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267-D444-4D4F-B013-BD7F1857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8FAB-7B93-45B0-BF2E-DDE2E840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2CE-5301-4F04-94FE-850D0D1B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F82B-7EE8-4BD3-A725-8ECDBD49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9224-7877-4760-82CB-045EFC3C7C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ad2"/>
            </a:gs>
            <a:gs pos="100000">
              <a:srgbClr val="ebf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A2AB-BE18-46FD-BF0C-FC556910845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ad2"/>
            </a:gs>
            <a:gs pos="100000">
              <a:srgbClr val="ebf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8280" y="63360"/>
              <a:ext cx="3622320" cy="6129000"/>
              <a:chOff x="5408280" y="63360"/>
              <a:chExt cx="3622320" cy="612900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84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480" y="1960920"/>
                <a:ext cx="905760" cy="8434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740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56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608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168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892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400" y="2000160"/>
              <a:ext cx="199764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080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416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20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8560" y="5195880"/>
              <a:ext cx="175824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8640" y="1033560"/>
              <a:ext cx="1015200" cy="1261800"/>
              <a:chOff x="4148640" y="1033560"/>
              <a:chExt cx="1015200" cy="126180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62640" y="1071360"/>
                <a:ext cx="285840" cy="378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760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8680" y="1962000"/>
                <a:ext cx="511200" cy="1598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53080" y="293040"/>
              <a:ext cx="889200" cy="834120"/>
              <a:chOff x="5653080" y="293040"/>
              <a:chExt cx="889200" cy="83412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6468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1320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5248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61920" y="5253480"/>
              <a:ext cx="1062720" cy="834840"/>
              <a:chOff x="961920" y="5253480"/>
              <a:chExt cx="1062720" cy="83484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70784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9088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5328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75480" y="450000"/>
              <a:ext cx="1689840" cy="1146600"/>
              <a:chOff x="375480" y="450000"/>
              <a:chExt cx="1689840" cy="114660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75000" y="1068480"/>
                <a:ext cx="355320" cy="530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22040" y="59364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78280" y="11070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77840" y="3712320"/>
              <a:ext cx="1155600" cy="1607760"/>
              <a:chOff x="7377840" y="3712320"/>
              <a:chExt cx="1155600" cy="160776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3256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88328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7584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1400" y="3240"/>
              <a:ext cx="136764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3960" y="160560"/>
              <a:ext cx="108036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836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2872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376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08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40BA-EDD5-430B-97EF-B943CF30C829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Родительское собрание в 5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7416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"Адап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ятикласс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 нов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лов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чёбы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4056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зможные реа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ллекту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арушение интеллектуальной деятельности. Отставание в развитии от сверс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еден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есоответствие поведения ребёнка правовым и моральным нормам (агрессивность, асоциальное повед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муникатив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труднения в общении со сверстниками и взросл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мат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отклонения в здоровье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моцион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моциональные трудности, тревоги по поводу переживания проблем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Методика изучения удовлетворенностью учащихся школьной жизнью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ложите ребенку оценить утвержд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ледующей шкале( 13- 16баллов- выс уровень, 8-10-средний,ниже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з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 – нет; 1 – не всегда; 2 – 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Я иду в школу с радост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 школе у меня обычно хорошее настро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У нас хороший классный руководител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У меня есть любимые школьные предмет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Я привык к новым учителя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В начальной школе было лучш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На летних каникулах я скучал по школ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Продолжи предложение: мне не нрав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ли нравится) в школе (ч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people3026"/>
          <p:cNvPicPr/>
          <p:nvPr/>
        </p:nvPicPr>
        <p:blipFill>
          <a:blip r:embed="rId1"/>
          <a:stretch/>
        </p:blipFill>
        <p:spPr>
          <a:xfrm>
            <a:off x="7308720" y="4869000"/>
            <a:ext cx="152892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е условие школьного успеха пятиклассника 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езусловное принятие ребенка, несмотря на те неудачи, с которыми он уже столкнулся или может столкнуть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ас, что-то беспокоит в поведении ребенка, постарайтесь, как можно скорее встретиться и обсудить это с классным руководителем или психоло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 семье произошли какие то события, повлиявшие на психологическое состояние ребенка (развод, отъезд в долгую командировку кого-то из родителей, рождение еще одного ребенка и тд.) сообщите об этом классному руководит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йте интерес к школьным делам, обсуждайте сложные ситуации, вместе ищите выход из конфликтов. Неформальное общение со своим ребенком после прошедшего школьного д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гите ребенку выучить имена новых уч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ледует сразу ослаблять контроль за учебной деятельностью ребенка, если в период начальной школы он привык к вашему контро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учайте его к самостоятельности постеп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ое знакомство с его одноклассниками и возможность общения ребят после шко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пустимость физических мер воздействия, запугивания, критики в адрес ребенка, особенно в присутствии других людей (бабушек, дедушек, сверстников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ючение таких мер наказания, как лишение удовольствий, физические и психические наказ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т темперамента ребенка в период адаптации к школьному обучению. Медлительные и малообщительные дети гораздо труднее привыкают к классу, быстро теряют к нему интерес, если чувствуют со стороны взрослых и сверстников насилие, сарказм и жесток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ребенку самостоятельности в учебной работе и организация обоснованного контроля за его учебной деятельн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 ребенка, и не только за учебные успехи. Моральное стимулирование достижений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ми помощниками родителей в сложных ситуациях являются терпение, внимание и понимание. Постарайтесь создать благоприятный климат в семье для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вайте условия для развит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мостоятельности в поведении ребенка. У пятиклассника непременно должны быть домашние обязанности, за выполнение которых он несет ответств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мотря на кажущуюся взрослость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ятиклассник нуждается в ненавязчивом контроле со стороны родителей, поскольку не всегда может сам сориентироваться в новых требованиях школьн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пятиклассника 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же не такой непререкаемый авторитет, как раньше, в адрес учителей могут звучать критические замечания. Важно обсудить с ребенком причины его недовольства, поддерживая при этом авторитет учи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ятикласснику уже не так интересна учеб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ма по себе, многим в школе интересно бывать потому, что там много друзей. Важно, чтобы у ребенка была возможность обсудить свои школьные дела, учебу и отношения с друзьями в семье, с родител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Слова, которые поддерживают и которые разрушают его веру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а поддерж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я тебя, я уверен, что вы все сделали, хорош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 делаешь это очень хорош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тебя есть некоторые соображения по этому поводу? Готов ли ты нач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ерьезный вызов. Но я уверен. Что ты готов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424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лова разоча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я тебя и твои способности. Я думаю. Ты смог бы сделать это гораздо луч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идея никогда не сможет быть реализ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для тебя слишком трудно, поэтому я сам это сдел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super027"/>
          <p:cNvPicPr/>
          <p:nvPr/>
        </p:nvPicPr>
        <p:blipFill>
          <a:blip r:embed="rId1"/>
          <a:stretch/>
        </p:blipFill>
        <p:spPr>
          <a:xfrm>
            <a:off x="7164360" y="5229360"/>
            <a:ext cx="152892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ы преодоления тревож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равнивайте ребенка с окружающ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веряйте ребе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ще хвалите его, но так, чтобы он знал, за 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монстрируйте образцы уверенного поведения, будьте во всем примером ребе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редъявляйте к ребенку завышенных требо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ьте последовательны в воспитании ребенка. Не запрещайте без всяких причин того, что разрешали ра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айтесь делать ребенку меньше замеч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уйте наказание лишь в крайних случа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унижайте ребенка, наказывая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аясь с ребенком, не подрывайте авторитет других значимых взрослых людей. Например, нельзя говорить ребенку: «Много ваша учительница понимает, лучше меня слушай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огите ему найти дело по д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lands078"/>
          <p:cNvPicPr/>
          <p:nvPr/>
        </p:nvPicPr>
        <p:blipFill>
          <a:blip r:embed="rId1"/>
          <a:stretch/>
        </p:blipFill>
        <p:spPr>
          <a:xfrm>
            <a:off x="179280" y="189000"/>
            <a:ext cx="1440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2843280" y="2349360"/>
            <a:ext cx="4056120" cy="3657600"/>
          </a:xfrm>
          <a:prstGeom prst="rect">
            <a:avLst/>
          </a:prstGeom>
          <a:ln w="0">
            <a:noFill/>
          </a:ln>
        </p:spPr>
      </p:pic>
      <p:sp>
        <p:nvSpPr>
          <p:cNvPr id="261" name="WordArt 3"/>
          <p:cNvSpPr txBox="1"/>
          <p:nvPr/>
        </p:nvSpPr>
        <p:spPr>
          <a:xfrm>
            <a:off x="1692360" y="189000"/>
            <a:ext cx="532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спех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зрастные особенности младшего подрост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ребность в достойном положении в коллективе сверстников, в семь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ная утомляем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емление обзавестись верным друг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емление избежать изоляции, как в классе, так и в малом коллектив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ный интерес к вопросу о “соотношении сил” в класс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емление отмежеваться от всего подчеркнуто детског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авторитета возраст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ращение к необоснованным запрета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риимчивость к промахам учител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оценка своих возможностей, реализация которых предполагается в отдаленном будуще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адаптации к неудача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адаптации к положению “худшего”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рко выраженная эмоциональ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бовательность к соответствию слова делу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ный интерес к спорту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лечение коллекционированием, увлечение музыкой и киноискусств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ми должны быть пятиклассни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ятиклассники долж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ть общаться с одноклассниками, иметь свое мнение и формировать его с учетом мнения других, уметь поддерживать отно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ть правильно распределять и планировать свое время, проявлять самостоятельность в своих делах и в случае необходимости обещаться за помощью взросл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аться учиться, стремиться овладевать знаниями, уметь заниматься самостоятель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ть дружить, иметь постоянного друга, общаться с мальчиками и девочками, самостоятельно разрешать возникающие конфликт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ть постоянные обязанности дома, выполнять их без напоминания, помогать родителя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ть общаться с продавцом, врачом и т. д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ть предвидеть последствия своих действий, делать безопасный, правильный вы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J0233966"/>
          <p:cNvPicPr/>
          <p:nvPr/>
        </p:nvPicPr>
        <p:blipFill>
          <a:blip r:embed="rId1"/>
          <a:stretch/>
        </p:blipFill>
        <p:spPr>
          <a:xfrm>
            <a:off x="324000" y="115920"/>
            <a:ext cx="235584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итерии готовности к обучению в средней школ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нность основных компонентов учебной деятельности, успешное усвоение программного 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ообразования младшего школьного возраста – произвольность, рефлексия, мышление в понятиях (в соответствующих возрасту формах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о иной, более «взрослый» тип взаимоотношений с учителями и однокласс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 родителя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учебных предметов изучалось Вашим ребёнком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недельная учебная нагрузка была у Вашего ребёнка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учителей обучало Вашего ребёнка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времени в среднем тратил Ваш ребёнок на подготовку домашних заданий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J0233964"/>
          <p:cNvPicPr/>
          <p:nvPr/>
        </p:nvPicPr>
        <p:blipFill>
          <a:blip r:embed="rId1"/>
          <a:stretch/>
        </p:blipFill>
        <p:spPr>
          <a:xfrm>
            <a:off x="468360" y="115920"/>
            <a:ext cx="194472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внительная таб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11280" y="1557360"/>
          <a:ext cx="6337080" cy="5025960"/>
        </p:xfrm>
        <a:graphic>
          <a:graphicData uri="http://schemas.openxmlformats.org/drawingml/2006/table">
            <a:tbl>
              <a:tblPr/>
              <a:tblGrid>
                <a:gridCol w="619200"/>
                <a:gridCol w="2622240"/>
                <a:gridCol w="3095640"/>
              </a:tblGrid>
              <a:tr h="88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9 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– 1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– 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2,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0" name="Picture 42" descr="SCALES"/>
          <p:cNvPicPr/>
          <p:nvPr/>
        </p:nvPicPr>
        <p:blipFill>
          <a:blip r:embed="rId1"/>
          <a:stretch/>
        </p:blipFill>
        <p:spPr>
          <a:xfrm>
            <a:off x="6588000" y="1268280"/>
            <a:ext cx="231480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зникающие пробл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чень много разных учи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привычное распис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 новых кабин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ые дети в класс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ый классный руководит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блемы со старшеклассник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осший темп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осший объем работ в классе и д/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огласованность, даже противоречивость требований отдельных педагог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лабление или отсутствие контро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бходимость на каждом уроке приспосабливаться к своеобразно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у, особенностям речи учителей;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самостоятельность в работе с текс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зкий уровень развития ре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ое развитие навыков самостоятельной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еобразие подросткового возраста.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PE02288_"/>
          <p:cNvPicPr/>
          <p:nvPr/>
        </p:nvPicPr>
        <p:blipFill>
          <a:blip r:embed="rId1"/>
          <a:stretch/>
        </p:blipFill>
        <p:spPr>
          <a:xfrm>
            <a:off x="6516720" y="4249800"/>
            <a:ext cx="22176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знаки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ативные характеристики в адрес школы, учителей, одно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окойный с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people1840"/>
          <p:cNvPicPr/>
          <p:nvPr/>
        </p:nvPicPr>
        <p:blipFill>
          <a:blip r:embed="rId1"/>
          <a:stretch/>
        </p:blipFill>
        <p:spPr>
          <a:xfrm>
            <a:off x="108000" y="549360"/>
            <a:ext cx="1150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30:51Z</dcterms:created>
  <dc:creator>Сухорученкова Н.Н.</dc:creator>
  <dc:description/>
  <dc:language>en-US</dc:language>
  <cp:lastModifiedBy>User</cp:lastModifiedBy>
  <dcterms:modified xsi:type="dcterms:W3CDTF">2020-11-29T17:44:30Z</dcterms:modified>
  <cp:revision>145</cp:revision>
  <dc:subject/>
  <dc:title>Родительское собрание в 5 классе</dc:title>
</cp:coreProperties>
</file>