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115-2B68-49A3-AE54-91336CC1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234-607F-4D53-93BC-42038E7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6F0-A710-4EB8-B733-136E7424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D7F-351F-4F27-BB38-7F239314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E68-790B-4775-B711-3D1263B8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5F9-6599-422A-AF7B-A646904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A82-A364-48F7-887E-308CDB16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F00-7982-45ED-9984-436B2B7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F39-83DE-4EC9-B613-B5A5EFE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61D-E79F-40E9-BBB9-40F24D8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E3F-F44A-4627-8ADE-1AF678F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6C-2D45-4899-8723-940CC91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6A62-92B3-4A29-8110-3A970F0E5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816200"/>
            <a:ext cx="8601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User\Desktop\животные\хрюша.pn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животные\mucca-da-colorare-e-stampare-fresco-disegni-di-mucca-of-mucca-da-colorare-e-stampare.gif"/>
          <p:cNvPicPr/>
          <p:nvPr/>
        </p:nvPicPr>
        <p:blipFill>
          <a:blip r:embed="rId1"/>
          <a:stretch/>
        </p:blipFill>
        <p:spPr>
          <a:xfrm>
            <a:off x="1197000" y="1600200"/>
            <a:ext cx="675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фарет для раскраш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наглядный материал\IMG_20191125_123851.jpg"/>
          <p:cNvPicPr/>
          <p:nvPr/>
        </p:nvPicPr>
        <p:blipFill>
          <a:blip r:embed="rId1"/>
          <a:stretch/>
        </p:blipFill>
        <p:spPr>
          <a:xfrm>
            <a:off x="2055960" y="1600200"/>
            <a:ext cx="503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яжи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наглядный материал\IMG_20191125_080141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емные фигуры на плоско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\Desktop\наглядный материал\IMG_20191125_123702.jpg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наглядный материал\IMG_20191125_080242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злё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esktop\наглядный материал\IMG_20191125_123745.jpg"/>
          <p:cNvPicPr/>
          <p:nvPr/>
        </p:nvPicPr>
        <p:blipFill>
          <a:blip r:embed="rId1"/>
          <a:stretch/>
        </p:blipFill>
        <p:spPr>
          <a:xfrm>
            <a:off x="2359080" y="1600200"/>
            <a:ext cx="442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едини части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наглядный материал\IMG_20191125_075810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так получило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наглядный материал\IMG_20191125_080019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тинки распечатанные на принтере по Брайл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животные\лошадь.png"/>
          <p:cNvPicPr/>
          <p:nvPr/>
        </p:nvPicPr>
        <p:blipFill>
          <a:blip r:embed="rId1"/>
          <a:stretch/>
        </p:blipFill>
        <p:spPr>
          <a:xfrm>
            <a:off x="1332000" y="1916280"/>
            <a:ext cx="61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у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ser\Desktop\животные\петушок.jpg"/>
          <p:cNvPicPr/>
          <p:nvPr/>
        </p:nvPicPr>
        <p:blipFill>
          <a:blip r:embed="rId1"/>
          <a:stretch/>
        </p:blipFill>
        <p:spPr>
          <a:xfrm>
            <a:off x="2365200" y="1600200"/>
            <a:ext cx="441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5T06:22:58Z</dcterms:created>
  <dc:creator>User</dc:creator>
  <dc:description/>
  <dc:language>en-US</dc:language>
  <cp:lastModifiedBy>User</cp:lastModifiedBy>
  <dcterms:modified xsi:type="dcterms:W3CDTF">2019-11-26T01:26:05Z</dcterms:modified>
  <cp:revision>10</cp:revision>
  <dc:subject/>
  <dc:title>Слайд 1</dc:title>
</cp:coreProperties>
</file>