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6AEC-B28E-4D52-92FD-BB249090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18FB-2028-441B-AEA6-5408F549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64C9-10FA-43C8-89F4-920BB2B1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89F-F260-446F-874C-E01D26F3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EE36-EA13-4E29-A174-66FAB1FC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8898-4C31-4D10-B894-CE0D781E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FECC-5EEF-476D-8F1D-0C86CCFC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193C-A22A-46E1-9136-055A6213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5737-3E73-45F1-BD42-F43C894E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D11-2736-4963-85D5-CAE37F9C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AF13-2192-4BF6-820B-FDCB9285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1529-9175-4180-A783-5E1FCD41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D8BA-26E9-4C03-A399-79B0D01B7A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317520" y="1816200"/>
            <a:ext cx="86011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ин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User\Desktop\животные\хрюша.png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User\Desktop\животные\mucca-da-colorare-e-stampare-fresco-disegni-di-mucca-of-mucca-da-colorare-e-stampare.gif"/>
          <p:cNvPicPr/>
          <p:nvPr/>
        </p:nvPicPr>
        <p:blipFill>
          <a:blip r:embed="rId1"/>
          <a:stretch/>
        </p:blipFill>
        <p:spPr>
          <a:xfrm>
            <a:off x="1197000" y="1600200"/>
            <a:ext cx="6750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афарет для раскраши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User\Desktop\наглядный материал\IMG_20191125_123851.jpg"/>
          <p:cNvPicPr/>
          <p:nvPr/>
        </p:nvPicPr>
        <p:blipFill>
          <a:blip r:embed="rId1"/>
          <a:stretch/>
        </p:blipFill>
        <p:spPr>
          <a:xfrm>
            <a:off x="2055960" y="1600200"/>
            <a:ext cx="5032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ляжи живот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User\Desktop\наглядный материал\IMG_20191125_080141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ъемные фигуры на плоскост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р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User\Desktop\наглядный материал\IMG_20191125_123702.jpg"/>
          <p:cNvPicPr/>
          <p:nvPr/>
        </p:nvPicPr>
        <p:blipFill>
          <a:blip r:embed="rId1"/>
          <a:stretch/>
        </p:blipFill>
        <p:spPr>
          <a:xfrm>
            <a:off x="1319040" y="1600200"/>
            <a:ext cx="650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ошад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User\Desktop\наглядный материал\IMG_20191125_080242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злё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User\Desktop\наглядный материал\IMG_20191125_123745.jpg"/>
          <p:cNvPicPr/>
          <p:nvPr/>
        </p:nvPicPr>
        <p:blipFill>
          <a:blip r:embed="rId1"/>
          <a:stretch/>
        </p:blipFill>
        <p:spPr>
          <a:xfrm>
            <a:off x="2359080" y="1600200"/>
            <a:ext cx="4425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едини части т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User\Desktop\наглядный материал\IMG_20191125_075810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т так получило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User\Desktop\наглядный материал\IMG_20191125_080019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ртинки распечатанные на принтере по Брайлю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User\Desktop\животные\лошадь.png"/>
          <p:cNvPicPr/>
          <p:nvPr/>
        </p:nvPicPr>
        <p:blipFill>
          <a:blip r:embed="rId1"/>
          <a:stretch/>
        </p:blipFill>
        <p:spPr>
          <a:xfrm>
            <a:off x="1332000" y="1916280"/>
            <a:ext cx="6176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ту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Users\User\Desktop\животные\петушок.jpg"/>
          <p:cNvPicPr/>
          <p:nvPr/>
        </p:nvPicPr>
        <p:blipFill>
          <a:blip r:embed="rId1"/>
          <a:stretch/>
        </p:blipFill>
        <p:spPr>
          <a:xfrm>
            <a:off x="2365200" y="1600200"/>
            <a:ext cx="4413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5T06:22:58Z</dcterms:created>
  <dc:creator>User</dc:creator>
  <dc:description/>
  <dc:language>en-US</dc:language>
  <cp:lastModifiedBy>User</cp:lastModifiedBy>
  <dcterms:modified xsi:type="dcterms:W3CDTF">2019-11-26T01:26:05Z</dcterms:modified>
  <cp:revision>10</cp:revision>
  <dc:subject/>
  <dc:title>Слайд 1</dc:title>
</cp:coreProperties>
</file>