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png" ContentType="image/png"/>
  <Override PartName="/ppt/media/image22.jpeg" ContentType="image/jpeg"/>
  <Override PartName="/ppt/media/image7.png" ContentType="image/pn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215C-9E28-4688-8D58-2DD3947D2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73580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1320" y="4052880"/>
            <a:ext cx="73580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4147-250F-4520-8020-62D1A0685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35906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341960" y="1785960"/>
            <a:ext cx="35906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86D5ED-7E55-4618-8185-606D3C4D0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D2E77F-37BE-4B26-92A3-38440AF77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71320" y="999720"/>
            <a:ext cx="7358040" cy="33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97B3C6-2431-4C86-8F90-EE3591182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341960" y="1785960"/>
            <a:ext cx="35906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71320" y="405288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065C07-BDEA-4077-BAAA-27EA8C51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35906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34196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341960" y="405288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5FA64A-7E62-46A9-B143-FB9EA888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34196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71320" y="4052880"/>
            <a:ext cx="73580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A50390-3A57-47DF-AD90-5716D1DE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73580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71320" y="4052880"/>
            <a:ext cx="73580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1ED94A-6F6A-41BA-B201-B08AF114A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34196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71320" y="405288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341960" y="405288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D38943-AE6A-4320-86F6-A9DF6F238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059280" y="178596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547240" y="178596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71320" y="405288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059280" y="405288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547240" y="405288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7751EC-8636-4C11-80B6-E4F376FAC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4196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71320" y="405288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41960" y="405288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F3B3-00D7-404D-9368-AC65C7FF1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9280" y="178596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47240" y="178596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71320" y="405288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9280" y="405288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47240" y="405288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9130-B590-4182-AC9E-E4985110B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6F220-2B86-4ACD-9820-44CD2D81C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71320" y="1785960"/>
            <a:ext cx="735804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2DBEE-D412-4164-BB7C-F430092C5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73580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E5A9C-EA31-4375-AF9F-1685B5680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35906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341960" y="1785960"/>
            <a:ext cx="35906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462A6-213A-4E43-B392-81BDE9248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17498-8270-41DC-9E82-2DABE474E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71320" y="999720"/>
            <a:ext cx="7358040" cy="33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1B7F4-E0A9-442D-B68E-C60A83E25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341960" y="1785960"/>
            <a:ext cx="35906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71320" y="405288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1D942-5B6E-4299-B940-EC612172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71320" y="1785960"/>
            <a:ext cx="735804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C88C-C79D-4533-801E-D481D9446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35906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4196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41960" y="405288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3814E-D41E-4DCE-9EAB-D3C90D6C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4196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320" y="4052880"/>
            <a:ext cx="73580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6730F-AAF5-40BA-8186-C9BAB57E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73580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320" y="4052880"/>
            <a:ext cx="73580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63B63-8FF8-45C0-A9FC-CCF410F32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4196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71320" y="405288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341960" y="405288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CA07C-ECAB-43DE-BED2-932AB7AEF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59280" y="178596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547240" y="178596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71320" y="405288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59280" y="405288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547240" y="405288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9F3CF-A86F-4170-B2B1-C25EE8F44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51464-C1C0-4F82-A002-41F940000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71320" y="1785960"/>
            <a:ext cx="735804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48193-CE4A-47A8-A771-6E2B1597B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73580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26013-62E1-4746-9253-A9E43D1C2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35906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341960" y="1785960"/>
            <a:ext cx="35906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D2A91-6E9B-4DC2-AED6-6D02B3DA1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5F392-F9FF-4334-822C-64B88B89F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73580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6E5F-CA54-45C2-B2B5-24B86D16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71320" y="999720"/>
            <a:ext cx="7358040" cy="33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CA633-3C25-4BED-97A9-3DDB1B580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341960" y="1785960"/>
            <a:ext cx="35906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71320" y="405288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09417-E202-42F2-9777-F04892D6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35906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34196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341960" y="405288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F22FA-F853-480B-AEEE-46A9F6D4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34196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71320" y="4052880"/>
            <a:ext cx="73580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1BE92-FC1B-49B6-995D-FA42D398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73580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71320" y="4052880"/>
            <a:ext cx="73580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9F6EA-F3D7-44CF-838A-3C3968AD6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34196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71320" y="405288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341960" y="405288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2C329-C6BC-47A4-87A0-38659C15A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059280" y="178596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547240" y="178596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71320" y="405288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059280" y="405288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547240" y="405288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FCC13-68EF-4DAF-B785-1F2B2D197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5D3AA-AA6D-4A66-94E0-04232272D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71320" y="1785960"/>
            <a:ext cx="735804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218F5-1122-404A-95B9-961AE139A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73580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77E2F-22B9-4EA8-B51B-EE6CE3E41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35906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41960" y="1785960"/>
            <a:ext cx="35906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421E-4AE7-4168-8EC8-492A16065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35906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341960" y="1785960"/>
            <a:ext cx="35906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240FE-E9E6-4B56-9C79-10E44987E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6AA3E-330E-409E-9465-C7FEB6332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71320" y="999720"/>
            <a:ext cx="7358040" cy="33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3D8F2-F83F-4A43-8C3D-DBF36EF81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341960" y="1785960"/>
            <a:ext cx="35906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71320" y="405288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C6354-1FBE-4C16-8E58-41AA0EDD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35906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34196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341960" y="405288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7344E-D54E-4408-BDDB-E5D9FFE1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34196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71320" y="4052880"/>
            <a:ext cx="73580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E5336-C932-470D-82EE-0B27453A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73580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71320" y="4052880"/>
            <a:ext cx="73580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3BAFF-0235-4C76-AEED-A9A1B88A5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34196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71320" y="405288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341960" y="405288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514AF-4BF5-44FB-82EF-24C11F872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059280" y="178596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547240" y="178596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71320" y="405288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059280" y="405288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547240" y="405288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4D528-408C-4A73-811B-37D60598D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8857A-41C7-4661-81E7-57BCB356E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F35A-5130-402C-9534-839CEDC08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71320" y="1785960"/>
            <a:ext cx="735804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47148-07E9-4D2C-BF03-71BF19D91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73580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DAFB9-19E6-4841-A94A-77A926A42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35906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341960" y="1785960"/>
            <a:ext cx="35906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10547-F482-4272-9F3D-8DFC150C5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A0250-2313-49B6-BDF9-1CC0BB2E9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71320" y="999720"/>
            <a:ext cx="7358040" cy="33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F7011-8749-4868-B379-0584FF428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341960" y="1785960"/>
            <a:ext cx="35906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71320" y="405288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92241-F2E2-4D83-ABF5-156FEA74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35906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34196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341960" y="405288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6A76E-3BB2-4BC2-8102-75CD6990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4196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71320" y="4052880"/>
            <a:ext cx="73580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16F17-026A-440D-82C4-329E328D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73580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71320" y="4052880"/>
            <a:ext cx="73580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CED98-0DC7-4662-94E1-CD78CC4A7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34196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71320" y="405288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341960" y="405288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20206-A9F4-4F95-B8A5-4F735CA89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1320" y="999720"/>
            <a:ext cx="7358040" cy="33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E01E-A1FC-4CE1-94AB-7C8FCCE8E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059280" y="178596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547240" y="178596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71320" y="405288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059280" y="405288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547240" y="405288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C683F-492F-4703-AE9A-5C81AF7DF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DA6A4-D120-4F1C-8BBA-13C78291E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71320" y="1785960"/>
            <a:ext cx="735804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6C088-A3B6-44B1-8084-D805E378D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73580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D457A-FE9B-42B4-966B-7A60E8A82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35906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341960" y="1785960"/>
            <a:ext cx="35906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4DA44-032C-4673-86C3-2E62260D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FB858-D518-42C7-A231-8B8359D6C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71320" y="999720"/>
            <a:ext cx="7358040" cy="33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6CB02-E3D8-42F1-85C6-FF79C1B8D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341960" y="1785960"/>
            <a:ext cx="35906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71320" y="405288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38FEE-6BEB-4F17-A3E6-644D78AA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35906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34196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341960" y="405288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05149-5EB4-4AFA-871D-AD9EC947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34196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71320" y="4052880"/>
            <a:ext cx="73580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4F37A-420C-4C87-B0BF-E0556A25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41960" y="1785960"/>
            <a:ext cx="35906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71320" y="405288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6BB6-2BED-405F-A74D-418C1029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73580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71320" y="4052880"/>
            <a:ext cx="73580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FFF17-4A14-40F5-A4F5-D14BF3BB7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34196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71320" y="405288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341960" y="405288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4518C-7DE3-4F4A-9073-06EBE4EDD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059280" y="178596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547240" y="178596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71320" y="405288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059280" y="405288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547240" y="405288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162A2-24A1-4BD2-9D44-F0DFB0900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7BD94-3F65-4E82-B085-FF98B7890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71320" y="1785960"/>
            <a:ext cx="735804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E0AE2E-F08A-4542-BFA3-385C93B87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73580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1419A4-4B81-460B-A0BE-4C047095E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35906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341960" y="1785960"/>
            <a:ext cx="35906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6D41D-BCC1-4D83-8A40-DF0ADD00F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2B643-A94C-44C1-AC2F-ADC7637B0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71320" y="999720"/>
            <a:ext cx="7358040" cy="33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D1CDEF-68E3-4A5A-A484-EE422C28C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341960" y="1785960"/>
            <a:ext cx="35906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71320" y="405288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C888BA-ED97-4FA4-B911-8F6512AA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35906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4196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41960" y="405288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C8C2-9A3D-4929-AFC1-2D7D38B1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35906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34196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341960" y="405288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9739B1-7698-4E2D-966E-C06DD486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34196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71320" y="4052880"/>
            <a:ext cx="73580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713205-6B6C-48AE-855F-A3AE74B7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73580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71320" y="4052880"/>
            <a:ext cx="73580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2C24E3-6A02-4438-BE17-42609AB28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34196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71320" y="405288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341960" y="405288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C4A171-50FA-4109-A7B9-878595C4C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059280" y="178596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547240" y="178596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71320" y="405288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059280" y="405288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547240" y="405288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429C0A-BC3A-4874-9784-F47403A6A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A7B7B-AF02-47A3-B9E9-2C383F838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71320" y="1785960"/>
            <a:ext cx="735804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7140EB-504B-463E-8439-F675D6565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73580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5A6CD-A0B6-4949-BD6C-00E76B4A2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35906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341960" y="1785960"/>
            <a:ext cx="35906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A714A0-72F6-4B47-9140-7A2CCEA7C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7A24E0-87E5-46D7-94CB-6B579B940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4196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1320" y="4052880"/>
            <a:ext cx="73580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43F4-D298-4CBF-9F06-D22F84F8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71320" y="999720"/>
            <a:ext cx="7358040" cy="33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CFFC61-8ECF-46BB-B39E-3385D26B8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341960" y="1785960"/>
            <a:ext cx="35906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71320" y="405288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72D6B-3A59-4CDA-B2D2-8BB5B784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35906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34196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341960" y="405288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FBDFFE-DC5F-4375-B7D6-5173E9F4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34196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71320" y="4052880"/>
            <a:ext cx="73580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A6F417-B86C-4BF2-94B0-2D9B8EA2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73580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71320" y="4052880"/>
            <a:ext cx="73580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865306-A314-46F0-9249-04700CF94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341960" y="178596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71320" y="405288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341960" y="4052880"/>
            <a:ext cx="3590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359B9-B1E3-4EAA-B0A1-BC3C6D9F3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059280" y="178596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547240" y="178596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71320" y="405288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059280" y="405288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547240" y="4052880"/>
            <a:ext cx="23691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C80C5-F784-41B4-BD8F-DDDA2C1A5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72DB7E-1C21-449C-9888-855E1D402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71320" y="1785960"/>
            <a:ext cx="735804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424731-8A68-428F-8D6C-C7718AA44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73580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0C2047-D42B-4007-994E-860AB88AD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51"/>
                </a:solidFill>
                <a:latin typeface="Baltimore Nouveau"/>
              </a:rPr>
              <a:t>Click to edit the title text format</a:t>
            </a: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1320" y="1785960"/>
            <a:ext cx="73580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d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Click to edit the outline text format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1" marL="743040" indent="-285840">
              <a:spcBef>
                <a:spcPts val="799"/>
              </a:spcBef>
              <a:buClr>
                <a:srgbClr val="f8d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Second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2" marL="1143000" indent="-228600">
              <a:spcBef>
                <a:spcPts val="799"/>
              </a:spcBef>
              <a:buClr>
                <a:srgbClr val="f8d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Third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3" marL="1600200" indent="-228600">
              <a:spcBef>
                <a:spcPts val="799"/>
              </a:spcBef>
              <a:buClr>
                <a:srgbClr val="f8d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Fourth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4" marL="2057400" indent="-228600">
              <a:spcBef>
                <a:spcPts val="799"/>
              </a:spcBef>
              <a:buClr>
                <a:srgbClr val="f8d6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Fifth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5" marL="2057400" indent="-228600">
              <a:spcBef>
                <a:spcPts val="799"/>
              </a:spcBef>
              <a:buClr>
                <a:srgbClr val="58006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Sixth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6" marL="2057400" indent="-228600">
              <a:spcBef>
                <a:spcPts val="799"/>
              </a:spcBef>
              <a:buClr>
                <a:srgbClr val="58006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Seventh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1042920" cy="292320"/>
          </a:xfrm>
          <a:prstGeom prst="rect">
            <a:avLst/>
          </a:prstGeom>
          <a:solidFill>
            <a:srgbClr val="dff474"/>
          </a:solidFill>
          <a:ln w="11520">
            <a:solidFill>
              <a:srgbClr val="a4b353"/>
            </a:solidFill>
            <a:prstDash val="sysDash"/>
            <a:miter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b050"/>
                </a:solidFill>
                <a:latin typeface="Cleopat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Cleopat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99880" y="6429240"/>
            <a:ext cx="3357720" cy="285840"/>
          </a:xfrm>
          <a:prstGeom prst="rect">
            <a:avLst/>
          </a:prstGeom>
          <a:solidFill>
            <a:srgbClr val="dff474"/>
          </a:solidFill>
          <a:ln w="11520">
            <a:solidFill>
              <a:srgbClr val="a4b353"/>
            </a:solidFill>
            <a:prstDash val="sysDash"/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006c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58120" y="6429240"/>
            <a:ext cx="642960" cy="285840"/>
          </a:xfrm>
          <a:prstGeom prst="rect">
            <a:avLst/>
          </a:prstGeom>
          <a:solidFill>
            <a:srgbClr val="dff474"/>
          </a:solidFill>
          <a:ln w="11520">
            <a:solidFill>
              <a:srgbClr val="a4b353"/>
            </a:solidFill>
            <a:prstDash val="sysDash"/>
            <a:miter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a89a2"/>
                </a:solidFill>
                <a:latin typeface="Cleopat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6C3FF-1E7F-4D50-8E72-7EBAD671D629}" type="slidenum">
              <a:rPr b="0" lang="ru-RU" sz="1200" spc="-1" strike="noStrike">
                <a:solidFill>
                  <a:srgbClr val="9a89a2"/>
                </a:solidFill>
                <a:latin typeface="Cleopat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51"/>
                </a:solidFill>
                <a:latin typeface="Baltimore Nouveau"/>
              </a:rPr>
              <a:t>Click to edit the title text format</a:t>
            </a: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1785960"/>
            <a:ext cx="73580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d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Click to edit the outline text format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1" marL="743040" indent="-285840">
              <a:spcBef>
                <a:spcPts val="799"/>
              </a:spcBef>
              <a:buClr>
                <a:srgbClr val="f8d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Second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2" marL="1143000" indent="-228600">
              <a:spcBef>
                <a:spcPts val="799"/>
              </a:spcBef>
              <a:buClr>
                <a:srgbClr val="f8d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Third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3" marL="1600200" indent="-228600">
              <a:spcBef>
                <a:spcPts val="799"/>
              </a:spcBef>
              <a:buClr>
                <a:srgbClr val="f8d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Fourth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4" marL="2057400" indent="-228600">
              <a:spcBef>
                <a:spcPts val="799"/>
              </a:spcBef>
              <a:buClr>
                <a:srgbClr val="f8d6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Fifth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5" marL="2057400" indent="-228600">
              <a:spcBef>
                <a:spcPts val="799"/>
              </a:spcBef>
              <a:buClr>
                <a:srgbClr val="58006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Sixth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6" marL="2057400" indent="-228600">
              <a:spcBef>
                <a:spcPts val="799"/>
              </a:spcBef>
              <a:buClr>
                <a:srgbClr val="58006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Seventh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1042920" cy="292320"/>
          </a:xfrm>
          <a:prstGeom prst="rect">
            <a:avLst/>
          </a:prstGeom>
          <a:solidFill>
            <a:srgbClr val="dff474"/>
          </a:solidFill>
          <a:ln w="11520">
            <a:solidFill>
              <a:srgbClr val="a4b353"/>
            </a:solidFill>
            <a:prstDash val="sysDash"/>
            <a:miter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b05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999880" y="6429240"/>
            <a:ext cx="3357720" cy="285840"/>
          </a:xfrm>
          <a:prstGeom prst="rect">
            <a:avLst/>
          </a:prstGeom>
          <a:solidFill>
            <a:srgbClr val="dff474"/>
          </a:solidFill>
          <a:ln w="11520">
            <a:solidFill>
              <a:srgbClr val="a4b353"/>
            </a:solidFill>
            <a:prstDash val="sysDash"/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006c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358120" y="6429240"/>
            <a:ext cx="642960" cy="285840"/>
          </a:xfrm>
          <a:prstGeom prst="rect">
            <a:avLst/>
          </a:prstGeom>
          <a:solidFill>
            <a:srgbClr val="dff474"/>
          </a:solidFill>
          <a:ln w="11520">
            <a:solidFill>
              <a:srgbClr val="a4b353"/>
            </a:solidFill>
            <a:prstDash val="sysDash"/>
            <a:miter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a89a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1F64A-9A81-4BFC-A579-31AED9264934}" type="slidenum">
              <a:rPr b="0" lang="ru-RU" sz="1200" spc="-1" strike="noStrike">
                <a:solidFill>
                  <a:srgbClr val="9a89a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51"/>
                </a:solidFill>
                <a:latin typeface="Baltimore Nouveau"/>
              </a:rPr>
              <a:t>Click to edit the title text format</a:t>
            </a: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71320" y="1785960"/>
            <a:ext cx="73580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d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Click to edit the outline text format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1" marL="743040" indent="-285840">
              <a:spcBef>
                <a:spcPts val="799"/>
              </a:spcBef>
              <a:buClr>
                <a:srgbClr val="f8d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Second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2" marL="1143000" indent="-228600">
              <a:spcBef>
                <a:spcPts val="799"/>
              </a:spcBef>
              <a:buClr>
                <a:srgbClr val="f8d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Third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3" marL="1600200" indent="-228600">
              <a:spcBef>
                <a:spcPts val="799"/>
              </a:spcBef>
              <a:buClr>
                <a:srgbClr val="f8d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Fourth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4" marL="2057400" indent="-228600">
              <a:spcBef>
                <a:spcPts val="799"/>
              </a:spcBef>
              <a:buClr>
                <a:srgbClr val="f8d6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Fifth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5" marL="2057400" indent="-228600">
              <a:spcBef>
                <a:spcPts val="799"/>
              </a:spcBef>
              <a:buClr>
                <a:srgbClr val="58006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Sixth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6" marL="2057400" indent="-228600">
              <a:spcBef>
                <a:spcPts val="799"/>
              </a:spcBef>
              <a:buClr>
                <a:srgbClr val="58006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Seventh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429240"/>
            <a:ext cx="1042920" cy="292320"/>
          </a:xfrm>
          <a:prstGeom prst="rect">
            <a:avLst/>
          </a:prstGeom>
          <a:solidFill>
            <a:srgbClr val="dff474"/>
          </a:solidFill>
          <a:ln w="11520">
            <a:solidFill>
              <a:srgbClr val="a4b353"/>
            </a:solidFill>
            <a:prstDash val="sysDash"/>
            <a:miter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b05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2999880" y="6429240"/>
            <a:ext cx="3357720" cy="285840"/>
          </a:xfrm>
          <a:prstGeom prst="rect">
            <a:avLst/>
          </a:prstGeom>
          <a:solidFill>
            <a:srgbClr val="dff474"/>
          </a:solidFill>
          <a:ln w="11520">
            <a:solidFill>
              <a:srgbClr val="a4b353"/>
            </a:solidFill>
            <a:prstDash val="sysDash"/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006c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358120" y="6429240"/>
            <a:ext cx="642960" cy="285840"/>
          </a:xfrm>
          <a:prstGeom prst="rect">
            <a:avLst/>
          </a:prstGeom>
          <a:solidFill>
            <a:srgbClr val="dff474"/>
          </a:solidFill>
          <a:ln w="11520">
            <a:solidFill>
              <a:srgbClr val="a4b353"/>
            </a:solidFill>
            <a:prstDash val="sysDash"/>
            <a:miter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a89a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6C0B1-76B5-47F4-87C1-BD72F4B69D79}" type="slidenum">
              <a:rPr b="0" lang="ru-RU" sz="1200" spc="-1" strike="noStrike">
                <a:solidFill>
                  <a:srgbClr val="9a89a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51"/>
                </a:solidFill>
                <a:latin typeface="Baltimore Nouveau"/>
              </a:rPr>
              <a:t>Click to edit the title text format</a:t>
            </a: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71320" y="1785960"/>
            <a:ext cx="73580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d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Click to edit the outline text format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1" marL="743040" indent="-285840">
              <a:spcBef>
                <a:spcPts val="799"/>
              </a:spcBef>
              <a:buClr>
                <a:srgbClr val="f8d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Second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2" marL="1143000" indent="-228600">
              <a:spcBef>
                <a:spcPts val="799"/>
              </a:spcBef>
              <a:buClr>
                <a:srgbClr val="f8d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Third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3" marL="1600200" indent="-228600">
              <a:spcBef>
                <a:spcPts val="799"/>
              </a:spcBef>
              <a:buClr>
                <a:srgbClr val="f8d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Fourth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4" marL="2057400" indent="-228600">
              <a:spcBef>
                <a:spcPts val="799"/>
              </a:spcBef>
              <a:buClr>
                <a:srgbClr val="f8d6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Fifth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5" marL="2057400" indent="-228600">
              <a:spcBef>
                <a:spcPts val="799"/>
              </a:spcBef>
              <a:buClr>
                <a:srgbClr val="58006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Sixth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6" marL="2057400" indent="-228600">
              <a:spcBef>
                <a:spcPts val="799"/>
              </a:spcBef>
              <a:buClr>
                <a:srgbClr val="58006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Seventh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429240"/>
            <a:ext cx="1042920" cy="292320"/>
          </a:xfrm>
          <a:prstGeom prst="rect">
            <a:avLst/>
          </a:prstGeom>
          <a:solidFill>
            <a:srgbClr val="dff474"/>
          </a:solidFill>
          <a:ln w="11520">
            <a:solidFill>
              <a:srgbClr val="a4b353"/>
            </a:solidFill>
            <a:prstDash val="sysDash"/>
            <a:miter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b05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2999880" y="6429240"/>
            <a:ext cx="3357720" cy="285840"/>
          </a:xfrm>
          <a:prstGeom prst="rect">
            <a:avLst/>
          </a:prstGeom>
          <a:solidFill>
            <a:srgbClr val="dff474"/>
          </a:solidFill>
          <a:ln w="11520">
            <a:solidFill>
              <a:srgbClr val="a4b353"/>
            </a:solidFill>
            <a:prstDash val="sysDash"/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006c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358120" y="6429240"/>
            <a:ext cx="642960" cy="285840"/>
          </a:xfrm>
          <a:prstGeom prst="rect">
            <a:avLst/>
          </a:prstGeom>
          <a:solidFill>
            <a:srgbClr val="dff474"/>
          </a:solidFill>
          <a:ln w="11520">
            <a:solidFill>
              <a:srgbClr val="a4b353"/>
            </a:solidFill>
            <a:prstDash val="sysDash"/>
            <a:miter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a89a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A599F-6F07-4842-A7D8-D4F264778D81}" type="slidenum">
              <a:rPr b="0" lang="ru-RU" sz="1200" spc="-1" strike="noStrike">
                <a:solidFill>
                  <a:srgbClr val="9a89a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51"/>
                </a:solidFill>
                <a:latin typeface="Baltimore Nouveau"/>
              </a:rPr>
              <a:t>Click to edit the title text format</a:t>
            </a: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71320" y="1785960"/>
            <a:ext cx="73580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d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Click to edit the outline text format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1" marL="743040" indent="-285840">
              <a:spcBef>
                <a:spcPts val="799"/>
              </a:spcBef>
              <a:buClr>
                <a:srgbClr val="f8d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Second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2" marL="1143000" indent="-228600">
              <a:spcBef>
                <a:spcPts val="799"/>
              </a:spcBef>
              <a:buClr>
                <a:srgbClr val="f8d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Third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3" marL="1600200" indent="-228600">
              <a:spcBef>
                <a:spcPts val="799"/>
              </a:spcBef>
              <a:buClr>
                <a:srgbClr val="f8d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Fourth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4" marL="2057400" indent="-228600">
              <a:spcBef>
                <a:spcPts val="799"/>
              </a:spcBef>
              <a:buClr>
                <a:srgbClr val="f8d6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Fifth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5" marL="2057400" indent="-228600">
              <a:spcBef>
                <a:spcPts val="799"/>
              </a:spcBef>
              <a:buClr>
                <a:srgbClr val="58006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Sixth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6" marL="2057400" indent="-228600">
              <a:spcBef>
                <a:spcPts val="799"/>
              </a:spcBef>
              <a:buClr>
                <a:srgbClr val="58006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Seventh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429240"/>
            <a:ext cx="1042920" cy="292320"/>
          </a:xfrm>
          <a:prstGeom prst="rect">
            <a:avLst/>
          </a:prstGeom>
          <a:solidFill>
            <a:srgbClr val="dff474"/>
          </a:solidFill>
          <a:ln w="11520">
            <a:solidFill>
              <a:srgbClr val="a4b353"/>
            </a:solidFill>
            <a:prstDash val="sysDash"/>
            <a:miter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b05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2999880" y="6429240"/>
            <a:ext cx="3357720" cy="285840"/>
          </a:xfrm>
          <a:prstGeom prst="rect">
            <a:avLst/>
          </a:prstGeom>
          <a:solidFill>
            <a:srgbClr val="dff474"/>
          </a:solidFill>
          <a:ln w="11520">
            <a:solidFill>
              <a:srgbClr val="a4b353"/>
            </a:solidFill>
            <a:prstDash val="sysDash"/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006c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358120" y="6429240"/>
            <a:ext cx="642960" cy="285840"/>
          </a:xfrm>
          <a:prstGeom prst="rect">
            <a:avLst/>
          </a:prstGeom>
          <a:solidFill>
            <a:srgbClr val="dff474"/>
          </a:solidFill>
          <a:ln w="11520">
            <a:solidFill>
              <a:srgbClr val="a4b353"/>
            </a:solidFill>
            <a:prstDash val="sysDash"/>
            <a:miter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a89a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0DBC4-E2E7-4C1C-8FD1-DE4EE94B926A}" type="slidenum">
              <a:rPr b="0" lang="ru-RU" sz="1200" spc="-1" strike="noStrike">
                <a:solidFill>
                  <a:srgbClr val="9a89a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51"/>
                </a:solidFill>
                <a:latin typeface="Baltimore Nouveau"/>
              </a:rPr>
              <a:t>Click to edit the title text format</a:t>
            </a: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71320" y="1785960"/>
            <a:ext cx="73580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d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Click to edit the outline text format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1" marL="743040" indent="-285840">
              <a:spcBef>
                <a:spcPts val="799"/>
              </a:spcBef>
              <a:buClr>
                <a:srgbClr val="f8d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Second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2" marL="1143000" indent="-228600">
              <a:spcBef>
                <a:spcPts val="799"/>
              </a:spcBef>
              <a:buClr>
                <a:srgbClr val="f8d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Third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3" marL="1600200" indent="-228600">
              <a:spcBef>
                <a:spcPts val="799"/>
              </a:spcBef>
              <a:buClr>
                <a:srgbClr val="f8d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Fourth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4" marL="2057400" indent="-228600">
              <a:spcBef>
                <a:spcPts val="799"/>
              </a:spcBef>
              <a:buClr>
                <a:srgbClr val="f8d6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Fifth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5" marL="2057400" indent="-228600">
              <a:spcBef>
                <a:spcPts val="799"/>
              </a:spcBef>
              <a:buClr>
                <a:srgbClr val="58006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Sixth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6" marL="2057400" indent="-228600">
              <a:spcBef>
                <a:spcPts val="799"/>
              </a:spcBef>
              <a:buClr>
                <a:srgbClr val="58006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Seventh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429240"/>
            <a:ext cx="1042920" cy="292320"/>
          </a:xfrm>
          <a:prstGeom prst="rect">
            <a:avLst/>
          </a:prstGeom>
          <a:solidFill>
            <a:srgbClr val="dff474"/>
          </a:solidFill>
          <a:ln w="11520">
            <a:solidFill>
              <a:srgbClr val="a4b353"/>
            </a:solidFill>
            <a:prstDash val="sysDash"/>
            <a:miter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b05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2999880" y="6429240"/>
            <a:ext cx="3357720" cy="285840"/>
          </a:xfrm>
          <a:prstGeom prst="rect">
            <a:avLst/>
          </a:prstGeom>
          <a:solidFill>
            <a:srgbClr val="dff474"/>
          </a:solidFill>
          <a:ln w="11520">
            <a:solidFill>
              <a:srgbClr val="a4b353"/>
            </a:solidFill>
            <a:prstDash val="sysDash"/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006c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358120" y="6429240"/>
            <a:ext cx="642960" cy="285840"/>
          </a:xfrm>
          <a:prstGeom prst="rect">
            <a:avLst/>
          </a:prstGeom>
          <a:solidFill>
            <a:srgbClr val="dff474"/>
          </a:solidFill>
          <a:ln w="11520">
            <a:solidFill>
              <a:srgbClr val="a4b353"/>
            </a:solidFill>
            <a:prstDash val="sysDash"/>
            <a:miter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a89a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352A3-F604-4223-9E6F-3E28FFA2BF1E}" type="slidenum">
              <a:rPr b="0" lang="ru-RU" sz="1200" spc="-1" strike="noStrike">
                <a:solidFill>
                  <a:srgbClr val="9a89a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51"/>
                </a:solidFill>
                <a:latin typeface="Baltimore Nouveau"/>
              </a:rPr>
              <a:t>Click to edit the title text format</a:t>
            </a: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71320" y="1785960"/>
            <a:ext cx="73580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d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Click to edit the outline text format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1" marL="743040" indent="-285840">
              <a:spcBef>
                <a:spcPts val="799"/>
              </a:spcBef>
              <a:buClr>
                <a:srgbClr val="f8d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Second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2" marL="1143000" indent="-228600">
              <a:spcBef>
                <a:spcPts val="799"/>
              </a:spcBef>
              <a:buClr>
                <a:srgbClr val="f8d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Third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3" marL="1600200" indent="-228600">
              <a:spcBef>
                <a:spcPts val="799"/>
              </a:spcBef>
              <a:buClr>
                <a:srgbClr val="f8d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Fourth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4" marL="2057400" indent="-228600">
              <a:spcBef>
                <a:spcPts val="799"/>
              </a:spcBef>
              <a:buClr>
                <a:srgbClr val="f8d6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Fifth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5" marL="2057400" indent="-228600">
              <a:spcBef>
                <a:spcPts val="799"/>
              </a:spcBef>
              <a:buClr>
                <a:srgbClr val="58006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Sixth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6" marL="2057400" indent="-228600">
              <a:spcBef>
                <a:spcPts val="799"/>
              </a:spcBef>
              <a:buClr>
                <a:srgbClr val="58006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Seventh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429240"/>
            <a:ext cx="1042920" cy="292320"/>
          </a:xfrm>
          <a:prstGeom prst="rect">
            <a:avLst/>
          </a:prstGeom>
          <a:solidFill>
            <a:srgbClr val="dff474"/>
          </a:solidFill>
          <a:ln w="11520">
            <a:solidFill>
              <a:srgbClr val="a4b353"/>
            </a:solidFill>
            <a:prstDash val="sysDash"/>
            <a:miter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b05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2999880" y="6429240"/>
            <a:ext cx="3357720" cy="285840"/>
          </a:xfrm>
          <a:prstGeom prst="rect">
            <a:avLst/>
          </a:prstGeom>
          <a:solidFill>
            <a:srgbClr val="dff474"/>
          </a:solidFill>
          <a:ln w="11520">
            <a:solidFill>
              <a:srgbClr val="a4b353"/>
            </a:solidFill>
            <a:prstDash val="sysDash"/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006c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358120" y="6429240"/>
            <a:ext cx="642960" cy="285840"/>
          </a:xfrm>
          <a:prstGeom prst="rect">
            <a:avLst/>
          </a:prstGeom>
          <a:solidFill>
            <a:srgbClr val="dff474"/>
          </a:solidFill>
          <a:ln w="11520">
            <a:solidFill>
              <a:srgbClr val="a4b353"/>
            </a:solidFill>
            <a:prstDash val="sysDash"/>
            <a:miter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a89a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E6C5A-EAAF-473D-B0CE-75B1AA7F9CD6}" type="slidenum">
              <a:rPr b="0" lang="ru-RU" sz="1200" spc="-1" strike="noStrike">
                <a:solidFill>
                  <a:srgbClr val="9a89a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51"/>
                </a:solidFill>
                <a:latin typeface="Baltimore Nouveau"/>
              </a:rPr>
              <a:t>Click to edit the title text format</a:t>
            </a: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71320" y="1785960"/>
            <a:ext cx="73580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d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Click to edit the outline text format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1" marL="743040" indent="-285840">
              <a:spcBef>
                <a:spcPts val="799"/>
              </a:spcBef>
              <a:buClr>
                <a:srgbClr val="f8d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Second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2" marL="1143000" indent="-228600">
              <a:spcBef>
                <a:spcPts val="799"/>
              </a:spcBef>
              <a:buClr>
                <a:srgbClr val="f8d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Third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3" marL="1600200" indent="-228600">
              <a:spcBef>
                <a:spcPts val="799"/>
              </a:spcBef>
              <a:buClr>
                <a:srgbClr val="f8d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Fourth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4" marL="2057400" indent="-228600">
              <a:spcBef>
                <a:spcPts val="799"/>
              </a:spcBef>
              <a:buClr>
                <a:srgbClr val="f8d6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Fifth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5" marL="2057400" indent="-228600">
              <a:spcBef>
                <a:spcPts val="799"/>
              </a:spcBef>
              <a:buClr>
                <a:srgbClr val="58006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Sixth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6" marL="2057400" indent="-228600">
              <a:spcBef>
                <a:spcPts val="799"/>
              </a:spcBef>
              <a:buClr>
                <a:srgbClr val="58006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Seventh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429240"/>
            <a:ext cx="1042920" cy="292320"/>
          </a:xfrm>
          <a:prstGeom prst="rect">
            <a:avLst/>
          </a:prstGeom>
          <a:solidFill>
            <a:srgbClr val="dff474"/>
          </a:solidFill>
          <a:ln w="11520">
            <a:solidFill>
              <a:srgbClr val="a4b353"/>
            </a:solidFill>
            <a:prstDash val="sysDash"/>
            <a:miter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b05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2999880" y="6429240"/>
            <a:ext cx="3357720" cy="285840"/>
          </a:xfrm>
          <a:prstGeom prst="rect">
            <a:avLst/>
          </a:prstGeom>
          <a:solidFill>
            <a:srgbClr val="dff474"/>
          </a:solidFill>
          <a:ln w="11520">
            <a:solidFill>
              <a:srgbClr val="a4b353"/>
            </a:solidFill>
            <a:prstDash val="sysDash"/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006c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358120" y="6429240"/>
            <a:ext cx="642960" cy="285840"/>
          </a:xfrm>
          <a:prstGeom prst="rect">
            <a:avLst/>
          </a:prstGeom>
          <a:solidFill>
            <a:srgbClr val="dff474"/>
          </a:solidFill>
          <a:ln w="11520">
            <a:solidFill>
              <a:srgbClr val="a4b353"/>
            </a:solidFill>
            <a:prstDash val="sysDash"/>
            <a:miter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a89a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8830-20F9-425F-9F91-D4BA26AAACFD}" type="slidenum">
              <a:rPr b="0" lang="ru-RU" sz="1200" spc="-1" strike="noStrike">
                <a:solidFill>
                  <a:srgbClr val="9a89a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51"/>
                </a:solidFill>
                <a:latin typeface="Baltimore Nouveau"/>
              </a:rPr>
              <a:t>Click to edit the title text format</a:t>
            </a:r>
            <a:endParaRPr b="0" lang="en-US" sz="32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71320" y="1785960"/>
            <a:ext cx="735804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d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Click to edit the outline text format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1" marL="743040" indent="-285840">
              <a:spcBef>
                <a:spcPts val="799"/>
              </a:spcBef>
              <a:buClr>
                <a:srgbClr val="f8d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Second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2" marL="1143000" indent="-228600">
              <a:spcBef>
                <a:spcPts val="799"/>
              </a:spcBef>
              <a:buClr>
                <a:srgbClr val="f8d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Third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3" marL="1600200" indent="-228600">
              <a:spcBef>
                <a:spcPts val="799"/>
              </a:spcBef>
              <a:buClr>
                <a:srgbClr val="f8d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Fourth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4" marL="2057400" indent="-228600">
              <a:spcBef>
                <a:spcPts val="799"/>
              </a:spcBef>
              <a:buClr>
                <a:srgbClr val="f8d6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Fifth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5" marL="2057400" indent="-228600">
              <a:spcBef>
                <a:spcPts val="799"/>
              </a:spcBef>
              <a:buClr>
                <a:srgbClr val="58006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Sixth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  <a:p>
            <a:pPr lvl="6" marL="2057400" indent="-228600">
              <a:spcBef>
                <a:spcPts val="799"/>
              </a:spcBef>
              <a:buClr>
                <a:srgbClr val="58006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d6ff"/>
                </a:solidFill>
                <a:latin typeface="Cleopatra"/>
              </a:rPr>
              <a:t>Seventh Outline Level</a:t>
            </a:r>
            <a:endParaRPr b="0" lang="en-US" sz="32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429240"/>
            <a:ext cx="1042920" cy="292320"/>
          </a:xfrm>
          <a:prstGeom prst="rect">
            <a:avLst/>
          </a:prstGeom>
          <a:solidFill>
            <a:srgbClr val="dff474"/>
          </a:solidFill>
          <a:ln w="11520">
            <a:solidFill>
              <a:srgbClr val="a4b353"/>
            </a:solidFill>
            <a:prstDash val="sysDash"/>
            <a:miter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b05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2999880" y="6429240"/>
            <a:ext cx="3357720" cy="285840"/>
          </a:xfrm>
          <a:prstGeom prst="rect">
            <a:avLst/>
          </a:prstGeom>
          <a:solidFill>
            <a:srgbClr val="dff474"/>
          </a:solidFill>
          <a:ln w="11520">
            <a:solidFill>
              <a:srgbClr val="a4b353"/>
            </a:solidFill>
            <a:prstDash val="sysDash"/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006c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358120" y="6429240"/>
            <a:ext cx="642960" cy="285840"/>
          </a:xfrm>
          <a:prstGeom prst="rect">
            <a:avLst/>
          </a:prstGeom>
          <a:solidFill>
            <a:srgbClr val="dff474"/>
          </a:solidFill>
          <a:ln w="11520">
            <a:solidFill>
              <a:srgbClr val="a4b353"/>
            </a:solidFill>
            <a:prstDash val="sysDash"/>
            <a:miter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a89a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94F78-04F4-437C-ADA9-B12399E2B801}" type="slidenum">
              <a:rPr b="0" lang="ru-RU" sz="1200" spc="-1" strike="noStrike">
                <a:solidFill>
                  <a:srgbClr val="9a89a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539280" y="1700280"/>
            <a:ext cx="73580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7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 u="sng">
                <a:solidFill>
                  <a:srgbClr val="ffadcd"/>
                </a:solidFill>
                <a:uFillTx/>
                <a:latin typeface="Cleopatra"/>
              </a:rPr>
              <a:t>Основанный на реальных </a:t>
            </a:r>
            <a:endParaRPr b="0" lang="en-US" sz="3400" spc="-1" strike="noStrike">
              <a:solidFill>
                <a:srgbClr val="f8d6ff"/>
              </a:solidFill>
              <a:latin typeface="Cleopatra"/>
            </a:endParaRPr>
          </a:p>
          <a:p>
            <a:pPr algn="ctr">
              <a:lnSpc>
                <a:spcPct val="7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 u="sng">
                <a:solidFill>
                  <a:srgbClr val="ffadcd"/>
                </a:solidFill>
                <a:uFillTx/>
                <a:latin typeface="Cleopatra"/>
              </a:rPr>
              <a:t>Фотографиях. </a:t>
            </a:r>
            <a:endParaRPr b="0" lang="en-US" sz="3400" spc="-1" strike="noStrike">
              <a:solidFill>
                <a:srgbClr val="f8d6ff"/>
              </a:solidFill>
              <a:latin typeface="Cleopatra"/>
            </a:endParaRPr>
          </a:p>
          <a:p>
            <a:pPr algn="ctr">
              <a:lnSpc>
                <a:spcPct val="7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d6ff"/>
              </a:solidFill>
              <a:latin typeface="Cleopatra"/>
            </a:endParaRPr>
          </a:p>
          <a:p>
            <a:pPr algn="ctr">
              <a:lnSpc>
                <a:spcPct val="7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8006c"/>
                </a:solidFill>
                <a:latin typeface="Cleopatra"/>
              </a:rPr>
              <a:t>«</a:t>
            </a:r>
            <a:r>
              <a:rPr b="1" i="1" lang="ru-RU" sz="5000" spc="-1" strike="noStrike">
                <a:solidFill>
                  <a:srgbClr val="32003e"/>
                </a:solidFill>
                <a:latin typeface="Cleopatra"/>
              </a:rPr>
              <a:t>Мама</a:t>
            </a:r>
            <a:r>
              <a:rPr b="1" i="1" lang="ru-RU" sz="4400" spc="-1" strike="noStrike">
                <a:solidFill>
                  <a:srgbClr val="58006c"/>
                </a:solidFill>
                <a:latin typeface="Cleopatra"/>
              </a:rPr>
              <a:t>,</a:t>
            </a:r>
            <a:endParaRPr b="0" lang="en-US" sz="4400" spc="-1" strike="noStrike">
              <a:solidFill>
                <a:srgbClr val="f8d6ff"/>
              </a:solidFill>
              <a:latin typeface="Cleopatra"/>
            </a:endParaRPr>
          </a:p>
          <a:p>
            <a:pPr algn="ctr">
              <a:lnSpc>
                <a:spcPct val="7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8006c"/>
                </a:solidFill>
                <a:latin typeface="Cleopatra"/>
              </a:rPr>
              <a:t>Всего четыре буквы, </a:t>
            </a:r>
            <a:endParaRPr b="0" lang="en-US" sz="4400" spc="-1" strike="noStrike">
              <a:solidFill>
                <a:srgbClr val="f8d6ff"/>
              </a:solidFill>
              <a:latin typeface="Cleopatra"/>
            </a:endParaRPr>
          </a:p>
          <a:p>
            <a:pPr algn="ctr">
              <a:lnSpc>
                <a:spcPct val="7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8006c"/>
                </a:solidFill>
                <a:latin typeface="Cleopatra"/>
              </a:rPr>
              <a:t>а смысл длиною </a:t>
            </a:r>
            <a:endParaRPr b="0" lang="en-US" sz="4400" spc="-1" strike="noStrike">
              <a:solidFill>
                <a:srgbClr val="f8d6ff"/>
              </a:solidFill>
              <a:latin typeface="Cleopatra"/>
            </a:endParaRPr>
          </a:p>
          <a:p>
            <a:pPr algn="ctr">
              <a:lnSpc>
                <a:spcPct val="7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8006c"/>
                </a:solidFill>
                <a:latin typeface="Cleopatra"/>
              </a:rPr>
              <a:t>в жизнь …»</a:t>
            </a:r>
            <a:endParaRPr b="0" lang="en-US" sz="44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7358040" cy="106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58006c"/>
                </a:solidFill>
                <a:latin typeface="Baltimore Nouveau"/>
              </a:rPr>
              <a:t>Фотофильм.</a:t>
            </a:r>
            <a:endParaRPr b="0" lang="en-US" sz="6000" spc="-1" strike="noStrike">
              <a:solidFill>
                <a:srgbClr val="420051"/>
              </a:solidFill>
              <a:latin typeface="Baltimore Nouveau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-255600" y="2401920"/>
            <a:ext cx="3603600" cy="46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164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5fb11"/>
                </a:solidFill>
                <a:latin typeface="Cleopatra"/>
              </a:rPr>
              <a:t>Людочка-крохотулечка, </a:t>
            </a:r>
            <a:endParaRPr b="0" lang="en-US" sz="1800" spc="-1" strike="noStrike">
              <a:solidFill>
                <a:srgbClr val="f8d6ff"/>
              </a:solidFill>
              <a:latin typeface="Cleopatra"/>
            </a:endParaRPr>
          </a:p>
          <a:p>
            <a:pPr marL="164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5fb11"/>
                </a:solidFill>
                <a:latin typeface="Cleopatra"/>
              </a:rPr>
              <a:t>ещё такая маленькая, </a:t>
            </a:r>
            <a:endParaRPr b="0" lang="en-US" sz="1800" spc="-1" strike="noStrike">
              <a:solidFill>
                <a:srgbClr val="f8d6ff"/>
              </a:solidFill>
              <a:latin typeface="Cleopatra"/>
            </a:endParaRPr>
          </a:p>
          <a:p>
            <a:pPr marL="164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5fb11"/>
                </a:solidFill>
                <a:latin typeface="Cleopatra"/>
              </a:rPr>
              <a:t>а такая серьёзная</a:t>
            </a:r>
            <a:endParaRPr b="0" lang="en-US" sz="1800" spc="-1" strike="noStrike">
              <a:solidFill>
                <a:srgbClr val="f8d6ff"/>
              </a:solidFill>
              <a:latin typeface="Cleopatra"/>
            </a:endParaRPr>
          </a:p>
        </p:txBody>
      </p:sp>
      <p:pic>
        <p:nvPicPr>
          <p:cNvPr id="394" name="Рисунок 2" descr=""/>
          <p:cNvPicPr/>
          <p:nvPr/>
        </p:nvPicPr>
        <p:blipFill>
          <a:blip r:embed="rId1"/>
          <a:stretch/>
        </p:blipFill>
        <p:spPr>
          <a:xfrm>
            <a:off x="3276720" y="189000"/>
            <a:ext cx="3527280" cy="515772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5"/>
          <p:cNvSpPr/>
          <p:nvPr/>
        </p:nvSpPr>
        <p:spPr>
          <a:xfrm>
            <a:off x="2014560" y="5373720"/>
            <a:ext cx="6051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ddea"/>
                </a:solidFill>
                <a:latin typeface="Cleopatra"/>
                <a:ea typeface="Arial"/>
              </a:rPr>
              <a:t>Мама Кирилла Потапова – Людмила Витальевна</a:t>
            </a:r>
            <a:endParaRPr b="0" lang="en-US" sz="1800" spc="-1" strike="noStrike">
              <a:solidFill>
                <a:srgbClr val="58006c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-397080" y="2421000"/>
            <a:ext cx="36018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5fb11"/>
                </a:solidFill>
                <a:latin typeface="Cleopatra"/>
              </a:rPr>
              <a:t>Сашенька в садочке,</a:t>
            </a:r>
            <a:endParaRPr b="0" lang="en-US" sz="1800" spc="-1" strike="noStrike">
              <a:solidFill>
                <a:srgbClr val="f8d6ff"/>
              </a:solidFill>
              <a:latin typeface="Cleopatr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5fb11"/>
                </a:solidFill>
                <a:latin typeface="Cleopatra"/>
              </a:rPr>
              <a:t> </a:t>
            </a:r>
            <a:r>
              <a:rPr b="1" lang="ru-RU" sz="1800" spc="-1" strike="noStrike">
                <a:solidFill>
                  <a:srgbClr val="f5fb11"/>
                </a:solidFill>
                <a:latin typeface="Cleopatra"/>
              </a:rPr>
              <a:t>рвёт она цветочки.</a:t>
            </a:r>
            <a:endParaRPr b="0" lang="en-US" sz="1800" spc="-1" strike="noStrike">
              <a:solidFill>
                <a:srgbClr val="f8d6ff"/>
              </a:solidFill>
              <a:latin typeface="Cleopatra"/>
            </a:endParaRPr>
          </a:p>
        </p:txBody>
      </p:sp>
      <p:pic>
        <p:nvPicPr>
          <p:cNvPr id="397" name="Рисунок 2" descr=""/>
          <p:cNvPicPr/>
          <p:nvPr/>
        </p:nvPicPr>
        <p:blipFill>
          <a:blip r:embed="rId1"/>
          <a:stretch/>
        </p:blipFill>
        <p:spPr>
          <a:xfrm>
            <a:off x="2987640" y="88920"/>
            <a:ext cx="3457440" cy="532908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5"/>
          <p:cNvSpPr/>
          <p:nvPr/>
        </p:nvSpPr>
        <p:spPr>
          <a:xfrm>
            <a:off x="1403280" y="5445000"/>
            <a:ext cx="6051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ddea"/>
                </a:solidFill>
                <a:latin typeface="Cleopatra"/>
                <a:ea typeface="Arial"/>
              </a:rPr>
              <a:t>Мама Арины Дуловой – Александра Сергеевна</a:t>
            </a:r>
            <a:endParaRPr b="0" lang="en-US" sz="1800" spc="-1" strike="noStrike">
              <a:solidFill>
                <a:srgbClr val="58006c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-108000" y="2498760"/>
            <a:ext cx="360216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5fb11"/>
                </a:solidFill>
                <a:latin typeface="Cleopatra"/>
              </a:rPr>
              <a:t>Ирочка пошла на прогулку</a:t>
            </a:r>
            <a:endParaRPr b="0" lang="en-US" sz="1800" spc="-1" strike="noStrike">
              <a:solidFill>
                <a:srgbClr val="f8d6ff"/>
              </a:solidFill>
              <a:latin typeface="Cleopatra"/>
            </a:endParaRPr>
          </a:p>
          <a:p>
            <a:pPr marL="2844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5fb11"/>
                </a:solidFill>
                <a:latin typeface="Cleopatra"/>
              </a:rPr>
              <a:t> </a:t>
            </a:r>
            <a:r>
              <a:rPr b="1" lang="ru-RU" sz="1800" spc="-1" strike="noStrike">
                <a:solidFill>
                  <a:srgbClr val="f5fb11"/>
                </a:solidFill>
                <a:latin typeface="Cleopatra"/>
              </a:rPr>
              <a:t>лепить снеговика.</a:t>
            </a:r>
            <a:endParaRPr b="0" lang="en-US" sz="1800" spc="-1" strike="noStrike">
              <a:solidFill>
                <a:srgbClr val="f8d6ff"/>
              </a:solidFill>
              <a:latin typeface="Cleopatra"/>
            </a:endParaRPr>
          </a:p>
        </p:txBody>
      </p:sp>
      <p:pic>
        <p:nvPicPr>
          <p:cNvPr id="400" name="Рисунок 2" descr=""/>
          <p:cNvPicPr/>
          <p:nvPr/>
        </p:nvPicPr>
        <p:blipFill>
          <a:blip r:embed="rId1"/>
          <a:stretch/>
        </p:blipFill>
        <p:spPr>
          <a:xfrm>
            <a:off x="3348000" y="233280"/>
            <a:ext cx="3024360" cy="4981680"/>
          </a:xfrm>
          <a:prstGeom prst="rect">
            <a:avLst/>
          </a:prstGeom>
          <a:ln w="0">
            <a:noFill/>
          </a:ln>
        </p:spPr>
      </p:pic>
      <p:sp>
        <p:nvSpPr>
          <p:cNvPr id="401" name="Rectangle 5"/>
          <p:cNvSpPr/>
          <p:nvPr/>
        </p:nvSpPr>
        <p:spPr>
          <a:xfrm>
            <a:off x="1835280" y="5310360"/>
            <a:ext cx="6049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ddea"/>
                </a:solidFill>
                <a:latin typeface="Cleopatra"/>
                <a:ea typeface="Arial"/>
              </a:rPr>
              <a:t>Мама Максима Пономарёва – Ирина Борисовна</a:t>
            </a:r>
            <a:endParaRPr b="0" lang="en-US" sz="1800" spc="-1" strike="noStrike">
              <a:solidFill>
                <a:srgbClr val="58006c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-46080" y="1984320"/>
            <a:ext cx="306072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5fb11"/>
                </a:solidFill>
                <a:latin typeface="Cleopatra"/>
              </a:rPr>
              <a:t>Танюша задумалась:  «Во что сегодня поиграть: в куклы или в кубики?»</a:t>
            </a:r>
            <a:endParaRPr b="0" lang="en-US" sz="1800" spc="-1" strike="noStrike">
              <a:solidFill>
                <a:srgbClr val="f8d6ff"/>
              </a:solidFill>
              <a:latin typeface="Cleopatra"/>
            </a:endParaRPr>
          </a:p>
        </p:txBody>
      </p:sp>
      <p:pic>
        <p:nvPicPr>
          <p:cNvPr id="403" name="Рисунок 2" descr=""/>
          <p:cNvPicPr/>
          <p:nvPr/>
        </p:nvPicPr>
        <p:blipFill>
          <a:blip r:embed="rId1"/>
          <a:stretch/>
        </p:blipFill>
        <p:spPr>
          <a:xfrm>
            <a:off x="3241800" y="127080"/>
            <a:ext cx="3274920" cy="521964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5"/>
          <p:cNvSpPr/>
          <p:nvPr/>
        </p:nvSpPr>
        <p:spPr>
          <a:xfrm>
            <a:off x="755640" y="5373720"/>
            <a:ext cx="76359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ddea"/>
                </a:solidFill>
                <a:latin typeface="Cleopatra"/>
                <a:ea typeface="Arial"/>
              </a:rPr>
              <a:t>Мама Артёма и Семёна Глущенко – Татьяна Владимировна</a:t>
            </a:r>
            <a:endParaRPr b="0" lang="en-US" sz="1800" spc="-1" strike="noStrike">
              <a:solidFill>
                <a:srgbClr val="58006c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9360" y="2022480"/>
            <a:ext cx="3098880" cy="7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5fb11"/>
                </a:solidFill>
                <a:latin typeface="Cleopatra"/>
              </a:rPr>
              <a:t>Очаровашка Наденька</a:t>
            </a:r>
            <a:endParaRPr b="0" lang="en-US" sz="1800" spc="-1" strike="noStrike">
              <a:solidFill>
                <a:srgbClr val="f8d6ff"/>
              </a:solidFill>
              <a:latin typeface="Cleopatr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5fb11"/>
                </a:solidFill>
                <a:latin typeface="Cleopatra"/>
              </a:rPr>
              <a:t> </a:t>
            </a:r>
            <a:r>
              <a:rPr b="1" lang="ru-RU" sz="1800" spc="-1" strike="noStrike">
                <a:solidFill>
                  <a:srgbClr val="f5fb11"/>
                </a:solidFill>
                <a:latin typeface="Cleopatra"/>
              </a:rPr>
              <a:t>в детском саду</a:t>
            </a:r>
            <a:endParaRPr b="0" lang="en-US" sz="1800" spc="-1" strike="noStrike">
              <a:solidFill>
                <a:srgbClr val="f8d6ff"/>
              </a:solidFill>
              <a:latin typeface="Cleopatra"/>
            </a:endParaRPr>
          </a:p>
        </p:txBody>
      </p:sp>
      <p:pic>
        <p:nvPicPr>
          <p:cNvPr id="406" name="Рисунок 2" descr=""/>
          <p:cNvPicPr/>
          <p:nvPr/>
        </p:nvPicPr>
        <p:blipFill>
          <a:blip r:embed="rId1"/>
          <a:stretch/>
        </p:blipFill>
        <p:spPr>
          <a:xfrm>
            <a:off x="3108240" y="271440"/>
            <a:ext cx="4056120" cy="501480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5"/>
          <p:cNvSpPr/>
          <p:nvPr/>
        </p:nvSpPr>
        <p:spPr>
          <a:xfrm>
            <a:off x="1714680" y="5324400"/>
            <a:ext cx="6843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ddea"/>
                </a:solidFill>
                <a:latin typeface="Cleopatra"/>
                <a:ea typeface="Arial"/>
              </a:rPr>
              <a:t>Мама Кати Цветковой – Надежда Николаевна</a:t>
            </a:r>
            <a:endParaRPr b="0" lang="en-US" sz="1800" spc="-1" strike="noStrike">
              <a:solidFill>
                <a:srgbClr val="58006c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2842920" y="507960"/>
            <a:ext cx="403524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5fb11"/>
                </a:solidFill>
                <a:latin typeface="Cleopatra"/>
              </a:rPr>
              <a:t>Интересно, у кого глаза больше: у Ии или у куклы?</a:t>
            </a:r>
            <a:endParaRPr b="0" lang="en-US" sz="1800" spc="-1" strike="noStrike">
              <a:solidFill>
                <a:srgbClr val="f8d6ff"/>
              </a:solidFill>
              <a:latin typeface="Cleopatra"/>
            </a:endParaRPr>
          </a:p>
        </p:txBody>
      </p:sp>
      <p:pic>
        <p:nvPicPr>
          <p:cNvPr id="409" name="Picture 10" descr="Scan10002"/>
          <p:cNvPicPr/>
          <p:nvPr/>
        </p:nvPicPr>
        <p:blipFill>
          <a:blip r:embed="rId1"/>
          <a:stretch/>
        </p:blipFill>
        <p:spPr>
          <a:xfrm>
            <a:off x="1476360" y="1163520"/>
            <a:ext cx="5618160" cy="413064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5"/>
          <p:cNvSpPr/>
          <p:nvPr/>
        </p:nvSpPr>
        <p:spPr>
          <a:xfrm>
            <a:off x="1042920" y="5300640"/>
            <a:ext cx="68439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ddea"/>
                </a:solidFill>
                <a:latin typeface="Cleopatra"/>
                <a:ea typeface="Arial"/>
              </a:rPr>
              <a:t>Воспитатель – Ия Викторовна</a:t>
            </a:r>
            <a:endParaRPr b="0" lang="en-US" sz="1800" spc="-1" strike="noStrike">
              <a:solidFill>
                <a:srgbClr val="58006c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1440" y="1773360"/>
            <a:ext cx="3346560" cy="142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5fb11"/>
                </a:solidFill>
                <a:latin typeface="Cleopatra"/>
              </a:rPr>
              <a:t>Умница Ниночка сегодня главная дежурная в столовой</a:t>
            </a:r>
            <a:endParaRPr b="0" lang="en-US" sz="1800" spc="-1" strike="noStrike">
              <a:solidFill>
                <a:srgbClr val="f8d6ff"/>
              </a:solidFill>
              <a:latin typeface="Cleopatra"/>
            </a:endParaRPr>
          </a:p>
        </p:txBody>
      </p:sp>
      <p:pic>
        <p:nvPicPr>
          <p:cNvPr id="412" name="Рисунок 2" descr=""/>
          <p:cNvPicPr/>
          <p:nvPr/>
        </p:nvPicPr>
        <p:blipFill>
          <a:blip r:embed="rId1"/>
          <a:stretch/>
        </p:blipFill>
        <p:spPr>
          <a:xfrm>
            <a:off x="3362400" y="88920"/>
            <a:ext cx="3809880" cy="516420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5"/>
          <p:cNvSpPr/>
          <p:nvPr/>
        </p:nvSpPr>
        <p:spPr>
          <a:xfrm>
            <a:off x="2241720" y="5291280"/>
            <a:ext cx="6049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ddea"/>
                </a:solidFill>
                <a:latin typeface="Cleopatra"/>
                <a:ea typeface="Arial"/>
              </a:rPr>
              <a:t>Мама Максима Зайлера – Нина Александровна</a:t>
            </a:r>
            <a:endParaRPr b="0" lang="en-US" sz="1800" spc="-1" strike="noStrike">
              <a:solidFill>
                <a:srgbClr val="58006c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Рисунок 2" descr=""/>
          <p:cNvPicPr/>
          <p:nvPr/>
        </p:nvPicPr>
        <p:blipFill>
          <a:blip r:embed="rId1"/>
          <a:stretch/>
        </p:blipFill>
        <p:spPr>
          <a:xfrm>
            <a:off x="3094200" y="136440"/>
            <a:ext cx="3887640" cy="518472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5"/>
          <p:cNvSpPr/>
          <p:nvPr/>
        </p:nvSpPr>
        <p:spPr>
          <a:xfrm>
            <a:off x="-252360" y="1844640"/>
            <a:ext cx="3346560" cy="14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5fb11"/>
                </a:solidFill>
                <a:latin typeface="Cleopatra"/>
                <a:ea typeface="Arial"/>
              </a:rPr>
              <a:t>Очаровашка Руфина </a:t>
            </a:r>
            <a:endParaRPr b="0" lang="en-US" sz="1800" spc="-1" strike="noStrike">
              <a:solidFill>
                <a:srgbClr val="58006c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5fb11"/>
                </a:solidFill>
                <a:latin typeface="Cleopatra"/>
                <a:ea typeface="Arial"/>
              </a:rPr>
              <a:t>с улыбкой </a:t>
            </a:r>
            <a:endParaRPr b="0" lang="en-US" sz="1800" spc="-1" strike="noStrike">
              <a:solidFill>
                <a:srgbClr val="58006c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5fb11"/>
                </a:solidFill>
                <a:latin typeface="Cleopatra"/>
                <a:ea typeface="Arial"/>
              </a:rPr>
              <a:t>смотрит на нас </a:t>
            </a:r>
            <a:endParaRPr b="0" lang="en-US" sz="1800" spc="-1" strike="noStrike">
              <a:solidFill>
                <a:srgbClr val="58006c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1619280" y="5373720"/>
            <a:ext cx="6049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ddea"/>
                </a:solidFill>
                <a:latin typeface="Cleopatra"/>
                <a:ea typeface="Arial"/>
              </a:rPr>
              <a:t>Мама Вероники Копаненко – Руфина Хасановна</a:t>
            </a:r>
            <a:endParaRPr b="0" lang="en-US" sz="1800" spc="-1" strike="noStrike">
              <a:solidFill>
                <a:srgbClr val="58006c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Объект 5" descr=""/>
          <p:cNvPicPr/>
          <p:nvPr/>
        </p:nvPicPr>
        <p:blipFill>
          <a:blip r:embed="rId1"/>
          <a:stretch/>
        </p:blipFill>
        <p:spPr>
          <a:xfrm>
            <a:off x="3422520" y="692280"/>
            <a:ext cx="3168720" cy="463068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25160" y="0"/>
            <a:ext cx="735804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0051"/>
                </a:solidFill>
                <a:latin typeface="Baltimore Nouveau"/>
              </a:rPr>
              <a:t>Страница вторая:</a:t>
            </a:r>
            <a:br>
              <a:rPr sz="2000"/>
            </a:br>
            <a:r>
              <a:rPr b="1" lang="ru-RU" sz="1800" spc="-1" strike="noStrike">
                <a:solidFill>
                  <a:srgbClr val="420051"/>
                </a:solidFill>
                <a:latin typeface="Baltimore Nouveau"/>
              </a:rPr>
              <a:t>«Новогодняя…»</a:t>
            </a:r>
            <a:endParaRPr b="0" lang="en-US" sz="18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419" name="Rectangle 5"/>
          <p:cNvSpPr/>
          <p:nvPr/>
        </p:nvSpPr>
        <p:spPr>
          <a:xfrm>
            <a:off x="-181080" y="1916280"/>
            <a:ext cx="3346560" cy="14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5fb11"/>
                </a:solidFill>
                <a:latin typeface="Cleopatra"/>
                <a:ea typeface="Arial"/>
              </a:rPr>
              <a:t>Вот какая </a:t>
            </a:r>
            <a:endParaRPr b="0" lang="en-US" sz="1800" spc="-1" strike="noStrike">
              <a:solidFill>
                <a:srgbClr val="58006c"/>
              </a:solidFill>
              <a:latin typeface="Calibri"/>
            </a:endParaRPr>
          </a:p>
          <a:p>
            <a:pPr marL="322200" indent="-322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5fb11"/>
                </a:solidFill>
                <a:latin typeface="Cleopatra"/>
                <a:ea typeface="Arial"/>
              </a:rPr>
              <a:t>звёздочка – ёлочка, а может быть и снежинка, наша Надюша</a:t>
            </a:r>
            <a:endParaRPr b="0" lang="en-US" sz="1800" spc="-1" strike="noStrike">
              <a:solidFill>
                <a:srgbClr val="58006c"/>
              </a:solidFill>
              <a:latin typeface="Calibri"/>
            </a:endParaRPr>
          </a:p>
        </p:txBody>
      </p:sp>
      <p:sp>
        <p:nvSpPr>
          <p:cNvPr id="420" name="Rectangle 5"/>
          <p:cNvSpPr/>
          <p:nvPr/>
        </p:nvSpPr>
        <p:spPr>
          <a:xfrm>
            <a:off x="1981080" y="5445000"/>
            <a:ext cx="6050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ddea"/>
                </a:solidFill>
                <a:latin typeface="Cleopatra"/>
                <a:ea typeface="Arial"/>
              </a:rPr>
              <a:t>Мама Тихона Сергиенко – Надежда Васильевна</a:t>
            </a:r>
            <a:endParaRPr b="0" lang="en-US" sz="1800" spc="-1" strike="noStrike">
              <a:solidFill>
                <a:srgbClr val="58006c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2033280" y="836640"/>
            <a:ext cx="475452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5fb11"/>
                </a:solidFill>
                <a:latin typeface="Cleopatra"/>
              </a:rPr>
              <a:t>Интересно, какое желание исполнил</a:t>
            </a:r>
            <a:endParaRPr b="0" lang="en-US" sz="1800" spc="-1" strike="noStrike">
              <a:solidFill>
                <a:srgbClr val="f8d6ff"/>
              </a:solidFill>
              <a:latin typeface="Cleopatr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5fb11"/>
                </a:solidFill>
                <a:latin typeface="Cleopatra"/>
              </a:rPr>
              <a:t>Дедушка Мороз для нашей Алиночки?</a:t>
            </a:r>
            <a:endParaRPr b="0" lang="en-US" sz="1800" spc="-1" strike="noStrike">
              <a:solidFill>
                <a:srgbClr val="f8d6ff"/>
              </a:solidFill>
              <a:latin typeface="Cleopatra"/>
            </a:endParaRPr>
          </a:p>
        </p:txBody>
      </p:sp>
      <p:pic>
        <p:nvPicPr>
          <p:cNvPr id="422" name="Рисунок 4" descr=""/>
          <p:cNvPicPr/>
          <p:nvPr/>
        </p:nvPicPr>
        <p:blipFill>
          <a:blip r:embed="rId1"/>
          <a:stretch/>
        </p:blipFill>
        <p:spPr>
          <a:xfrm>
            <a:off x="1380960" y="1498680"/>
            <a:ext cx="5712120" cy="38782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5"/>
          <p:cNvSpPr/>
          <p:nvPr/>
        </p:nvSpPr>
        <p:spPr>
          <a:xfrm>
            <a:off x="817560" y="5376960"/>
            <a:ext cx="683892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ddea"/>
                </a:solidFill>
                <a:latin typeface="Cleopatra"/>
                <a:ea typeface="Arial"/>
              </a:rPr>
              <a:t>Мама Вити Повха – Алина Валерьевна</a:t>
            </a:r>
            <a:endParaRPr b="0" lang="en-US" sz="1800" spc="-1" strike="noStrike">
              <a:solidFill>
                <a:srgbClr val="58006c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539640" y="1052640"/>
            <a:ext cx="360216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006c"/>
                </a:solidFill>
                <a:latin typeface="Cleopatra"/>
              </a:rPr>
              <a:t>Мама</a:t>
            </a:r>
            <a:r>
              <a:rPr b="0" lang="ru-RU" sz="2000" spc="-1" strike="noStrike">
                <a:solidFill>
                  <a:srgbClr val="f8d6ff"/>
                </a:solidFill>
                <a:latin typeface="Cleopatra"/>
              </a:rPr>
              <a:t> - это значит нежность,</a:t>
            </a:r>
            <a:endParaRPr b="0" lang="en-US" sz="2000" spc="-1" strike="noStrike">
              <a:solidFill>
                <a:srgbClr val="f8d6ff"/>
              </a:solidFill>
              <a:latin typeface="Cleopatr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d6ff"/>
                </a:solidFill>
                <a:latin typeface="Cleopatra"/>
              </a:rPr>
              <a:t>Это ласка, доброта,</a:t>
            </a:r>
            <a:endParaRPr b="0" lang="en-US" sz="2000" spc="-1" strike="noStrike">
              <a:solidFill>
                <a:srgbClr val="f8d6ff"/>
              </a:solidFill>
              <a:latin typeface="Cleopatr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006c"/>
                </a:solidFill>
                <a:latin typeface="Cleopatra"/>
              </a:rPr>
              <a:t>Мама</a:t>
            </a:r>
            <a:r>
              <a:rPr b="0" lang="ru-RU" sz="2000" spc="-1" strike="noStrike">
                <a:solidFill>
                  <a:srgbClr val="f8d6ff"/>
                </a:solidFill>
                <a:latin typeface="Cleopatra"/>
              </a:rPr>
              <a:t> - это безмятежность,</a:t>
            </a:r>
            <a:endParaRPr b="0" lang="en-US" sz="2000" spc="-1" strike="noStrike">
              <a:solidFill>
                <a:srgbClr val="f8d6ff"/>
              </a:solidFill>
              <a:latin typeface="Cleopatr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d6ff"/>
                </a:solidFill>
                <a:latin typeface="Cleopatra"/>
              </a:rPr>
              <a:t>Это радость, красота!</a:t>
            </a:r>
            <a:endParaRPr b="0" lang="en-US" sz="2000" spc="-1" strike="noStrike">
              <a:solidFill>
                <a:srgbClr val="f8d6ff"/>
              </a:solidFill>
              <a:latin typeface="Cleopatr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006c"/>
                </a:solidFill>
                <a:latin typeface="Cleopatra"/>
              </a:rPr>
              <a:t>Мама</a:t>
            </a:r>
            <a:r>
              <a:rPr b="0" lang="ru-RU" sz="2000" spc="-1" strike="noStrike">
                <a:solidFill>
                  <a:srgbClr val="f8d6ff"/>
                </a:solidFill>
                <a:latin typeface="Cleopatra"/>
              </a:rPr>
              <a:t> - это на ночь сказка,</a:t>
            </a:r>
            <a:endParaRPr b="0" lang="en-US" sz="2000" spc="-1" strike="noStrike">
              <a:solidFill>
                <a:srgbClr val="f8d6ff"/>
              </a:solidFill>
              <a:latin typeface="Cleopatr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d6ff"/>
                </a:solidFill>
                <a:latin typeface="Cleopatra"/>
              </a:rPr>
              <a:t>Это утренний рассвет,</a:t>
            </a:r>
            <a:endParaRPr b="0" lang="en-US" sz="2000" spc="-1" strike="noStrike">
              <a:solidFill>
                <a:srgbClr val="f8d6ff"/>
              </a:solidFill>
              <a:latin typeface="Cleopatr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006c"/>
                </a:solidFill>
                <a:latin typeface="Cleopatra"/>
              </a:rPr>
              <a:t>Мама</a:t>
            </a:r>
            <a:r>
              <a:rPr b="0" lang="ru-RU" sz="2000" spc="-1" strike="noStrike">
                <a:solidFill>
                  <a:srgbClr val="f8d6ff"/>
                </a:solidFill>
                <a:latin typeface="Cleopatra"/>
              </a:rPr>
              <a:t> - в трудный час подсказка,</a:t>
            </a:r>
            <a:endParaRPr b="0" lang="en-US" sz="2000" spc="-1" strike="noStrike">
              <a:solidFill>
                <a:srgbClr val="f8d6ff"/>
              </a:solidFill>
              <a:latin typeface="Cleopatr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d6ff"/>
                </a:solidFill>
                <a:latin typeface="Cleopatra"/>
              </a:rPr>
              <a:t>Это мудрость и совет!</a:t>
            </a:r>
            <a:endParaRPr b="0" lang="en-US" sz="2000" spc="-1" strike="noStrike">
              <a:solidFill>
                <a:srgbClr val="f8d6ff"/>
              </a:solidFill>
              <a:latin typeface="Cleopatr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006c"/>
                </a:solidFill>
                <a:latin typeface="Cleopatra"/>
              </a:rPr>
              <a:t>Мама</a:t>
            </a:r>
            <a:r>
              <a:rPr b="0" lang="ru-RU" sz="2000" spc="-1" strike="noStrike">
                <a:solidFill>
                  <a:srgbClr val="f8d6ff"/>
                </a:solidFill>
                <a:latin typeface="Cleopatra"/>
              </a:rPr>
              <a:t> - это зелень лета,</a:t>
            </a:r>
            <a:endParaRPr b="0" lang="en-US" sz="2000" spc="-1" strike="noStrike">
              <a:solidFill>
                <a:srgbClr val="f8d6ff"/>
              </a:solidFill>
              <a:latin typeface="Cleopatr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d6ff"/>
                </a:solidFill>
                <a:latin typeface="Cleopatra"/>
              </a:rPr>
              <a:t>Это снег, осенний лист,</a:t>
            </a:r>
            <a:endParaRPr b="0" lang="en-US" sz="2000" spc="-1" strike="noStrike">
              <a:solidFill>
                <a:srgbClr val="f8d6ff"/>
              </a:solidFill>
              <a:latin typeface="Cleopatr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006c"/>
                </a:solidFill>
                <a:latin typeface="Cleopatra"/>
              </a:rPr>
              <a:t>Мама</a:t>
            </a:r>
            <a:r>
              <a:rPr b="0" lang="ru-RU" sz="2000" spc="-1" strike="noStrike">
                <a:solidFill>
                  <a:srgbClr val="f8d6ff"/>
                </a:solidFill>
                <a:latin typeface="Cleopatra"/>
              </a:rPr>
              <a:t> - это лучик света,</a:t>
            </a:r>
            <a:endParaRPr b="0" lang="en-US" sz="2000" spc="-1" strike="noStrike">
              <a:solidFill>
                <a:srgbClr val="f8d6ff"/>
              </a:solidFill>
              <a:latin typeface="Cleopatr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006c"/>
                </a:solidFill>
                <a:latin typeface="Cleopatra"/>
              </a:rPr>
              <a:t>Мама</a:t>
            </a:r>
            <a:r>
              <a:rPr b="0" lang="ru-RU" sz="2000" spc="-1" strike="noStrike">
                <a:solidFill>
                  <a:srgbClr val="f8d6ff"/>
                </a:solidFill>
                <a:latin typeface="Cleopatra"/>
              </a:rPr>
              <a:t> - это значит </a:t>
            </a:r>
            <a:r>
              <a:rPr b="0" lang="ru-RU" sz="2000" spc="-1" strike="noStrike">
                <a:solidFill>
                  <a:srgbClr val="58006c"/>
                </a:solidFill>
                <a:latin typeface="Cleopatra"/>
              </a:rPr>
              <a:t>ЖИЗНЬ! </a:t>
            </a:r>
            <a:endParaRPr b="0" lang="en-US" sz="2000" spc="-1" strike="noStrike">
              <a:solidFill>
                <a:srgbClr val="f8d6ff"/>
              </a:solidFill>
              <a:latin typeface="Cleopatra"/>
            </a:endParaRPr>
          </a:p>
        </p:txBody>
      </p:sp>
      <p:pic>
        <p:nvPicPr>
          <p:cNvPr id="372" name="Picture 17" descr="А"/>
          <p:cNvPicPr/>
          <p:nvPr/>
        </p:nvPicPr>
        <p:blipFill>
          <a:blip r:embed="rId1"/>
          <a:stretch/>
        </p:blipFill>
        <p:spPr>
          <a:xfrm>
            <a:off x="4140360" y="1125360"/>
            <a:ext cx="3603600" cy="4175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108000" y="2016000"/>
            <a:ext cx="360216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60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5fb11"/>
                </a:solidFill>
                <a:latin typeface="Cleopatra"/>
              </a:rPr>
              <a:t>Кто красивее:</a:t>
            </a:r>
            <a:endParaRPr b="0" lang="en-US" sz="1800" spc="-1" strike="noStrike">
              <a:solidFill>
                <a:srgbClr val="f8d6ff"/>
              </a:solidFill>
              <a:latin typeface="Cleopatra"/>
            </a:endParaRPr>
          </a:p>
          <a:p>
            <a:pPr marL="160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5fb11"/>
                </a:solidFill>
                <a:latin typeface="Cleopatra"/>
              </a:rPr>
              <a:t> </a:t>
            </a:r>
            <a:r>
              <a:rPr b="1" lang="ru-RU" sz="1800" spc="-1" strike="noStrike">
                <a:solidFill>
                  <a:srgbClr val="f5fb11"/>
                </a:solidFill>
                <a:latin typeface="Cleopatra"/>
              </a:rPr>
              <a:t>Анечка или ёлочка? </a:t>
            </a:r>
            <a:endParaRPr b="0" lang="en-US" sz="1800" spc="-1" strike="noStrike">
              <a:solidFill>
                <a:srgbClr val="f8d6ff"/>
              </a:solidFill>
              <a:latin typeface="Cleopatra"/>
            </a:endParaRPr>
          </a:p>
          <a:p>
            <a:pPr marL="160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5fb11"/>
                </a:solidFill>
                <a:latin typeface="Cleopatra"/>
              </a:rPr>
              <a:t>Ну, конечно,</a:t>
            </a:r>
            <a:endParaRPr b="0" lang="en-US" sz="1800" spc="-1" strike="noStrike">
              <a:solidFill>
                <a:srgbClr val="f8d6ff"/>
              </a:solidFill>
              <a:latin typeface="Cleopatra"/>
            </a:endParaRPr>
          </a:p>
          <a:p>
            <a:pPr marL="160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5fb11"/>
                </a:solidFill>
                <a:latin typeface="Cleopatra"/>
              </a:rPr>
              <a:t> </a:t>
            </a:r>
            <a:r>
              <a:rPr b="1" lang="ru-RU" sz="1800" spc="-1" strike="noStrike">
                <a:solidFill>
                  <a:srgbClr val="f5fb11"/>
                </a:solidFill>
                <a:latin typeface="Cleopatra"/>
              </a:rPr>
              <a:t>Анечка - снежинка! </a:t>
            </a:r>
            <a:endParaRPr b="0" lang="en-US" sz="1800" spc="-1" strike="noStrike">
              <a:solidFill>
                <a:srgbClr val="f8d6ff"/>
              </a:solidFill>
              <a:latin typeface="Cleopatra"/>
            </a:endParaRPr>
          </a:p>
        </p:txBody>
      </p:sp>
      <p:pic>
        <p:nvPicPr>
          <p:cNvPr id="425" name="Рисунок 2" descr=""/>
          <p:cNvPicPr/>
          <p:nvPr/>
        </p:nvPicPr>
        <p:blipFill>
          <a:blip r:embed="rId1"/>
          <a:stretch/>
        </p:blipFill>
        <p:spPr>
          <a:xfrm>
            <a:off x="2987640" y="88920"/>
            <a:ext cx="3602160" cy="519120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5"/>
          <p:cNvSpPr/>
          <p:nvPr/>
        </p:nvSpPr>
        <p:spPr>
          <a:xfrm>
            <a:off x="1763640" y="5373720"/>
            <a:ext cx="6050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ddea"/>
                </a:solidFill>
                <a:latin typeface="Cleopatra"/>
                <a:ea typeface="Arial"/>
              </a:rPr>
              <a:t>Мама Арины Храмцовой – Анна Сергеевна</a:t>
            </a:r>
            <a:endParaRPr b="0" lang="en-US" sz="1800" spc="-1" strike="noStrike">
              <a:solidFill>
                <a:srgbClr val="58006c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Объект 4" descr=""/>
          <p:cNvPicPr/>
          <p:nvPr/>
        </p:nvPicPr>
        <p:blipFill>
          <a:blip r:embed="rId1"/>
          <a:stretch/>
        </p:blipFill>
        <p:spPr>
          <a:xfrm>
            <a:off x="3078000" y="88920"/>
            <a:ext cx="3519720" cy="540072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5"/>
          <p:cNvSpPr/>
          <p:nvPr/>
        </p:nvSpPr>
        <p:spPr>
          <a:xfrm>
            <a:off x="-252360" y="2276640"/>
            <a:ext cx="3602160" cy="6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5fb11"/>
                </a:solidFill>
                <a:latin typeface="Cleopatra"/>
                <a:ea typeface="Arial"/>
              </a:rPr>
              <a:t>Ну, какая же очаровашка,</a:t>
            </a:r>
            <a:endParaRPr b="0" lang="en-US" sz="1800" spc="-1" strike="noStrike">
              <a:solidFill>
                <a:srgbClr val="58006c"/>
              </a:solidFill>
              <a:latin typeface="Calibri"/>
            </a:endParaRPr>
          </a:p>
          <a:p>
            <a:pPr marL="335880" indent="-3358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5fb11"/>
                </a:solidFill>
                <a:latin typeface="Cleopatra"/>
                <a:ea typeface="Arial"/>
              </a:rPr>
              <a:t>наша Олечка! </a:t>
            </a:r>
            <a:endParaRPr b="0" lang="en-US" sz="1800" spc="-1" strike="noStrike">
              <a:solidFill>
                <a:srgbClr val="58006c"/>
              </a:solidFill>
              <a:latin typeface="Calibri"/>
            </a:endParaRPr>
          </a:p>
        </p:txBody>
      </p:sp>
      <p:sp>
        <p:nvSpPr>
          <p:cNvPr id="429" name="Rectangle 5"/>
          <p:cNvSpPr/>
          <p:nvPr/>
        </p:nvSpPr>
        <p:spPr>
          <a:xfrm>
            <a:off x="1763640" y="5405400"/>
            <a:ext cx="6050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ddea"/>
                </a:solidFill>
                <a:latin typeface="Cleopatra"/>
                <a:ea typeface="Arial"/>
              </a:rPr>
              <a:t>Воспитатель – Ольга Борисовна</a:t>
            </a:r>
            <a:endParaRPr b="0" lang="en-US" sz="1800" spc="-1" strike="noStrike">
              <a:solidFill>
                <a:srgbClr val="58006c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Объект 4" descr=""/>
          <p:cNvPicPr/>
          <p:nvPr/>
        </p:nvPicPr>
        <p:blipFill>
          <a:blip r:embed="rId1"/>
          <a:stretch/>
        </p:blipFill>
        <p:spPr>
          <a:xfrm>
            <a:off x="3419640" y="162000"/>
            <a:ext cx="3240000" cy="5084640"/>
          </a:xfrm>
          <a:prstGeom prst="rect">
            <a:avLst/>
          </a:prstGeom>
          <a:ln w="0">
            <a:noFill/>
          </a:ln>
        </p:spPr>
      </p:pic>
      <p:sp>
        <p:nvSpPr>
          <p:cNvPr id="431" name="Rectangle 5"/>
          <p:cNvSpPr/>
          <p:nvPr/>
        </p:nvSpPr>
        <p:spPr>
          <a:xfrm>
            <a:off x="-252360" y="2276640"/>
            <a:ext cx="3602160" cy="6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5fb11"/>
                </a:solidFill>
                <a:latin typeface="Cleopatra"/>
                <a:ea typeface="Arial"/>
              </a:rPr>
              <a:t>А вот</a:t>
            </a:r>
            <a:endParaRPr b="0" lang="en-US" sz="1800" spc="-1" strike="noStrike">
              <a:solidFill>
                <a:srgbClr val="58006c"/>
              </a:solidFill>
              <a:latin typeface="Calibri"/>
            </a:endParaRPr>
          </a:p>
          <a:p>
            <a:pPr marL="233280" indent="-2332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5fb11"/>
                </a:solidFill>
                <a:latin typeface="Cleopatra"/>
                <a:ea typeface="Arial"/>
              </a:rPr>
              <a:t> </a:t>
            </a:r>
            <a:r>
              <a:rPr b="1" lang="ru-RU" sz="1800" spc="-1" strike="noStrike">
                <a:solidFill>
                  <a:srgbClr val="f5fb11"/>
                </a:solidFill>
                <a:latin typeface="Cleopatra"/>
                <a:ea typeface="Arial"/>
              </a:rPr>
              <a:t>и ещё одна снежинка-балеринка, Леночка-красавица!</a:t>
            </a:r>
            <a:endParaRPr b="0" lang="en-US" sz="1800" spc="-1" strike="noStrike">
              <a:solidFill>
                <a:srgbClr val="58006c"/>
              </a:solidFill>
              <a:latin typeface="Calibri"/>
            </a:endParaRPr>
          </a:p>
        </p:txBody>
      </p:sp>
      <p:sp>
        <p:nvSpPr>
          <p:cNvPr id="432" name="Rectangle 5"/>
          <p:cNvSpPr/>
          <p:nvPr/>
        </p:nvSpPr>
        <p:spPr>
          <a:xfrm>
            <a:off x="1908000" y="5273640"/>
            <a:ext cx="6050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ddea"/>
                </a:solidFill>
                <a:latin typeface="Cleopatra"/>
                <a:ea typeface="Arial"/>
              </a:rPr>
              <a:t>Мама Вари Солодовой – Елена Александровна</a:t>
            </a:r>
            <a:endParaRPr b="0" lang="en-US" sz="1800" spc="-1" strike="noStrike">
              <a:solidFill>
                <a:srgbClr val="58006c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Объект 4" descr=""/>
          <p:cNvPicPr/>
          <p:nvPr/>
        </p:nvPicPr>
        <p:blipFill>
          <a:blip r:embed="rId1"/>
          <a:stretch/>
        </p:blipFill>
        <p:spPr>
          <a:xfrm>
            <a:off x="3132000" y="57240"/>
            <a:ext cx="3529080" cy="521640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5"/>
          <p:cNvSpPr/>
          <p:nvPr/>
        </p:nvSpPr>
        <p:spPr>
          <a:xfrm>
            <a:off x="-396720" y="2349360"/>
            <a:ext cx="36018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5fb11"/>
                </a:solidFill>
                <a:latin typeface="Cleopatra"/>
                <a:ea typeface="Arial"/>
              </a:rPr>
              <a:t>К новогодней ёлочке прилетела снежинка-Танечка</a:t>
            </a:r>
            <a:endParaRPr b="0" lang="en-US" sz="1800" spc="-1" strike="noStrike">
              <a:solidFill>
                <a:srgbClr val="58006c"/>
              </a:solidFill>
              <a:latin typeface="Calibri"/>
            </a:endParaRPr>
          </a:p>
        </p:txBody>
      </p:sp>
      <p:sp>
        <p:nvSpPr>
          <p:cNvPr id="435" name="Rectangle 5"/>
          <p:cNvSpPr/>
          <p:nvPr/>
        </p:nvSpPr>
        <p:spPr>
          <a:xfrm>
            <a:off x="1835280" y="5346720"/>
            <a:ext cx="6049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ddea"/>
                </a:solidFill>
                <a:latin typeface="Cleopatra"/>
                <a:ea typeface="Arial"/>
              </a:rPr>
              <a:t>Мама Димы Луенко – Татьяна Александровна</a:t>
            </a:r>
            <a:endParaRPr b="0" lang="en-US" sz="1800" spc="-1" strike="noStrike">
              <a:solidFill>
                <a:srgbClr val="58006c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Объект 4" descr=""/>
          <p:cNvPicPr/>
          <p:nvPr/>
        </p:nvPicPr>
        <p:blipFill>
          <a:blip r:embed="rId1"/>
          <a:stretch/>
        </p:blipFill>
        <p:spPr>
          <a:xfrm>
            <a:off x="3389400" y="17640"/>
            <a:ext cx="3182760" cy="5329080"/>
          </a:xfrm>
          <a:prstGeom prst="rect">
            <a:avLst/>
          </a:prstGeom>
          <a:ln w="0">
            <a:noFill/>
          </a:ln>
        </p:spPr>
      </p:pic>
      <p:sp>
        <p:nvSpPr>
          <p:cNvPr id="437" name="Rectangle 5"/>
          <p:cNvSpPr/>
          <p:nvPr/>
        </p:nvSpPr>
        <p:spPr>
          <a:xfrm>
            <a:off x="-254160" y="2287440"/>
            <a:ext cx="360216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5fb11"/>
                </a:solidFill>
                <a:latin typeface="Cleopatra"/>
                <a:ea typeface="Arial"/>
              </a:rPr>
              <a:t>Что-же подарит нашей Ксюшеньке Дедушка Мороз?</a:t>
            </a:r>
            <a:endParaRPr b="0" lang="en-US" sz="1800" spc="-1" strike="noStrike">
              <a:solidFill>
                <a:srgbClr val="58006c"/>
              </a:solidFill>
              <a:latin typeface="Calibri"/>
            </a:endParaRPr>
          </a:p>
          <a:p>
            <a:pPr marL="181800" indent="-1818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5fb11"/>
                </a:solidFill>
                <a:latin typeface="Cleopatra"/>
                <a:ea typeface="Arial"/>
              </a:rPr>
              <a:t>Большой мешок конфет.</a:t>
            </a:r>
            <a:endParaRPr b="0" lang="en-US" sz="1800" spc="-1" strike="noStrike">
              <a:solidFill>
                <a:srgbClr val="58006c"/>
              </a:solidFill>
              <a:latin typeface="Calibri"/>
            </a:endParaRPr>
          </a:p>
          <a:p>
            <a:pPr marL="181800" indent="-1818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5fb11"/>
                </a:solidFill>
                <a:latin typeface="Cleopatra"/>
                <a:ea typeface="Arial"/>
              </a:rPr>
              <a:t> </a:t>
            </a:r>
            <a:r>
              <a:rPr b="1" lang="ru-RU" sz="1800" spc="-1" strike="noStrike">
                <a:solidFill>
                  <a:srgbClr val="f5fb11"/>
                </a:solidFill>
                <a:latin typeface="Cleopatra"/>
                <a:ea typeface="Arial"/>
              </a:rPr>
              <a:t>А она сама, как конфетка </a:t>
            </a:r>
            <a:endParaRPr b="0" lang="en-US" sz="1800" spc="-1" strike="noStrike">
              <a:solidFill>
                <a:srgbClr val="58006c"/>
              </a:solidFill>
              <a:latin typeface="Calibri"/>
            </a:endParaRPr>
          </a:p>
        </p:txBody>
      </p:sp>
      <p:sp>
        <p:nvSpPr>
          <p:cNvPr id="438" name="Rectangle 5"/>
          <p:cNvSpPr/>
          <p:nvPr/>
        </p:nvSpPr>
        <p:spPr>
          <a:xfrm>
            <a:off x="755640" y="5300640"/>
            <a:ext cx="77979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ddea"/>
                </a:solidFill>
                <a:latin typeface="Cleopatra"/>
                <a:ea typeface="Arial"/>
              </a:rPr>
              <a:t>Мама Рамона и Соломона Лисовских – Ксения Олеговна</a:t>
            </a:r>
            <a:endParaRPr b="0" lang="en-US" sz="1800" spc="-1" strike="noStrike">
              <a:solidFill>
                <a:srgbClr val="58006c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042560" y="900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0051"/>
                </a:solidFill>
                <a:latin typeface="Baltimore Nouveau"/>
              </a:rPr>
              <a:t>Страница третья:</a:t>
            </a:r>
            <a:br>
              <a:rPr sz="2000"/>
            </a:br>
            <a:r>
              <a:rPr b="1" lang="ru-RU" sz="1800" spc="-1" strike="noStrike">
                <a:solidFill>
                  <a:srgbClr val="420051"/>
                </a:solidFill>
                <a:latin typeface="Baltimore Nouveau"/>
              </a:rPr>
              <a:t>«Школьные годы чудесные..»</a:t>
            </a:r>
            <a:endParaRPr b="0" lang="en-US" sz="18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08000" y="2305080"/>
            <a:ext cx="360216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5fb11"/>
                </a:solidFill>
                <a:latin typeface="Cleopatra"/>
              </a:rPr>
              <a:t>Наша умница - Светочка готова идти в школу. </a:t>
            </a:r>
            <a:endParaRPr b="0" lang="en-US" sz="1800" spc="-1" strike="noStrike">
              <a:solidFill>
                <a:srgbClr val="f8d6ff"/>
              </a:solidFill>
              <a:latin typeface="Cleopatra"/>
            </a:endParaRPr>
          </a:p>
          <a:p>
            <a:pPr marL="240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5fb11"/>
                </a:solidFill>
                <a:latin typeface="Cleopatra"/>
              </a:rPr>
              <a:t>Она будет получать одни пятёрки!</a:t>
            </a:r>
            <a:endParaRPr b="0" lang="en-US" sz="1800" spc="-1" strike="noStrike">
              <a:solidFill>
                <a:srgbClr val="f8d6ff"/>
              </a:solidFill>
              <a:latin typeface="Cleopatra"/>
            </a:endParaRPr>
          </a:p>
        </p:txBody>
      </p:sp>
      <p:pic>
        <p:nvPicPr>
          <p:cNvPr id="441" name="Рисунок 2" descr=""/>
          <p:cNvPicPr/>
          <p:nvPr/>
        </p:nvPicPr>
        <p:blipFill>
          <a:blip r:embed="rId1"/>
          <a:stretch/>
        </p:blipFill>
        <p:spPr>
          <a:xfrm>
            <a:off x="3348000" y="693720"/>
            <a:ext cx="3240000" cy="4871880"/>
          </a:xfrm>
          <a:prstGeom prst="rect">
            <a:avLst/>
          </a:prstGeom>
          <a:ln w="0">
            <a:noFill/>
          </a:ln>
        </p:spPr>
      </p:pic>
      <p:sp>
        <p:nvSpPr>
          <p:cNvPr id="442" name="Rectangle 5"/>
          <p:cNvSpPr/>
          <p:nvPr/>
        </p:nvSpPr>
        <p:spPr>
          <a:xfrm>
            <a:off x="1692360" y="5445000"/>
            <a:ext cx="6049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ddea"/>
                </a:solidFill>
                <a:latin typeface="Cleopatra"/>
                <a:ea typeface="Arial"/>
              </a:rPr>
              <a:t>Мама Лёши Подолянчика – Светлана Николаевна</a:t>
            </a:r>
            <a:endParaRPr b="0" lang="en-US" sz="1800" spc="-1" strike="noStrike">
              <a:solidFill>
                <a:srgbClr val="58006c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-181080" y="2205000"/>
            <a:ext cx="3602160" cy="41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5fb11"/>
                </a:solidFill>
                <a:latin typeface="Cleopatra"/>
              </a:rPr>
              <a:t>Какой целеустремлённый</a:t>
            </a:r>
            <a:endParaRPr b="0" lang="en-US" sz="1800" spc="-1" strike="noStrike">
              <a:solidFill>
                <a:srgbClr val="f8d6ff"/>
              </a:solidFill>
              <a:latin typeface="Cleopatra"/>
            </a:endParaRPr>
          </a:p>
          <a:p>
            <a:pPr marL="119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5fb11"/>
                </a:solidFill>
                <a:latin typeface="Cleopatra"/>
              </a:rPr>
              <a:t> </a:t>
            </a:r>
            <a:r>
              <a:rPr b="1" lang="ru-RU" sz="1800" spc="-1" strike="noStrike">
                <a:solidFill>
                  <a:srgbClr val="f5fb11"/>
                </a:solidFill>
                <a:latin typeface="Cleopatra"/>
              </a:rPr>
              <a:t>взгляд и нашей Светланки. </a:t>
            </a:r>
            <a:endParaRPr b="0" lang="en-US" sz="1800" spc="-1" strike="noStrike">
              <a:solidFill>
                <a:srgbClr val="f8d6ff"/>
              </a:solidFill>
              <a:latin typeface="Cleopatra"/>
            </a:endParaRPr>
          </a:p>
          <a:p>
            <a:pPr marL="119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5fb11"/>
                </a:solidFill>
                <a:latin typeface="Cleopatra"/>
              </a:rPr>
              <a:t>У неё точно всё получится! </a:t>
            </a:r>
            <a:endParaRPr b="0" lang="en-US" sz="1800" spc="-1" strike="noStrike">
              <a:solidFill>
                <a:srgbClr val="f8d6ff"/>
              </a:solidFill>
              <a:latin typeface="Cleopatra"/>
            </a:endParaRPr>
          </a:p>
        </p:txBody>
      </p:sp>
      <p:pic>
        <p:nvPicPr>
          <p:cNvPr id="444" name="Рисунок 2" descr=""/>
          <p:cNvPicPr/>
          <p:nvPr/>
        </p:nvPicPr>
        <p:blipFill>
          <a:blip r:embed="rId1"/>
          <a:stretch/>
        </p:blipFill>
        <p:spPr>
          <a:xfrm>
            <a:off x="3348000" y="160200"/>
            <a:ext cx="3960720" cy="5113440"/>
          </a:xfrm>
          <a:prstGeom prst="rect">
            <a:avLst/>
          </a:prstGeom>
          <a:ln w="0">
            <a:noFill/>
          </a:ln>
        </p:spPr>
      </p:pic>
      <p:sp>
        <p:nvSpPr>
          <p:cNvPr id="445" name="Rectangle 5"/>
          <p:cNvSpPr/>
          <p:nvPr/>
        </p:nvSpPr>
        <p:spPr>
          <a:xfrm>
            <a:off x="1908000" y="5318280"/>
            <a:ext cx="6050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ddea"/>
                </a:solidFill>
                <a:latin typeface="Cleopatra"/>
                <a:ea typeface="Arial"/>
              </a:rPr>
              <a:t>Мама Алины Ошкиной – Светлана Владимировна</a:t>
            </a:r>
            <a:endParaRPr b="0" lang="en-US" sz="1800" spc="-1" strike="noStrike">
              <a:solidFill>
                <a:srgbClr val="58006c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394920" y="1557360"/>
            <a:ext cx="306396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8d6ff"/>
                </a:solidFill>
                <a:latin typeface="Cleopatra"/>
              </a:rPr>
              <a:t>Конец.</a:t>
            </a:r>
            <a:endParaRPr b="0" lang="en-US" sz="6000" spc="-1" strike="noStrike">
              <a:solidFill>
                <a:srgbClr val="f8d6ff"/>
              </a:solidFill>
              <a:latin typeface="Cleopatr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8d6ff"/>
                </a:solidFill>
                <a:latin typeface="Cleopatra"/>
              </a:rPr>
              <a:t>Конец?</a:t>
            </a:r>
            <a:endParaRPr b="0" lang="en-US" sz="6000" spc="-1" strike="noStrike">
              <a:solidFill>
                <a:srgbClr val="f8d6ff"/>
              </a:solidFill>
              <a:latin typeface="Cleopatr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8d6ff"/>
                </a:solidFill>
                <a:latin typeface="Cleopatra"/>
              </a:rPr>
              <a:t>Конец!?</a:t>
            </a:r>
            <a:endParaRPr b="0" lang="en-US" sz="6000" spc="-1" strike="noStrike">
              <a:solidFill>
                <a:srgbClr val="f8d6ff"/>
              </a:solidFill>
              <a:latin typeface="Cleopatra"/>
            </a:endParaRPr>
          </a:p>
        </p:txBody>
      </p:sp>
      <p:pic>
        <p:nvPicPr>
          <p:cNvPr id="447" name="Объект 3" descr=""/>
          <p:cNvPicPr/>
          <p:nvPr/>
        </p:nvPicPr>
        <p:blipFill>
          <a:blip r:embed="rId1"/>
          <a:stretch/>
        </p:blipFill>
        <p:spPr>
          <a:xfrm>
            <a:off x="3564000" y="476280"/>
            <a:ext cx="4176720" cy="5473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1692360" y="333000"/>
            <a:ext cx="54720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8d6ff"/>
                </a:solidFill>
                <a:latin typeface="Cleopatra"/>
              </a:rPr>
              <a:t>Нет!!!</a:t>
            </a:r>
            <a:endParaRPr b="0" lang="en-US" sz="6600" spc="-1" strike="noStrike">
              <a:solidFill>
                <a:srgbClr val="f8d6ff"/>
              </a:solidFill>
              <a:latin typeface="Cleopatra"/>
            </a:endParaRPr>
          </a:p>
        </p:txBody>
      </p:sp>
      <p:pic>
        <p:nvPicPr>
          <p:cNvPr id="449" name="Объект 3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6481800" cy="4392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0051"/>
                </a:solidFill>
                <a:latin typeface="Baltimore Nouveau"/>
              </a:rPr>
              <a:t>Страница четвёртая (последняя):</a:t>
            </a:r>
            <a:br>
              <a:rPr sz="2000"/>
            </a:br>
            <a:r>
              <a:rPr b="0" lang="ru-RU" sz="1800" spc="-1" strike="noStrike">
                <a:solidFill>
                  <a:srgbClr val="420051"/>
                </a:solidFill>
                <a:latin typeface="Baltimore Nouveau"/>
              </a:rPr>
              <a:t>«Очень нежно люблю мамочку свою..»</a:t>
            </a:r>
            <a:r>
              <a:rPr b="0" lang="ru-RU" sz="2000" spc="-1" strike="noStrike">
                <a:solidFill>
                  <a:srgbClr val="420051"/>
                </a:solidFill>
                <a:latin typeface="Baltimore Nouveau"/>
              </a:rPr>
              <a:t> </a:t>
            </a:r>
            <a:endParaRPr b="0" lang="en-US" sz="2000" spc="-1" strike="noStrike">
              <a:solidFill>
                <a:srgbClr val="420051"/>
              </a:solidFill>
              <a:latin typeface="Baltimore Nouveau"/>
            </a:endParaRPr>
          </a:p>
        </p:txBody>
      </p:sp>
      <p:pic>
        <p:nvPicPr>
          <p:cNvPr id="451" name="Picture 6" descr="C:\Users\сад\Videos\20201125_103023.jpg"/>
          <p:cNvPicPr/>
          <p:nvPr/>
        </p:nvPicPr>
        <p:blipFill>
          <a:blip r:embed="rId1"/>
          <a:stretch/>
        </p:blipFill>
        <p:spPr>
          <a:xfrm>
            <a:off x="258840" y="1125360"/>
            <a:ext cx="8351640" cy="4699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23640" y="1052640"/>
            <a:ext cx="735804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8006c"/>
                </a:solidFill>
                <a:latin typeface="Baltimore Nouveau"/>
              </a:rPr>
              <a:t>Когда-то наши мамы</a:t>
            </a:r>
            <a:r>
              <a:rPr b="0" lang="ru-RU" sz="2400" spc="-1" strike="noStrike">
                <a:solidFill>
                  <a:srgbClr val="ffadcd"/>
                </a:solidFill>
                <a:latin typeface="Baltimore Nouveau"/>
              </a:rPr>
              <a:t> </a:t>
            </a:r>
            <a:r>
              <a:rPr b="0" lang="ru-RU" sz="2400" spc="-1" strike="noStrike">
                <a:solidFill>
                  <a:srgbClr val="58006c"/>
                </a:solidFill>
                <a:latin typeface="Baltimore Nouveau"/>
              </a:rPr>
              <a:t>были маленькими детьми: они шалили, играли, резвились…</a:t>
            </a:r>
            <a:endParaRPr b="0" lang="en-US" sz="2400" spc="-1" strike="noStrike">
              <a:solidFill>
                <a:srgbClr val="420051"/>
              </a:solidFill>
              <a:latin typeface="Baltimore Nouveau"/>
            </a:endParaRPr>
          </a:p>
        </p:txBody>
      </p:sp>
      <p:pic>
        <p:nvPicPr>
          <p:cNvPr id="374" name="Объект 7" descr=""/>
          <p:cNvPicPr/>
          <p:nvPr/>
        </p:nvPicPr>
        <p:blipFill>
          <a:blip r:embed="rId1"/>
          <a:stretch/>
        </p:blipFill>
        <p:spPr>
          <a:xfrm>
            <a:off x="3708360" y="1916280"/>
            <a:ext cx="3672000" cy="3025440"/>
          </a:xfrm>
          <a:prstGeom prst="rect">
            <a:avLst/>
          </a:prstGeom>
          <a:ln w="0">
            <a:noFill/>
          </a:ln>
        </p:spPr>
      </p:pic>
      <p:pic>
        <p:nvPicPr>
          <p:cNvPr id="375" name="Рисунок 8" descr=""/>
          <p:cNvPicPr/>
          <p:nvPr/>
        </p:nvPicPr>
        <p:blipFill>
          <a:blip r:embed="rId2"/>
          <a:stretch/>
        </p:blipFill>
        <p:spPr>
          <a:xfrm>
            <a:off x="635040" y="2987640"/>
            <a:ext cx="3738600" cy="3024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Объект 3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8353440" cy="4697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3" descr="C:\Users\сад\Videos\20201125_103121.jpg"/>
          <p:cNvPicPr/>
          <p:nvPr/>
        </p:nvPicPr>
        <p:blipFill>
          <a:blip r:embed="rId1"/>
          <a:stretch/>
        </p:blipFill>
        <p:spPr>
          <a:xfrm>
            <a:off x="395280" y="1125360"/>
            <a:ext cx="8408880" cy="4729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78920" y="907920"/>
            <a:ext cx="7358040" cy="73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0051"/>
                </a:solidFill>
                <a:latin typeface="Baltimore Nouveau"/>
              </a:rPr>
              <a:t>Мамы выросли… Но…Иногда хочется посмотреть, </a:t>
            </a:r>
            <a:br>
              <a:rPr sz="2000"/>
            </a:br>
            <a:r>
              <a:rPr b="0" lang="ru-RU" sz="2000" spc="-1" strike="noStrike">
                <a:solidFill>
                  <a:srgbClr val="420051"/>
                </a:solidFill>
                <a:latin typeface="Baltimore Nouveau"/>
              </a:rPr>
              <a:t>какие они были маленькие…</a:t>
            </a:r>
            <a:endParaRPr b="0" lang="en-US" sz="2000" spc="-1" strike="noStrike">
              <a:solidFill>
                <a:srgbClr val="420051"/>
              </a:solidFill>
              <a:latin typeface="Baltimore Nouveau"/>
            </a:endParaRPr>
          </a:p>
        </p:txBody>
      </p:sp>
      <p:pic>
        <p:nvPicPr>
          <p:cNvPr id="377" name="Объект 4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6192720" cy="4464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4000" y="1268280"/>
            <a:ext cx="7358040" cy="18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0051"/>
                </a:solidFill>
                <a:latin typeface="Baltimore Nouveau"/>
              </a:rPr>
              <a:t>Мальчишки и девчонки,</a:t>
            </a:r>
            <a:br>
              <a:rPr sz="2800"/>
            </a:br>
            <a:r>
              <a:rPr b="0" lang="ru-RU" sz="2800" spc="-1" strike="noStrike">
                <a:solidFill>
                  <a:srgbClr val="420051"/>
                </a:solidFill>
                <a:latin typeface="Baltimore Nouveau"/>
              </a:rPr>
              <a:t>А также их родители, </a:t>
            </a:r>
            <a:br>
              <a:rPr sz="2800"/>
            </a:br>
            <a:r>
              <a:rPr b="0" lang="ru-RU" sz="2800" spc="-1" strike="noStrike">
                <a:solidFill>
                  <a:srgbClr val="420051"/>
                </a:solidFill>
                <a:latin typeface="Baltimore Nouveau"/>
              </a:rPr>
              <a:t>(И воспитатели, конечно, тоже).</a:t>
            </a:r>
            <a:br>
              <a:rPr sz="2800"/>
            </a:br>
            <a:r>
              <a:rPr b="0" lang="ru-RU" sz="2800" spc="-1" strike="noStrike">
                <a:solidFill>
                  <a:srgbClr val="420051"/>
                </a:solidFill>
                <a:latin typeface="Baltimore Nouveau"/>
              </a:rPr>
              <a:t>Красивые фотографии</a:t>
            </a:r>
            <a:br>
              <a:rPr sz="2800"/>
            </a:br>
            <a:r>
              <a:rPr b="0" lang="ru-RU" sz="2800" spc="-1" strike="noStrike">
                <a:solidFill>
                  <a:srgbClr val="420051"/>
                </a:solidFill>
                <a:latin typeface="Baltimore Nouveau"/>
              </a:rPr>
              <a:t>Увидеть не хотите ли?</a:t>
            </a:r>
            <a:br>
              <a:rPr sz="2800"/>
            </a:br>
            <a:endParaRPr b="0" lang="en-US" sz="28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2123640" y="3429000"/>
            <a:ext cx="47530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d6ff"/>
                </a:solidFill>
                <a:latin typeface="Cleopatra"/>
              </a:rPr>
              <a:t>Сейчас покажем Вам</a:t>
            </a:r>
            <a:endParaRPr b="0" lang="en-US" sz="2800" spc="-1" strike="noStrike">
              <a:solidFill>
                <a:srgbClr val="f8d6ff"/>
              </a:solidFill>
              <a:latin typeface="Cleopatr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d6ff"/>
                </a:solidFill>
                <a:latin typeface="Cleopatra"/>
              </a:rPr>
              <a:t>Чудесные фотографии</a:t>
            </a:r>
            <a:endParaRPr b="0" lang="en-US" sz="2800" spc="-1" strike="noStrike">
              <a:solidFill>
                <a:srgbClr val="f8d6ff"/>
              </a:solidFill>
              <a:latin typeface="Cleopatr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d6ff"/>
                </a:solidFill>
                <a:latin typeface="Cleopatra"/>
              </a:rPr>
              <a:t>Из жизни наших </a:t>
            </a:r>
            <a:endParaRPr b="0" lang="en-US" sz="2800" spc="-1" strike="noStrike">
              <a:solidFill>
                <a:srgbClr val="f8d6ff"/>
              </a:solidFill>
              <a:latin typeface="Cleopatr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d6ff"/>
                </a:solidFill>
                <a:latin typeface="Cleopatra"/>
              </a:rPr>
              <a:t>                                  </a:t>
            </a:r>
            <a:r>
              <a:rPr b="0" lang="ru-RU" sz="2800" spc="-1" strike="noStrike">
                <a:solidFill>
                  <a:srgbClr val="f8d6ff"/>
                </a:solidFill>
                <a:latin typeface="Cleopatra"/>
              </a:rPr>
              <a:t>мам!</a:t>
            </a:r>
            <a:endParaRPr b="0" lang="en-US" sz="2800" spc="-1" strike="noStrike">
              <a:solidFill>
                <a:srgbClr val="f8d6ff"/>
              </a:solidFill>
              <a:latin typeface="Cleopatra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35804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0051"/>
                </a:solidFill>
                <a:latin typeface="Baltimore Nouveau"/>
              </a:rPr>
              <a:t>Страница первая:</a:t>
            </a:r>
            <a:br>
              <a:rPr sz="2000"/>
            </a:br>
            <a:r>
              <a:rPr b="1" lang="ru-RU" sz="1800" spc="-1" strike="noStrike">
                <a:solidFill>
                  <a:srgbClr val="420051"/>
                </a:solidFill>
                <a:latin typeface="Baltimore Nouveau"/>
              </a:rPr>
              <a:t>«Топ, топ, топает малыш..»</a:t>
            </a:r>
            <a:endParaRPr b="0" lang="en-US" sz="1800" spc="-1" strike="noStrike">
              <a:solidFill>
                <a:srgbClr val="420051"/>
              </a:solidFill>
              <a:latin typeface="Baltimore Nouveau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11280" y="2781000"/>
            <a:ext cx="21924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5fb11"/>
                </a:solidFill>
                <a:latin typeface="Cleopatra"/>
              </a:rPr>
              <a:t>Лапушка Маша </a:t>
            </a:r>
            <a:endParaRPr b="0" lang="en-US" sz="1800" spc="-1" strike="noStrike">
              <a:solidFill>
                <a:srgbClr val="f8d6ff"/>
              </a:solidFill>
              <a:latin typeface="Cleopatra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5fb11"/>
                </a:solidFill>
                <a:latin typeface="Cleopatra"/>
              </a:rPr>
              <a:t>на руках у папы</a:t>
            </a:r>
            <a:endParaRPr b="0" lang="en-US" sz="1800" spc="-1" strike="noStrike">
              <a:solidFill>
                <a:srgbClr val="f8d6ff"/>
              </a:solidFill>
              <a:latin typeface="Cleopatra"/>
            </a:endParaRPr>
          </a:p>
        </p:txBody>
      </p:sp>
      <p:pic>
        <p:nvPicPr>
          <p:cNvPr id="382" name="Picture 6" descr="D:\Фото. Мамы\фото.04.jpg"/>
          <p:cNvPicPr/>
          <p:nvPr/>
        </p:nvPicPr>
        <p:blipFill>
          <a:blip r:embed="rId1"/>
          <a:stretch/>
        </p:blipFill>
        <p:spPr>
          <a:xfrm>
            <a:off x="3203640" y="1041480"/>
            <a:ext cx="3024000" cy="4489200"/>
          </a:xfrm>
          <a:prstGeom prst="rect">
            <a:avLst/>
          </a:prstGeom>
          <a:ln w="0">
            <a:noFill/>
          </a:ln>
        </p:spPr>
      </p:pic>
      <p:sp>
        <p:nvSpPr>
          <p:cNvPr id="383" name="Прямоугольник 1"/>
          <p:cNvSpPr/>
          <p:nvPr/>
        </p:nvSpPr>
        <p:spPr>
          <a:xfrm>
            <a:off x="2424960" y="5597640"/>
            <a:ext cx="47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ddea"/>
                </a:solidFill>
                <a:latin typeface="Calibri"/>
                <a:ea typeface="Arial"/>
              </a:rPr>
              <a:t>Мама Тани Славинской – Мария Анатольевна</a:t>
            </a:r>
            <a:endParaRPr b="0" lang="en-US" sz="1800" spc="-1" strike="noStrike">
              <a:solidFill>
                <a:srgbClr val="58006c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-396720" y="2276640"/>
            <a:ext cx="361152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5fb11"/>
                </a:solidFill>
                <a:latin typeface="Cleopatra"/>
              </a:rPr>
              <a:t>Наша Настенька с Курочкой Рябой.</a:t>
            </a:r>
            <a:endParaRPr b="0" lang="en-US" sz="2000" spc="-1" strike="noStrike">
              <a:solidFill>
                <a:srgbClr val="f8d6ff"/>
              </a:solidFill>
              <a:latin typeface="Cleopatra"/>
            </a:endParaRPr>
          </a:p>
        </p:txBody>
      </p:sp>
      <p:pic>
        <p:nvPicPr>
          <p:cNvPr id="385" name="Рисунок 1" descr=""/>
          <p:cNvPicPr/>
          <p:nvPr/>
        </p:nvPicPr>
        <p:blipFill>
          <a:blip r:embed="rId1"/>
          <a:stretch/>
        </p:blipFill>
        <p:spPr>
          <a:xfrm>
            <a:off x="3276720" y="108000"/>
            <a:ext cx="3405240" cy="5165640"/>
          </a:xfrm>
          <a:prstGeom prst="rect">
            <a:avLst/>
          </a:prstGeom>
          <a:ln w="0">
            <a:noFill/>
          </a:ln>
        </p:spPr>
      </p:pic>
      <p:sp>
        <p:nvSpPr>
          <p:cNvPr id="386" name="Прямоугольник 2"/>
          <p:cNvSpPr/>
          <p:nvPr/>
        </p:nvSpPr>
        <p:spPr>
          <a:xfrm>
            <a:off x="1908000" y="5300640"/>
            <a:ext cx="59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ddea"/>
                </a:solidFill>
                <a:latin typeface="Calibri"/>
                <a:ea typeface="Arial"/>
              </a:rPr>
              <a:t>Мама Данила Куливацкого – Анастасия Геннадьевна</a:t>
            </a:r>
            <a:endParaRPr b="0" lang="en-US" sz="1800" spc="-1" strike="noStrike">
              <a:solidFill>
                <a:srgbClr val="58006c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1186920" y="5283360"/>
            <a:ext cx="71326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ddea"/>
                </a:solidFill>
                <a:latin typeface="Cleopatra"/>
              </a:rPr>
              <a:t>Мама Виолетты Троицкой – Светлана Александровна</a:t>
            </a:r>
            <a:endParaRPr b="0" lang="en-US" sz="1800" spc="-1" strike="noStrike">
              <a:solidFill>
                <a:srgbClr val="f8d6ff"/>
              </a:solidFill>
              <a:latin typeface="Cleopatra"/>
            </a:endParaRPr>
          </a:p>
        </p:txBody>
      </p:sp>
      <p:sp>
        <p:nvSpPr>
          <p:cNvPr id="388" name="Rectangle 5"/>
          <p:cNvSpPr/>
          <p:nvPr/>
        </p:nvSpPr>
        <p:spPr>
          <a:xfrm>
            <a:off x="179280" y="2349360"/>
            <a:ext cx="31798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5fb11"/>
                </a:solidFill>
                <a:latin typeface="Cleopatra"/>
                <a:ea typeface="Arial"/>
              </a:rPr>
              <a:t>А вот и наша Светочка, улыбаясь, смотрит в светлое будущее</a:t>
            </a:r>
            <a:endParaRPr b="0" lang="en-US" sz="2000" spc="-1" strike="noStrike">
              <a:solidFill>
                <a:srgbClr val="58006c"/>
              </a:solidFill>
              <a:latin typeface="Calibri"/>
            </a:endParaRPr>
          </a:p>
        </p:txBody>
      </p:sp>
      <p:pic>
        <p:nvPicPr>
          <p:cNvPr id="389" name="Рисунок 2" descr=""/>
          <p:cNvPicPr/>
          <p:nvPr/>
        </p:nvPicPr>
        <p:blipFill>
          <a:blip r:embed="rId1"/>
          <a:stretch/>
        </p:blipFill>
        <p:spPr>
          <a:xfrm>
            <a:off x="3316320" y="181080"/>
            <a:ext cx="3806640" cy="5075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178920" y="2027160"/>
            <a:ext cx="3240360" cy="75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5fb11"/>
                </a:solidFill>
                <a:latin typeface="Cleopatra"/>
              </a:rPr>
              <a:t>Бант у нашей Леночки очень красивый, а сама Леночка – ещё лучше.</a:t>
            </a:r>
            <a:endParaRPr b="0" lang="en-US" sz="1800" spc="-1" strike="noStrike">
              <a:solidFill>
                <a:srgbClr val="f8d6ff"/>
              </a:solidFill>
              <a:latin typeface="Cleopatra"/>
            </a:endParaRPr>
          </a:p>
        </p:txBody>
      </p:sp>
      <p:pic>
        <p:nvPicPr>
          <p:cNvPr id="391" name="Рисунок 2" descr=""/>
          <p:cNvPicPr/>
          <p:nvPr/>
        </p:nvPicPr>
        <p:blipFill>
          <a:blip r:embed="rId1"/>
          <a:stretch/>
        </p:blipFill>
        <p:spPr>
          <a:xfrm>
            <a:off x="3276720" y="162000"/>
            <a:ext cx="3405240" cy="522432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5"/>
          <p:cNvSpPr/>
          <p:nvPr/>
        </p:nvSpPr>
        <p:spPr>
          <a:xfrm>
            <a:off x="2122560" y="5413320"/>
            <a:ext cx="6051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ddea"/>
                </a:solidFill>
                <a:latin typeface="Cleopatra"/>
                <a:ea typeface="Arial"/>
              </a:rPr>
              <a:t>Мама Миланы Геллерт – Елена Викторовна</a:t>
            </a:r>
            <a:endParaRPr b="0" lang="en-US" sz="1800" spc="-1" strike="noStrike">
              <a:solidFill>
                <a:srgbClr val="58006c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5T08:32:29Z</dcterms:created>
  <dc:creator>сад</dc:creator>
  <dc:description/>
  <dc:language>en-US</dc:language>
  <cp:lastModifiedBy>asd</cp:lastModifiedBy>
  <dcterms:modified xsi:type="dcterms:W3CDTF">2020-11-29T08:39:06Z</dcterms:modified>
  <cp:revision>79</cp:revision>
  <dc:subject/>
  <dc:title>Фотоальбом</dc:title>
</cp:coreProperties>
</file>