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9E6-74CA-4BFF-A8BE-90EDBC78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E87-AAAE-47BA-8DA7-2416768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CDDD2-6DDC-4944-96EC-2443CC06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5300A-253B-40C2-9348-B96FF22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5117-9A3C-4011-A740-1939C34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46F94-11AA-4932-B264-78E45F9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2EE50-0648-412D-90A9-38A5351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7511-FC3A-41F6-A333-32FA4D2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1DA5F-48F4-4D46-B398-8C88398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B3DA1-E878-460D-845E-BC1ED9D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CBD0B-C39C-4A98-83E7-9CE3A1F8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86-507D-484E-B8C1-1B653D8C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D37-31CB-4B05-9A25-C4842454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A3A9-711E-42E8-9E9E-58800F56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5D82-139D-4946-9505-0C95F3A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4C8-C81D-4ECD-9E62-2D4CD39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39B-1516-414F-9105-A212A46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A08-C313-41D9-9E92-C9B0399D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FBF-0918-4CE9-80B9-F37C4C7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75E-4BC0-4022-8B38-8919ACE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67E-913E-44F3-BB26-3CE09FB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397-EDE5-49DA-8FC1-DF42EC0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8FB-9951-417F-AE3D-409E10E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1A2D-9B5F-4E10-9346-1909E574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CBAA-B8B8-4654-AC98-D7D448C2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FA44-EE45-43DD-AECF-A85D5CB4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8935-1AD8-40A4-B259-9C110F99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A39C-DB10-47B7-86C1-BCC8004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6B2F-FC50-4A55-9235-D9C3C7F7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9C51-DBB5-45F7-9110-427233B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DFA4-473F-48F0-9548-25E6D403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64F-0C36-4720-ADBE-07F81B7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089E-AA7A-4162-9261-100FB019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1AAD-4058-48D0-B0AC-1FF5943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B8E1-B86B-442D-A6AD-E367BA51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4059-37B3-44D4-B929-A3B34ED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F601-27B5-4345-818E-71278F8C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5FFB-12AC-4730-A241-C98C81DB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49E-D120-4E62-9309-62B76BD6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3A06-7571-4644-9444-6BB21FB3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3437-79E3-436C-A46F-E056C4E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E2E9-85DA-410A-855F-A28CA4F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B05-2085-4A39-A009-2154EC26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1128-1C04-435D-A1CE-74027D1C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221A-1682-4D5D-964E-9BD15F81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18E6-8B3D-460F-8400-5CEA0A4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8EF1-48CE-43C0-A80E-FCD0397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0C6E-0317-41AA-B29D-A761C34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EC3B-6865-41D9-9CC9-1CEC566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FABDF-AD9E-4749-8404-BBBF0F7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5DE9-13DD-40B7-8490-19C692D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75EA-1315-478A-95AA-DD11B76D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87F7-3D8B-41D3-AE8E-3CA7F7CE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BCD-0B8C-43B6-8F12-2720BFB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6ACA-9E08-48AE-8144-8F560D07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E32C-F795-4DC5-BF14-05E869C2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CB87-473B-4446-AAEE-1284AA47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4E4D-4E41-4AD2-80E9-67D3907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07C5-EBD2-407C-865A-10AB4D6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F02E-A5A4-4CE3-B7F7-18C0C65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B840-EE8B-44C5-8B22-C6838E2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29E9-96F7-4776-A460-907F271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0205-CEF6-4A9C-AC5D-F77CD63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8321-6619-48EC-8602-0D76EFDA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E9B-F103-4762-A285-28319F4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7C96-8AD1-4EAD-869A-542E84F9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CAA9-14C1-4EE1-BA69-5228C4D3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1207-2804-4549-AD71-160D6BFB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0FEA-4ADF-49B0-ABA9-9833934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F801-75B4-4759-A03E-4A4B04B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D7CB-8A0C-4092-90DD-9BEC5339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0A46-77F5-49E5-8AAE-2D911942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344B-A0E5-4D29-BEB4-3970D616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9DD2D-9C3A-4091-8E97-22B6996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5C45A-DBC0-442E-85CF-278F358E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EF9-5CCD-4995-A755-924824E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62EE-FF10-4B41-A2C6-1B01276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FB6F-BDD5-4E7C-9AF1-4EF65C26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8957-817C-46FF-9724-136B8A54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6740-0D26-423B-8629-C038DC14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0725-74EC-4113-8C21-5F3ADAD4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8019-2B1C-4417-85EF-2470FB9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6485-0A44-4A76-813B-976B0AB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AB08-FA16-4114-96CD-E68C467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215B5-C90D-412D-ABDD-4F99E9C3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98250-DB0F-4F52-AB68-99C858A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F9A-7C55-43A3-A2FD-65BA581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11480-AF40-48A1-9326-58FB4B9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5A4C-7B86-4D7A-A8C1-78005A2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795E-BF83-460A-AF3E-84B392F5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2EEED-6CD8-4180-B74F-DBC15E54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1428-7A4A-4185-BE2A-431B09D7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F785-3A86-4187-B1CA-F57A6647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D75E1-F612-4760-8E14-6513581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B0C91-981F-4003-BEBA-37E590C8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706A-D852-4B58-840B-72DB3D41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AF5A-0EEF-4B47-813C-20014E9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33A-E549-47CC-9E8D-3F98692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E090-7D7F-4F15-B3D3-B2FC36B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E7EA-5CDC-4792-93AC-D6074D6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E3180-E0F4-465E-8BDE-D758270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B178-A24F-4127-B631-0402245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BADC3-3151-478E-ACDF-E28F54A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B92A-811B-4A1C-A5D5-BF05889F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DFE3-B7DA-48B4-8E20-B443E953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5913-0A66-44AB-87BB-109CFA01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D8951-7A95-4DAD-9AF3-1981323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91842-9678-406A-B24D-3235D5BA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Cleopat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leopat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Cleopat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B70-DC8F-4EDB-A054-3C7EB53C5830}" type="slidenum">
              <a:rPr b="0" lang="ru-RU" sz="1200" spc="-1" strike="noStrike">
                <a:solidFill>
                  <a:srgbClr val="9a89a2"/>
                </a:solidFill>
                <a:latin typeface="Cleopat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2DB-0CC2-4213-9861-2ADD9A6F32ED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132-9E2E-4D9B-83DB-EDE2B9C79030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A50-A2AA-42F5-B3FA-3130F244D69E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FF8-9C31-46BD-845D-600E511A9A19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93E-3B8E-4E7C-9E4B-0A6E0CB1E988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BE4-925E-48AA-B8D4-19A9CEC2EC6D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6AAD-719A-4B2D-AFF9-F853F0458E34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FB4-2BDF-4DAF-8A48-72F1FCC77E06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39280" y="1700280"/>
            <a:ext cx="7358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adcd"/>
                </a:solidFill>
                <a:uFillTx/>
                <a:latin typeface="Cleopatra"/>
              </a:rPr>
              <a:t>Основанный на реальных </a:t>
            </a:r>
            <a:endParaRPr b="0" lang="en-US" sz="3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adcd"/>
                </a:solidFill>
                <a:uFillTx/>
                <a:latin typeface="Cleopatra"/>
              </a:rPr>
              <a:t>Фотографиях. </a:t>
            </a:r>
            <a:endParaRPr b="0" lang="en-US" sz="3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«</a:t>
            </a:r>
            <a:r>
              <a:rPr b="1" i="1" lang="ru-RU" sz="5000" spc="-1" strike="noStrike">
                <a:solidFill>
                  <a:srgbClr val="32003e"/>
                </a:solidFill>
                <a:latin typeface="Cleopatra"/>
              </a:rPr>
              <a:t>Мама</a:t>
            </a: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,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Всего четыре буквы, 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а смысл длиною 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в жизнь …»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35804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8006c"/>
                </a:solidFill>
                <a:latin typeface="Baltimore Nouveau"/>
              </a:rPr>
              <a:t>Фотофильм.</a:t>
            </a:r>
            <a:endParaRPr b="0" lang="en-US" sz="6000" spc="-1" strike="noStrike">
              <a:solidFill>
                <a:srgbClr val="420051"/>
              </a:solidFill>
              <a:latin typeface="Baltimore Nouveau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-255600" y="2401920"/>
            <a:ext cx="36036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юдочка-крохотулечка,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ещё такая маленькая,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 такая серьёзная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4" name="Рисунок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3527280" cy="5157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2014560" y="537372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Кирилла Потапова – Людмила Вита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97080" y="2421000"/>
            <a:ext cx="3601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Сашенька в садочке,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рвёт она цветочки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2987640" y="88920"/>
            <a:ext cx="3457440" cy="53290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403280" y="544500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ины Дуловой – Александра Серге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-108000" y="2498760"/>
            <a:ext cx="360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рочка пошла на прогулку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епить снеговика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0" name="Рисунок 2" descr=""/>
          <p:cNvPicPr/>
          <p:nvPr/>
        </p:nvPicPr>
        <p:blipFill>
          <a:blip r:embed="rId1"/>
          <a:stretch/>
        </p:blipFill>
        <p:spPr>
          <a:xfrm>
            <a:off x="3348000" y="233280"/>
            <a:ext cx="3024360" cy="49816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5"/>
          <p:cNvSpPr/>
          <p:nvPr/>
        </p:nvSpPr>
        <p:spPr>
          <a:xfrm>
            <a:off x="1835280" y="531036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аксима Пономарёва – Ирина Борис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46080" y="1984320"/>
            <a:ext cx="30607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Танюша задумалась:  «Во что сегодня поиграть: в куклы или в кубики?»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3241800" y="127080"/>
            <a:ext cx="3274920" cy="52196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755640" y="5373720"/>
            <a:ext cx="7635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тёма и Семёна Глущенко – Татьяна Владими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9360" y="2022480"/>
            <a:ext cx="309888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Очаровашка Наденька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в детском саду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6" name="Рисунок 2" descr=""/>
          <p:cNvPicPr/>
          <p:nvPr/>
        </p:nvPicPr>
        <p:blipFill>
          <a:blip r:embed="rId1"/>
          <a:stretch/>
        </p:blipFill>
        <p:spPr>
          <a:xfrm>
            <a:off x="3108240" y="271440"/>
            <a:ext cx="4056120" cy="50148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1714680" y="5324400"/>
            <a:ext cx="684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Кати Цветковой – Надежда Никола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842920" y="507960"/>
            <a:ext cx="40352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нтересно, у кого глаза больше: у Ии или у куклы?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9" name="Picture 10" descr="Scan10002"/>
          <p:cNvPicPr/>
          <p:nvPr/>
        </p:nvPicPr>
        <p:blipFill>
          <a:blip r:embed="rId1"/>
          <a:stretch/>
        </p:blipFill>
        <p:spPr>
          <a:xfrm>
            <a:off x="1476360" y="1163520"/>
            <a:ext cx="5618160" cy="41306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1042920" y="5300640"/>
            <a:ext cx="6843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Воспитатель – Ия Викто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40" y="1773360"/>
            <a:ext cx="33465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Умница Ниночка сегодня главная дежурная в столовой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3362400" y="88920"/>
            <a:ext cx="3809880" cy="51642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2241720" y="529128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аксима Зайлера – Ни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3094200" y="136440"/>
            <a:ext cx="3887640" cy="5184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-252360" y="1844640"/>
            <a:ext cx="33465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Очаровашка Руфина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с улыбкой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смотрит на нас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619280" y="537372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ероники Копаненко – Руфина Хасан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Объект 5" descr=""/>
          <p:cNvPicPr/>
          <p:nvPr/>
        </p:nvPicPr>
        <p:blipFill>
          <a:blip r:embed="rId1"/>
          <a:stretch/>
        </p:blipFill>
        <p:spPr>
          <a:xfrm>
            <a:off x="3422520" y="692280"/>
            <a:ext cx="3168720" cy="46306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5160" y="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втора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Новогодняя…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-181080" y="1916280"/>
            <a:ext cx="33465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Вот какая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звёздочка – ёлочка, а может быть и снежинка, наша Надюш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981080" y="544500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Тихона Сергиенко – Надежда Васи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033280" y="836640"/>
            <a:ext cx="475452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нтересно, какое желание исполнил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Дедушка Мороз для нашей Алиночки?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22" name="Рисунок 4" descr=""/>
          <p:cNvPicPr/>
          <p:nvPr/>
        </p:nvPicPr>
        <p:blipFill>
          <a:blip r:embed="rId1"/>
          <a:stretch/>
        </p:blipFill>
        <p:spPr>
          <a:xfrm>
            <a:off x="1380960" y="1498680"/>
            <a:ext cx="5712120" cy="3878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817560" y="5376960"/>
            <a:ext cx="68389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ити Повха – Алина Валер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36021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начит нежность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ласка, добро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безмятежность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радость, красота!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на ночь сказк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утренний рассвет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в трудный час подсказк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мудрость и совет!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елень ле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снег, осенний лист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лучик све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начит </a:t>
            </a: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ЖИЗНЬ! 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72" name="Picture 17" descr="А"/>
          <p:cNvPicPr/>
          <p:nvPr/>
        </p:nvPicPr>
        <p:blipFill>
          <a:blip r:embed="rId1"/>
          <a:stretch/>
        </p:blipFill>
        <p:spPr>
          <a:xfrm>
            <a:off x="4140360" y="1125360"/>
            <a:ext cx="3603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08000" y="2016000"/>
            <a:ext cx="3602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Кто красивее: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нечка или ёлочка?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у, конечно,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нечка - снежинка!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25" name="Рисунок 2" descr=""/>
          <p:cNvPicPr/>
          <p:nvPr/>
        </p:nvPicPr>
        <p:blipFill>
          <a:blip r:embed="rId1"/>
          <a:stretch/>
        </p:blipFill>
        <p:spPr>
          <a:xfrm>
            <a:off x="2987640" y="88920"/>
            <a:ext cx="3602160" cy="51912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1763640" y="537372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ины Храмцовой – Анна Серге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Объект 4" descr=""/>
          <p:cNvPicPr/>
          <p:nvPr/>
        </p:nvPicPr>
        <p:blipFill>
          <a:blip r:embed="rId1"/>
          <a:stretch/>
        </p:blipFill>
        <p:spPr>
          <a:xfrm>
            <a:off x="3078000" y="88920"/>
            <a:ext cx="3519720" cy="5400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-252360" y="2276640"/>
            <a:ext cx="36021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Ну, какая же очаровашка,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наша Олечка!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1763640" y="540540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Воспитатель – Ольга Борис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Объект 4" descr=""/>
          <p:cNvPicPr/>
          <p:nvPr/>
        </p:nvPicPr>
        <p:blipFill>
          <a:blip r:embed="rId1"/>
          <a:stretch/>
        </p:blipFill>
        <p:spPr>
          <a:xfrm>
            <a:off x="3419640" y="162000"/>
            <a:ext cx="3240000" cy="50846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-252360" y="2276640"/>
            <a:ext cx="36021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А вот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233280" indent="-233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и ещё одна снежинка-балеринка, Леночка-красавица!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08000" y="527364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ари Солодовой – Еле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Объект 4" descr=""/>
          <p:cNvPicPr/>
          <p:nvPr/>
        </p:nvPicPr>
        <p:blipFill>
          <a:blip r:embed="rId1"/>
          <a:stretch/>
        </p:blipFill>
        <p:spPr>
          <a:xfrm>
            <a:off x="3132000" y="57240"/>
            <a:ext cx="3529080" cy="52164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-396720" y="2349360"/>
            <a:ext cx="3601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К новогодней ёлочке прилетела снежинка-Танечк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835280" y="534672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Димы Луенко – Татья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Объект 4" descr=""/>
          <p:cNvPicPr/>
          <p:nvPr/>
        </p:nvPicPr>
        <p:blipFill>
          <a:blip r:embed="rId1"/>
          <a:stretch/>
        </p:blipFill>
        <p:spPr>
          <a:xfrm>
            <a:off x="3389400" y="17640"/>
            <a:ext cx="3182760" cy="5329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5"/>
          <p:cNvSpPr/>
          <p:nvPr/>
        </p:nvSpPr>
        <p:spPr>
          <a:xfrm>
            <a:off x="-254160" y="2287440"/>
            <a:ext cx="3602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Что-же подарит нашей Ксюшеньке Дедушка Мороз?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Большой мешок конфет.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А она сама, как конфетка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755640" y="5300640"/>
            <a:ext cx="7797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Рамона и Соломона Лисовских – Ксения Олег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900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треть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Школьные годы чудесные..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000" y="2305080"/>
            <a:ext cx="36021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аша умница - Светочка готова идти в школу.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Она будет получать одни пятёрки!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1" name="Рисунок 2" descr=""/>
          <p:cNvPicPr/>
          <p:nvPr/>
        </p:nvPicPr>
        <p:blipFill>
          <a:blip r:embed="rId1"/>
          <a:stretch/>
        </p:blipFill>
        <p:spPr>
          <a:xfrm>
            <a:off x="3348000" y="693720"/>
            <a:ext cx="3240000" cy="48718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5"/>
          <p:cNvSpPr/>
          <p:nvPr/>
        </p:nvSpPr>
        <p:spPr>
          <a:xfrm>
            <a:off x="1692360" y="544500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Лёши Подолянчика – Светлана Никола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-181080" y="2205000"/>
            <a:ext cx="360216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Какой целеустремлённый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взгляд и нашей Светланки.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У неё точно всё получится!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4" name="Рисунок 2" descr=""/>
          <p:cNvPicPr/>
          <p:nvPr/>
        </p:nvPicPr>
        <p:blipFill>
          <a:blip r:embed="rId1"/>
          <a:stretch/>
        </p:blipFill>
        <p:spPr>
          <a:xfrm>
            <a:off x="3348000" y="160200"/>
            <a:ext cx="3960720" cy="51134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5"/>
          <p:cNvSpPr/>
          <p:nvPr/>
        </p:nvSpPr>
        <p:spPr>
          <a:xfrm>
            <a:off x="1908000" y="531828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лины Ошкиной – Светлана Владими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30639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.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?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!?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7" name="Объект 3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417672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692360" y="333000"/>
            <a:ext cx="547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d6ff"/>
                </a:solidFill>
                <a:latin typeface="Cleopatra"/>
              </a:rPr>
              <a:t>Нет!!!</a:t>
            </a:r>
            <a:endParaRPr b="0" lang="en-US" sz="66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9" name="Объект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4818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Страница четвёртая (последняя):</a:t>
            </a:r>
            <a:br>
              <a:rPr sz="2000"/>
            </a:br>
            <a:r>
              <a:rPr b="0" lang="ru-RU" sz="1800" spc="-1" strike="noStrike">
                <a:solidFill>
                  <a:srgbClr val="420051"/>
                </a:solidFill>
                <a:latin typeface="Baltimore Nouveau"/>
              </a:rPr>
              <a:t>«Очень нежно люблю мамочку свою..»</a:t>
            </a: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 </a:t>
            </a:r>
            <a:endParaRPr b="0" lang="en-US" sz="20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451" name="Picture 6" descr="C:\Users\сад\Videos\20201125_103023.jpg"/>
          <p:cNvPicPr/>
          <p:nvPr/>
        </p:nvPicPr>
        <p:blipFill>
          <a:blip r:embed="rId1"/>
          <a:stretch/>
        </p:blipFill>
        <p:spPr>
          <a:xfrm>
            <a:off x="258840" y="1125360"/>
            <a:ext cx="83516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006c"/>
                </a:solidFill>
                <a:latin typeface="Baltimore Nouveau"/>
              </a:rPr>
              <a:t>Когда-то наши мамы</a:t>
            </a:r>
            <a:r>
              <a:rPr b="0" lang="ru-RU" sz="2400" spc="-1" strike="noStrike">
                <a:solidFill>
                  <a:srgbClr val="ffadcd"/>
                </a:solidFill>
                <a:latin typeface="Baltimore Nouveau"/>
              </a:rPr>
              <a:t> </a:t>
            </a:r>
            <a:r>
              <a:rPr b="0" lang="ru-RU" sz="2400" spc="-1" strike="noStrike">
                <a:solidFill>
                  <a:srgbClr val="58006c"/>
                </a:solidFill>
                <a:latin typeface="Baltimore Nouveau"/>
              </a:rPr>
              <a:t>были маленькими детьми: они шалили, играли, резвились…</a:t>
            </a:r>
            <a:endParaRPr b="0" lang="en-US" sz="24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374" name="Объект 7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3672000" cy="30254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"/>
          <p:cNvPicPr/>
          <p:nvPr/>
        </p:nvPicPr>
        <p:blipFill>
          <a:blip r:embed="rId2"/>
          <a:stretch/>
        </p:blipFill>
        <p:spPr>
          <a:xfrm>
            <a:off x="635040" y="2987640"/>
            <a:ext cx="37386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Объект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353440" cy="469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C:\Users\сад\Videos\20201125_103121.jpg"/>
          <p:cNvPicPr/>
          <p:nvPr/>
        </p:nvPicPr>
        <p:blipFill>
          <a:blip r:embed="rId1"/>
          <a:stretch/>
        </p:blipFill>
        <p:spPr>
          <a:xfrm>
            <a:off x="395280" y="1125360"/>
            <a:ext cx="8408880" cy="472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735804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Мамы выросли… Но…Иногда хочется посмотреть, </a:t>
            </a:r>
            <a:br>
              <a:rPr sz="2000"/>
            </a:b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какие они были маленькие…</a:t>
            </a:r>
            <a:endParaRPr b="0" lang="en-US" sz="20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19272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73580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Мальчишки и девчонки,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А также их родители, 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(И воспитатели, конечно, тоже).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Красивые фотографии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Увидеть не хотите ли?</a:t>
            </a:r>
            <a:br>
              <a:rPr sz="2800"/>
            </a:br>
            <a:endParaRPr b="0" lang="en-US" sz="2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123640" y="3429000"/>
            <a:ext cx="4753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Сейчас покажем Вам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Чудесные фотографии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Из жизни наших 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                                  </a:t>
            </a: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мам!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перва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Топ, топ, топает малыш..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219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апушка Маша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а руках у папы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82" name="Picture 6" descr="D:\Фото. Мамы\фото.04.jpg"/>
          <p:cNvPicPr/>
          <p:nvPr/>
        </p:nvPicPr>
        <p:blipFill>
          <a:blip r:embed="rId1"/>
          <a:stretch/>
        </p:blipFill>
        <p:spPr>
          <a:xfrm>
            <a:off x="3203640" y="1041480"/>
            <a:ext cx="3024000" cy="44892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2424960" y="559764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alibri"/>
                <a:ea typeface="Arial"/>
              </a:rPr>
              <a:t>Мама Тани Славинской – Мария Анато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-396720" y="2276640"/>
            <a:ext cx="3611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5fb11"/>
                </a:solidFill>
                <a:latin typeface="Cleopatra"/>
              </a:rPr>
              <a:t>Наша Настенька с Курочкой Рябой.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3276720" y="108000"/>
            <a:ext cx="3405240" cy="5165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1908000" y="5300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alibri"/>
                <a:ea typeface="Arial"/>
              </a:rPr>
              <a:t>Мама Данила Куливацкого – Анастасия Геннад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86920" y="5283360"/>
            <a:ext cx="7132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</a:rPr>
              <a:t>Мама Виолетты Троицкой – Светлана Александровна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79280" y="2349360"/>
            <a:ext cx="3179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5fb11"/>
                </a:solidFill>
                <a:latin typeface="Cleopatra"/>
                <a:ea typeface="Arial"/>
              </a:rPr>
              <a:t>А вот и наша Светочка, улыбаясь, смотрит в светлое будущее</a:t>
            </a:r>
            <a:endParaRPr b="0" lang="en-US" sz="2000" spc="-1" strike="noStrike">
              <a:solidFill>
                <a:srgbClr val="58006c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3316320" y="181080"/>
            <a:ext cx="380664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2027160"/>
            <a:ext cx="32403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Бант у нашей Леночки очень красивый, а сама Леночка – ещё лучше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3276720" y="162000"/>
            <a:ext cx="3405240" cy="52243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2122560" y="541332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иланы Геллерт – Елена Викто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08:32:29Z</dcterms:created>
  <dc:creator>сад</dc:creator>
  <dc:description/>
  <dc:language>en-US</dc:language>
  <cp:lastModifiedBy>asd</cp:lastModifiedBy>
  <dcterms:modified xsi:type="dcterms:W3CDTF">2020-11-29T08:39:06Z</dcterms:modified>
  <cp:revision>79</cp:revision>
  <dc:subject/>
  <dc:title>Фотоальбом</dc:title>
</cp:coreProperties>
</file>