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44E-D11A-43B3-AE78-30970774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00E-957A-4C35-BAA3-98B89E91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E70-856F-4E46-9D6C-124BB949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ACE-C733-4F5E-96AD-7D75858D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23C-E930-49B9-B0C3-A2660087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65C-9D7E-4C23-8B16-C430D32E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1CE-4644-4255-AAB0-0DEE3CFF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05C-B243-4FCD-A9A0-FD73F588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F04-FB6B-47F8-A679-407978F7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1AA-DC08-40BB-ACEB-AFF2937A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27D-03EE-4B99-806A-679DB0C1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2C4-ECC6-457B-9709-8813F3A9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2319-53DA-406D-86ED-A3B03D7AE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кусство и культура Росс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началу Х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нема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современного ки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и нового гер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осмысление исторического прошл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ранизация литературных произведений в новой манере, традициях реалистического к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нема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86080" cy="530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4788000" y="5157720"/>
            <a:ext cx="3743280" cy="131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р из фильма «Му-Му», режиссер  Ю.Грымов. Главную роль Герасима исполняет А.Балу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59280" y="1268280"/>
            <a:ext cx="37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е работы режиссера А.Рогожкина – «Особенности национальной охоты», «Блокпост», «Куку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популярные телесериалы «Бригада» режиссер А.Сид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пись, архитектура, скульп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ождение нового направления - неотрадицио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4619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179280" y="5950080"/>
            <a:ext cx="8748720" cy="105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ьптор З.Церетели за работой.      Памятник Петру Первому – к 300летию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йского флота,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2651400" cy="35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537080" cy="439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324000" y="260280"/>
            <a:ext cx="7777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формы творч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РМАНСЫ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 общения художника и зрителя при помощи различных художествен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4067280" y="3573360"/>
            <a:ext cx="4817880" cy="290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324000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Text Box 5"/>
          <p:cNvSpPr/>
          <p:nvPr/>
        </p:nvSpPr>
        <p:spPr>
          <a:xfrm>
            <a:off x="468360" y="3333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АЛЛЯ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художественные объекты, сконструированные  из самых разных материалов, в том числе и предметов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3333600" y="1341360"/>
            <a:ext cx="5810400" cy="390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736880" cy="3552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219640" y="3718080"/>
            <a:ext cx="3924360" cy="3139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395280" y="429264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ТРОННОЕ искусство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вращение в объекты изображения новейшие технически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79280" y="3745080"/>
            <a:ext cx="4392720" cy="2873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Text Box 6"/>
          <p:cNvSpPr/>
          <p:nvPr/>
        </p:nvSpPr>
        <p:spPr>
          <a:xfrm>
            <a:off x="395280" y="47628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ы А.Е.Харитонова и Е.Н.Пестова , воспроизводившие архитектурные образы эпох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дер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788000" y="580392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торан "Макдоналдс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. Е. Пестов, А. Харитонов, С. Тар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003640" y="3645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ой дом на пересечении улиц Студеной и Новой (Пестов Е., Харитонов 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менения в духовной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90-х гг. ХХ в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тились расходы на развитие куль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ывались кинотеатры, спортивные и туристические ба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али тиражи газет и журна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лись те сферы культуры, которые пользовались коммерческим усп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менения в духовной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ая зарубежная 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рностью пользовались символы западного 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00720" y="2997360"/>
            <a:ext cx="3925800" cy="294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3336840" cy="3220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я в духовной жизни (молодёжная субкульту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5256000" cy="289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4000" y="4365720"/>
            <a:ext cx="2857320" cy="214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3635280" y="3789360"/>
            <a:ext cx="4300560" cy="286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5148360" y="1125360"/>
            <a:ext cx="3809880" cy="2543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менения в духовной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интереса к отечественной культуре к концу 90-хгг.ХХ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505320" cy="2565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5040360" cy="3789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менения в духовной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сферы досу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ечественные сериа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кли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ламные ро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сился интерес с традициям православия, ислама, будд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вались воскресные школы, семинарии, духовные акаде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325116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4"/>
          <p:cNvSpPr/>
          <p:nvPr/>
        </p:nvSpPr>
        <p:spPr>
          <a:xfrm>
            <a:off x="5148360" y="1052640"/>
            <a:ext cx="3456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овым тиражом были изданы произведения А.И.Солженицы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ли выходить произведения В.Распутина, В.Белова, Ф.Искандера, Ч.Айтма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067280" y="3546360"/>
            <a:ext cx="2355840" cy="3311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395280" y="4797360"/>
            <a:ext cx="30243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И.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659640" y="6165720"/>
            <a:ext cx="230328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Распу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атр, музыка, 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независимых театров и антрепризы (временные коллективы акте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и прошлого сочетались с новейшими фор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атры ориентировались на современную драматург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ировали со сценическим дизайном, новейшими техническими сред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атр, музыка, 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онцу 90-х гг. повысился интерес к классическим произведениям – пианино, скрипка, виолончель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4941720" cy="395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5"/>
          <p:cNvSpPr/>
          <p:nvPr/>
        </p:nvSpPr>
        <p:spPr>
          <a:xfrm>
            <a:off x="5724360" y="5734080"/>
            <a:ext cx="316872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исты - В.Третьяков и Ю.Башм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28:24Z</dcterms:created>
  <dc:creator>User</dc:creator>
  <dc:description/>
  <dc:language>en-US</dc:language>
  <cp:lastModifiedBy>Admin</cp:lastModifiedBy>
  <dcterms:modified xsi:type="dcterms:W3CDTF">2015-12-20T10:02:00Z</dcterms:modified>
  <cp:revision>5</cp:revision>
  <dc:subject/>
  <dc:title>Искусство и культура России к началу ХХI века.</dc:title>
</cp:coreProperties>
</file>