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2F1-AB1D-47A0-9A43-6BF5D8E4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EBA0-4999-4F82-A2F3-04312CBF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A73-A41A-4036-B43C-036FD110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4D7-8508-4FB9-8444-B62F1ED4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1C7-F919-43AE-AB86-4DEADAAE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435-75F7-4052-BAB7-DD976723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F0D-B40A-4065-8CD4-4713DC65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F71-D90A-4DDB-B766-451FF28A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471-EF86-4F42-A4E0-0C051D3F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8FC6-94AB-4F7C-B1CE-BE622E16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0E1-CA2E-44D7-A1C4-3D917935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D37-D043-45A4-90C1-30EF6408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0F07-2715-4DD2-8E86-0240C5676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кусство и культура Росс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 началу Х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нематогра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современного ки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и нового гер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осмысление исторического прошл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ранизация литературных произведений в новой манере, традициях реалистического ки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нематогра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186080" cy="5300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6" name="Text Box 4"/>
          <p:cNvSpPr/>
          <p:nvPr/>
        </p:nvSpPr>
        <p:spPr>
          <a:xfrm>
            <a:off x="4788000" y="5157720"/>
            <a:ext cx="3743280" cy="131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р из фильма «Му-Му», режиссер  Ю.Грымов. Главную роль Герасима исполняет А.Балу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859280" y="1268280"/>
            <a:ext cx="3745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е работы режиссера А.Рогожкина – «Особенности национальной охоты», «Блокпост», «Кукуш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ись популярные телесериалы «Бригада» режиссер А.Сид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пись, архитектура, скульп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рождение нового направления - неотрадицион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4619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Text Box 5"/>
          <p:cNvSpPr/>
          <p:nvPr/>
        </p:nvSpPr>
        <p:spPr>
          <a:xfrm>
            <a:off x="179280" y="5950080"/>
            <a:ext cx="8748720" cy="105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ьптор З.Церетели за работой.      Памятник Петру Первому – к 300летию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йского флота, 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5867280" y="2205000"/>
            <a:ext cx="2651400" cy="35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537080" cy="4392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4" name="Text Box 5"/>
          <p:cNvSpPr/>
          <p:nvPr/>
        </p:nvSpPr>
        <p:spPr>
          <a:xfrm>
            <a:off x="324000" y="260280"/>
            <a:ext cx="7777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формы творч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ФОРМАНСЫ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ы общения художника и зрителя при помощи различных художествен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4067280" y="3573360"/>
            <a:ext cx="4817880" cy="2901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2349360"/>
            <a:ext cx="324000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7" name="Text Box 5"/>
          <p:cNvSpPr/>
          <p:nvPr/>
        </p:nvSpPr>
        <p:spPr>
          <a:xfrm>
            <a:off x="468360" y="33336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СТАЛЛЯ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художественные объекты, сконструированные  из самых разных материалов, в том числе и предметов б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2"/>
          <a:stretch/>
        </p:blipFill>
        <p:spPr>
          <a:xfrm>
            <a:off x="3333600" y="1341360"/>
            <a:ext cx="5810400" cy="390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736880" cy="3552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5219640" y="3718080"/>
            <a:ext cx="3924360" cy="31399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395280" y="4292640"/>
            <a:ext cx="43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ТРОННОЕ искусство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вращение в объекты изображения новейшие технически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33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79280" y="3745080"/>
            <a:ext cx="4392720" cy="2873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4" name="Text Box 6"/>
          <p:cNvSpPr/>
          <p:nvPr/>
        </p:nvSpPr>
        <p:spPr>
          <a:xfrm>
            <a:off x="395280" y="47628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ы А.Е.Харитонова и Е.Н.Пестова , воспроизводившие архитектурные образы эпох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дерн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788000" y="5803920"/>
            <a:ext cx="435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торан "Макдоналдс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рх. Е. Пестов, А. Харитонов, С. Тарас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003640" y="3645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ой дом на пересечении улиц Студеной и Новой (Пестов Е., Харитонов А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менения в духовной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е 90-х гг. ХХ ве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кратились расходы на развитие культу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ывались кинотеатры, спортивные и туристические ба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али тиражи газет и журна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лись те сферы культуры, которые пользовались коммерческим усп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менения в духовной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овая зарубежная куль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улярностью пользовались символы западного б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500720" y="2997360"/>
            <a:ext cx="3925800" cy="294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3336840" cy="3220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ения в духовной жизни (молодёжная субкульту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5256000" cy="289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24000" y="4365720"/>
            <a:ext cx="2857320" cy="214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3635280" y="3789360"/>
            <a:ext cx="4300560" cy="2867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5148360" y="1125360"/>
            <a:ext cx="3809880" cy="2543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менения в духовной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т интереса к отечественной культуре к концу 90-хгг.ХХ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505320" cy="2565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5040360" cy="3789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менения в духовной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сферы досуг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ечественные сериа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оклип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ламные рол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сился интерес с традициям православия, ислама, будд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вались воскресные школы, семинарии, духовные академ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3251160" cy="36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Text Box 4"/>
          <p:cNvSpPr/>
          <p:nvPr/>
        </p:nvSpPr>
        <p:spPr>
          <a:xfrm>
            <a:off x="5148360" y="1052640"/>
            <a:ext cx="34560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овым тиражом были изданы произведения А.И.Солженицы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ли выходить произведения В.Распутина, В.Белова, Ф.Искандера, Ч.Айтмат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067280" y="3546360"/>
            <a:ext cx="2355840" cy="3311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6"/>
          <p:cNvSpPr/>
          <p:nvPr/>
        </p:nvSpPr>
        <p:spPr>
          <a:xfrm>
            <a:off x="395280" y="4797360"/>
            <a:ext cx="302436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И.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659640" y="6165720"/>
            <a:ext cx="230328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Распу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атр, музыка, ки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новение независимых театров и антрепризы (временные коллективы актер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диции прошлого сочетались с новейшими фор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атры ориентировались на современную драматург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ировали со сценическим дизайном, новейшими техническими средст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атр, музыка, ки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концу 90-х гг. повысился интерес к классическим произведениям – пианино, скрипка, виолончель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4941720" cy="3952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1" name="Text Box 5"/>
          <p:cNvSpPr/>
          <p:nvPr/>
        </p:nvSpPr>
        <p:spPr>
          <a:xfrm>
            <a:off x="5724360" y="5734080"/>
            <a:ext cx="316872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исты - В.Третьяков и Ю.Башм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2:28:24Z</dcterms:created>
  <dc:creator>User</dc:creator>
  <dc:description/>
  <dc:language>en-US</dc:language>
  <cp:lastModifiedBy>Admin</cp:lastModifiedBy>
  <dcterms:modified xsi:type="dcterms:W3CDTF">2015-12-20T10:02:00Z</dcterms:modified>
  <cp:revision>5</cp:revision>
  <dc:subject/>
  <dc:title>Искусство и культура России к началу ХХI века.</dc:title>
</cp:coreProperties>
</file>