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3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8C03-E823-49E9-9A3C-886AC2BD4C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A7EC-3D67-414C-A6D7-B15F1423F7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815B-7359-4014-977B-119ECF3E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8F7D-B51C-4D4F-8FF5-D86029D6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1206-E42E-4550-BA18-F3BD7B66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B170-ED92-4BAB-B9B9-14584B0E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0E72-AD98-40C5-84F6-3A258D34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B274-4B4B-4AA2-8819-33BAF188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1D17-0D8E-40E0-93CD-359CF641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6046-285D-4657-A937-7727EA1A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F392-2726-4BC4-B9B9-317977F0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ECB-6043-4197-97D2-7736F72D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AC31-F283-4D1E-B0BE-18025820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0CF9-AC36-432F-906D-E033FCAC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A773-13AF-47C9-BDBB-68FD64D296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hotofile.ru/photo/krausen/1061363/large/34305459.jpg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kolpino-city.ru/pics/75years.jpg"/>
          <p:cNvPicPr/>
          <p:nvPr/>
        </p:nvPicPr>
        <p:blipFill>
          <a:blip r:embed="rId1"/>
          <a:stretch/>
        </p:blipFill>
        <p:spPr>
          <a:xfrm>
            <a:off x="179280" y="1268280"/>
            <a:ext cx="8713800" cy="435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Взгляд Со Стороны Запада На События В Украине - Страница 5 - Политика и религия - Форум Stepashka.com, Ваш второй дом"/>
          <p:cNvPicPr/>
          <p:nvPr/>
        </p:nvPicPr>
        <p:blipFill>
          <a:blip r:embed="rId1"/>
          <a:stretch/>
        </p:blipFill>
        <p:spPr>
          <a:xfrm rot="2400000">
            <a:off x="6539040" y="512280"/>
            <a:ext cx="3752640" cy="7653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http://4wd-shop.ru/pok/9026/img_3694.jpg"/>
          <p:cNvPicPr/>
          <p:nvPr/>
        </p:nvPicPr>
        <p:blipFill>
          <a:blip r:embed="rId2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5940360" y="2637000"/>
            <a:ext cx="2952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АТСКАЯ МОГ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КЛАДБИЩЕ, ПЛОЩАДКА № 1,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www.heraldicum.ru/russia/subjects/towns/images/pontonny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371016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4656960" y="260280"/>
            <a:ext cx="312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Понто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3419640" y="981000"/>
            <a:ext cx="5473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ёт своё начало с 1712 года, когда  по указу Петра I на окраине  сельца Вознесенское (ныне Корчмино) была расквартирована первая в Росси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тонная ро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6 чел.), на вооружении которой находились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яные понтон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ландского ти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й облик п.Понтонный стал приобретать 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6 год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гда была запущена Северная железная дорога Санкт-Петербург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250920" y="573264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населения составляет окол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0 жител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В 2007 г.    утверждён гер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ёл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250920" y="494172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ообразующие предприятия Средне-Невский Судостроительный завод и Усть-Ижорский фанерный комбина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250920" y="414972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повец, построены первые многоэтажные доходные дома, баня, пекарня, появились электричество, водопровод и канализ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ул.Товпеко,д.8 самый старый дом посёлка.jpg"/>
          <p:cNvPicPr/>
          <p:nvPr/>
        </p:nvPicPr>
        <p:blipFill>
          <a:blip r:embed="rId1"/>
          <a:srcRect l="0" t="0" r="0" b="26398"/>
          <a:stretch/>
        </p:blipFill>
        <p:spPr>
          <a:xfrm>
            <a:off x="250920" y="260280"/>
            <a:ext cx="5257800" cy="2925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1" name="Рисунок 2" descr="IMG_0670_resize_1[1].jpg"/>
          <p:cNvPicPr/>
          <p:nvPr/>
        </p:nvPicPr>
        <p:blipFill>
          <a:blip r:embed="rId2"/>
          <a:stretch/>
        </p:blipFill>
        <p:spPr>
          <a:xfrm>
            <a:off x="5940360" y="2060640"/>
            <a:ext cx="2770200" cy="2709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2" name="Рисунок 3" descr="Памятный знак эскадрильиНормандия-Неман.jpg"/>
          <p:cNvPicPr/>
          <p:nvPr/>
        </p:nvPicPr>
        <p:blipFill>
          <a:blip r:embed="rId3"/>
          <a:stretch/>
        </p:blipFill>
        <p:spPr>
          <a:xfrm>
            <a:off x="250920" y="3357720"/>
            <a:ext cx="5257800" cy="334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Картинка 2 из 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592360" cy="391644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4269600" y="260280"/>
            <a:ext cx="32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Усть-Иж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2987640" y="98100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 пр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адении реки Ижор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в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2987640" y="2708280"/>
            <a:ext cx="590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15 июля 1240 года новгородский князь Александр Ярославич одержал победу над шведскими войсками, за что получил прозвищ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ск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2951280" y="1413000"/>
            <a:ext cx="5941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а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а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жемчужина" 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святая земля - единственно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и современног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а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но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ерусской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ей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250920" y="494172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XX века в Усть-Ижоре было распространено кирпичное и лесозаготовительное производство, кустарный промысел по вязанию мережь, косяков и рыболовных сетей, а также ягодное садовод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489240" y="6021360"/>
            <a:ext cx="52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ление поселка составляе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250920" y="422100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11 год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ть-Ижоре была заложена деревянная церковь во имя святого благоверного князя Александра Невского по именному указу Петра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0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:\фото Колпино\Колпино\39[1].jpg"/>
          <p:cNvPicPr/>
          <p:nvPr/>
        </p:nvPicPr>
        <p:blipFill>
          <a:blip r:embed="rId1"/>
          <a:stretch/>
        </p:blipFill>
        <p:spPr>
          <a:xfrm>
            <a:off x="154080" y="476280"/>
            <a:ext cx="88358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2004izh1[1].jpg"/>
          <p:cNvPicPr/>
          <p:nvPr/>
        </p:nvPicPr>
        <p:blipFill>
          <a:blip r:embed="rId1"/>
          <a:stretch/>
        </p:blipFill>
        <p:spPr>
          <a:xfrm>
            <a:off x="5508720" y="189000"/>
            <a:ext cx="3362400" cy="6460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3" name="Picture 2" descr="G:\Света\школа\история города\Усть-Ижора\izhora16[1].jpg"/>
          <p:cNvPicPr/>
          <p:nvPr/>
        </p:nvPicPr>
        <p:blipFill>
          <a:blip r:embed="rId2"/>
          <a:stretch/>
        </p:blipFill>
        <p:spPr>
          <a:xfrm>
            <a:off x="324000" y="1557360"/>
            <a:ext cx="4852800" cy="3639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3862080" y="26028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Металлост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987640" y="162864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 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1 году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о строительством металлургической ба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250920" y="2781360"/>
            <a:ext cx="8713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В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одств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ехало 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ижн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гил, 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рабочих бы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ебительный батальо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ойны был реконструирован ЛЭЗ (Ленинградский Электромашиностроительный завод). Обозначились основные улицы, развивалась инфраструк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70-х годах создано ОКБ по исследованию атомного ядра – предприятие НИИЭФ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ёлке проживает боле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000 ж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располагаютс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и В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мемориальное кладбище, сквер «Память поколений», аллея М.С. Карева, памятник воинам 55-й ар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Колпино News - В Металлострое на въезде и выезде поставят таблички с указанием населенного пункт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2232000" cy="263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Картинка 21 из 4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4105080" cy="28083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6" descr="Картинка 52 из 429"/>
          <p:cNvPicPr/>
          <p:nvPr/>
        </p:nvPicPr>
        <p:blipFill>
          <a:blip r:embed="rId3"/>
          <a:stretch/>
        </p:blipFill>
        <p:spPr>
          <a:xfrm>
            <a:off x="2484360" y="3429000"/>
            <a:ext cx="4248360" cy="3186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0" name="Picture 8" descr="http://zumo.spb.ru/LJ/sapsan_01.jpg"/>
          <p:cNvPicPr/>
          <p:nvPr/>
        </p:nvPicPr>
        <p:blipFill>
          <a:blip r:embed="rId4"/>
          <a:stretch/>
        </p:blipFill>
        <p:spPr>
          <a:xfrm>
            <a:off x="4716360" y="189000"/>
            <a:ext cx="4211640" cy="2809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3862800" y="189000"/>
            <a:ext cx="28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Сапёр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359640" y="5445000"/>
            <a:ext cx="57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населения  составляет окол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0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843280" y="981000"/>
            <a:ext cx="6049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а Пёт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ловал эти земли генерал-майору В.Д.Корчмину, затем их хозяином стал Б.П.Шереметев.  С 1868 года местностью владело Главное Инженерное управление. Здесь располагались лагеря, учебные плацдармы 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ктических  сапёрных, минных работ, стрельбы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плоть до 1917 г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324000" y="314172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35 году началось строительство завода «Ленспиртстрой», но вмешалась война. Здание не достроили, подвальные помещения использовала 55-я арм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250920" y="414972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ание завода – памятник ВОВ, на территории которого ведутся раскопки. В 2000 году открыт обелиск  с восьмью мраморными плитами, где перечислены фамилии  погибших бойц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МУНИЦИПАЛЬНЫЙ СОВЕТ"/>
          <p:cNvPicPr/>
          <p:nvPr/>
        </p:nvPicPr>
        <p:blipFill>
          <a:blip r:embed="rId1"/>
          <a:stretch/>
        </p:blipFill>
        <p:spPr>
          <a:xfrm>
            <a:off x="324000" y="260280"/>
            <a:ext cx="2439720" cy="28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3" descr="http://4wd-shop.ru/pok/9026/img_1667.jpg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TextBox 4"/>
          <p:cNvSpPr/>
          <p:nvPr/>
        </p:nvSpPr>
        <p:spPr>
          <a:xfrm>
            <a:off x="5724360" y="2565360"/>
            <a:ext cx="30592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АТСКАЯ МОГ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ТЕРРИТОРИИ БЫВШЕГО ЗАВОДА «ЛЕНСПИРТСТР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562120" y="2997360"/>
            <a:ext cx="413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лпинский рай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(образован в 1936 году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3321000" y="112536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г. Колпи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5565240" y="4076640"/>
            <a:ext cx="31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п.Усть-Иж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085000" y="2060640"/>
            <a:ext cx="40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п.Петро-Славя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214440" y="5229360"/>
            <a:ext cx="27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п.Сапёр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24000" y="4076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п. Понто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250920" y="2060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п. Металлост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Прямая со стрелкой 12"/>
          <p:cNvCxnSpPr>
            <a:endCxn id="50" idx="2"/>
          </p:cNvCxnSpPr>
          <p:nvPr/>
        </p:nvCxnSpPr>
        <p:spPr>
          <a:xfrm flipH="1" flipV="1">
            <a:off x="4545720" y="1771200"/>
            <a:ext cx="26280" cy="1370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4"/>
          <p:cNvCxnSpPr/>
          <p:nvPr/>
        </p:nvCxnSpPr>
        <p:spPr>
          <a:xfrm flipV="1">
            <a:off x="4788000" y="2636280"/>
            <a:ext cx="108000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6"/>
          <p:cNvCxnSpPr/>
          <p:nvPr/>
        </p:nvCxnSpPr>
        <p:spPr>
          <a:xfrm>
            <a:off x="5076720" y="3789000"/>
            <a:ext cx="100872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18"/>
          <p:cNvCxnSpPr/>
          <p:nvPr/>
        </p:nvCxnSpPr>
        <p:spPr>
          <a:xfrm flipH="1">
            <a:off x="4570200" y="4005000"/>
            <a:ext cx="3600" cy="115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20"/>
          <p:cNvCxnSpPr/>
          <p:nvPr/>
        </p:nvCxnSpPr>
        <p:spPr>
          <a:xfrm flipH="1">
            <a:off x="2842920" y="3788280"/>
            <a:ext cx="115272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22"/>
          <p:cNvCxnSpPr/>
          <p:nvPr/>
        </p:nvCxnSpPr>
        <p:spPr>
          <a:xfrm flipH="1" flipV="1">
            <a:off x="3276360" y="2636280"/>
            <a:ext cx="108000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5"/>
          <p:cNvSpPr/>
          <p:nvPr/>
        </p:nvSpPr>
        <p:spPr>
          <a:xfrm>
            <a:off x="0" y="59500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 разделён на 18 районов. Внутри районов выделяются муниципальные образования: муниципальные округа (МО), города, посё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www.heraldicum.ru/russia/subjects/towns/images/kolpino3.gif"/>
          <p:cNvPicPr/>
          <p:nvPr/>
        </p:nvPicPr>
        <p:blipFill>
          <a:blip r:embed="rId1"/>
          <a:stretch/>
        </p:blipFill>
        <p:spPr>
          <a:xfrm>
            <a:off x="250920" y="1341360"/>
            <a:ext cx="1947600" cy="24480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2"/>
          <p:cNvSpPr/>
          <p:nvPr/>
        </p:nvSpPr>
        <p:spPr>
          <a:xfrm>
            <a:off x="2340000" y="189000"/>
            <a:ext cx="6553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города был утверждён 23 сентября 1881 года императором Александром III. Изображение герба было выполнено художником гербового отделения Геральдической палаты — Коллежским асессором А. А. Фадее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волика герб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золотых пламен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заводская промышленность (представляется, что это три горячих производства: получение и горячая обработка металла и обжиг кирпич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кие чёрные столб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имволизируют линию Николаевской железной дороги, проходившей через пос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влёный (красный) столп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имвол храбрости, мужества и неустраш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250920" y="5300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й вариант герба города Колпи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вольной части) был утверждён в июне 1998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Управляющая кнопка: назад 5"/>
          <p:cNvSpPr/>
          <p:nvPr/>
        </p:nvSpPr>
        <p:spPr>
          <a:xfrm>
            <a:off x="179280" y="6237360"/>
            <a:ext cx="720720" cy="422280"/>
          </a:xfrm>
          <a:custGeom>
            <a:avLst/>
            <a:gdLst>
              <a:gd name="textAreaLeft" fmla="*/ 27360 w 720720"/>
              <a:gd name="textAreaRight" fmla="*/ 693360 w 72072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6852" h="21600">
                <a:moveTo>
                  <a:pt x="0" y="0"/>
                </a:moveTo>
                <a:lnTo>
                  <a:pt x="36852" y="0"/>
                </a:lnTo>
                <a:lnTo>
                  <a:pt x="36852" y="21600"/>
                </a:lnTo>
                <a:lnTo>
                  <a:pt x="0" y="21600"/>
                </a:lnTo>
                <a:close/>
              </a:path>
              <a:path fill="lightenLess" w="36852" h="21600">
                <a:moveTo>
                  <a:pt x="0" y="0"/>
                </a:moveTo>
                <a:lnTo>
                  <a:pt x="36852" y="0"/>
                </a:lnTo>
                <a:lnTo>
                  <a:pt x="35452" y="1400"/>
                </a:lnTo>
                <a:lnTo>
                  <a:pt x="1400" y="1400"/>
                </a:lnTo>
                <a:close/>
              </a:path>
              <a:path fill="darken" w="36852" h="21600">
                <a:moveTo>
                  <a:pt x="36852" y="0"/>
                </a:moveTo>
                <a:lnTo>
                  <a:pt x="36852" y="21600"/>
                </a:lnTo>
                <a:lnTo>
                  <a:pt x="35452" y="20200"/>
                </a:lnTo>
                <a:lnTo>
                  <a:pt x="35452" y="1400"/>
                </a:lnTo>
                <a:close/>
              </a:path>
              <a:path fill="darkenLess" w="36852" h="21600">
                <a:moveTo>
                  <a:pt x="368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52" y="20200"/>
                </a:lnTo>
                <a:close/>
              </a:path>
              <a:path fill="lighten" w="368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52" h="21600">
                <a:moveTo>
                  <a:pt x="11420" y="10800"/>
                </a:moveTo>
                <a:lnTo>
                  <a:pt x="25433" y="3794"/>
                </a:lnTo>
                <a:lnTo>
                  <a:pt x="2543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132000" y="437760"/>
            <a:ext cx="572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вле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расный) – символизирует любовь, мужество (цвет пролитой крови героев), смелость, великодушие, храбрость, неустрашимость. Символ труда, огня промышленного производства, жизнеутверждающей силы,  красоты, солнца и тепла. В древнерусской традиции красный- красив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зорев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иний, голубой) – символ красоты, любви,  мира  и возвышенных устремлений.  Цвет протекающей реки Славя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еленый) – символ радости, жизни, возрождение природы каждую весну и плодород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Единство природы, промышленности и сельского хозяйства через строительство родного дома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http://www.heraldicum.ru/russia/subjects/towns/images/petro.gif"/>
          <p:cNvPicPr/>
          <p:nvPr/>
        </p:nvPicPr>
        <p:blipFill>
          <a:blip r:embed="rId1"/>
          <a:stretch/>
        </p:blipFill>
        <p:spPr>
          <a:xfrm>
            <a:off x="250920" y="1268280"/>
            <a:ext cx="2733480" cy="3313080"/>
          </a:xfrm>
          <a:prstGeom prst="rect">
            <a:avLst/>
          </a:prstGeom>
          <a:ln w="0">
            <a:noFill/>
          </a:ln>
        </p:spPr>
      </p:pic>
      <p:sp>
        <p:nvSpPr>
          <p:cNvPr id="125" name="Управляющая кнопка: назад 4"/>
          <p:cNvSpPr/>
          <p:nvPr/>
        </p:nvSpPr>
        <p:spPr>
          <a:xfrm>
            <a:off x="179280" y="6165720"/>
            <a:ext cx="754200" cy="476280"/>
          </a:xfrm>
          <a:custGeom>
            <a:avLst/>
            <a:gdLst>
              <a:gd name="textAreaLeft" fmla="*/ 30600 w 754200"/>
              <a:gd name="textAreaRight" fmla="*/ 723600 w 7542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195" h="21600">
                <a:moveTo>
                  <a:pt x="0" y="0"/>
                </a:moveTo>
                <a:lnTo>
                  <a:pt x="34195" y="0"/>
                </a:lnTo>
                <a:lnTo>
                  <a:pt x="34195" y="21600"/>
                </a:lnTo>
                <a:lnTo>
                  <a:pt x="0" y="21600"/>
                </a:lnTo>
                <a:close/>
              </a:path>
              <a:path fill="lightenLess" w="34195" h="21600">
                <a:moveTo>
                  <a:pt x="0" y="0"/>
                </a:moveTo>
                <a:lnTo>
                  <a:pt x="34195" y="0"/>
                </a:lnTo>
                <a:lnTo>
                  <a:pt x="32795" y="1400"/>
                </a:lnTo>
                <a:lnTo>
                  <a:pt x="1400" y="1400"/>
                </a:lnTo>
                <a:close/>
              </a:path>
              <a:path fill="darken" w="34195" h="21600">
                <a:moveTo>
                  <a:pt x="34195" y="0"/>
                </a:moveTo>
                <a:lnTo>
                  <a:pt x="34195" y="21600"/>
                </a:lnTo>
                <a:lnTo>
                  <a:pt x="32795" y="20200"/>
                </a:lnTo>
                <a:lnTo>
                  <a:pt x="32795" y="1400"/>
                </a:lnTo>
                <a:close/>
              </a:path>
              <a:path fill="darkenLess" w="34195" h="21600">
                <a:moveTo>
                  <a:pt x="34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5" y="20200"/>
                </a:lnTo>
                <a:close/>
              </a:path>
              <a:path fill="lighten" w="34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95" h="21600">
                <a:moveTo>
                  <a:pt x="10091" y="10800"/>
                </a:moveTo>
                <a:lnTo>
                  <a:pt x="24104" y="3794"/>
                </a:lnTo>
                <a:lnTo>
                  <a:pt x="2410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2627280" y="260280"/>
            <a:ext cx="62658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ой якор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рекрещенными поверх него двумя такими ж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ора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мблема на погонах понтонных батальонов инженерных войск русской армии в 1909-1917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ые ромб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исты фанеры) символизируют Усть - Ижорский фанерный комбина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ор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и символ Усть - Ижорской судоверф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зоревый столб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мвол реки Невы, а также  - слава, честь, верность, искренность, безупре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гущество, сила, постоянство, вера, справедливость, добродетель, вер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влен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расный)- символ боевой и трудовой славы, честь, энергию и огонь промышленного производства и. т. д. Сила, могущество, благородство, право, мужество храбрость, неустрашимость. Геральдический цвет Санкт-Петербур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://www.heraldicum.ru/russia/subjects/towns/images/pontonny.gif"/>
          <p:cNvPicPr/>
          <p:nvPr/>
        </p:nvPicPr>
        <p:blipFill>
          <a:blip r:embed="rId1"/>
          <a:stretch/>
        </p:blipFill>
        <p:spPr>
          <a:xfrm>
            <a:off x="179280" y="1628640"/>
            <a:ext cx="2376720" cy="2916360"/>
          </a:xfrm>
          <a:prstGeom prst="rect">
            <a:avLst/>
          </a:prstGeom>
          <a:ln w="0">
            <a:noFill/>
          </a:ln>
        </p:spPr>
      </p:pic>
      <p:sp>
        <p:nvSpPr>
          <p:cNvPr id="128" name="Управляющая кнопка: назад 3"/>
          <p:cNvSpPr/>
          <p:nvPr/>
        </p:nvSpPr>
        <p:spPr>
          <a:xfrm>
            <a:off x="250920" y="6093000"/>
            <a:ext cx="792000" cy="54900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31154" h="21600">
                <a:moveTo>
                  <a:pt x="0" y="0"/>
                </a:moveTo>
                <a:lnTo>
                  <a:pt x="31154" y="0"/>
                </a:lnTo>
                <a:lnTo>
                  <a:pt x="31154" y="21600"/>
                </a:lnTo>
                <a:lnTo>
                  <a:pt x="0" y="21600"/>
                </a:lnTo>
                <a:close/>
              </a:path>
              <a:path fill="lightenLess" w="31154" h="21600">
                <a:moveTo>
                  <a:pt x="0" y="0"/>
                </a:moveTo>
                <a:lnTo>
                  <a:pt x="31154" y="0"/>
                </a:lnTo>
                <a:lnTo>
                  <a:pt x="29754" y="1400"/>
                </a:lnTo>
                <a:lnTo>
                  <a:pt x="1400" y="1400"/>
                </a:lnTo>
                <a:close/>
              </a:path>
              <a:path fill="darken" w="31154" h="21600">
                <a:moveTo>
                  <a:pt x="31154" y="0"/>
                </a:moveTo>
                <a:lnTo>
                  <a:pt x="31154" y="21600"/>
                </a:lnTo>
                <a:lnTo>
                  <a:pt x="29754" y="20200"/>
                </a:lnTo>
                <a:lnTo>
                  <a:pt x="29754" y="1400"/>
                </a:lnTo>
                <a:close/>
              </a:path>
              <a:path fill="darkenLess" w="31154" h="21600">
                <a:moveTo>
                  <a:pt x="31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54" y="20200"/>
                </a:lnTo>
                <a:close/>
              </a:path>
              <a:path fill="lighten" w="31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54" h="21600">
                <a:moveTo>
                  <a:pt x="8571" y="10800"/>
                </a:moveTo>
                <a:lnTo>
                  <a:pt x="22584" y="3794"/>
                </a:lnTo>
                <a:lnTo>
                  <a:pt x="2258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3059280" y="1197000"/>
            <a:ext cx="5760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ая ладь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имвол освящения Ижорской земли (перевоз мощей Святого Александра Невског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бряная крепост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вух башнях с кровлями и флагами о двух косицах  –   элемент исторической Ижорской символик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ь  Александра Невског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символ   поселка Усть-Ижор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ревое пол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ерба – символ Неба  и реки  Нев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Картинка 2 из 2"/>
          <p:cNvPicPr/>
          <p:nvPr/>
        </p:nvPicPr>
        <p:blipFill>
          <a:blip r:embed="rId1"/>
          <a:stretch/>
        </p:blipFill>
        <p:spPr>
          <a:xfrm>
            <a:off x="179280" y="1268280"/>
            <a:ext cx="2592360" cy="3918240"/>
          </a:xfrm>
          <a:prstGeom prst="rect">
            <a:avLst/>
          </a:prstGeom>
          <a:ln w="0">
            <a:noFill/>
          </a:ln>
        </p:spPr>
      </p:pic>
      <p:sp>
        <p:nvSpPr>
          <p:cNvPr id="131" name="Управляющая кнопка: назад 3"/>
          <p:cNvSpPr/>
          <p:nvPr/>
        </p:nvSpPr>
        <p:spPr>
          <a:xfrm>
            <a:off x="250920" y="6093000"/>
            <a:ext cx="792000" cy="537840"/>
          </a:xfrm>
          <a:custGeom>
            <a:avLst/>
            <a:gdLst>
              <a:gd name="textAreaLeft" fmla="*/ 34560 w 792000"/>
              <a:gd name="textAreaRight" fmla="*/ 757440 w 792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31800" h="21600">
                <a:moveTo>
                  <a:pt x="0" y="0"/>
                </a:moveTo>
                <a:lnTo>
                  <a:pt x="31800" y="0"/>
                </a:lnTo>
                <a:lnTo>
                  <a:pt x="31800" y="21600"/>
                </a:lnTo>
                <a:lnTo>
                  <a:pt x="0" y="21600"/>
                </a:lnTo>
                <a:close/>
              </a:path>
              <a:path fill="lightenLess" w="31800" h="21600">
                <a:moveTo>
                  <a:pt x="0" y="0"/>
                </a:moveTo>
                <a:lnTo>
                  <a:pt x="31800" y="0"/>
                </a:lnTo>
                <a:lnTo>
                  <a:pt x="30400" y="1400"/>
                </a:lnTo>
                <a:lnTo>
                  <a:pt x="1400" y="1400"/>
                </a:lnTo>
                <a:close/>
              </a:path>
              <a:path fill="darken" w="31800" h="21600">
                <a:moveTo>
                  <a:pt x="31800" y="0"/>
                </a:moveTo>
                <a:lnTo>
                  <a:pt x="31800" y="21600"/>
                </a:lnTo>
                <a:lnTo>
                  <a:pt x="30400" y="20200"/>
                </a:lnTo>
                <a:lnTo>
                  <a:pt x="30400" y="1400"/>
                </a:lnTo>
                <a:close/>
              </a:path>
              <a:path fill="darkenLess" w="31800" h="21600">
                <a:moveTo>
                  <a:pt x="31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400" y="20200"/>
                </a:lnTo>
                <a:close/>
              </a:path>
              <a:path fill="lighten" w="31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800" h="21600">
                <a:moveTo>
                  <a:pt x="8894" y="10800"/>
                </a:moveTo>
                <a:lnTo>
                  <a:pt x="22907" y="3794"/>
                </a:lnTo>
                <a:lnTo>
                  <a:pt x="2290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3132000" y="1700280"/>
            <a:ext cx="554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вленом пол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золотых узких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ков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ждый из которых обременен трем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ыми пламенам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оящий прям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ой кузне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 серебряным молотом и клещами – символы металлургического завода: фасонно-литейного цеха и прессовой кузн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Колпино News - В Металлострое на въезде и выезде поставят таблички с указанием населенного пункта"/>
          <p:cNvPicPr/>
          <p:nvPr/>
        </p:nvPicPr>
        <p:blipFill>
          <a:blip r:embed="rId1"/>
          <a:stretch/>
        </p:blipFill>
        <p:spPr>
          <a:xfrm>
            <a:off x="539640" y="1557360"/>
            <a:ext cx="2256120" cy="2663640"/>
          </a:xfrm>
          <a:prstGeom prst="rect">
            <a:avLst/>
          </a:prstGeom>
          <a:ln w="0">
            <a:noFill/>
          </a:ln>
        </p:spPr>
      </p:pic>
      <p:sp>
        <p:nvSpPr>
          <p:cNvPr id="134" name="Управляющая кнопка: назад 3"/>
          <p:cNvSpPr/>
          <p:nvPr/>
        </p:nvSpPr>
        <p:spPr>
          <a:xfrm>
            <a:off x="250920" y="6093000"/>
            <a:ext cx="865080" cy="566640"/>
          </a:xfrm>
          <a:custGeom>
            <a:avLst/>
            <a:gdLst>
              <a:gd name="textAreaLeft" fmla="*/ 36720 w 865080"/>
              <a:gd name="textAreaRight" fmla="*/ 828360 w 86508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32969" h="21600">
                <a:moveTo>
                  <a:pt x="0" y="0"/>
                </a:moveTo>
                <a:lnTo>
                  <a:pt x="32969" y="0"/>
                </a:lnTo>
                <a:lnTo>
                  <a:pt x="32969" y="21600"/>
                </a:lnTo>
                <a:lnTo>
                  <a:pt x="0" y="21600"/>
                </a:lnTo>
                <a:close/>
              </a:path>
              <a:path fill="lightenLess" w="32969" h="21600">
                <a:moveTo>
                  <a:pt x="0" y="0"/>
                </a:moveTo>
                <a:lnTo>
                  <a:pt x="32969" y="0"/>
                </a:lnTo>
                <a:lnTo>
                  <a:pt x="31569" y="1400"/>
                </a:lnTo>
                <a:lnTo>
                  <a:pt x="1400" y="1400"/>
                </a:lnTo>
                <a:close/>
              </a:path>
              <a:path fill="darken" w="32969" h="21600">
                <a:moveTo>
                  <a:pt x="32969" y="0"/>
                </a:moveTo>
                <a:lnTo>
                  <a:pt x="32969" y="21600"/>
                </a:lnTo>
                <a:lnTo>
                  <a:pt x="31569" y="20200"/>
                </a:lnTo>
                <a:lnTo>
                  <a:pt x="31569" y="1400"/>
                </a:lnTo>
                <a:close/>
              </a:path>
              <a:path fill="darkenLess" w="32969" h="21600">
                <a:moveTo>
                  <a:pt x="329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69" y="20200"/>
                </a:lnTo>
                <a:close/>
              </a:path>
              <a:path fill="lighten" w="329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69" h="21600">
                <a:moveTo>
                  <a:pt x="9478" y="10800"/>
                </a:moveTo>
                <a:lnTo>
                  <a:pt x="23491" y="3794"/>
                </a:lnTo>
                <a:lnTo>
                  <a:pt x="2349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2771640" y="692280"/>
            <a:ext cx="6193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ых топор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рест, изображенных на знаке, символизируют название поселка Саперный. В дореволюционное время, в начале XX века, этот символ являлся эмблемой инженерных войск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зоревый цве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азурь) – символ реки Невы, на берегу которой расположен посело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вле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расный) 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еральдические цвета Санк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бурга, напоминающие о гербе и флаге Санк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бурга, символ вхождения муниципального образования в состав Санк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бур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ые лавровые ветв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оженные накрест поверх сечения, – славное историческое прошлое поселка, напоминание об известных владельцах этих земель в старину – Корчмине и Шереметье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МУНИЦИПАЛЬНЫЙ СОВЕТ"/>
          <p:cNvPicPr/>
          <p:nvPr/>
        </p:nvPicPr>
        <p:blipFill>
          <a:blip r:embed="rId1"/>
          <a:stretch/>
        </p:blipFill>
        <p:spPr>
          <a:xfrm>
            <a:off x="250920" y="1557360"/>
            <a:ext cx="2441520" cy="2879640"/>
          </a:xfrm>
          <a:prstGeom prst="rect">
            <a:avLst/>
          </a:prstGeom>
          <a:ln w="0">
            <a:noFill/>
          </a:ln>
        </p:spPr>
      </p:pic>
      <p:sp>
        <p:nvSpPr>
          <p:cNvPr id="137" name="Управляющая кнопка: назад 4"/>
          <p:cNvSpPr/>
          <p:nvPr/>
        </p:nvSpPr>
        <p:spPr>
          <a:xfrm>
            <a:off x="250920" y="6093000"/>
            <a:ext cx="792000" cy="537840"/>
          </a:xfrm>
          <a:custGeom>
            <a:avLst/>
            <a:gdLst>
              <a:gd name="textAreaLeft" fmla="*/ 34560 w 792000"/>
              <a:gd name="textAreaRight" fmla="*/ 757440 w 792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31800" h="21600">
                <a:moveTo>
                  <a:pt x="0" y="0"/>
                </a:moveTo>
                <a:lnTo>
                  <a:pt x="31800" y="0"/>
                </a:lnTo>
                <a:lnTo>
                  <a:pt x="31800" y="21600"/>
                </a:lnTo>
                <a:lnTo>
                  <a:pt x="0" y="21600"/>
                </a:lnTo>
                <a:close/>
              </a:path>
              <a:path fill="lightenLess" w="31800" h="21600">
                <a:moveTo>
                  <a:pt x="0" y="0"/>
                </a:moveTo>
                <a:lnTo>
                  <a:pt x="31800" y="0"/>
                </a:lnTo>
                <a:lnTo>
                  <a:pt x="30400" y="1400"/>
                </a:lnTo>
                <a:lnTo>
                  <a:pt x="1400" y="1400"/>
                </a:lnTo>
                <a:close/>
              </a:path>
              <a:path fill="darken" w="31800" h="21600">
                <a:moveTo>
                  <a:pt x="31800" y="0"/>
                </a:moveTo>
                <a:lnTo>
                  <a:pt x="31800" y="21600"/>
                </a:lnTo>
                <a:lnTo>
                  <a:pt x="30400" y="20200"/>
                </a:lnTo>
                <a:lnTo>
                  <a:pt x="30400" y="1400"/>
                </a:lnTo>
                <a:close/>
              </a:path>
              <a:path fill="darkenLess" w="31800" h="21600">
                <a:moveTo>
                  <a:pt x="31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400" y="20200"/>
                </a:lnTo>
                <a:close/>
              </a:path>
              <a:path fill="lighten" w="31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800" h="21600">
                <a:moveTo>
                  <a:pt x="8894" y="10800"/>
                </a:moveTo>
                <a:lnTo>
                  <a:pt x="22907" y="3794"/>
                </a:lnTo>
                <a:lnTo>
                  <a:pt x="2290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Картинка 48 из 7878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25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heraldicum.ru/russia/subjects/towns/images/kolpino3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8360" y="404640"/>
            <a:ext cx="2735280" cy="344196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4389120" y="260280"/>
            <a:ext cx="305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Колпи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3276720" y="1052640"/>
            <a:ext cx="56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 летом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22 го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    период   перено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льных мельниц вверх   по  течению   р. Ижор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3348000" y="1700280"/>
            <a:ext cx="554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расположен по обеим берегам реки Ижоры. Единой версии происхождения названия населённого пункта не суще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ообразующим     предприятием          ст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дмиралтейские Ижорские завод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2987640" y="335772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лавной улице  города –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.Лени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расположено  старейшее здание – Заводоуправ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179280" y="4941720"/>
            <a:ext cx="878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шнее Колпино — это развитый промышленный район Санкт-Петербурга. Здесь сосредоточено свыш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упных промышленных, транспортных и строительных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рият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городе расположено множество памятников, памятных знаков, мемориальных досок. Население составляет окол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8 тыс. ж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179280" y="407664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ды ВОВ здесь проходил передний край оборонительного кольца, который защищали солдаты легендарног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жорского батальо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ле войны Колпино отстроили фактически зан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F:\фото Колпино\Колпино\3[1].jpg"/>
          <p:cNvPicPr/>
          <p:nvPr/>
        </p:nvPicPr>
        <p:blipFill>
          <a:blip r:embed="rId1"/>
          <a:stretch/>
        </p:blipFill>
        <p:spPr>
          <a:xfrm>
            <a:off x="0" y="-74520"/>
            <a:ext cx="9144000" cy="6932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:\фото Колпино\Колпино\1[2].jpg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851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F:\фото Колпино\Колпино\4[1].jpg"/>
          <p:cNvPicPr/>
          <p:nvPr/>
        </p:nvPicPr>
        <p:blipFill>
          <a:blip r:embed="rId1"/>
          <a:stretch/>
        </p:blipFill>
        <p:spPr>
          <a:xfrm>
            <a:off x="-39600" y="189000"/>
            <a:ext cx="9183600" cy="6453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F:\фото Колпино\Колпино\2[1].jpg"/>
          <p:cNvPicPr/>
          <p:nvPr/>
        </p:nvPicPr>
        <p:blipFill>
          <a:blip r:embed="rId1"/>
          <a:stretch/>
        </p:blipFill>
        <p:spPr>
          <a:xfrm>
            <a:off x="-41400" y="765000"/>
            <a:ext cx="9185400" cy="5268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http://www.heraldicum.ru/russia/subjects/towns/images/petro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3097080" cy="3753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/>
          <p:cNvSpPr/>
          <p:nvPr/>
        </p:nvSpPr>
        <p:spPr>
          <a:xfrm>
            <a:off x="3492360" y="260280"/>
            <a:ext cx="56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Петро-Славя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3564000" y="1125360"/>
            <a:ext cx="5400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м обязан рек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янк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бургском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ез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я заселялась с Х века (1-2 двора у рек  Ижора и Славянка). С 1782 года у посёлка появились владельцы: Строганов, Зубов, Караваев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чал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а – это излюбленное мест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чного отдых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бурж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населения возросла после строительства железной доро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324000" y="4437000"/>
            <a:ext cx="857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ели работали на кирпичном и Ижорском заводах, на железной дороге, занимались извозом, ловлей рыбы, огороднич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324000" y="544500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97г. разработан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ёлка. Население составляет окол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и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4213800" y="558972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14:19:27Z</dcterms:created>
  <dc:creator>км</dc:creator>
  <dc:description/>
  <dc:language>en-US</dc:language>
  <cp:lastModifiedBy>Света</cp:lastModifiedBy>
  <dcterms:modified xsi:type="dcterms:W3CDTF">2020-11-29T12:44:08Z</dcterms:modified>
  <cp:revision>101</cp:revision>
  <dc:subject/>
  <dc:title>Слайд 1</dc:title>
</cp:coreProperties>
</file>