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F08D-D8B2-4945-BF99-E71B973686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834E-4DE5-4A28-9300-62878FE91B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D6A-1A49-4E6B-B973-C46EAA14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2CF-00A7-4529-AD72-B90C585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5F8-6DA2-4D26-9C97-8E63BAE3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2B3-463C-426B-9C98-CC119241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857-0D62-44BA-9A55-1F753970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179-9393-45B4-A1A3-4B858202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E07-4DF6-44B4-B242-C0CC185B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EBA-ED3D-4038-9FD2-9C378C53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F0A-DAA9-4F1B-9B58-29F85726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07A-31C5-430F-B15D-4FD8A15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1F5-E604-44E9-9907-2EF13E2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A10-639F-4E4A-B64B-2F5CD8CD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6E0-CCCF-4B8A-95E4-74F705DC1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hotofile.ru/photo/krausen/1061363/large/34305459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kolpino-city.ru/pics/75years.jpg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43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Взгляд Со Стороны Запада На События В Украине - Страница 5 - Политика и религия - Форум Stepashka.com, Ваш второй дом"/>
          <p:cNvPicPr/>
          <p:nvPr/>
        </p:nvPicPr>
        <p:blipFill>
          <a:blip r:embed="rId1"/>
          <a:stretch/>
        </p:blipFill>
        <p:spPr>
          <a:xfrm rot="2400000">
            <a:off x="6539040" y="512280"/>
            <a:ext cx="3752640" cy="765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http://4wd-shop.ru/pok/9026/img_3694.jpg"/>
          <p:cNvPicPr/>
          <p:nvPr/>
        </p:nvPicPr>
        <p:blipFill>
          <a:blip r:embed="rId2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5940360" y="2637000"/>
            <a:ext cx="2952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ТСКАЯ МОГ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ЛАДБИЩЕ, ПЛОЩАДКА № 1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heraldicum.ru/russia/subjects/towns/images/pontonny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3710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4656960" y="260280"/>
            <a:ext cx="312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Понт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419640" y="981000"/>
            <a:ext cx="547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т своё начало с 1712 года, когда  по указу Петра I на окраине  сельца Вознесенское (ныне Корчмино) была расквартирована первая в Росс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тонная ро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6 чел.), на вооружении которой находилис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яные понтон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ландского ти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облик п.Понтонный стал приобретать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6 го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была запущена Северная железная дорога Санкт-Петербург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50920" y="57326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составляет око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 жите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В 2007 г.    утверждён гер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ё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50920" y="49417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ообразующие предприятия Средне-Невский Судостроительный завод и Усть-Ижорский фанерный комбин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250920" y="41497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овец, построены первые многоэтажные доходные дома, баня, пекарня, появились электричество, водопровод и кана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ул.Товпеко,д.8 самый старый дом посёлка.jpg"/>
          <p:cNvPicPr/>
          <p:nvPr/>
        </p:nvPicPr>
        <p:blipFill>
          <a:blip r:embed="rId1"/>
          <a:srcRect l="0" t="0" r="0" b="26398"/>
          <a:stretch/>
        </p:blipFill>
        <p:spPr>
          <a:xfrm>
            <a:off x="250920" y="260280"/>
            <a:ext cx="5257800" cy="2925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1" name="Рисунок 2" descr="IMG_0670_resize_1[1].jpg"/>
          <p:cNvPicPr/>
          <p:nvPr/>
        </p:nvPicPr>
        <p:blipFill>
          <a:blip r:embed="rId2"/>
          <a:stretch/>
        </p:blipFill>
        <p:spPr>
          <a:xfrm>
            <a:off x="5940360" y="2060640"/>
            <a:ext cx="2770200" cy="2709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Рисунок 3" descr="Памятный знак эскадрильиНормандия-Неман.jpg"/>
          <p:cNvPicPr/>
          <p:nvPr/>
        </p:nvPicPr>
        <p:blipFill>
          <a:blip r:embed="rId3"/>
          <a:stretch/>
        </p:blipFill>
        <p:spPr>
          <a:xfrm>
            <a:off x="250920" y="3357720"/>
            <a:ext cx="5257800" cy="334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Картинка 2 из 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592360" cy="3916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4269600" y="26028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Усть-Иж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987640" y="981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адении реки Иж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987640" y="2708280"/>
            <a:ext cx="590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15 июля 1240 года новгородский князь Александр Ярославич одержал победу над шведскими войсками, за что получил прозвищ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951280" y="1413000"/>
            <a:ext cx="594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а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жемчужина" 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святая земля - единствен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современног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русско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ей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50920" y="49417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XX века в Усть-Ижоре было распространено кирпичное и лесозаготовительное производство, кустарный промысел по вязанию мережь, косяков и рыболовных сетей, а также ягодное садо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489240" y="6021360"/>
            <a:ext cx="52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поселка составляе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50920" y="42210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1 год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ь-Ижоре была заложена деревянная церковь во имя святого благоверного князя Александра Невского по именному указу Петра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фото Колпино\Колпино\39[1].jpg"/>
          <p:cNvPicPr/>
          <p:nvPr/>
        </p:nvPicPr>
        <p:blipFill>
          <a:blip r:embed="rId1"/>
          <a:stretch/>
        </p:blipFill>
        <p:spPr>
          <a:xfrm>
            <a:off x="154080" y="476280"/>
            <a:ext cx="8835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2004izh1[1].jpg"/>
          <p:cNvPicPr/>
          <p:nvPr/>
        </p:nvPicPr>
        <p:blipFill>
          <a:blip r:embed="rId1"/>
          <a:stretch/>
        </p:blipFill>
        <p:spPr>
          <a:xfrm>
            <a:off x="5508720" y="189000"/>
            <a:ext cx="3362400" cy="6460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3" name="Picture 2" descr="G:\Света\школа\история города\Усть-Ижора\izhora16[1].jpg"/>
          <p:cNvPicPr/>
          <p:nvPr/>
        </p:nvPicPr>
        <p:blipFill>
          <a:blip r:embed="rId2"/>
          <a:stretch/>
        </p:blipFill>
        <p:spPr>
          <a:xfrm>
            <a:off x="324000" y="1557360"/>
            <a:ext cx="4852800" cy="3639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862080" y="26028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Металлост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987640" y="162864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1 году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о строительством металлургической б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50920" y="2781360"/>
            <a:ext cx="8713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ехало 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ж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гил,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рабочих бы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ебительный баталь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был реконструирован ЛЭЗ (Ленинградский Электромашиностроительный завод). Обозначились основные улицы, развивалась инфраструк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0-х годах создано ОКБ по исследованию атомного ядра – предприятие НИИЭФ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ёлке проживает боле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000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асполаг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и В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емориальное кладбище, сквер «Память поколений», аллея М.С. Карева, памятник воинам 55-й ар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Колпино News - В Металлострое на въезде и выезде поставят таблички с указанием населенного пункт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2232000" cy="26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Картинка 21 из 4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808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6" descr="Картинка 52 из 429"/>
          <p:cNvPicPr/>
          <p:nvPr/>
        </p:nvPicPr>
        <p:blipFill>
          <a:blip r:embed="rId3"/>
          <a:stretch/>
        </p:blipFill>
        <p:spPr>
          <a:xfrm>
            <a:off x="2484360" y="3429000"/>
            <a:ext cx="4248360" cy="3186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0" name="Picture 8" descr="http://zumo.spb.ru/LJ/sapsan_01.jpg"/>
          <p:cNvPicPr/>
          <p:nvPr/>
        </p:nvPicPr>
        <p:blipFill>
          <a:blip r:embed="rId4"/>
          <a:stretch/>
        </p:blipFill>
        <p:spPr>
          <a:xfrm>
            <a:off x="4716360" y="189000"/>
            <a:ext cx="4211640" cy="2809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862800" y="18900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Сапё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59640" y="5445000"/>
            <a:ext cx="57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 составляет око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843280" y="981000"/>
            <a:ext cx="6049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Пёт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ловал эти земли генерал-майору В.Д.Корчмину, затем их хозяином стал Б.П.Шереметев.  С 1868 года местностью владело Главное Инженерное управление. Здесь располагались лагеря, учебные плацдармы 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ктических  сапёрных, минных работ, стрельбы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плоть до 1917 г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24000" y="31417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5 году началось строительство завода «Ленспиртстрой», но вмешалась война. Здание не достроили, подвальные помещения использовала 55-я арм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50920" y="41497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завода – памятник ВОВ, на территории которого ведутся раскопки. В 2000 году открыт обелиск  с восьмью мраморными плитами, где перечислены фамилии  погибших бойц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МУНИЦИПАЛЬНЫЙ СОВЕТ"/>
          <p:cNvPicPr/>
          <p:nvPr/>
        </p:nvPicPr>
        <p:blipFill>
          <a:blip r:embed="rId1"/>
          <a:stretch/>
        </p:blipFill>
        <p:spPr>
          <a:xfrm>
            <a:off x="324000" y="260280"/>
            <a:ext cx="2439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http://4wd-shop.ru/pok/9026/img_1667.jpg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Box 4"/>
          <p:cNvSpPr/>
          <p:nvPr/>
        </p:nvSpPr>
        <p:spPr>
          <a:xfrm>
            <a:off x="5724360" y="2565360"/>
            <a:ext cx="3059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ТСКАЯ МОГ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ЕРРИТОРИИ БЫВШЕГО ЗАВОДА «ЛЕНСПИРТСТР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562120" y="2997360"/>
            <a:ext cx="413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лпинский рай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образован в 1936 год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321000" y="112536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. Колпи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565240" y="407664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Усть-Иж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85000" y="206064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Петро-Славя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214440" y="522936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Сапё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24000" y="407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 Понт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250920" y="2060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 Металлост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12"/>
          <p:cNvCxnSpPr>
            <a:endCxn id="50" idx="2"/>
          </p:cNvCxnSpPr>
          <p:nvPr/>
        </p:nvCxnSpPr>
        <p:spPr>
          <a:xfrm flipH="1" flipV="1">
            <a:off x="4545720" y="1771200"/>
            <a:ext cx="26280" cy="137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4"/>
          <p:cNvCxnSpPr/>
          <p:nvPr/>
        </p:nvCxnSpPr>
        <p:spPr>
          <a:xfrm flipV="1">
            <a:off x="4788000" y="2636280"/>
            <a:ext cx="10800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6"/>
          <p:cNvCxnSpPr/>
          <p:nvPr/>
        </p:nvCxnSpPr>
        <p:spPr>
          <a:xfrm>
            <a:off x="5076720" y="3789000"/>
            <a:ext cx="100872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8"/>
          <p:cNvCxnSpPr/>
          <p:nvPr/>
        </p:nvCxnSpPr>
        <p:spPr>
          <a:xfrm flipH="1">
            <a:off x="4570200" y="4005000"/>
            <a:ext cx="360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2842920" y="3788280"/>
            <a:ext cx="115272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22"/>
          <p:cNvCxnSpPr/>
          <p:nvPr/>
        </p:nvCxnSpPr>
        <p:spPr>
          <a:xfrm flipH="1" flipV="1">
            <a:off x="3276360" y="2636280"/>
            <a:ext cx="10800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5"/>
          <p:cNvSpPr/>
          <p:nvPr/>
        </p:nvSpPr>
        <p:spPr>
          <a:xfrm>
            <a:off x="0" y="5950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разделён на 18 районов. Внутри районов выделяются муниципальные образования: муниципальные округа (МО), города, посё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heraldicum.ru/russia/subjects/towns/images/kolpino3.gif"/>
          <p:cNvPicPr/>
          <p:nvPr/>
        </p:nvPicPr>
        <p:blipFill>
          <a:blip r:embed="rId1"/>
          <a:stretch/>
        </p:blipFill>
        <p:spPr>
          <a:xfrm>
            <a:off x="250920" y="1341360"/>
            <a:ext cx="1947600" cy="244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2"/>
          <p:cNvSpPr/>
          <p:nvPr/>
        </p:nvSpPr>
        <p:spPr>
          <a:xfrm>
            <a:off x="2340000" y="189000"/>
            <a:ext cx="6553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орода был утверждён 23 сентября 1881 года императором Александром III. Изображение герба было выполнено художником гербового отделения Геральдической палаты — Коллежским асессором А. А. Фадее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ика герб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золотых пламен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заводская промышленность (представляется, что это три горячих производства: получение и горячая обработка металла и обжиг кирпич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кие чёрные столб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имволизируют линию Николаевской железной дороги, проходившей через по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ёный (красный) стол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храбрости, мужества и неустраш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50920" y="530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вариант герба города Колпи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вольной части) был утверждён в июне 1998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назад 5"/>
          <p:cNvSpPr/>
          <p:nvPr/>
        </p:nvSpPr>
        <p:spPr>
          <a:xfrm>
            <a:off x="179280" y="6237360"/>
            <a:ext cx="720720" cy="422280"/>
          </a:xfrm>
          <a:custGeom>
            <a:avLst/>
            <a:gdLst>
              <a:gd name="textAreaLeft" fmla="*/ 27360 w 720720"/>
              <a:gd name="textAreaRight" fmla="*/ 693360 w 72072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6852" h="21600">
                <a:moveTo>
                  <a:pt x="0" y="0"/>
                </a:moveTo>
                <a:lnTo>
                  <a:pt x="36852" y="0"/>
                </a:lnTo>
                <a:lnTo>
                  <a:pt x="36852" y="21600"/>
                </a:lnTo>
                <a:lnTo>
                  <a:pt x="0" y="21600"/>
                </a:lnTo>
                <a:close/>
              </a:path>
              <a:path fill="lightenLess" w="36852" h="21600">
                <a:moveTo>
                  <a:pt x="0" y="0"/>
                </a:moveTo>
                <a:lnTo>
                  <a:pt x="36852" y="0"/>
                </a:lnTo>
                <a:lnTo>
                  <a:pt x="35452" y="1400"/>
                </a:lnTo>
                <a:lnTo>
                  <a:pt x="1400" y="1400"/>
                </a:lnTo>
                <a:close/>
              </a:path>
              <a:path fill="darken" w="36852" h="21600">
                <a:moveTo>
                  <a:pt x="36852" y="0"/>
                </a:moveTo>
                <a:lnTo>
                  <a:pt x="36852" y="21600"/>
                </a:lnTo>
                <a:lnTo>
                  <a:pt x="35452" y="20200"/>
                </a:lnTo>
                <a:lnTo>
                  <a:pt x="35452" y="1400"/>
                </a:lnTo>
                <a:close/>
              </a:path>
              <a:path fill="darkenLess" w="36852" h="21600">
                <a:moveTo>
                  <a:pt x="36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52" y="20200"/>
                </a:lnTo>
                <a:close/>
              </a:path>
              <a:path fill="lighten" w="36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52" h="21600">
                <a:moveTo>
                  <a:pt x="11420" y="10800"/>
                </a:moveTo>
                <a:lnTo>
                  <a:pt x="25433" y="3794"/>
                </a:lnTo>
                <a:lnTo>
                  <a:pt x="2543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132000" y="437760"/>
            <a:ext cx="57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е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асный) – символизирует любовь, мужество (цвет пролитой крови героев), смелость, великодушие, храбрость, неустрашимость. Символ труда, огня промышленного производства, жизнеутверждающей силы,  красоты, солнца и тепла. В древнерусской традиции красный- крас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орев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ний, голубой) – символ красоты, любви,  мира  и возвышенных устремлений.  Цвет протекающей реки Славя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еленый) – символ радости, жизни, возрождение природы каждую весну и плодород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Единство природы, промышленности и сельского хозяйства через строительство родного дом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ttp://www.heraldicum.ru/russia/subjects/towns/images/petro.gif"/>
          <p:cNvPicPr/>
          <p:nvPr/>
        </p:nvPicPr>
        <p:blipFill>
          <a:blip r:embed="rId1"/>
          <a:stretch/>
        </p:blipFill>
        <p:spPr>
          <a:xfrm>
            <a:off x="250920" y="1268280"/>
            <a:ext cx="2733480" cy="3313080"/>
          </a:xfrm>
          <a:prstGeom prst="rect">
            <a:avLst/>
          </a:prstGeom>
          <a:ln w="0">
            <a:noFill/>
          </a:ln>
        </p:spPr>
      </p:pic>
      <p:sp>
        <p:nvSpPr>
          <p:cNvPr id="125" name="Управляющая кнопка: назад 4"/>
          <p:cNvSpPr/>
          <p:nvPr/>
        </p:nvSpPr>
        <p:spPr>
          <a:xfrm>
            <a:off x="179280" y="6165720"/>
            <a:ext cx="754200" cy="476280"/>
          </a:xfrm>
          <a:custGeom>
            <a:avLst/>
            <a:gdLst>
              <a:gd name="textAreaLeft" fmla="*/ 30600 w 754200"/>
              <a:gd name="textAreaRight" fmla="*/ 723600 w 7542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195" h="21600">
                <a:moveTo>
                  <a:pt x="0" y="0"/>
                </a:moveTo>
                <a:lnTo>
                  <a:pt x="34195" y="0"/>
                </a:lnTo>
                <a:lnTo>
                  <a:pt x="34195" y="21600"/>
                </a:lnTo>
                <a:lnTo>
                  <a:pt x="0" y="21600"/>
                </a:lnTo>
                <a:close/>
              </a:path>
              <a:path fill="lightenLess" w="34195" h="21600">
                <a:moveTo>
                  <a:pt x="0" y="0"/>
                </a:moveTo>
                <a:lnTo>
                  <a:pt x="34195" y="0"/>
                </a:lnTo>
                <a:lnTo>
                  <a:pt x="32795" y="1400"/>
                </a:lnTo>
                <a:lnTo>
                  <a:pt x="1400" y="1400"/>
                </a:lnTo>
                <a:close/>
              </a:path>
              <a:path fill="darken" w="34195" h="21600">
                <a:moveTo>
                  <a:pt x="34195" y="0"/>
                </a:moveTo>
                <a:lnTo>
                  <a:pt x="34195" y="21600"/>
                </a:lnTo>
                <a:lnTo>
                  <a:pt x="32795" y="20200"/>
                </a:lnTo>
                <a:lnTo>
                  <a:pt x="32795" y="1400"/>
                </a:lnTo>
                <a:close/>
              </a:path>
              <a:path fill="darkenLess" w="34195" h="21600">
                <a:moveTo>
                  <a:pt x="3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5" y="20200"/>
                </a:lnTo>
                <a:close/>
              </a:path>
              <a:path fill="lighten" w="3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5" h="21600">
                <a:moveTo>
                  <a:pt x="10091" y="10800"/>
                </a:moveTo>
                <a:lnTo>
                  <a:pt x="24104" y="3794"/>
                </a:lnTo>
                <a:lnTo>
                  <a:pt x="2410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627280" y="260280"/>
            <a:ext cx="6265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й якор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екрещенными поверх него двумя такими ж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р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мблема на погонах понтонных батальонов инженерных войск русской армии в 1909-1917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е ромб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сты фанеры) символизируют Усть - Ижорский фанерный комбина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ор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и символ Усть - Ижорской судоверф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оревый столб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мвол реки Невы, а также  - слава, честь, верность, искренность, безупр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щество, сила, постоянство, вера, справедливость, добродетель, ве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ен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асный)- символ боевой и трудовой славы, честь, энергию и огонь промышленного производства и. т. д. Сила, могущество, благородство, право, мужество храбрость, неустрашимость. Геральдический цвет Санкт-Петербур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www.heraldicum.ru/russia/subjects/towns/images/pontonny.gif"/>
          <p:cNvPicPr/>
          <p:nvPr/>
        </p:nvPicPr>
        <p:blipFill>
          <a:blip r:embed="rId1"/>
          <a:stretch/>
        </p:blipFill>
        <p:spPr>
          <a:xfrm>
            <a:off x="179280" y="1628640"/>
            <a:ext cx="2376720" cy="291636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назад 3"/>
          <p:cNvSpPr/>
          <p:nvPr/>
        </p:nvSpPr>
        <p:spPr>
          <a:xfrm>
            <a:off x="250920" y="6093000"/>
            <a:ext cx="792000" cy="54900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1154" h="21600">
                <a:moveTo>
                  <a:pt x="0" y="0"/>
                </a:moveTo>
                <a:lnTo>
                  <a:pt x="31154" y="0"/>
                </a:lnTo>
                <a:lnTo>
                  <a:pt x="31154" y="21600"/>
                </a:lnTo>
                <a:lnTo>
                  <a:pt x="0" y="21600"/>
                </a:lnTo>
                <a:close/>
              </a:path>
              <a:path fill="lightenLess" w="31154" h="21600">
                <a:moveTo>
                  <a:pt x="0" y="0"/>
                </a:moveTo>
                <a:lnTo>
                  <a:pt x="31154" y="0"/>
                </a:lnTo>
                <a:lnTo>
                  <a:pt x="29754" y="1400"/>
                </a:lnTo>
                <a:lnTo>
                  <a:pt x="1400" y="1400"/>
                </a:lnTo>
                <a:close/>
              </a:path>
              <a:path fill="darken" w="31154" h="21600">
                <a:moveTo>
                  <a:pt x="31154" y="0"/>
                </a:moveTo>
                <a:lnTo>
                  <a:pt x="31154" y="21600"/>
                </a:lnTo>
                <a:lnTo>
                  <a:pt x="29754" y="20200"/>
                </a:lnTo>
                <a:lnTo>
                  <a:pt x="29754" y="1400"/>
                </a:lnTo>
                <a:close/>
              </a:path>
              <a:path fill="darkenLess" w="31154" h="21600">
                <a:moveTo>
                  <a:pt x="31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54" y="20200"/>
                </a:lnTo>
                <a:close/>
              </a:path>
              <a:path fill="lighten" w="31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54" h="21600">
                <a:moveTo>
                  <a:pt x="8571" y="10800"/>
                </a:moveTo>
                <a:lnTo>
                  <a:pt x="22584" y="3794"/>
                </a:lnTo>
                <a:lnTo>
                  <a:pt x="2258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3059280" y="1197000"/>
            <a:ext cx="5760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ая ладь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освящения Ижорской земли (перевоз мощей Святого Александра Невског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бряная креп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вух башнях с кровлями и флагами о двух косицах  –   элемент исторической Ижорской символик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 Александра Невско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символ   поселка Усть-Ижор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ревое пол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рба – символ Неба  и реки  Нев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Картинка 2 из 2"/>
          <p:cNvPicPr/>
          <p:nvPr/>
        </p:nvPicPr>
        <p:blipFill>
          <a:blip r:embed="rId1"/>
          <a:stretch/>
        </p:blipFill>
        <p:spPr>
          <a:xfrm>
            <a:off x="179280" y="1268280"/>
            <a:ext cx="2592360" cy="391824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назад 3"/>
          <p:cNvSpPr/>
          <p:nvPr/>
        </p:nvSpPr>
        <p:spPr>
          <a:xfrm>
            <a:off x="250920" y="6093000"/>
            <a:ext cx="792000" cy="537840"/>
          </a:xfrm>
          <a:custGeom>
            <a:avLst/>
            <a:gdLst>
              <a:gd name="textAreaLeft" fmla="*/ 34560 w 792000"/>
              <a:gd name="textAreaRight" fmla="*/ 757440 w 792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31800" h="21600">
                <a:moveTo>
                  <a:pt x="0" y="0"/>
                </a:moveTo>
                <a:lnTo>
                  <a:pt x="31800" y="0"/>
                </a:lnTo>
                <a:lnTo>
                  <a:pt x="31800" y="21600"/>
                </a:lnTo>
                <a:lnTo>
                  <a:pt x="0" y="21600"/>
                </a:lnTo>
                <a:close/>
              </a:path>
              <a:path fill="lightenLess" w="31800" h="21600">
                <a:moveTo>
                  <a:pt x="0" y="0"/>
                </a:moveTo>
                <a:lnTo>
                  <a:pt x="31800" y="0"/>
                </a:lnTo>
                <a:lnTo>
                  <a:pt x="30400" y="1400"/>
                </a:lnTo>
                <a:lnTo>
                  <a:pt x="1400" y="1400"/>
                </a:lnTo>
                <a:close/>
              </a:path>
              <a:path fill="darken" w="31800" h="21600">
                <a:moveTo>
                  <a:pt x="31800" y="0"/>
                </a:moveTo>
                <a:lnTo>
                  <a:pt x="31800" y="21600"/>
                </a:lnTo>
                <a:lnTo>
                  <a:pt x="30400" y="20200"/>
                </a:lnTo>
                <a:lnTo>
                  <a:pt x="30400" y="1400"/>
                </a:lnTo>
                <a:close/>
              </a:path>
              <a:path fill="darkenLess" w="31800" h="21600">
                <a:moveTo>
                  <a:pt x="31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00" y="20200"/>
                </a:lnTo>
                <a:close/>
              </a:path>
              <a:path fill="lighten" w="31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00" h="21600">
                <a:moveTo>
                  <a:pt x="8894" y="10800"/>
                </a:moveTo>
                <a:lnTo>
                  <a:pt x="22907" y="3794"/>
                </a:lnTo>
                <a:lnTo>
                  <a:pt x="2290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132000" y="170028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еном пол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золотых узких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ждый из которых обременен трем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ми пламена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оящий прям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й кузне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 серебряным молотом и клещами – символы металлургического завода: фасонно-литейного цеха и прессовой куз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Колпино News - В Металлострое на въезде и выезде поставят таблички с указанием населенного пункта"/>
          <p:cNvPicPr/>
          <p:nvPr/>
        </p:nvPicPr>
        <p:blipFill>
          <a:blip r:embed="rId1"/>
          <a:stretch/>
        </p:blipFill>
        <p:spPr>
          <a:xfrm>
            <a:off x="539640" y="1557360"/>
            <a:ext cx="225612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назад 3"/>
          <p:cNvSpPr/>
          <p:nvPr/>
        </p:nvSpPr>
        <p:spPr>
          <a:xfrm>
            <a:off x="250920" y="6093000"/>
            <a:ext cx="865080" cy="566640"/>
          </a:xfrm>
          <a:custGeom>
            <a:avLst/>
            <a:gdLst>
              <a:gd name="textAreaLeft" fmla="*/ 36720 w 865080"/>
              <a:gd name="textAreaRight" fmla="*/ 828360 w 86508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32969" h="21600">
                <a:moveTo>
                  <a:pt x="0" y="0"/>
                </a:moveTo>
                <a:lnTo>
                  <a:pt x="32969" y="0"/>
                </a:lnTo>
                <a:lnTo>
                  <a:pt x="32969" y="21600"/>
                </a:lnTo>
                <a:lnTo>
                  <a:pt x="0" y="21600"/>
                </a:lnTo>
                <a:close/>
              </a:path>
              <a:path fill="lightenLess" w="32969" h="21600">
                <a:moveTo>
                  <a:pt x="0" y="0"/>
                </a:moveTo>
                <a:lnTo>
                  <a:pt x="32969" y="0"/>
                </a:lnTo>
                <a:lnTo>
                  <a:pt x="31569" y="1400"/>
                </a:lnTo>
                <a:lnTo>
                  <a:pt x="1400" y="1400"/>
                </a:lnTo>
                <a:close/>
              </a:path>
              <a:path fill="darken" w="32969" h="21600">
                <a:moveTo>
                  <a:pt x="32969" y="0"/>
                </a:moveTo>
                <a:lnTo>
                  <a:pt x="32969" y="21600"/>
                </a:lnTo>
                <a:lnTo>
                  <a:pt x="31569" y="20200"/>
                </a:lnTo>
                <a:lnTo>
                  <a:pt x="31569" y="1400"/>
                </a:lnTo>
                <a:close/>
              </a:path>
              <a:path fill="darkenLess" w="32969" h="21600">
                <a:moveTo>
                  <a:pt x="329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69" y="20200"/>
                </a:lnTo>
                <a:close/>
              </a:path>
              <a:path fill="lighten" w="329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69" h="21600">
                <a:moveTo>
                  <a:pt x="9478" y="10800"/>
                </a:moveTo>
                <a:lnTo>
                  <a:pt x="23491" y="3794"/>
                </a:lnTo>
                <a:lnTo>
                  <a:pt x="2349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771640" y="692280"/>
            <a:ext cx="6193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х топор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рест, изображенных на знаке, символизируют название поселка Саперный. В дореволюционное время, в начале XX века, этот символ являлся эмблемой инженерных войск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оревый цв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зурь) – символ реки Невы, на берегу которой расположен посело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асный)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еральдические цвета Сан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а, напоминающие о гербе и флаге Сан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а, символ вхождения муниципального образования в состав Сан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е лавровые ветв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оженные накрест поверх сечения, – славное историческое прошлое поселка, напоминание об известных владельцах этих земель в старину – Корчмине и Шереметье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МУНИЦИПАЛЬНЫЙ СОВЕТ"/>
          <p:cNvPicPr/>
          <p:nvPr/>
        </p:nvPicPr>
        <p:blipFill>
          <a:blip r:embed="rId1"/>
          <a:stretch/>
        </p:blipFill>
        <p:spPr>
          <a:xfrm>
            <a:off x="250920" y="1557360"/>
            <a:ext cx="244152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назад 4"/>
          <p:cNvSpPr/>
          <p:nvPr/>
        </p:nvSpPr>
        <p:spPr>
          <a:xfrm>
            <a:off x="250920" y="6093000"/>
            <a:ext cx="792000" cy="537840"/>
          </a:xfrm>
          <a:custGeom>
            <a:avLst/>
            <a:gdLst>
              <a:gd name="textAreaLeft" fmla="*/ 34560 w 792000"/>
              <a:gd name="textAreaRight" fmla="*/ 757440 w 792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31800" h="21600">
                <a:moveTo>
                  <a:pt x="0" y="0"/>
                </a:moveTo>
                <a:lnTo>
                  <a:pt x="31800" y="0"/>
                </a:lnTo>
                <a:lnTo>
                  <a:pt x="31800" y="21600"/>
                </a:lnTo>
                <a:lnTo>
                  <a:pt x="0" y="21600"/>
                </a:lnTo>
                <a:close/>
              </a:path>
              <a:path fill="lightenLess" w="31800" h="21600">
                <a:moveTo>
                  <a:pt x="0" y="0"/>
                </a:moveTo>
                <a:lnTo>
                  <a:pt x="31800" y="0"/>
                </a:lnTo>
                <a:lnTo>
                  <a:pt x="30400" y="1400"/>
                </a:lnTo>
                <a:lnTo>
                  <a:pt x="1400" y="1400"/>
                </a:lnTo>
                <a:close/>
              </a:path>
              <a:path fill="darken" w="31800" h="21600">
                <a:moveTo>
                  <a:pt x="31800" y="0"/>
                </a:moveTo>
                <a:lnTo>
                  <a:pt x="31800" y="21600"/>
                </a:lnTo>
                <a:lnTo>
                  <a:pt x="30400" y="20200"/>
                </a:lnTo>
                <a:lnTo>
                  <a:pt x="30400" y="1400"/>
                </a:lnTo>
                <a:close/>
              </a:path>
              <a:path fill="darkenLess" w="31800" h="21600">
                <a:moveTo>
                  <a:pt x="31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00" y="20200"/>
                </a:lnTo>
                <a:close/>
              </a:path>
              <a:path fill="lighten" w="31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00" h="21600">
                <a:moveTo>
                  <a:pt x="8894" y="10800"/>
                </a:moveTo>
                <a:lnTo>
                  <a:pt x="22907" y="3794"/>
                </a:lnTo>
                <a:lnTo>
                  <a:pt x="2290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48 из 7878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5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heraldicum.ru/russia/subjects/towns/images/kolpino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2735280" cy="3441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4389120" y="260280"/>
            <a:ext cx="30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Колпи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276720" y="105264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 лето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2 г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    период   перен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ьных мельниц вверх   по  течению   р. Ижо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348000" y="1700280"/>
            <a:ext cx="554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расположен по обеим берегам реки Ижоры. Единой версии происхождения названия населённого пункта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ообразующим     предприятием          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дмиралтейские Ижорские завод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987640" y="3357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лавной улице  города –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.Лен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расположено  старейшее здание – Заводо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79280" y="4941720"/>
            <a:ext cx="878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шнее Колпино — это развитый промышленный район Санкт-Петербурга. Здесь сосредоточено свыш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пных промышленных, транспортных и строительных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городе расположено множество памятников, памятных знаков, мемориальных досок. Население составляет око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8 тыс.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79280" y="407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ы ВОВ здесь проходил передний край оборонительного кольца, который защищали солдаты легендарног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жорского баталь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ле войны Колпино отстроили фактически зан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F:\фото Колпино\Колпино\3[1].jpg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фото Колпино\Колпино\1[2].jp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51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F:\фото Колпино\Колпино\4[1].jpg"/>
          <p:cNvPicPr/>
          <p:nvPr/>
        </p:nvPicPr>
        <p:blipFill>
          <a:blip r:embed="rId1"/>
          <a:stretch/>
        </p:blipFill>
        <p:spPr>
          <a:xfrm>
            <a:off x="-39600" y="189000"/>
            <a:ext cx="9183600" cy="6453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фото Колпино\Колпино\2[1].jpg"/>
          <p:cNvPicPr/>
          <p:nvPr/>
        </p:nvPicPr>
        <p:blipFill>
          <a:blip r:embed="rId1"/>
          <a:stretch/>
        </p:blipFill>
        <p:spPr>
          <a:xfrm>
            <a:off x="-41400" y="765000"/>
            <a:ext cx="9185400" cy="5268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heraldicum.ru/russia/subjects/towns/images/petro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097080" cy="3753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3492360" y="26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Петро-Славя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564000" y="112536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м обязан рек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к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ском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ез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заселялась с Х века (1-2 двора у рек  Ижора и Славянка). С 1782 года у посёлка появились владельцы: Строганов, Зубов, Караваев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– это излюбленное мес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чного отдых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ж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возросла после строительства железной дор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24000" y="4437000"/>
            <a:ext cx="857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и работали на кирпичном и Ижорском заводах, на железной дороге, занимались извозом, ловлей рыбы, огородни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24000" y="5445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7г. разработа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ёлка. Население составляет око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213800" y="55897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4:19:27Z</dcterms:created>
  <dc:creator>км</dc:creator>
  <dc:description/>
  <dc:language>en-US</dc:language>
  <cp:lastModifiedBy>Света</cp:lastModifiedBy>
  <dcterms:modified xsi:type="dcterms:W3CDTF">2020-11-29T12:44:08Z</dcterms:modified>
  <cp:revision>101</cp:revision>
  <dc:subject/>
  <dc:title>Слайд 1</dc:title>
</cp:coreProperties>
</file>