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3.wmf" ContentType="image/x-wmf"/>
  <Override PartName="/ppt/media/image5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552-5240-40BB-845D-7F21810E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EBA-0CF1-4C71-88C6-74543900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A34-253C-485C-9A66-A45797E4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F53-EDF1-43F2-AD9C-C1DC5484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31A-BA66-422A-B765-A1427355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450-8A6A-47CC-A197-483D692C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8C0-2179-4783-91BC-3553F975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B4C-A5A9-4BC0-9F4D-40AD6D2A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AAA-879D-416E-8954-DC445A64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87C-E918-4F9B-9442-0BCC4005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4F7-89F1-4F07-82B5-9FAFECE4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946-B404-442E-A402-75181610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5359-F01E-4AE0-93C9-44282D6FA3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разование чисел от 11 до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324000" y="1395360"/>
            <a:ext cx="7807320" cy="43354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4788000" y="5805360"/>
            <a:ext cx="424800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Юрьевна Спи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емь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tretch/>
        </p:blipFill>
        <p:spPr>
          <a:xfrm rot="16200000">
            <a:off x="-230760" y="2390040"/>
            <a:ext cx="50659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 rot="16200000">
            <a:off x="-182160" y="2241360"/>
            <a:ext cx="50544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евять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"/>
          <p:cNvPicPr/>
          <p:nvPr/>
        </p:nvPicPr>
        <p:blipFill>
          <a:blip r:embed="rId1"/>
          <a:stretch/>
        </p:blipFill>
        <p:spPr>
          <a:xfrm rot="16200000">
            <a:off x="-63000" y="2365200"/>
            <a:ext cx="470664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206280" y="1760400"/>
            <a:ext cx="430704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4309920" y="1628640"/>
            <a:ext cx="4827600" cy="2716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d3mlntcv38ck9k.cloudfront.net/content/konspekt_image/108874/ab1f8f20_8a8a_0131_f68e_12313c0dade2.jpg"/>
          <p:cNvPicPr/>
          <p:nvPr/>
        </p:nvPicPr>
        <p:blipFill>
          <a:blip r:embed="rId2"/>
          <a:stretch/>
        </p:blipFill>
        <p:spPr>
          <a:xfrm>
            <a:off x="179280" y="1628640"/>
            <a:ext cx="5060880" cy="25210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684360" y="4797360"/>
            <a:ext cx="8280360" cy="187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десять = десят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37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сять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805880" cy="38890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3851280" y="260280"/>
            <a:ext cx="5041800" cy="11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дин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436680" y="1341360"/>
            <a:ext cx="41227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picsco.ru/images/847177_desyatok-palochek.jpg"/>
          <p:cNvPicPr/>
          <p:nvPr/>
        </p:nvPicPr>
        <p:blipFill>
          <a:blip r:embed="rId1"/>
          <a:stretch/>
        </p:blipFill>
        <p:spPr>
          <a:xfrm>
            <a:off x="395280" y="404640"/>
            <a:ext cx="5472000" cy="33433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"/>
          <p:cNvSpPr/>
          <p:nvPr/>
        </p:nvSpPr>
        <p:spPr>
          <a:xfrm>
            <a:off x="3995640" y="4149720"/>
            <a:ext cx="4969080" cy="25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 rot="16200000">
            <a:off x="457920" y="1616400"/>
            <a:ext cx="40165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457200" y="1595520"/>
            <a:ext cx="37544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ять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цат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 rot="16200000">
            <a:off x="178560" y="2194560"/>
            <a:ext cx="44132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Шесть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 rot="16200000">
            <a:off x="-94320" y="2051640"/>
            <a:ext cx="47829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7-04-02T07:00:09Z</dcterms:modified>
  <cp:revision>319</cp:revision>
  <dc:subject/>
  <dc:title>Diapositiva 1</dc:title>
</cp:coreProperties>
</file>