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3.wmf" ContentType="image/x-wmf"/>
  <Override PartName="/ppt/media/image5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7BE-07F0-4B2D-BD1B-C20E8386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C8E-A0C6-4E2C-92DB-577E3636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CBF-D08E-4694-AACF-F6EC0EFC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C1E-4CCF-44E7-87DB-EA9B484A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6A3-A2D0-4F36-BAC7-73572C8C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584-1DC0-431A-90D7-8B6511D4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56E-2890-4D09-AA35-E7922401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E25-3628-4774-BB2E-6FFBB6D0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5A2-070C-4CD0-A625-E1557229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674-F646-48E1-96BC-CB4C27BE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5F9-FD57-4117-9B7C-E06C59D3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CD6-60FC-4F17-B4AD-FEF155FF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E40F-1573-43F0-A9F2-691ADB2CC2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разование чисел от 11 до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24000" y="1395360"/>
            <a:ext cx="7807320" cy="43354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4788000" y="5805360"/>
            <a:ext cx="424800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Юрьевна Сп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емь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 rot="16200000">
            <a:off x="-230760" y="2390040"/>
            <a:ext cx="50659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 rot="16200000">
            <a:off x="-182160" y="2241360"/>
            <a:ext cx="50544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евять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1"/>
          <a:stretch/>
        </p:blipFill>
        <p:spPr>
          <a:xfrm rot="16200000">
            <a:off x="-63000" y="2365200"/>
            <a:ext cx="470664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206280" y="1760400"/>
            <a:ext cx="430704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4309920" y="1628640"/>
            <a:ext cx="4827600" cy="2716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d3mlntcv38ck9k.cloudfront.net/content/konspekt_image/108874/ab1f8f20_8a8a_0131_f68e_12313c0dade2.jpg"/>
          <p:cNvPicPr/>
          <p:nvPr/>
        </p:nvPicPr>
        <p:blipFill>
          <a:blip r:embed="rId2"/>
          <a:stretch/>
        </p:blipFill>
        <p:spPr>
          <a:xfrm>
            <a:off x="179280" y="1628640"/>
            <a:ext cx="5060880" cy="25210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684360" y="4797360"/>
            <a:ext cx="8280360" cy="18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десять = десят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37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сять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805880" cy="38890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3851280" y="260280"/>
            <a:ext cx="5041800" cy="11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дин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436680" y="1341360"/>
            <a:ext cx="41227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picsco.ru/images/847177_desyatok-palochek.jpg"/>
          <p:cNvPicPr/>
          <p:nvPr/>
        </p:nvPicPr>
        <p:blipFill>
          <a:blip r:embed="rId1"/>
          <a:stretch/>
        </p:blipFill>
        <p:spPr>
          <a:xfrm>
            <a:off x="395280" y="404640"/>
            <a:ext cx="5472000" cy="33433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3995640" y="4149720"/>
            <a:ext cx="4969080" cy="25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 rot="16200000">
            <a:off x="457920" y="1616400"/>
            <a:ext cx="40165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457200" y="1595520"/>
            <a:ext cx="37544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ять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цат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 rot="16200000">
            <a:off x="178560" y="2194560"/>
            <a:ext cx="4413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Шесть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ц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 rot="16200000">
            <a:off x="-94320" y="2051640"/>
            <a:ext cx="47829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7-04-02T07:00:09Z</dcterms:modified>
  <cp:revision>319</cp:revision>
  <dc:subject/>
  <dc:title>Diapositiva 1</dc:title>
</cp:coreProperties>
</file>