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6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E58D0-0C8A-48E5-AE0E-FE19830AAB9E}" type="slidenum">
              <a: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52E74-5209-44A1-BF9A-29D09B37E38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20759-BD22-4009-BA64-59ABBBA021D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669C5-DAA9-443D-85AA-EC8171914E1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826FC-B8BB-4E54-BC25-11702DB773E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CF63A-98FB-49E9-8B4F-343E2EB6161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AF1DA-09A6-429C-8BB8-497C925308F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F0227-BF6C-4F59-B5A7-D76851DC586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833E7-6ED7-4DF5-9829-F34CB9FC99F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9FDDC-5BA3-4D6B-B4DE-1D104963324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5C3F9-A04D-41A5-842D-ED35662AA7E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56E5C-9A38-440F-A5DD-61487F232E3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398B6-8817-47BB-9A9E-46E866C6EE9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74BBE-7958-4334-BC6A-B723D9E7545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815FA-931C-4748-89C5-0DB71F819E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7680" y="72136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7DFA-B334-4FB8-8188-B7FD1FAA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768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04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F63E-0EE1-493B-8AFE-32812E2B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67840" y="513720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88000" y="513720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7680" y="72136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67840" y="72136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88000" y="72136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7371-CC5B-4786-A1BD-B848E5CD21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71E1F-B718-4063-ADD4-C2318394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7680" y="513720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1D767-EEE3-4BE8-BC3B-9A0F51F1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05E84-1E37-43E6-90DB-F2A88369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52883-4DF8-4AE5-A633-F60ED8C0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98534-66C4-4F27-9B41-0A159A2F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2280" y="39272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14FF1-2AB9-48E2-803C-5F36BE67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768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30801-837B-432A-B015-A3A3A8DD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7680" y="513720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FCA4-17F2-4507-A6F9-ABFF3EF0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04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13D40-E6D3-4F83-B06D-3FF5DFB5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7680" y="72136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8AD30-7E19-42DD-89B7-71C9EE50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7680" y="72136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74223-55F7-4371-89C1-F09930CE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768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04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856D4-8379-44E6-9F92-ABDEB56F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67840" y="513720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88000" y="513720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7680" y="72136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67840" y="72136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88000" y="72136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79D70-2D4E-4ADC-B8DE-A16D3A1B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4EA7-7C28-4944-82A6-82E53F8D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D7DD-39D8-4519-A244-67D47DFF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162C-6BB4-4237-9CAD-80DBE6AE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2280" y="39272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FF9BB-0D0D-4473-AD75-381723A5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768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E781-2D14-4F59-834E-397A2C2E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040" y="72136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1ABB-A5DF-4658-8F53-5362D366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768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040" y="513720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7680" y="72136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BA1D-8A0F-4980-8BA3-2B3EA01D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312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0960" y="6203880"/>
            <a:ext cx="25844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  <a:ea typeface="DejaVu Sans"/>
              </a:rPr>
              <a:t>14.10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200"/>
            <a:ext cx="60300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F7127-6216-489A-9BB5-8A5BEEE6DA7F}" type="slidenum">
              <a:rPr b="0" lang="ru-RU" sz="1600" spc="-1" strike="noStrike">
                <a:solidFill>
                  <a:srgbClr val="fefac9"/>
                </a:solidFill>
                <a:latin typeface="Constant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143680"/>
          </a:xfrm>
          <a:custGeom>
            <a:avLst/>
            <a:gdLst/>
            <a:ahLst/>
            <a:rect l="l" t="t" r="r" b="b"/>
            <a:pathLst>
              <a:path w="25401" h="14286">
                <a:moveTo>
                  <a:pt x="0" y="14285"/>
                </a:moveTo>
                <a:lnTo>
                  <a:pt x="0" y="0"/>
                </a:lnTo>
                <a:lnTo>
                  <a:pt x="25400" y="0"/>
                </a:lnTo>
                <a:lnTo>
                  <a:pt x="25400" y="9447"/>
                </a:lnTo>
                <a:lnTo>
                  <a:pt x="0" y="14285"/>
                </a:lnTo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2280" y="39272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7680" y="5137200"/>
            <a:ext cx="8045280" cy="397512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txBody>
          <a:bodyPr lIns="0" rIns="0" tIns="29160" bIns="0" anchor="t">
            <a:normAutofit fontScale="90000"/>
          </a:bodyPr>
          <a:p>
            <a:pPr marL="308520" indent="0" algn="ctr">
              <a:lnSpc>
                <a:spcPct val="93000"/>
              </a:lnSpc>
              <a:spcAft>
                <a:spcPts val="14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308520" algn="ctr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308520" indent="-308520" algn="ctr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308520" indent="-308520" algn="ctr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08520" indent="-308520" algn="ctr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08520" indent="-308520" algn="ctr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08520" indent="-308520" algn="ctr">
              <a:lnSpc>
                <a:spcPct val="93000"/>
              </a:lnSpc>
              <a:spcAft>
                <a:spcPts val="14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367320" y="5943600"/>
            <a:ext cx="26114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5060520" y="6203880"/>
            <a:ext cx="39178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694200" y="5551200"/>
            <a:ext cx="228420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600" spc="-1" strike="noStrike">
                <a:solidFill>
                  <a:srgbClr val="000000"/>
                </a:solidFill>
                <a:latin typeface="Liberation Sans Narrow"/>
                <a:ea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49954-AEC2-4CE7-9D20-BB080E620DD4}" type="slidenum">
              <a:rPr b="0" lang="ru-RU" sz="2600" spc="-1" strike="noStrike">
                <a:solidFill>
                  <a:srgbClr val="000000"/>
                </a:solidFill>
                <a:latin typeface="Liberation Sans Narrow"/>
                <a:ea typeface="DejaVu San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92000" y="360360"/>
            <a:ext cx="3203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a90000"/>
                </a:solidFill>
                <a:latin typeface="Monotype Corsiva"/>
              </a:rPr>
              <a:t>Оп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640" y="1871640"/>
            <a:ext cx="349092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ведущий жанр музыки барок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Автор:  Михайлова Мария Бо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Учитель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ГБОУ СОШ № 81 Калининского 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Санкт - 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110040" cy="4680000"/>
          </a:xfrm>
          <a:prstGeom prst="rect">
            <a:avLst/>
          </a:prstGeom>
          <a:ln w="38160">
            <a:solidFill>
              <a:srgbClr val="c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3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14840" y="0"/>
            <a:ext cx="2286000" cy="1440"/>
          </a:xfrm>
          <a:prstGeom prst="rect">
            <a:avLst/>
          </a:prstGeom>
          <a:solidFill>
            <a:srgbClr val="a5b592"/>
          </a:solidFill>
          <a:ln w="63360">
            <a:solidFill>
              <a:srgbClr val="ffffff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040360" y="576360"/>
            <a:ext cx="35323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В состав оперного коллектива входят: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солист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хор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оркестр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военный оркестр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орган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. Оперные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голос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: (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женские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: сопрано, меццо-сопрано, контральто;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мужские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: контратенор, тенор, баритон, ба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Оперное произведение делится на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акты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картины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сцены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номер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. Перед актами бывает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пролог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в конце оперы —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эпилог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Части оперного произведения —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речитативы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ариозо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песни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арии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дуэты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трио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квартеты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ансамбли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и т. д. Из симфонических форм —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увертюр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интродукция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антракты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пантомим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мелодрам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шествия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балетная музык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84360" y="428760"/>
            <a:ext cx="34592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a6099"/>
                </a:solidFill>
                <a:latin typeface="Monotype Corsiva"/>
              </a:rPr>
              <a:t>Элементы опер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3316320" cy="21430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00080" y="3357720"/>
            <a:ext cx="3048120" cy="228600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0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71680" y="1214280"/>
            <a:ext cx="3857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Характеры героев наиболее полно раскрываются в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сольных номерах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(ария, ариозо, ариетта, каватина, монолог, баллада, песня). Различные функции в опере имеет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речитатив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 — музыкально-интонационное и ритмическое воспроизведение человеческой речи. Нередко он связывает (сюжетно и в музыкальном отношении) отдельные законченные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номера; часто является действенным фактором музыкальной драматургии. В некоторых жанрах оперы, преимущественно комедийных, вместо речитатива используется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разговорная речь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обычно — в диалог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40003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a6099"/>
                </a:solidFill>
                <a:latin typeface="Monotype Corsiva"/>
              </a:rPr>
              <a:t>Элементы опер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43800" y="1714680"/>
            <a:ext cx="1785960" cy="2314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57880" y="714240"/>
            <a:ext cx="1357200" cy="2000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214960" y="3571920"/>
            <a:ext cx="16700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dur="indefinite" fill="hold">
                      <p:stCondLst>
                        <p:cond delay="0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929120" y="1214280"/>
            <a:ext cx="36435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Сценическому диалогу, сцене драматического спектакля в опере соответствует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музыкальный ансамбль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(дуэт, трио, квартет, квинтет и т. д.), специфика которого даёт возможность создавать конфликтные ситуации, показывать не только развитие действия, но и столкновение характеров, идей. Поэтому ансамбли зачастую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появляются в кульминационных или заключительных моментах оперного действ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57480" y="428760"/>
            <a:ext cx="37861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a6099"/>
                </a:solidFill>
                <a:latin typeface="Monotype Corsiva"/>
              </a:rPr>
              <a:t>Элементы опер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00080" y="3340080"/>
            <a:ext cx="3000600" cy="224964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000080" y="622440"/>
            <a:ext cx="3000600" cy="210312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0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71680" y="1214280"/>
            <a:ext cx="37861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Хор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в опере трактуется по-разному. Он может быть фоном, не связанным с основной сюжетной линией; иногда своеобразным комментатором происходящего; его художественные возможности позволяют показать монументальные картины народной жизни, выявить взаимоотношения героя и масс (например, роль хора в народных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музыкальных драмах М. П. Мусоргского «Борис Годунов» и «Хованщина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40003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a6099"/>
                </a:solidFill>
                <a:latin typeface="Monotype Corsiva"/>
              </a:rPr>
              <a:t>Элементы опе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214800" cy="18208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214960" y="4176720"/>
            <a:ext cx="3219480" cy="21430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1" name=""/>
          <p:cNvSpPr/>
          <p:nvPr/>
        </p:nvSpPr>
        <p:spPr>
          <a:xfrm>
            <a:off x="5357880" y="2714760"/>
            <a:ext cx="3000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Опера «Борис Годун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537000" y="482436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0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929120" y="1143000"/>
            <a:ext cx="3643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В музыкальной драматургии оперы большая роль отведена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оркестру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симфонические средства выразительности служат более полному раскрытию образов. Опера включает также самостоятельные оркестровые эпизоды —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увертюру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антракт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(вступление к отдельным актам). Ещё один компонент оперного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спектакля —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балет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хореографические сцены, где пластические образы сочетаются с музыкаль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57480" y="428760"/>
            <a:ext cx="37861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a6099"/>
                </a:solidFill>
                <a:latin typeface="Monotype Corsiva"/>
              </a:rPr>
              <a:t>Элементы опер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5880" y="785880"/>
            <a:ext cx="3429000" cy="25588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9" name="" descr=""/>
          <p:cNvPicPr/>
          <p:nvPr/>
        </p:nvPicPr>
        <p:blipFill>
          <a:blip r:embed="rId2"/>
          <a:srcRect l="12456" t="0" r="0" b="0"/>
          <a:stretch/>
        </p:blipFill>
        <p:spPr>
          <a:xfrm>
            <a:off x="928800" y="3559320"/>
            <a:ext cx="3143160" cy="20224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0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571760"/>
            <a:ext cx="39718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Что такое опер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История жан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Разновидности оп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Элементы оп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499680"/>
            <a:ext cx="39258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Содерж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43120" y="45007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41960" y="647640"/>
            <a:ext cx="3254400" cy="464364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000760" y="1285920"/>
            <a:ext cx="35719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</a:t>
            </a:r>
            <a:r>
              <a:rPr b="0" lang="ru-RU" sz="1500" spc="-1" strike="noStrike">
                <a:solidFill>
                  <a:srgbClr val="ff0000"/>
                </a:solidFill>
                <a:latin typeface="Constantia"/>
              </a:rPr>
              <a:t>Самый богатый и сложный жанр музыки -опера. Слово «</a:t>
            </a:r>
            <a:r>
              <a:rPr b="1" lang="ru-RU" sz="1500" spc="-1" strike="noStrike">
                <a:solidFill>
                  <a:srgbClr val="ff0000"/>
                </a:solidFill>
                <a:latin typeface="Constantia"/>
              </a:rPr>
              <a:t>орега</a:t>
            </a:r>
            <a:r>
              <a:rPr b="0" lang="ru-RU" sz="1500" spc="-1" strike="noStrike">
                <a:solidFill>
                  <a:srgbClr val="ff0000"/>
                </a:solidFill>
                <a:latin typeface="Constantia"/>
              </a:rPr>
              <a:t>» в переводе с итальянского буквально означает труд, сочинение. В этом музыкальном жанре слиты в единое целое поэзия и драматическое искусство, вокальная и инструментальная музыка, мимика, танцы, живопись, декорации и костюмы.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Литературная основа оперы —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либретто</a:t>
            </a: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51280" y="571680"/>
            <a:ext cx="4005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a6099"/>
                </a:solidFill>
                <a:latin typeface="Monotype Corsiva"/>
              </a:rPr>
              <a:t>Что такое опера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28800" y="3214800"/>
            <a:ext cx="3119400" cy="247320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00080" y="642960"/>
            <a:ext cx="3006720" cy="23572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0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6360" y="819000"/>
            <a:ext cx="38876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В середине XVI века большой популярностью пользовались пасторали или пастушеские игры, в которых музыка</a:t>
            </a:r>
            <a:r>
              <a:rPr b="0" lang="ru-RU" sz="2900" spc="-1" strike="noStrike">
                <a:solidFill>
                  <a:srgbClr val="ff0000"/>
                </a:solidFill>
                <a:latin typeface="Constantia"/>
                <a:ea typeface="Source Han San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ограничивалась хорами, в характере мотета или мадригала. В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«Amfiparnasso»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Орацио Векки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хоровое пение за сценой, в форме пятиголосного мадригала, служило для сопровождения игры актёров на сцене. Эта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«Commedia armonica»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  <a:ea typeface="Source Han Sans"/>
              </a:rPr>
              <a:t>была дана в первый раз при Моденском дворе в 1597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48160" y="2027160"/>
            <a:ext cx="3949560" cy="193356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00040" y="1214280"/>
            <a:ext cx="3857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Опера появилась в Италии, в мистериях, то есть духовных представлениях, в которых эпизодически вводимая музыка стояла на низкой ступени. Духовная комедия: «Обращение св. Павла» (1480), Беверини, представляет уже более</a:t>
            </a:r>
            <a:r>
              <a:rPr b="0" lang="ru-RU" sz="29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серьёзный труд, в котором музыка сопровождала действие с начала до конца. </a:t>
            </a:r>
            <a:r>
              <a:rPr b="0" lang="ru-RU" sz="2900" spc="-1" strike="noStrike">
                <a:solidFill>
                  <a:srgbClr val="ff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4043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a6099"/>
                </a:solidFill>
                <a:latin typeface="Monotype Corsiva"/>
              </a:rPr>
              <a:t>История жан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14960" y="1251000"/>
            <a:ext cx="3214800" cy="253512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"/>
          <p:cNvSpPr/>
          <p:nvPr/>
        </p:nvSpPr>
        <p:spPr>
          <a:xfrm>
            <a:off x="5572080" y="4071960"/>
            <a:ext cx="2428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Старинное здание оп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72040" y="1285920"/>
            <a:ext cx="34290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В конце XVI века попытки ввести в такие сочинения одноголосное пение (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монодию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) вывели оперу на тот путь, на котором её развитие быстро пошло вперед. Авторы этих попыток называли свои музыкально-драматические произведения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drama in musica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или </a:t>
            </a:r>
            <a:r>
              <a:rPr b="1" i="1" lang="ru-RU" sz="1400" spc="-1" strike="noStrike">
                <a:solidFill>
                  <a:srgbClr val="ff0000"/>
                </a:solidFill>
                <a:latin typeface="Constantia"/>
              </a:rPr>
              <a:t>drama per musica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; название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«опера»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стало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применяться к ним в первой половине XVII века. Позднее некоторые оперные композиторы, например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Рихард Вагнер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опять вернулись к названию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«музыкальная драма»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86200" y="356760"/>
            <a:ext cx="404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a6099"/>
                </a:solidFill>
                <a:latin typeface="Monotype Corsiva"/>
              </a:rPr>
              <a:t>История жан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28800" y="714240"/>
            <a:ext cx="3219480" cy="492948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0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0360" y="863640"/>
            <a:ext cx="4068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Первый оперный театр для публичных представлений был открыт в 1637 году в Венеции; ранее опера служила только для придворных развлечений. Первой большой оперой можно считать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«Эвридику» Джакопо Пери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исполненную в 1597. В Венеции со времени открытия публичных зрелищ в течение 65 лет появилось 7 театров; для них написано разными композиторами (числом до 40) 357 опер. Пионерами оперы были: в Германии — Генрих Шютц, во Франции — Камбер, в Англии — Пёрселл; в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Испании первые оперы появились в начале XVIII столетия; в России Арайя первым написал оперу («Кефал и Прокрида») на самостоятельный русский текст (1755). Первая русская опера, написанная в русских нравах — «Танюша, или Счастливая встреча», музыка Ф. Г. Волкова</a:t>
            </a:r>
            <a:r>
              <a:rPr b="0" lang="ru-RU" sz="29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(175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285840"/>
            <a:ext cx="39672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a6099"/>
                </a:solidFill>
                <a:latin typeface="Monotype Corsiva"/>
              </a:rPr>
              <a:t>История жан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714240"/>
            <a:ext cx="3000240" cy="435780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"/>
          <p:cNvSpPr/>
          <p:nvPr/>
        </p:nvSpPr>
        <p:spPr>
          <a:xfrm>
            <a:off x="5643720" y="5214960"/>
            <a:ext cx="24285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Джакопо П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0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71680" y="1214280"/>
            <a:ext cx="37861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Исторически сложились определённые формы оперной музыки. При наличии некоторых общих закономерностей оперной драматургии все её компоненты в зависимости от типов оперы толкуются различн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большая опера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opera seria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 — итал., 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tragédie lyrique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позднее 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grand-opéra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 — франц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полукомическая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(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semiseria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комическая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опера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opera-buffa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 — итал., 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opéra-comique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 — франц., 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Spieloper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 — нем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романтическая опер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на романтический сюж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4080" y="43956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2a6099"/>
                </a:solidFill>
                <a:latin typeface="Monotype Corsiva"/>
              </a:rPr>
              <a:t>Разновидности             опе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10280" y="1258920"/>
            <a:ext cx="32860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балладная оп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semi-опера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полу-опера, опера "наполовину" (</a:t>
            </a:r>
            <a:r>
              <a:rPr b="0" i="1" lang="ru-RU" sz="1400" spc="-1" strike="noStrike">
                <a:solidFill>
                  <a:srgbClr val="ff0000"/>
                </a:solidFill>
                <a:latin typeface="Constantia"/>
              </a:rPr>
              <a:t>semi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- лат. наполовину) - форма английской барочной оперы, в которой сочетаются устная Драма (жанр)драма, вокальные мизансцены, танцы и симфонические произведения. Одним из приверженцев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semi-оперы считается английский композитор Генри Пёрсел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опера-ба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0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792000"/>
            <a:ext cx="39258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В комической опере, немецкой и французской, между музыкальными номерами допускается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диалог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. Есть и серьёзные оперы, в которые вставлен диалог, напр. «Фиделио» Бетховена, «Медея» Керубини, «Волшебный стрелок» Веб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Отпрыском комической оперы следует считать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оперетту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, которая получила особенное распространение во второй половине XIX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Оперы для </a:t>
            </a:r>
            <a:r>
              <a:rPr b="1" lang="ru-RU" sz="1400" spc="-1" strike="noStrike">
                <a:solidFill>
                  <a:srgbClr val="ff0000"/>
                </a:solidFill>
                <a:latin typeface="Constantia"/>
              </a:rPr>
              <a:t>детског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о исполнения (например, оперы Бенджамина Бриттена — «Маленький трубочист», «Ноев ковчег», оперы Льва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Конова — «Король Матиуш Первый», «Асгард», «Гадкий утёнок», «Кокинвакасю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868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6000" y="285840"/>
            <a:ext cx="79246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2a6099"/>
                </a:solidFill>
                <a:latin typeface="Monotype Corsiva"/>
              </a:rPr>
              <a:t>Разновидности             опе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1680" y="5715000"/>
            <a:ext cx="28548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3240" y="5715000"/>
            <a:ext cx="285840" cy="285840"/>
          </a:xfrm>
          <a:gradFill rotWithShape="0">
            <a:gsLst>
              <a:gs pos="0">
                <a:srgbClr val="710000"/>
              </a:gs>
              <a:gs pos="100000">
                <a:srgbClr val="a10000"/>
              </a:gs>
            </a:gsLst>
            <a:lin ang="135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429160" y="1214280"/>
            <a:ext cx="2863800" cy="4429440"/>
          </a:xfrm>
          <a:prstGeom prst="rect">
            <a:avLst/>
          </a:prstGeom>
          <a:ln w="38160">
            <a:solidFill>
              <a:srgbClr val="c00000"/>
            </a:solidFill>
            <a:round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0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1:15:34Z</dcterms:created>
  <dc:creator>User</dc:creator>
  <dc:description/>
  <dc:language>en-US</dc:language>
  <cp:lastModifiedBy/>
  <dcterms:modified xsi:type="dcterms:W3CDTF">2020-11-28T20:23:30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4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4</vt:r8>
  </property>
</Properties>
</file>