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7FCDA-7D4D-49AE-B18C-EE214EE54B7F}" type="slidenum"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07635-0C9A-46C4-906F-E605263E950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17543-A64F-402C-B52C-C8D991FE8B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E03B2-3823-453F-804D-BEC5D7BF5BF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03CF3-D5D3-49A7-9343-D06A5A0EA09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0E12B-58B4-4DF6-A0C7-E5948EB2E5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B752C-F40B-4099-AB7D-14FA2B9778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77A20-6CF9-463D-9268-8C0687B9745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9EFEB-4F5A-49CF-9873-B2D4D0658A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50CFD-2EE7-4415-9A34-828EAE04C8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83D35-E891-4BDE-A320-EDC41297AA0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00BDB-5706-4464-8560-4EDCF08C4B4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F397D-4784-4110-802C-591CB39EFD1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73874-5EA3-489D-A32A-917796967F2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4F89-8AC5-4906-9833-E79FEBEAC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94C8-D878-4092-827E-23B80C7F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4372-4681-46F0-9B94-1FEF37F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784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8800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68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784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8800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0BC4-F78F-4586-A9EA-C65228C90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535B-0189-49D9-806D-4F792FF3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720A9-12F6-47DC-8821-1410543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6C10F-7EA9-4C48-A2C5-66A1690C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5ABAA-4E84-4FFF-AE75-3B065A6C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A12A5-5CB4-4DFA-ADE7-1ED43F60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2280" y="39272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EAF11-7985-40B4-B464-CCEDA54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4EBF1-C131-47AD-A4AA-0BC3D86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B5D8-9863-489C-B691-8269EE3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DDD96-8A04-41FA-84FA-2686090F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16970-8C50-4067-A75E-D23D342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908D-4B72-4B26-8D2F-9FE14DC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7359-E3FC-45B0-ADBD-9171E23C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6784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800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768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6784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800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81EE-BABC-4D9E-8098-12E806C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675A-6952-4BFD-A529-AF01B596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6719-873E-4F52-BE20-A75DE97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9480-8F85-49AC-AC20-32015069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2280" y="39272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D5AF-8568-4F32-A716-F3659C16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0B36-B1CC-42B1-AA33-C9902D9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A987-3F2D-45C9-98A4-06C3F1BD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AFD6-0C7D-46FB-AAC1-85C3BF2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31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0960" y="6203880"/>
            <a:ext cx="25844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DejaVu Sans"/>
              </a:rPr>
              <a:t>14.1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E8FC0-774B-490E-84AD-BD8B4B90148C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143680"/>
          </a:xfrm>
          <a:custGeom>
            <a:avLst/>
            <a:gdLst/>
            <a:ahLst/>
            <a:rect l="l" t="t" r="r" b="b"/>
            <a:pathLst>
              <a:path w="25401" h="14286">
                <a:moveTo>
                  <a:pt x="0" y="14285"/>
                </a:moveTo>
                <a:lnTo>
                  <a:pt x="0" y="0"/>
                </a:lnTo>
                <a:lnTo>
                  <a:pt x="25400" y="0"/>
                </a:lnTo>
                <a:lnTo>
                  <a:pt x="25400" y="9447"/>
                </a:lnTo>
                <a:lnTo>
                  <a:pt x="0" y="14285"/>
                </a:lnTo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29160" bIns="0" anchor="t">
            <a:normAutofit fontScale="90000"/>
          </a:bodyPr>
          <a:p>
            <a:pPr marL="308520" indent="0" algn="ctr">
              <a:lnSpc>
                <a:spcPct val="93000"/>
              </a:lnSpc>
              <a:spcAft>
                <a:spcPts val="14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367320" y="5943600"/>
            <a:ext cx="26114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5060520" y="6203880"/>
            <a:ext cx="39178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694200" y="5551200"/>
            <a:ext cx="228420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6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E5BF0-18FD-45CB-942C-C470B3A93454}" type="slidenum">
              <a:rPr b="0" lang="ru-RU" sz="26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92000" y="360360"/>
            <a:ext cx="320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a90000"/>
                </a:solidFill>
                <a:latin typeface="Monotype Corsiva"/>
              </a:rPr>
              <a:t>Оп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1871640"/>
            <a:ext cx="34909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едущий жанр музыки барок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Автор:  Михайлова Мария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ГБОУ СОШ № 81 Калинин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Санкт - 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110040" cy="4680000"/>
          </a:xfrm>
          <a:prstGeom prst="rect">
            <a:avLst/>
          </a:prstGeom>
          <a:ln w="38160">
            <a:solidFill>
              <a:srgbClr val="c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3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14840" y="0"/>
            <a:ext cx="2286000" cy="1440"/>
          </a:xfrm>
          <a:prstGeom prst="rect">
            <a:avLst/>
          </a:prstGeom>
          <a:solidFill>
            <a:srgbClr val="a5b592"/>
          </a:solidFill>
          <a:ln w="63360">
            <a:solidFill>
              <a:srgbClr val="ffffff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40360" y="576360"/>
            <a:ext cx="35323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состав оперного коллектива входят: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солис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хо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ркест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военный оркест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рган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Оперные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голос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(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женские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сопрано, меццо-сопрано, контральто;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ужские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контратенор, тенор, баритон, ба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перное произведение делится на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к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артины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сцен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ном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Перед актами бывает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ро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в конце оперы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эпи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Части оперного произведения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ечитатив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риозо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есн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ри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уэ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трио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варте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самбли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 т. д. Из симфонических форм —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увертю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интродукци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трак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антомим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елодрам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шестви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алетная музык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4360" y="428760"/>
            <a:ext cx="34592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3316320" cy="21430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0080" y="3357720"/>
            <a:ext cx="3048120" cy="22860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1680" y="1214280"/>
            <a:ext cx="3857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Характеры героев наиболее полно раскрываются в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сольных номерах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ария, ариозо, ариетта, каватина, монолог, баллада, песня). Различные функции в опере имеет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речитатив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музыкально-интонационное и ритмическое воспроизведение человеческой речи. Нередко он связывает (сюжетно и в музыкальном отношении) отдельные законченные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номера; часто является действенным фактором музыкальной драматургии. В некоторых жанрах оперы, преимущественно комедийных, вместо речитатива используется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разговорная речь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обычно — в диало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43800" y="1714680"/>
            <a:ext cx="1785960" cy="23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57880" y="714240"/>
            <a:ext cx="1357200" cy="2000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14960" y="3571920"/>
            <a:ext cx="16700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929120" y="1214280"/>
            <a:ext cx="36435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ценическому диалогу, сцене драматического спектакля в опере соответствует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музыкальный ансамбль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дуэт, трио, квартет, квинтет и т. д.), специфика которого даёт возможность создавать конфликтные ситуации, показывать не только развитие действия, но и столкновение характеров, идей. Поэтому ансамбли зачастую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оявляются в кульминационных или заключительных моментах оперного действ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7480" y="428760"/>
            <a:ext cx="37861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00080" y="3340080"/>
            <a:ext cx="3000600" cy="22496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00080" y="622440"/>
            <a:ext cx="3000600" cy="210312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0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1680" y="1214280"/>
            <a:ext cx="37861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Хо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в опере трактуется по-разному. Он может быть фоном, не связанным с основной сюжетной линией; иногда своеобразным комментатором происходящего; его художественные возможности позволяют показать монументальные картины народной жизни, выявить взаимоотношения героя и масс (например, роль хора в народных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музыкальных драмах М. П. Мусоргского «Борис Годунов» и «Хованщина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214800" cy="18208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14960" y="4176720"/>
            <a:ext cx="3219480" cy="21430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"/>
          <p:cNvSpPr/>
          <p:nvPr/>
        </p:nvSpPr>
        <p:spPr>
          <a:xfrm>
            <a:off x="5357880" y="2714760"/>
            <a:ext cx="3000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Опера «Борис Годун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537000" y="482436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929120" y="1143000"/>
            <a:ext cx="3643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музыкальной драматургии оперы большая роль отведена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оркестр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симфонические средства выразительности служат более полному раскрытию образов. Опера включает также самостоятельные оркестровые эпизоды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увертюр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трак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(вступление к отдельным актам). Ещё один компонент оперног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пектакля —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бале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хореографические сцены, где пластические образы сочетаются с музыка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7480" y="428760"/>
            <a:ext cx="37861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3429000" cy="25588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2"/>
          <a:srcRect l="12456" t="0" r="0" b="0"/>
          <a:stretch/>
        </p:blipFill>
        <p:spPr>
          <a:xfrm>
            <a:off x="928800" y="3559320"/>
            <a:ext cx="3143160" cy="20224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571760"/>
            <a:ext cx="39718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Что такое опер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стория жан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Разновидности оп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Элементы оп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499680"/>
            <a:ext cx="3925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Соде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43120" y="45007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41960" y="647640"/>
            <a:ext cx="3254400" cy="46436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760" y="1285920"/>
            <a:ext cx="35719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lang="ru-RU" sz="1500" spc="-1" strike="noStrike">
                <a:solidFill>
                  <a:srgbClr val="ff0000"/>
                </a:solidFill>
                <a:latin typeface="Constantia"/>
              </a:rPr>
              <a:t>Самый богатый и сложный жанр музыки -опера. Слово «</a:t>
            </a:r>
            <a:r>
              <a:rPr b="1" lang="ru-RU" sz="1500" spc="-1" strike="noStrike">
                <a:solidFill>
                  <a:srgbClr val="ff0000"/>
                </a:solidFill>
                <a:latin typeface="Constantia"/>
              </a:rPr>
              <a:t>орега</a:t>
            </a:r>
            <a:r>
              <a:rPr b="0" lang="ru-RU" sz="1500" spc="-1" strike="noStrike">
                <a:solidFill>
                  <a:srgbClr val="ff0000"/>
                </a:solidFill>
                <a:latin typeface="Constantia"/>
              </a:rPr>
              <a:t>» в переводе с итальянского буквально означает труд, сочинение. В этом музыкальном жанре слиты в единое целое поэзия и драматическое искусство, вокальная и инструментальная музыка, мимика, танцы, живопись, декорации и костюмы.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Литературная основа оперы —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ибретто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51280" y="571680"/>
            <a:ext cx="4005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a6099"/>
                </a:solidFill>
                <a:latin typeface="Monotype Corsiva"/>
              </a:rPr>
              <a:t>Что такое опера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28800" y="3214800"/>
            <a:ext cx="3119400" cy="24732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00080" y="642960"/>
            <a:ext cx="3006720" cy="23572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6360" y="819000"/>
            <a:ext cx="3887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В середине XVI века большой популярностью пользовались пасторали или пастушеские игры, в которых музыка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  <a:ea typeface="Source Han San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ограничивалась хорами, в характере мотета или мадригала. В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«Amfiparnasso»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Орацио Векк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хоровое пение за сценой, в форме пятиголосного мадригала, служило для сопровождения игры актёров на сцене. Эта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«Commedia armonica»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была дана в первый раз при Моденском дворе в 1597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48160" y="2027160"/>
            <a:ext cx="3949560" cy="193356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0040" y="1214280"/>
            <a:ext cx="3857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пера появилась в Италии, в мистериях, то есть духовных представлениях, в которых эпизодически вводимая музыка стояла на низкой ступени. Духовная комедия: «Обращение св. Павла» (1480), Беверини, представляет уже более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серьёзный труд, в котором музыка сопровождала действие с начала до конца. 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4043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14960" y="1251000"/>
            <a:ext cx="3214800" cy="253512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/>
          <p:nvPr/>
        </p:nvSpPr>
        <p:spPr>
          <a:xfrm>
            <a:off x="5572080" y="4071960"/>
            <a:ext cx="2428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Старинное здание оп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72040" y="1285920"/>
            <a:ext cx="34290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конце XVI века попытки ввести в такие сочинения одноголосное пение (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онодию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) вывели оперу на тот путь, на котором её развитие быстро пошло вперед. Авторы этих попыток называли свои музыкально-драматические произведения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drama in music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или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drama per music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; название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опера»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тал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именяться к ним в первой половине XVII века. Позднее некоторые оперные композиторы, например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ихард Вагне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опять вернулись к названию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музыкальная драма»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86200" y="356760"/>
            <a:ext cx="404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3219480" cy="49294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0360" y="863640"/>
            <a:ext cx="406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ервый оперный театр для публичных представлений был открыт в 1637 году в Венеции; ранее опера служила только для придворных развлечений. Первой большой оперой можно считать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Эвридику» Джакопо Пер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исполненную в 1597. В Венеции со времени открытия публичных зрелищ в течение 65 лет появилось 7 театров; для них написано разными композиторами (числом до 40) 357 опер. Пионерами оперы были: в Германии — Генрих Шютц, во Франции — Камбер, в Англии — Пёрселл; в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спании первые оперы появились в начале XVIII столетия; в России Арайя первым написал оперу («Кефал и Прокрида») на самостоятельный русский текст (1755). Первая русская опера, написанная в русских нравах — «Танюша, или Счастливая встреча», музыка Ф. Г. Волкова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175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285840"/>
            <a:ext cx="3967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714240"/>
            <a:ext cx="3000240" cy="43578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"/>
          <p:cNvSpPr/>
          <p:nvPr/>
        </p:nvSpPr>
        <p:spPr>
          <a:xfrm>
            <a:off x="5643720" y="5214960"/>
            <a:ext cx="2428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Джакопо П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1680" y="1214280"/>
            <a:ext cx="37861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сторически сложились определённые формы оперной музыки. При наличии некоторых общих закономерностей оперной драматургии все её компоненты в зависимости от типов оперы толкуются различ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ольшая опера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era seri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итал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tragédie lyrique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позднее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grand-opér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франц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олукомическа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emiseri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омическая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а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era-buff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итал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éra-comique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франц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pieloper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нем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омантическая оп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на романтический сюж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4080" y="43956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Разновидности             опе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0280" y="1258920"/>
            <a:ext cx="32860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алладная оп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semi-оп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полу-опера, опера "наполовину" 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emi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- лат. наполовину) - форма английской барочной оперы, в которой сочетаются устная Драма (жанр)драма, вокальные мизансцены, танцы и симфонические произведения. Одним из приверженцев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semi-оперы считается английский композитор Генри Пёрсел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а-ба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792000"/>
            <a:ext cx="3925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комической опере, немецкой и французской, между музыкальными номерами допускается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иа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Есть и серьёзные оперы, в которые вставлен диалог, напр. «Фиделио» Бетховена, «Медея» Керубини, «Волшебный стрелок» Веб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тпрыском комической оперы следует считать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етт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которая получила особенное распространение во второй половине XIX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перы для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етск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 исполнения (например, оперы Бенджамина Бриттена — «Маленький трубочист», «Ноев ковчег», оперы Льва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Конова — «Король Матиуш Первый», «Асгард», «Гадкий утёнок», «Кокинвакасю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6000" y="28584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2a6099"/>
                </a:solidFill>
                <a:latin typeface="Monotype Corsiva"/>
              </a:rPr>
              <a:t>Разновидности             оп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29160" y="1214280"/>
            <a:ext cx="2863800" cy="44294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0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1:15:34Z</dcterms:created>
  <dc:creator>User</dc:creator>
  <dc:description/>
  <dc:language>en-US</dc:language>
  <cp:lastModifiedBy/>
  <dcterms:modified xsi:type="dcterms:W3CDTF">2020-11-28T20:23:30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4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4</vt:r8>
  </property>
</Properties>
</file>