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3C2-BD48-4350-B200-215B20E3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820-8E74-494A-BAAD-EF1E103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0A04-A0D8-411A-998F-6CA7042D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93050-5748-40D1-9314-231ACF4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8CED6-C4EF-4A8B-B8D6-778AF431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006A8-89D4-4AC9-8B42-AC48BBA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BA5F7-CB2B-4976-BD77-DB72B5B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6998B-D353-4576-892F-C593624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7D125-BE72-4176-90A8-233B93C1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A1D7-2531-4A5C-8F87-5B03D6F7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2AFA-2191-4A19-BED6-6F40F0DF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9174A-1ED5-455D-979E-CAFC1776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783-E656-4FC7-BBED-447D0FF4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CC95B-3DEC-42BD-B3B9-363F066D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E900A-7321-48E0-ADD2-3D320D67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38408-5CFB-4B72-AC5E-3870CEE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7F4AB-822B-4122-B68C-EFF12073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FB3CF-9BE6-46CF-8B2A-757F68DC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09CE0-BE31-4625-8C15-26A251D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583A5-FEC9-4353-876E-2939FA9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25E76-138B-44AC-B41F-644D8EF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2ADEF-AE8A-441B-A298-5CB0774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1E82D-AA18-43CE-BF52-9F2D32AC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6BF-4BD7-4232-8C18-4CB5DA20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FC09E-0973-4CBF-A9C7-77055B4E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24B8-3036-4972-8677-9AE6D72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F7F6-A514-444D-8B58-913B5306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1D856-7453-47BC-9F41-999B9F1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3F1D-9C0E-4BCC-B3AA-3613B4F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6D80B-27A0-4F4A-88BB-CF72BCE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652B4-0436-4F12-B0C9-9F169068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99F18-1855-4F02-B0F8-1FD7180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F24D-CC4E-4188-BF78-E1D4B8A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D8A2-F44E-49D7-A262-6D35A56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C26-CBF3-471E-93ED-DCB46097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7075-C0DE-48F8-BA62-7B7D972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76724-A173-4855-BA2A-49AA33BA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3FFED-10E4-4686-BE12-4CD6AB36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8934E-C556-4944-B636-AB8ABC18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401C-17F0-4635-8291-584377B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4B94B-706E-48DA-8C22-FB869D02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BAA79-EEBB-4170-8B36-15305D12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F935-403D-4A09-9B59-8DCB5BD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908B0-6338-4583-9E52-08258B0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8BF63-61B7-4929-B1B7-D8AD8B9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C6AC-9B2F-4E69-A596-1A01646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5D9D9-2CFB-47F9-B001-4DF14DD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1E47E-AAAF-4C03-B6E6-BD8C33A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8DD7F-9705-4AA5-8080-439D767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E0FB-DC46-49B4-BA73-FB1FD271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E7675-810F-415D-8853-49F50167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318BF-E8CC-4F97-8CF6-1C440097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B34FB-E982-4077-812F-E3803A01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C1399-B082-471B-AA64-32272EC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4F8F8-5473-4DF0-A377-F33F5264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E73F7-B4C7-419F-A9BA-EF25C9B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1D3A-A4CF-43E9-B044-C1240AE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BE47B-A2D4-40BC-9E06-05B9720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869DE-CF94-44C8-B7C8-40F8A59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FDC49-D3EA-43C4-8BE7-D0B54B2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BC388-3639-4F25-A8BD-50E28C6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CA31A-FE79-4567-9829-E30DFEF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AF496-576F-42E8-9927-3D1517B4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95B03-48F4-466D-A16F-2C9E2680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4BD8-B309-4090-9B8E-F9E510C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BD2-B6FB-428D-8630-2A7917D1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191E-0255-4B4B-B2B6-BDE5A57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2BA2-2217-4F47-B0E3-B135573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57A-AA65-4F29-A069-AABD15E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56F-5179-4219-BF8D-EE48727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B3D-9327-4EB9-942D-596C4195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9442-BB48-4570-B1CC-FDF04E5A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6BD-E8F8-44E5-949F-FC461BCD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2BD-062C-45AF-A433-FFC0494D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E708-ED3E-43E5-8ED8-44F5C420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9BFB-6FAE-4636-A122-27B531B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8965-A32C-4941-A7D6-0B4BB01A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0EEC-5B98-4465-A80C-F2BB1D7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08D1-951E-4432-8410-1B6F7F0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6F7-DFC5-4FF5-83E9-205DE3DE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F80A-B96A-486F-A112-FC7BC47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C466-3A28-4FA8-888D-60D61DC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9D71-C1B9-49F5-A758-8B79E2A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DC5C-FF7E-44C0-8EF8-6AB849A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A4FC-2E47-4080-B7D1-0EE4A60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F5D2C-2106-4364-951D-473D3B3F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FD7E-9B8A-4F3D-8BA6-4A9672A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974A-4210-4F0D-B3F6-7CA1B91D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1D22-0364-458C-A13E-BC82063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EF23-4CA5-4092-BD5F-7480A30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8D1-B8C3-4DBD-B66A-002A2F0D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4EAE-56F9-4771-BA55-FCB9975D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7309-0528-4FA1-AED2-BC76B3B5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CCF0-4279-45B2-BB94-6468F139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03F9-2840-4170-B0B3-4C55E50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05FE-77C3-41A9-AEB7-880AF8F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8762-5A16-4493-ACAD-8FE90EA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B5BA-4706-4A59-8B06-E3B7CEB8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778A-1ACA-4506-A513-9197E6A0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5BE3-7BE0-4BFD-88BC-982F4E0F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4862-91B3-4294-B5A9-B67C33D9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E8E-621E-494E-9962-D94BB621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5EDC-D7AB-4B9E-B113-C17B0CA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5668-AAF1-4F3A-9D45-4A393DF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9051-7D27-47F3-84CD-4DAC4AA7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E1D0-2E98-4757-86FD-E18E4A5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5730-3FC2-4E8B-AEFB-4DDEB8A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A10E-BAD7-4E84-B68D-3BFD675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9E81-EE53-467D-9D80-80483D9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4D21-13C4-41D0-995E-684CAD7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D0FD-3C84-488D-B351-3D3D1A8C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62E1-72CC-4860-9713-4B39D7E0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889-73F8-4237-B347-E2D644B3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CF9C-6D1E-41CF-A65B-3BBC4D04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6622-9FE2-4C24-90F0-04E78A43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7D22-DC45-4242-9EB1-6FF5D9E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74C42-CDC4-45A9-B7FE-6C8A3895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4595-B2D7-40A0-8BE6-F325E06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AD8B-76A0-4B03-B885-9FCAC1A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01A86-23BE-40EC-8E45-B97623B1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BC17-2975-49E6-8A6B-2CD6965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F33C-2B2A-435F-88A9-517B162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251A-68FD-4C48-AC2D-4BFB30D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18A-80A6-4F85-93E5-B098CCC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7F75-25AA-42AD-AF1D-E1F3781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9198F-BD45-40C0-B5BD-670A66A3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FCE2-BB1B-4756-94AD-78BCCBEA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48332-4CE3-499E-81DF-6891B635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B9B1A-69E8-4DD1-8C68-CCA0A7AA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BA7D1-B0F9-450A-A3A7-404496B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0D5F-D942-4AC8-9B40-1694201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CAB6-268C-4BEA-B468-8B3C88C4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BAD4-44D0-416B-8FD7-F5D5EFC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3627-CF98-49B3-88D9-FF366AF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93D-5205-437B-8A7C-AB6F49E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4EC3-1CFA-4D8A-B262-332C436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4288-A64B-4736-8045-2D4374E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1F11C-33FF-4693-9E26-25DF12E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03A1-C8B1-487A-9B73-D5FB399F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44DA-FE94-4464-BF17-6AB81409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32BCE-E229-419A-BC88-3149497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8981C-2C57-4D70-86FD-3FC1CC9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3417-4597-4226-80C1-85BB79F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E859-106B-4A72-859D-9DE9A07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1116-7E47-4B05-8568-2EC573C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685-808E-47B2-8080-6E48B85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59AD-3F21-468C-9A50-B15661B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2A47F-2FA0-4113-801F-2B9021E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ADE12-591D-4B47-9948-0DDEF45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F3ABA-F47F-44F0-B2A1-09979BE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43C8-B0F9-4F34-987F-42068E8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B3C2-F42A-47C9-8889-436EB69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F7BDD-5114-4E94-86CB-CECFD6A9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34C9-6A81-4F00-AC5C-2903B571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FAB7E-4361-47A4-B93E-65C3123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8ECD6-381A-49F7-830B-C35F657A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67C2-29CC-449B-B06E-AF2A3A34D5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15F-F96A-4330-B4BC-A55F043000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73A-CDC9-468B-84A3-D14FCC1DBF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918-D4C4-46A5-9A9B-4EF242ACFE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9C0-A9D6-4A86-9687-421A1A8836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46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8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83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EEA4-C77D-448A-8595-60CB3F55D8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072-7CDE-4699-8DB0-FF188467AD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0A7C-6598-4FC0-8474-6854A57964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2C8-5074-4C84-ACFB-ADE08E7044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F82-B142-4568-A65F-5E3B7CC7BE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635B-9FF9-4B9D-B3F9-2EA312F19D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C2D-7CB7-4136-B6BD-EAAB30D93D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A754-4561-4A11-948C-9B1B1D4D05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РОССИЙСКАЯ ФЕДЕРАЦИЯ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ЯМАЛО-НЕНЕЦКИЙ АВТОНОМНЫЙ ОКРУГ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МУНИЦИПАЛЬНОЕ ОБРАЗОВАНИЕ ПУРОВСКИЙ РАЙОН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32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«ДЕТСКИЙ САД КОМБИНИРОВАННОГО ВИДА «СКАЗКА» п.г.т. УРЕНГОЙ ПУРОВСКОГО РАЙОНА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629860 Ямало-Ненецкий автономный округ, Пуровский район, п.г.т. Уренгой, 5 мкр. дом 17,</a:t>
            </a:r>
            <a:br>
              <a:rPr sz="3200"/>
            </a:br>
            <a:r>
              <a:rPr b="1" lang="ru-RU" sz="3200" spc="-1" strike="noStrike">
                <a:solidFill>
                  <a:srgbClr val="0de917"/>
                </a:solidFill>
                <a:latin typeface="Monotype Corsiva"/>
              </a:rPr>
              <a:t>Особенности  эмоционального развития у детей  старшего дошкольного возраста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16c5"/>
                </a:solidFill>
                <a:latin typeface="Segoe Print"/>
              </a:rPr>
              <a:t>Подготовила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16c5"/>
                </a:solidFill>
                <a:latin typeface="Segoe Print"/>
              </a:rPr>
              <a:t>Шиянова Еле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"/>
          <p:cNvPicPr/>
          <p:nvPr/>
        </p:nvPicPr>
        <p:blipFill>
          <a:blip r:embed="rId1"/>
          <a:stretch/>
        </p:blipFill>
        <p:spPr>
          <a:xfrm>
            <a:off x="1409760" y="213372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данной гипотезы и актуальности проблемы, пришла к решению о  проведении углубленной работы по развитию эмоций у детей в детском саду. 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53416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В результате этого была создана коррекционно-развивающая программа по развитию эмоциональной сферы детей старшего дошкольного возраста «Азбука эмоц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C:\Users\Admin\Desktop\НАШИ ФОТКИ\2011-2012\DSC02597.MPO"/>
          <p:cNvPicPr/>
          <p:nvPr/>
        </p:nvPicPr>
        <p:blipFill>
          <a:blip r:embed="rId1"/>
          <a:stretch/>
        </p:blipFill>
        <p:spPr>
          <a:xfrm>
            <a:off x="1219320" y="304920"/>
            <a:ext cx="3047760" cy="373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Основная ее цел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 эмоциональной сферы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Задачи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могать ребенку прожить определенное эмоциональное состояние, объяснить, что оно означает, и дать ему словесное обозна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ить способам регуляции эмоциональных состояний, элементам рассла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атывать у ребенка положительные черты характера, способствующие лучшему взаимопониманию в процессе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57200" y="328320"/>
            <a:ext cx="8458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Форма организации  занят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, включает в себя элементы: приветствие, разминка, основная и заключительна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" descr="C:\Users\Admin\Desktop\Эмоции детей\DSC03146.JPG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Прямоугольник 3"/>
          <p:cNvSpPr/>
          <p:nvPr/>
        </p:nvSpPr>
        <p:spPr>
          <a:xfrm>
            <a:off x="457200" y="2286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В занятиях используются  методические средств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 игры, психогимнастическа, этюды, релаксационные методы, эмоционально-символические методы (групповое обсуждение различных чувств, направленное рисование), коммуникативны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3" descr="C:\Users\Admin\Desktop\НАШИ ФОТКИ\ДЕТСКИЙ САД\P1030380.JPG"/>
          <p:cNvPicPr/>
          <p:nvPr/>
        </p:nvPicPr>
        <p:blipFill>
          <a:blip r:embed="rId1"/>
          <a:stretch/>
        </p:blipFill>
        <p:spPr>
          <a:xfrm>
            <a:off x="2133720" y="2798640"/>
            <a:ext cx="53337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0e80"/>
                </a:solidFill>
                <a:latin typeface="Monotype Corsiva"/>
              </a:rPr>
              <a:t>Этюды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69" name="Picture 2" descr="I:\DCIM\100MSDCF\DSC03134.JPG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47498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I:\DCIM\100MSDCF\DSC03119.JPG"/>
          <p:cNvPicPr/>
          <p:nvPr/>
        </p:nvPicPr>
        <p:blipFill>
          <a:blip r:embed="rId2"/>
          <a:stretch/>
        </p:blipFill>
        <p:spPr>
          <a:xfrm>
            <a:off x="4724280" y="1447920"/>
            <a:ext cx="3954600" cy="472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Структура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ый этап (10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ить группу на совместную работу, устано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контакт между всеми участниками, активизировать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C:\Users\Admin\Desktop\Эмоции детей\DSC03142.JPG"/>
          <p:cNvPicPr/>
          <p:nvPr/>
        </p:nvPicPr>
        <p:blipFill>
          <a:blip r:embed="rId1"/>
          <a:stretch/>
        </p:blipFill>
        <p:spPr>
          <a:xfrm>
            <a:off x="1905120" y="2171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ые, упражнения для глаз, релаксационная гимнастика, упражнения  на развитие межполушарного взаимодействия, на гармонизацию взаимоотношений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28240" y="1676520"/>
            <a:ext cx="3616200" cy="3047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H:\IMG_0428.JPG"/>
          <p:cNvPicPr/>
          <p:nvPr/>
        </p:nvPicPr>
        <p:blipFill>
          <a:blip r:embed="rId2"/>
          <a:stretch/>
        </p:blipFill>
        <p:spPr>
          <a:xfrm>
            <a:off x="228600" y="175248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I:\DCIM\100MSDCF\DSC03174.JPG"/>
          <p:cNvPicPr/>
          <p:nvPr/>
        </p:nvPicPr>
        <p:blipFill>
          <a:blip r:embed="rId3"/>
          <a:stretch/>
        </p:blipFill>
        <p:spPr>
          <a:xfrm>
            <a:off x="4724280" y="1676520"/>
            <a:ext cx="3618000" cy="27129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C:\Users\Admin\Desktop\Эмоции детей\DSC03169.JPG"/>
          <p:cNvPicPr/>
          <p:nvPr/>
        </p:nvPicPr>
        <p:blipFill>
          <a:blip r:embed="rId4"/>
          <a:stretch/>
        </p:blipFill>
        <p:spPr>
          <a:xfrm>
            <a:off x="2895480" y="373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сновной этап (20 минут)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вышение чувствительности к себе, к другому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у, развитие умений понять и передать свое эмоциональное состояние и почувствовать эмоциональное состояние другого. Преодоление негативных личностных проявлений: агрессивности, неуверенности, обидчивости, неорганизованности и др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79" name="Picture 2" descr="H:\IMG_0405.JPG"/>
          <p:cNvPicPr/>
          <p:nvPr/>
        </p:nvPicPr>
        <p:blipFill>
          <a:blip r:embed="rId1"/>
          <a:stretch/>
        </p:blipFill>
        <p:spPr>
          <a:xfrm>
            <a:off x="4572000" y="2971800"/>
            <a:ext cx="4383000" cy="32004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C:\Users\Admin\Desktop\Эмоции детей\DSC03136.JPG"/>
          <p:cNvPicPr/>
          <p:nvPr/>
        </p:nvPicPr>
        <p:blipFill>
          <a:blip r:embed="rId2"/>
          <a:stretch/>
        </p:blipFill>
        <p:spPr>
          <a:xfrm>
            <a:off x="228600" y="2971800"/>
            <a:ext cx="407844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: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юды, игры на воспроизведение отдельных черт характера, игры на развитие рефлексии, эмпатии, сказкотерапия, музыкотерапия, релаксационные упражнения, обучение навыкам самопомощи 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пряженных ситуациях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837720" y="312372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C:\Users\Admin\Desktop\Эмоции детей\DSC03096.JPG"/>
          <p:cNvPicPr/>
          <p:nvPr/>
        </p:nvPicPr>
        <p:blipFill>
          <a:blip r:embed="rId2"/>
          <a:stretch/>
        </p:blipFill>
        <p:spPr>
          <a:xfrm>
            <a:off x="5334120" y="182880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9" descr="I:\IMG_0433.JPG"/>
          <p:cNvPicPr/>
          <p:nvPr/>
        </p:nvPicPr>
        <p:blipFill>
          <a:blip r:embed="rId3"/>
          <a:stretch/>
        </p:blipFill>
        <p:spPr>
          <a:xfrm>
            <a:off x="3733920" y="40384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C:\Users\Admin\Desktop\НАШИ ФОТКИ\ДЕТСКИЙ САД\P1030358.JPG"/>
          <p:cNvPicPr/>
          <p:nvPr/>
        </p:nvPicPr>
        <p:blipFill>
          <a:blip r:embed="rId4"/>
          <a:stretch/>
        </p:blipFill>
        <p:spPr>
          <a:xfrm>
            <a:off x="228600" y="25909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Удив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Admin\Desktop\Эмоции детей\DSC03115.JPG"/>
          <p:cNvPicPr/>
          <p:nvPr/>
        </p:nvPicPr>
        <p:blipFill>
          <a:blip r:embed="rId1"/>
          <a:stretch/>
        </p:blipFill>
        <p:spPr>
          <a:xfrm>
            <a:off x="380880" y="5335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C:\Users\Admin\Desktop\Эмоции детей\DSC03095.JPG"/>
          <p:cNvPicPr/>
          <p:nvPr/>
        </p:nvPicPr>
        <p:blipFill>
          <a:blip r:embed="rId2"/>
          <a:stretch/>
        </p:blipFill>
        <p:spPr>
          <a:xfrm>
            <a:off x="4165560" y="2438280"/>
            <a:ext cx="4521240" cy="3391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детство – очень короткий отрезок в жизни человека, всего первые семь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ребенок не умеет управлять эмоциями. Его чувства быстро возникают и так же быстро исчезают. С развитием эмоциональной сферы у дошкольника чувства становятся более рациональными, подчиняются мышл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задача помочь маленькому человеку познать и испытать разные чувства и эмо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0e80"/>
                </a:solidFill>
                <a:latin typeface="Monotype Corsiva"/>
              </a:rPr>
              <a:t>Зло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0" name="Picture 3" descr="C:\Users\Admin\Desktop\Эмоции детей\DSC03112.JPG"/>
          <p:cNvPicPr/>
          <p:nvPr/>
        </p:nvPicPr>
        <p:blipFill>
          <a:blip r:embed="rId1"/>
          <a:stretch/>
        </p:blipFill>
        <p:spPr>
          <a:xfrm>
            <a:off x="1143000" y="1676520"/>
            <a:ext cx="3486240" cy="46479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Admin\Desktop\НАШИ ФОТКИ\ДЕТСКИЙ САД\P1030394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04960" cy="467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Monotype Corsiva"/>
              </a:rPr>
              <a:t>Радо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3" name="Picture 2" descr="C:\Users\Admin\Desktop\Эмоции детей\DSC03099.JPG"/>
          <p:cNvPicPr/>
          <p:nvPr/>
        </p:nvPicPr>
        <p:blipFill>
          <a:blip r:embed="rId1"/>
          <a:stretch/>
        </p:blipFill>
        <p:spPr>
          <a:xfrm>
            <a:off x="4724280" y="1219320"/>
            <a:ext cx="3373560" cy="44971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Admin\Desktop\НАШИ ФОТКИ\ДЕТСКИЙ САД\P1030395.JPG"/>
          <p:cNvPicPr/>
          <p:nvPr/>
        </p:nvPicPr>
        <p:blipFill>
          <a:blip r:embed="rId2"/>
          <a:stretch/>
        </p:blipFill>
        <p:spPr>
          <a:xfrm>
            <a:off x="990720" y="1828800"/>
            <a:ext cx="3429000" cy="458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Гру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6" name="Picture 3" descr="C:\Users\Admin\Desktop\НАШИ ФОТКИ\ДЕТСКИЙ САД\P1030392.JPG"/>
          <p:cNvPicPr/>
          <p:nvPr/>
        </p:nvPicPr>
        <p:blipFill>
          <a:blip r:embed="rId1"/>
          <a:stretch/>
        </p:blipFill>
        <p:spPr>
          <a:xfrm>
            <a:off x="4419720" y="1371600"/>
            <a:ext cx="3714480" cy="4952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C:\Users\Admin\Desktop\Эмоции детей\DSC03131.JPG"/>
          <p:cNvPicPr/>
          <p:nvPr/>
        </p:nvPicPr>
        <p:blipFill>
          <a:blip r:embed="rId2"/>
          <a:stretch/>
        </p:blipFill>
        <p:spPr>
          <a:xfrm>
            <a:off x="609480" y="609480"/>
            <a:ext cx="3353040" cy="449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729"/>
                </a:solidFill>
                <a:latin typeface="Monotype Corsiva"/>
              </a:rPr>
              <a:t>Страх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9" name="Picture 6" descr="C:\Users\Admin\Desktop\Эмоции детей\DSC0313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130640" cy="5334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de917"/>
                </a:solidFill>
                <a:latin typeface="Monotype Corsiva"/>
              </a:rPr>
              <a:t>Все такие разные!</a:t>
            </a:r>
            <a:endParaRPr b="0" lang="en-US" sz="6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01" name="Picture 2" descr="C:\Users\Admin\Desktop\Новая папка\DSC0310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932520" cy="487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ескотерап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сочной терапии согласуются с внутренним стремлением ребенка к самоактуализации.  Они ориентированы на то, чтобы помочь ребенк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более позитивную Я-концепци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ать больш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амоприняти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большей степени полаг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го себ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ть чувством контрол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сензитивность к процесс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я труднос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самооценку и обр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у в самого себя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C:\Users\Admin\Desktop\Эмоции детей\DSC03162.JPG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14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39625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e917"/>
                </a:solidFill>
                <a:latin typeface="Monotype Corsiva"/>
                <a:ea typeface="Microsoft Yi Bait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i Baiti"/>
              </a:rPr>
              <a:t>   такой терапии — не менять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i Baiti"/>
              </a:rPr>
              <a:t>переделывать ребенка, не учить его каким-то специальным поведенческим навыкам, а дать возможность ребенку быть самим собо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C:\Users\Admin\Desktop\Новая папка\DSC03107.JPG"/>
          <p:cNvPicPr/>
          <p:nvPr/>
        </p:nvPicPr>
        <p:blipFill>
          <a:blip r:embed="rId1"/>
          <a:stretch/>
        </p:blipFill>
        <p:spPr>
          <a:xfrm>
            <a:off x="4572000" y="685800"/>
            <a:ext cx="4081320" cy="5440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Специфика работы по данной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определила необходимость использования разнообразных методов исследования эмоциональной сферы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Теоретический анализ педагогической, психологической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Наблюдение за процессом развития эмоциональной сферы до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Использование тестов для выявления уровня развития эмоциональн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26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4.  </a:t>
            </a: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Использование различных педагогических технологий по развитию у детей эмоций в игре, в повседневной деятельности, в процессе специально организованных коррекционно-развивающих занятий.</a:t>
            </a:r>
            <a:br>
              <a:rPr sz="20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2971440" y="2133720"/>
            <a:ext cx="3886200" cy="3962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C:\Users\Admin\Desktop\НАШИ ФОТКИ\дети\DSC02738.JPG"/>
          <p:cNvPicPr/>
          <p:nvPr/>
        </p:nvPicPr>
        <p:blipFill>
          <a:blip r:embed="rId2"/>
          <a:stretch/>
        </p:blipFill>
        <p:spPr>
          <a:xfrm>
            <a:off x="160020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Monotype Corsiva"/>
              </a:rPr>
              <a:t>Диагностический инструментар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63520" y="685800"/>
            <a:ext cx="849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 Детский тест тревожности. Р. Тэммл, М. Дорки, В. Ам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. Анкетный метод оценки эмоциональной и нервно-психической сферы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. Диагностика дезадаптации ребенка в раннем возра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турный С.А.Т. – Н». Э. Крис (авторская модификация Н.Я.Сема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 Тест «Выбери нужное лиц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. Графическая методика «Какту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. Тест «Рисунок семь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. Тест «Нарисуй человека, которого ты любишь больше вс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. Тест «Несуществующее животн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Прямоугольник 1"/>
          <p:cNvSpPr/>
          <p:nvPr/>
        </p:nvSpPr>
        <p:spPr>
          <a:xfrm>
            <a:off x="304920" y="304920"/>
            <a:ext cx="85341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Бывают чувства у звере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У рыбок, птичек и люд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Влияет без сомнени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На всех нас настро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e917"/>
                </a:solidFill>
                <a:latin typeface="Monotype Corsiva"/>
              </a:rPr>
              <a:t>Тест «Рисунок семьи»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14" name="Picture 2" descr="C:\Users\Admin\Desktop\Эмоции детей\DSC03192.JPG"/>
          <p:cNvPicPr/>
          <p:nvPr/>
        </p:nvPicPr>
        <p:blipFill>
          <a:blip r:embed="rId1"/>
          <a:stretch/>
        </p:blipFill>
        <p:spPr>
          <a:xfrm>
            <a:off x="304920" y="120024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C:\Users\Admin\Desktop\Эмоции детей\DSC03193.JPG"/>
          <p:cNvPicPr/>
          <p:nvPr/>
        </p:nvPicPr>
        <p:blipFill>
          <a:blip r:embed="rId2"/>
          <a:stretch/>
        </p:blipFill>
        <p:spPr>
          <a:xfrm>
            <a:off x="457200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Тест «Несуществующее животное»</a:t>
            </a:r>
            <a:br>
              <a:rPr sz="3600"/>
            </a:br>
            <a:r>
              <a:rPr b="1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Тест «Нарисуй человека, которого ты любишь больше всего».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17" name="Picture 2" descr="C:\Users\Admin\Desktop\Эмоции детей\DSC03191.JPG"/>
          <p:cNvPicPr/>
          <p:nvPr/>
        </p:nvPicPr>
        <p:blipFill>
          <a:blip r:embed="rId1"/>
          <a:stretch/>
        </p:blipFill>
        <p:spPr>
          <a:xfrm>
            <a:off x="457200" y="2057400"/>
            <a:ext cx="3714840" cy="44956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C:\Users\Admin\Desktop\Эмоции детей\DSC03190.JPG"/>
          <p:cNvPicPr/>
          <p:nvPr/>
        </p:nvPicPr>
        <p:blipFill>
          <a:blip r:embed="rId2"/>
          <a:stretch/>
        </p:blipFill>
        <p:spPr>
          <a:xfrm>
            <a:off x="5219640" y="182880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0" y="3276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ачества работы по развитию эмоций способствует рациональная организация развивающей среды в группах и кабинете педагога-психолога, создающая условия для совместной деятельности детей и педагогов, позволяющая варьировать формы и способы организации жизне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C:\Users\Admin\Desktop\Эмоции детей\DSC03189.JPG"/>
          <p:cNvPicPr/>
          <p:nvPr/>
        </p:nvPicPr>
        <p:blipFill>
          <a:blip r:embed="rId1"/>
          <a:stretch/>
        </p:blipFill>
        <p:spPr>
          <a:xfrm>
            <a:off x="304920" y="53352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C:\Users\Admin\Desktop\Эмоции детей\DSC03188.JPG"/>
          <p:cNvPicPr/>
          <p:nvPr/>
        </p:nvPicPr>
        <p:blipFill>
          <a:blip r:embed="rId2"/>
          <a:stretch/>
        </p:blipFill>
        <p:spPr>
          <a:xfrm>
            <a:off x="4724280" y="4953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Oval 4"/>
          <p:cNvSpPr/>
          <p:nvPr/>
        </p:nvSpPr>
        <p:spPr>
          <a:xfrm>
            <a:off x="2160720" y="2060640"/>
            <a:ext cx="504036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е развит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школь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457200" y="4724280"/>
            <a:ext cx="16002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ы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3941640" y="4756320"/>
            <a:ext cx="141768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масс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2411280" y="1341360"/>
            <a:ext cx="141768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95280" y="333360"/>
            <a:ext cx="141768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2124000" y="333360"/>
            <a:ext cx="141768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ди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228600" y="1371600"/>
            <a:ext cx="17064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обра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AutoShape 14"/>
          <p:cNvCxnSpPr>
            <a:endCxn id="727" idx="2"/>
          </p:cNvCxnSpPr>
          <p:nvPr/>
        </p:nvCxnSpPr>
        <p:spPr>
          <a:xfrm flipH="1" flipV="1">
            <a:off x="2832840" y="909000"/>
            <a:ext cx="29916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0" name="AutoShape 15"/>
          <p:cNvCxnSpPr>
            <a:stCxn id="725" idx="1"/>
          </p:cNvCxnSpPr>
          <p:nvPr/>
        </p:nvCxnSpPr>
        <p:spPr>
          <a:xfrm flipH="1" flipV="1">
            <a:off x="1042200" y="907200"/>
            <a:ext cx="1369080" cy="72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1" name="AutoShape 16"/>
          <p:cNvCxnSpPr/>
          <p:nvPr/>
        </p:nvCxnSpPr>
        <p:spPr>
          <a:xfrm flipV="1">
            <a:off x="6803640" y="907560"/>
            <a:ext cx="1305720" cy="65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2" name="AutoShape 17"/>
          <p:cNvCxnSpPr/>
          <p:nvPr/>
        </p:nvCxnSpPr>
        <p:spPr>
          <a:xfrm>
            <a:off x="3809880" y="1626840"/>
            <a:ext cx="889920" cy="4309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733" name="Rectangle 18"/>
          <p:cNvSpPr/>
          <p:nvPr/>
        </p:nvSpPr>
        <p:spPr>
          <a:xfrm>
            <a:off x="2971800" y="312408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ррекционно-развивающ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216000" y="3141720"/>
            <a:ext cx="2052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ние 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3657600" y="5486400"/>
            <a:ext cx="19810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ение литератур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еде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AutoShape 21"/>
          <p:cNvCxnSpPr>
            <a:stCxn id="722" idx="2"/>
            <a:endCxn id="734" idx="0"/>
          </p:cNvCxnSpPr>
          <p:nvPr/>
        </p:nvCxnSpPr>
        <p:spPr>
          <a:xfrm flipH="1">
            <a:off x="1242360" y="2517480"/>
            <a:ext cx="91836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AutoShape 22"/>
          <p:cNvCxnSpPr/>
          <p:nvPr/>
        </p:nvCxnSpPr>
        <p:spPr>
          <a:xfrm>
            <a:off x="4716000" y="2997360"/>
            <a:ext cx="10803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AutoShape 23"/>
          <p:cNvCxnSpPr/>
          <p:nvPr/>
        </p:nvCxnSpPr>
        <p:spPr>
          <a:xfrm flipH="1">
            <a:off x="3511080" y="2997000"/>
            <a:ext cx="1113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9" name="AutoShape 24"/>
          <p:cNvCxnSpPr/>
          <p:nvPr/>
        </p:nvCxnSpPr>
        <p:spPr>
          <a:xfrm flipH="1">
            <a:off x="1402560" y="2852640"/>
            <a:ext cx="1477080" cy="10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Rectangle 26"/>
          <p:cNvSpPr/>
          <p:nvPr/>
        </p:nvSpPr>
        <p:spPr>
          <a:xfrm>
            <a:off x="7162920" y="4724280"/>
            <a:ext cx="16761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чинение 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5581800" y="4756320"/>
            <a:ext cx="14173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луши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8"/>
          <p:cNvSpPr/>
          <p:nvPr/>
        </p:nvSpPr>
        <p:spPr>
          <a:xfrm>
            <a:off x="2133720" y="4724280"/>
            <a:ext cx="14176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9"/>
          <p:cNvCxnSpPr/>
          <p:nvPr/>
        </p:nvCxnSpPr>
        <p:spPr>
          <a:xfrm flipH="1">
            <a:off x="2971080" y="4266720"/>
            <a:ext cx="1656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30"/>
          <p:cNvCxnSpPr>
            <a:stCxn id="745" idx="2"/>
          </p:cNvCxnSpPr>
          <p:nvPr/>
        </p:nvCxnSpPr>
        <p:spPr>
          <a:xfrm>
            <a:off x="4519440" y="4365360"/>
            <a:ext cx="178200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AutoShape 31"/>
          <p:cNvCxnSpPr/>
          <p:nvPr/>
        </p:nvCxnSpPr>
        <p:spPr>
          <a:xfrm>
            <a:off x="4419720" y="4343040"/>
            <a:ext cx="720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7" name="AutoShape 33"/>
          <p:cNvCxnSpPr/>
          <p:nvPr/>
        </p:nvCxnSpPr>
        <p:spPr>
          <a:xfrm>
            <a:off x="5486400" y="4114440"/>
            <a:ext cx="19058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8" name="AutoShape 35"/>
          <p:cNvCxnSpPr/>
          <p:nvPr/>
        </p:nvCxnSpPr>
        <p:spPr>
          <a:xfrm flipH="1">
            <a:off x="1904400" y="4114440"/>
            <a:ext cx="1656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Rectangle 37"/>
          <p:cNvSpPr/>
          <p:nvPr/>
        </p:nvSpPr>
        <p:spPr>
          <a:xfrm>
            <a:off x="6877080" y="3141720"/>
            <a:ext cx="20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AutoShape 38"/>
          <p:cNvCxnSpPr>
            <a:endCxn id="749" idx="0"/>
          </p:cNvCxnSpPr>
          <p:nvPr/>
        </p:nvCxnSpPr>
        <p:spPr>
          <a:xfrm>
            <a:off x="7164000" y="2565000"/>
            <a:ext cx="740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AutoShape 39"/>
          <p:cNvCxnSpPr>
            <a:endCxn id="722" idx="0"/>
          </p:cNvCxnSpPr>
          <p:nvPr/>
        </p:nvCxnSpPr>
        <p:spPr>
          <a:xfrm flipH="1">
            <a:off x="4680720" y="1628640"/>
            <a:ext cx="754920" cy="4327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752" name="Rectangle 40"/>
          <p:cNvSpPr/>
          <p:nvPr/>
        </p:nvSpPr>
        <p:spPr>
          <a:xfrm>
            <a:off x="5334120" y="1295280"/>
            <a:ext cx="141768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1"/>
          <p:cNvSpPr/>
          <p:nvPr/>
        </p:nvSpPr>
        <p:spPr>
          <a:xfrm>
            <a:off x="7086600" y="30492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дитель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3"/>
          <p:cNvSpPr/>
          <p:nvPr/>
        </p:nvSpPr>
        <p:spPr>
          <a:xfrm>
            <a:off x="395280" y="393372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вседнев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4"/>
          <p:cNvSpPr/>
          <p:nvPr/>
        </p:nvSpPr>
        <p:spPr>
          <a:xfrm>
            <a:off x="5334120" y="304920"/>
            <a:ext cx="143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5"/>
          <p:cNvCxnSpPr>
            <a:stCxn id="752" idx="0"/>
            <a:endCxn id="755" idx="2"/>
          </p:cNvCxnSpPr>
          <p:nvPr/>
        </p:nvCxnSpPr>
        <p:spPr>
          <a:xfrm flipV="1">
            <a:off x="6043320" y="880200"/>
            <a:ext cx="11880" cy="41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757" name="Rectangle 46"/>
          <p:cNvSpPr/>
          <p:nvPr/>
        </p:nvSpPr>
        <p:spPr>
          <a:xfrm>
            <a:off x="7010280" y="1295280"/>
            <a:ext cx="180036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нд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8" name="AutoShape 47"/>
          <p:cNvCxnSpPr>
            <a:stCxn id="752" idx="3"/>
            <a:endCxn id="757" idx="1"/>
          </p:cNvCxnSpPr>
          <p:nvPr/>
        </p:nvCxnSpPr>
        <p:spPr>
          <a:xfrm>
            <a:off x="6751800" y="1584000"/>
            <a:ext cx="259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59" name="AutoShape 49"/>
          <p:cNvCxnSpPr>
            <a:stCxn id="725" idx="1"/>
          </p:cNvCxnSpPr>
          <p:nvPr/>
        </p:nvCxnSpPr>
        <p:spPr>
          <a:xfrm flipH="1" flipV="1">
            <a:off x="1812960" y="1320480"/>
            <a:ext cx="598680" cy="310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760" name="Rectangle 50"/>
          <p:cNvSpPr/>
          <p:nvPr/>
        </p:nvSpPr>
        <p:spPr>
          <a:xfrm>
            <a:off x="6156360" y="386064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1" name="AutoShape 51"/>
          <p:cNvCxnSpPr>
            <a:endCxn id="760" idx="0"/>
          </p:cNvCxnSpPr>
          <p:nvPr/>
        </p:nvCxnSpPr>
        <p:spPr>
          <a:xfrm>
            <a:off x="6443280" y="2852640"/>
            <a:ext cx="74052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5" name="Rectangle 52"/>
          <p:cNvSpPr/>
          <p:nvPr/>
        </p:nvSpPr>
        <p:spPr>
          <a:xfrm>
            <a:off x="3492360" y="393372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AutoShape 53"/>
          <p:cNvCxnSpPr>
            <a:stCxn id="722" idx="4"/>
            <a:endCxn id="745" idx="0"/>
          </p:cNvCxnSpPr>
          <p:nvPr/>
        </p:nvCxnSpPr>
        <p:spPr>
          <a:xfrm flipH="1">
            <a:off x="4519080" y="2974680"/>
            <a:ext cx="16272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AutoShape 54"/>
          <p:cNvCxnSpPr>
            <a:endCxn id="745" idx="1"/>
          </p:cNvCxnSpPr>
          <p:nvPr/>
        </p:nvCxnSpPr>
        <p:spPr>
          <a:xfrm>
            <a:off x="2410920" y="4149360"/>
            <a:ext cx="108180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4" name="AutoShape 55"/>
          <p:cNvCxnSpPr>
            <a:stCxn id="745" idx="3"/>
            <a:endCxn id="760" idx="1"/>
          </p:cNvCxnSpPr>
          <p:nvPr/>
        </p:nvCxnSpPr>
        <p:spPr>
          <a:xfrm flipV="1">
            <a:off x="5545080" y="4075920"/>
            <a:ext cx="612000" cy="73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5" name="AutoShape 56"/>
          <p:cNvCxnSpPr>
            <a:stCxn id="734" idx="2"/>
            <a:endCxn id="754" idx="0"/>
          </p:cNvCxnSpPr>
          <p:nvPr/>
        </p:nvCxnSpPr>
        <p:spPr>
          <a:xfrm>
            <a:off x="1243080" y="3573000"/>
            <a:ext cx="180000" cy="36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6" name="AutoShape 57"/>
          <p:cNvCxnSpPr>
            <a:stCxn id="760" idx="0"/>
            <a:endCxn id="749" idx="2"/>
          </p:cNvCxnSpPr>
          <p:nvPr/>
        </p:nvCxnSpPr>
        <p:spPr>
          <a:xfrm flipV="1">
            <a:off x="7183440" y="3573000"/>
            <a:ext cx="721440" cy="2880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7" name="AutoShape 58"/>
          <p:cNvCxnSpPr>
            <a:stCxn id="725" idx="3"/>
            <a:endCxn id="752" idx="1"/>
          </p:cNvCxnSpPr>
          <p:nvPr/>
        </p:nvCxnSpPr>
        <p:spPr>
          <a:xfrm flipV="1">
            <a:off x="3828600" y="1581840"/>
            <a:ext cx="1505880" cy="486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0e80"/>
                </a:solidFill>
                <a:latin typeface="Monotype Corsiva"/>
              </a:rPr>
              <a:t>Мониторинг </a:t>
            </a:r>
            <a:endParaRPr b="0" lang="en-US" sz="4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коррекционно-развивающей работы у  детей, вырабатываются положительные черты характера, им становится легче общаться со сверстниками, они лучше понимают чувства, эмоции других и легче выражают свои,   формируется чувство сотрудничества, самоуважения, уверенности в своих силах и в себе, повышается само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уровня готовности к обучению в школе свидетельствует об эффективности используемых  методов. Индивидуальная и групповая коррекционная работа позволяет сформировать функциональную готов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ников к обучению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Monotype Corsiva"/>
              </a:rPr>
              <a:t>Перспективы и возможности использования опы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Опыт рассчитан на педагогов-психологов и воспита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опыта или дополнении опыта другими методами и приёмами необходимо соблюдать следующие 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роведением занятий установить тесный контакт с детьми и р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а занятиях методы и приёмы, котор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ют у детей интерес с сам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х минут  и буду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ивать его сохран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кончания занятия; 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73" name="Picture 3" descr="C:\Users\Admin\Desktop\фотоапарат\2012-06-28\DSC01878.JPG"/>
          <p:cNvPicPr/>
          <p:nvPr/>
        </p:nvPicPr>
        <p:blipFill>
          <a:blip r:embed="rId1"/>
          <a:stretch/>
        </p:blipFill>
        <p:spPr>
          <a:xfrm>
            <a:off x="380880" y="30481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" descr="H:\DCIM\100MSDCF\DSC02387.JPG"/>
          <p:cNvPicPr/>
          <p:nvPr/>
        </p:nvPicPr>
        <p:blipFill>
          <a:blip r:embed="rId2"/>
          <a:stretch/>
        </p:blipFill>
        <p:spPr>
          <a:xfrm>
            <a:off x="4267080" y="1120680"/>
            <a:ext cx="4467240" cy="3160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различных педагогических ситуаций давать возможность каждому ребенку высказать свою точку зрения и аргументировать ее.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76" name="Picture 6" descr="C:\Users\Admin\Desktop\фотоапарат\2012-06-29\DSC01891.JPG"/>
          <p:cNvPicPr/>
          <p:nvPr/>
        </p:nvPicPr>
        <p:blipFill>
          <a:blip r:embed="rId1"/>
          <a:stretch/>
        </p:blipFill>
        <p:spPr>
          <a:xfrm>
            <a:off x="4648320" y="3409920"/>
            <a:ext cx="4195800" cy="31431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" descr="C:\Users\Admin\Desktop\фотоапарат\2012-06-29\DSC01885.JPG"/>
          <p:cNvPicPr/>
          <p:nvPr/>
        </p:nvPicPr>
        <p:blipFill>
          <a:blip r:embed="rId2"/>
          <a:stretch/>
        </p:blipFill>
        <p:spPr>
          <a:xfrm>
            <a:off x="533520" y="1600200"/>
            <a:ext cx="3943080" cy="3124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574800" y="1599840"/>
            <a:ext cx="5111640" cy="434340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200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упражнения по развитию методов саморегуляции и самосознания  в любые занятия в качестве физкультминуток, а также использовать в свободной деятельности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H:\IMG_0415.JPG"/>
          <p:cNvPicPr/>
          <p:nvPr/>
        </p:nvPicPr>
        <p:blipFill>
          <a:blip r:embed="rId2"/>
          <a:stretch/>
        </p:blipFill>
        <p:spPr>
          <a:xfrm>
            <a:off x="3581280" y="16002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160e80"/>
                </a:solidFill>
                <a:latin typeface="Monotype Corsiva"/>
              </a:rPr>
              <a:t>Эмоционально-волевая сфера играет большую роль в усвоении знаний, умений и навыков, также в установлении контактов с окружающими, и в социальной адаптации детей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82" name="Picture 3" descr="H:\DCIM\100MSDCF\DSC02343.JPG"/>
          <p:cNvPicPr/>
          <p:nvPr/>
        </p:nvPicPr>
        <p:blipFill>
          <a:blip r:embed="rId1"/>
          <a:srcRect l="-1963" t="0" r="0" b="0"/>
          <a:stretch/>
        </p:blipFill>
        <p:spPr>
          <a:xfrm>
            <a:off x="228600" y="27432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H:\DCIM\100MSDCF\DSC02339.JPG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143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Эмоц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цесс - деятельность оценивания поступающей в мозг информации о внешнем и внутреннем м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C:\Users\Admin\Desktop\фотоапарат\2012-07-03\DSC01992.JPG"/>
          <p:cNvPicPr/>
          <p:nvPr/>
        </p:nvPicPr>
        <p:blipFill>
          <a:blip r:embed="rId1"/>
          <a:stretch/>
        </p:blipFill>
        <p:spPr>
          <a:xfrm>
            <a:off x="304920" y="13716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27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e917"/>
                </a:solidFill>
                <a:latin typeface="Arial"/>
              </a:rPr>
              <a:t>- Старайтесь не создавать таких ситуаций, в которых ребенок может проявить свое негативное повед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Как можно больше хвалите ребенка за малейшие успех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Arial"/>
              </a:rPr>
              <a:t>- Не будьте равнодушны к внутреннему миру и переживаниям  дете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Старайтесь не показывать детям свои отрицательные эмоции;</a:t>
            </a:r>
            <a:br>
              <a:rPr sz="4000"/>
            </a:b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e917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de917"/>
                </a:solidFill>
                <a:latin typeface="Monotype Corsiva"/>
              </a:rPr>
              <a:t>Если вы хотите развить у ребенка те или иные качества, старайтесь относиться к нему так, словно они у него уже 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53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   </a:t>
            </a:r>
            <a:r>
              <a:rPr b="0" lang="ru-RU" sz="5400" spc="-1" strike="noStrike">
                <a:solidFill>
                  <a:srgbClr val="0de917"/>
                </a:solidFill>
                <a:latin typeface="Monotype Corsiva"/>
              </a:rPr>
              <a:t>Эмоция</a:t>
            </a:r>
            <a:r>
              <a:rPr b="0" lang="ru-RU" sz="4800" spc="-1" strike="noStrike">
                <a:solidFill>
                  <a:srgbClr val="0de917"/>
                </a:solidFill>
                <a:latin typeface="Monotype Corsiva"/>
              </a:rPr>
              <a:t>– </a:t>
            </a: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1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 действительность и доводит свою оценку до сведения организма на языке переживаний. Эмоции плохо поддаются волевой регулировке, их трудно вызвать по своему желанию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C:\Users\Eddy\Desktop\абэвэгэдейка\3e6a2981e119.jpg"/>
          <p:cNvPicPr/>
          <p:nvPr/>
        </p:nvPicPr>
        <p:blipFill>
          <a:blip r:embed="rId1"/>
          <a:stretch/>
        </p:blipFill>
        <p:spPr>
          <a:xfrm>
            <a:off x="3992400" y="334800"/>
            <a:ext cx="4865760" cy="5602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de917"/>
                </a:solidFill>
                <a:latin typeface="Monotype Corsiva"/>
              </a:rPr>
              <a:t>Актуальность </a:t>
            </a:r>
            <a:br>
              <a:rPr sz="5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необходимости изучения развития психики ребенка, в частности эмоциональной сферы дошкольника с целью эффективного осуществления работы по развитию эмоций через  комплекс коррекционно-развивающих занятий с детьми, а также в повседневной деятельности. 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457200" y="-193680"/>
            <a:ext cx="83059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Причины отклонени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эмоционального развития детей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ъективный рост внешних факторов, способных стать причиной нарушения эмоционального разви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одовые и послеродовые  трав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неблагоприятная психологическая обстановка в семь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чрезмерная занятость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стема проведения специально организованных занятий, повседневной деятельности  является эффективным способом развития и  коррекции эмоциональной сферы до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Новизна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новизны опыт является поисков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м, т. к. при разработке авторских занят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й и различных мероприятий м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сочетания известных метод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ов, по-новому рассматривается степень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на создание интереса к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й сферы детей у родителей,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У и у детей  в процессе специ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х занятий с детьми а такж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Гипотеза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витие эмоциональной сферы у детей дошкольного возраста будет более успешным при следующих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 раннего возраста дети совместно с родителями будут обучаться способам выражения эмоций и приемам саморегу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работе будут активно использоваться разнообразные формы и методы развития эмоциональной сферы в процессе воспитания и обучения, а также в повседнев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процессе развития эмоций будут задействованы все участники воспитательно-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7:35:28Z</dcterms:created>
  <dc:creator>Анюта</dc:creator>
  <dc:description/>
  <dc:language>en-US</dc:language>
  <cp:lastModifiedBy>Пользователь</cp:lastModifiedBy>
  <dcterms:modified xsi:type="dcterms:W3CDTF">2020-11-29T14:49:03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