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DC1-AA3D-4D69-BAE2-56236967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2A5-413C-4B38-9985-F5393EF4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A86AC-9BE8-4743-8AD6-E1DF9173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304B3-68FF-4961-BF7B-AF6233E0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32F76-3279-46FA-BC0B-B9E51717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6639F-A080-402C-B5C2-47AFB34B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AD050-95E9-4552-9F83-5471C312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C4E47-077D-4AD6-AA60-6C97F4FB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B8E00-E556-44A9-8F0B-31EB8CB4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3CC01-A70B-4CF1-8903-EAB2A54B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5A29C-39D8-4C46-8B6B-BC65E818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B58D0-DABA-40D1-87E6-9BC38FE6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E1F-9954-44D0-A641-E420D087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DC239-A8AA-459B-AB8E-7E6653DE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977DE-BE81-4F05-8A58-6026418D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33290-2991-4A5A-A5B5-2AEB610E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E4484-4352-43E7-B704-CC1C43F3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7B45E-E7C9-4CC2-B666-016DEBC6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DA283-0092-4070-AF5B-95E93D22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950D5-F689-475E-9458-7378CEA1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33AB7-32DB-4507-8289-DA4219EB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E3007-4896-490E-9052-FC98E992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87DE5-0543-42A5-8440-050B3F66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F10-C286-4CA5-9871-698E68B1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5E4A6-1041-41F8-A1B0-2600AA2B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5F7E1-99D3-4292-804D-61737D06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B2C51-14D1-4753-8089-4D161140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70955-9E3E-4F28-8156-5532C9B1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A0D3B-7D36-4FE6-A2E9-0A925947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1A21A-2AF7-4E72-915A-7BA5C405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0AA38-AADB-4352-AA39-C4D1EF10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7B074-7095-4A79-8927-2888D34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598C5-2E1F-4758-ADA1-5E6FE538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ED2DD-2865-4507-A576-067F378D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3FE7-BC5E-49BB-908F-1C2BA4F7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0A43F-42E0-43A5-855C-0DCB8D1A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B3363-9900-4F86-B1EF-4224AC97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3AAF4-9707-4DD7-A279-6F4DF2A4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716BC-CC4B-4912-B1DA-1C985062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FD737-3B94-4FDD-90C7-220B4C9E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7B7EE-7BFF-46FC-A17D-3CA69F5D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DA9BF-D008-4B42-A8A0-969C5D3F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DEE9E-7F0C-4D97-9B18-CA7D1F2D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7C9F4-D19D-4741-B744-9AD0C840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A9FE3-6D47-4916-A8C6-797D4511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689F-8C91-4995-9227-D47B158A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19B14-CD4D-4EAE-8E87-0E591749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256F6-99C3-46B3-8DBE-8BE1D3D8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A6808-6A08-4A31-B53C-3817E613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2E5DC-D7F5-4357-94AD-2A719305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41744-2C07-49E9-8DF0-944D3A9C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4E99C-A12C-4AB8-B22C-821ADA89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9F88E-8B79-4DF0-A038-CC1FAAD6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D41BB-D4CD-41B5-85D6-6D1EEE56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D85C8-8059-4FF3-A485-4A640C1A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8A5D4-8741-41C5-8DDD-A2926C16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A0FC-E848-40CF-BF24-35983108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F084C-70EE-4D3F-A597-830581CD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529B3-FD0D-431A-9336-930A4F44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7819C-DD7C-4373-A81D-B4F2FDDD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42961-0D38-4535-A77F-65C559F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2D659-BB55-41B1-A02B-9E36C78B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F55E0-22F2-4FE3-8346-9E575284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C7E33-E5EE-47A7-9EDF-DD726EF8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A367-A6F3-4830-B7C3-DAD8A402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E0B1-C492-4FBA-A270-FF90902F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1CDB-1C5C-459A-BF3E-DF80EEB0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A9A7-ADA8-4AD0-9CE6-EFEB7026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140-26C0-494A-8A10-9BDC7302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5C68-D9B2-44EF-9092-4F1642C7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BDE1-D7D5-4926-8801-996C6C83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3BB0-2E03-4B71-BD91-2070D4E7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1AEA-57C3-4088-B144-B6CB3C93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C270-D044-472A-BEB3-537217F4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A00EF-8E20-4912-AC3F-D689A7B5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2928-A9A0-45C9-8243-B525C65F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3AB6-84BF-4EAE-B1A8-06F5D926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CA40-7B49-4EEF-8B86-6A909ED6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DE386-8306-4296-B0E1-8722B782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4D4-F503-4808-B6F9-599CC1E8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A27D-7C71-40F1-B3A7-7D624701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C37D-E16E-40DB-BDF4-76B884D0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4A8A4-043A-4300-A130-9853E96F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473A0-858A-4358-A249-88C22025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B1DB-F968-4F4E-BD99-61E14CDF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7EFC2-D160-48D3-BF13-B167C08D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FE9F8-0708-487D-A9D0-31662311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9298-88B4-49DD-BDF9-00BA5DE9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8EBA-4FC2-40A1-AD49-26498A67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6D731-B655-47FE-AB90-B704A983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FDC-F975-47EB-8D6F-881A6C40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33E36-04A5-4335-8ACF-F188C569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778A-DD29-4BB2-B421-131E5809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089AD-D36D-44EE-B603-A9ACCC58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258BE-0E44-426D-A90A-D6CE0CF7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13CB8-6D5B-41AD-89DD-5447F7E4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19C3D-6813-4419-8C05-7F57C127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79032-C7B1-4193-93CE-5124E502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0B5F-83AB-49A9-86DA-A3A5FA28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084D4-9B01-4057-AE37-5D18C455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84474-A47B-4D1D-9898-FC4956EF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C58-2E57-46BE-81DD-9DDF9DBA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F859B-F5C8-41A2-BDBD-28ACE72A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AF575-468D-41D0-A8F8-30CBB8F8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C5196-FB87-40EE-8863-3E3BC4C2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6F19A-BEDF-4C30-91C3-B86E757B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C3B51-7040-4DC2-B03A-24483865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677B6-2E08-47E3-B6FE-12EF5B5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BB449-DBF7-4DD1-BF6C-3DBFA907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7DAA0-0E8E-4CC4-9AA3-09FFD526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99B35-0C68-4844-ADAA-304A4E89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D9633-AF1B-4A20-BFC5-BE177E0B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227-B38D-4D12-BF01-E385A9F2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D6467-8798-40AF-8C7E-A2C5E9B5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827CF-2BB2-4291-AD2D-E9CE1DF5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C3598-334A-4E1C-9B75-B72EF27A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4BBAD-C0CA-4BAE-AA83-31D47018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EE76A-E76B-4854-92D5-04D2EF86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309AC-9BA6-4C4A-8820-C81D26EB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9965D-F8A4-4648-9B0F-1CDB19A9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53CDF-C630-47B0-8478-CD9DAC72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D2A3C-6370-462A-AB38-646EA1D0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518F4-8E3C-4DE1-B6FC-47685CE0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85B-A3E8-4121-84D2-4494003D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6534D-1FC9-4CD9-9EAA-1597BD45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27C33-4832-4CDB-A703-D29394C4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DA09B-3590-4CB1-8AB5-F41F6B89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11E6D-235F-449F-93CD-3F85ABAB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AE7FB-24EA-47BF-9B71-7CFD4BD7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24AA5-CBE6-41D9-90AA-8F0D7662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E5972-CCBE-4013-8088-1065519B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ED433-8143-4F3D-A409-968173E5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C07EC-2357-43FE-846B-9154DE71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BB3A4-2EEB-4A80-AA96-824DB140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214-125A-4589-A83B-9A3A82C9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11AD-4C66-4E48-B51B-5A8D952C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C28A1-54A4-4B27-A42B-1CA6241F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07DFE-12EF-4749-B430-EC0928F5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4A578-09D8-4AB3-8871-D555F446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897B4-7E42-4836-9D6F-095FA764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39FDE-B4BE-4472-AEF6-053837B0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A2A00-4A2A-4F9E-A3B9-8FE19F8F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830B8-7734-4906-8561-8FEA8DCE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4AF8E-A35A-4E6B-922F-C2DBD64E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5AF94-1449-48BA-8D67-C97D019C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5BD-B920-4635-A709-5E45DA1A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513D2-A69B-4B39-B99C-89E2329E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0752D-AA7B-475E-8C3C-C2315C1F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4CA54-3B43-4E52-8EE2-8BFF6E25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20414-45E6-4FC5-8C37-499A3AC3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9404A-BF86-485E-BF89-69A025B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C7267-75E2-4F2F-9E6D-54340B7E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40363-5B78-4180-8A61-B7DEFE54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49875-F191-4240-805E-2E287BAD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0F6A8-383C-4C31-B7E7-AE53910E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28DFC-E482-4AB2-B947-CCDDCEF6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47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21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21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ABE7-D3C1-46AC-99C7-027A9B534D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EC77-70F1-44CA-ADEA-372114B2EB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BD30-EEA9-4469-9240-1EAA689179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F3FE-9A82-49BD-BAC9-EED5235009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B9E1-98C3-4D02-89E8-A659F31962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1160"/>
              <a:chOff x="7848720" y="-360"/>
              <a:chExt cx="1295280" cy="63111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83120"/>
                <a:chOff x="8381880" y="-360"/>
                <a:chExt cx="762120" cy="22831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6560" y="146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6560" y="20808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5080" y="1836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3280"/>
              <a:ext cx="1190520" cy="19350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2880"/>
              <a:ext cx="1219320" cy="19947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7800"/>
              <a:ext cx="1231920" cy="402660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6720"/>
              <a:ext cx="979560" cy="21787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3160"/>
              <a:ext cx="914400" cy="503532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9000"/>
              <a:ext cx="909720" cy="30636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7280"/>
              <a:ext cx="576360" cy="3344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8720"/>
              <a:ext cx="300240" cy="334440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880"/>
              <a:ext cx="1165320" cy="6174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2960" y="3324600"/>
              <a:ext cx="684036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7956-3081-4667-B47D-8DA8B56DEC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133C-20DC-475F-9477-51DA251DEA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83FD-1922-4586-B8AE-D5C289EB3B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FD15-B22F-4C28-A625-72EF9BDAE5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8CBB-62DF-457E-8BE0-0D0CCC43BD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433E-901A-43CA-A65F-E0FB77FC60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9B36-76A9-4A58-9702-0D90E9C66A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D1D1-E42D-41C3-BF69-5439A79855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66729"/>
                </a:solidFill>
                <a:latin typeface="Arial"/>
              </a:rPr>
              <a:t>РОССИЙСКАЯ ФЕДЕРАЦИЯ</a:t>
            </a:r>
            <a:br>
              <a:rPr sz="900"/>
            </a:br>
            <a:r>
              <a:rPr b="0" lang="ru-RU" sz="900" spc="-1" strike="noStrike">
                <a:solidFill>
                  <a:srgbClr val="666729"/>
                </a:solidFill>
                <a:latin typeface="Arial"/>
              </a:rPr>
              <a:t>ЯМАЛО-НЕНЕЦКИЙ АВТОНОМНЫЙ ОКРУГ</a:t>
            </a:r>
            <a:br>
              <a:rPr sz="900"/>
            </a:br>
            <a:r>
              <a:rPr b="0" lang="ru-RU" sz="900" spc="-1" strike="noStrike">
                <a:solidFill>
                  <a:srgbClr val="666729"/>
                </a:solidFill>
                <a:latin typeface="Arial"/>
              </a:rPr>
              <a:t>МУНИЦИПАЛЬНОЕ ОБРАЗОВАНИЕ ПУРОВСКИЙ РАЙОН</a:t>
            </a:r>
            <a:br>
              <a:rPr sz="900"/>
            </a:br>
            <a:r>
              <a:rPr b="0" lang="ru-RU" sz="900" spc="-1" strike="noStrike">
                <a:solidFill>
                  <a:srgbClr val="666729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3200"/>
            </a:br>
            <a:r>
              <a:rPr b="0" lang="ru-RU" sz="900" spc="-1" strike="noStrike">
                <a:solidFill>
                  <a:srgbClr val="666729"/>
                </a:solidFill>
                <a:latin typeface="Arial"/>
              </a:rPr>
              <a:t>«ДЕТСКИЙ САД КОМБИНИРОВАННОГО ВИДА «СКАЗКА» п.г.т. УРЕНГОЙ ПУРОВСКОГО РАЙОНА</a:t>
            </a:r>
            <a:br>
              <a:rPr sz="900"/>
            </a:br>
            <a:r>
              <a:rPr b="0" lang="ru-RU" sz="900" spc="-1" strike="noStrike">
                <a:solidFill>
                  <a:srgbClr val="666729"/>
                </a:solidFill>
                <a:latin typeface="Arial"/>
              </a:rPr>
              <a:t>629860 Ямало-Ненецкий автономный округ, Пуровский район, п.г.т. Уренгой, 5 мкр. дом 17,</a:t>
            </a:r>
            <a:br>
              <a:rPr sz="3200"/>
            </a:br>
            <a:r>
              <a:rPr b="1" lang="ru-RU" sz="3200" spc="-1" strike="noStrike">
                <a:solidFill>
                  <a:srgbClr val="0de917"/>
                </a:solidFill>
                <a:latin typeface="Monotype Corsiva"/>
              </a:rPr>
              <a:t>Особенности  эмоционального развития у детей  старшего дошкольного возраста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53341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16c5"/>
                </a:solidFill>
                <a:latin typeface="Segoe Print"/>
              </a:rPr>
              <a:t>Подготовила: 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16c5"/>
                </a:solidFill>
                <a:latin typeface="Segoe Print"/>
              </a:rPr>
              <a:t>Шиянова Еле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6" descr=""/>
          <p:cNvPicPr/>
          <p:nvPr/>
        </p:nvPicPr>
        <p:blipFill>
          <a:blip r:embed="rId1"/>
          <a:stretch/>
        </p:blipFill>
        <p:spPr>
          <a:xfrm>
            <a:off x="1409760" y="213372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28840" y="30456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данной гипотезы и актуальности проблемы, пришла к решению о  проведении углубленной работы по развитию эмоций у детей в детском саду. </a:t>
            </a: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853416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0"/>
                </a:solidFill>
                <a:latin typeface="Monotype Corsiva"/>
                <a:ea typeface="Times New Roman"/>
              </a:rPr>
              <a:t>В результате этого была создана коррекционно-развивающая программа по развитию эмоциональной сферы детей старшего дошкольного возраста «Азбука эмоц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5" descr="C:\Users\Admin\Desktop\НАШИ ФОТКИ\2011-2012\DSC02597.MPO"/>
          <p:cNvPicPr/>
          <p:nvPr/>
        </p:nvPicPr>
        <p:blipFill>
          <a:blip r:embed="rId1"/>
          <a:stretch/>
        </p:blipFill>
        <p:spPr>
          <a:xfrm>
            <a:off x="1219320" y="304920"/>
            <a:ext cx="3047760" cy="373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0e80"/>
                </a:solidFill>
                <a:latin typeface="Monotype Corsiva"/>
                <a:ea typeface="Times New Roman"/>
              </a:rPr>
              <a:t>Основная ее цел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звитие эмоциональной сферы детей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0e80"/>
                </a:solidFill>
                <a:latin typeface="Monotype Corsiva"/>
                <a:ea typeface="Times New Roman"/>
              </a:rPr>
              <a:t>Задачи про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могать ребенку прожить определенное эмоциональное состояние, объяснить, что оно означает, и дать ему словесное обознач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учить способам регуляции эмоциональных состояний, элементам рассла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рабатывать у ребенка положительные черты характера, способствующие лучшему взаимопониманию в процессе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457200" y="328320"/>
            <a:ext cx="8458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0e80"/>
                </a:solidFill>
                <a:latin typeface="Monotype Corsiva"/>
                <a:ea typeface="Times New Roman"/>
              </a:rPr>
              <a:t>Форма организации  занят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, включает в себя элементы: приветствие, разминка, основная и заключительна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4" descr="C:\Users\Admin\Desktop\Эмоции детей\DSC03146.JPG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419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Прямоугольник 3"/>
          <p:cNvSpPr/>
          <p:nvPr/>
        </p:nvSpPr>
        <p:spPr>
          <a:xfrm>
            <a:off x="457200" y="22860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0e80"/>
                </a:solidFill>
                <a:latin typeface="Monotype Corsiva"/>
                <a:ea typeface="Times New Roman"/>
              </a:rPr>
              <a:t>В занятиях используются  методические средств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ые игры, психогимнастическа, этюды, релаксационные методы, эмоционально-символические методы (групповое обсуждение различных чувств, направленное рисование), коммуникативные упражн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3" descr="C:\Users\Admin\Desktop\НАШИ ФОТКИ\ДЕТСКИЙ САД\P1030380.JPG"/>
          <p:cNvPicPr/>
          <p:nvPr/>
        </p:nvPicPr>
        <p:blipFill>
          <a:blip r:embed="rId1"/>
          <a:stretch/>
        </p:blipFill>
        <p:spPr>
          <a:xfrm>
            <a:off x="2133720" y="2798640"/>
            <a:ext cx="53337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0e80"/>
                </a:solidFill>
                <a:latin typeface="Monotype Corsiva"/>
              </a:rPr>
              <a:t>Этюды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69" name="Picture 2" descr="I:\DCIM\100MSDCF\DSC03134.JPG"/>
          <p:cNvPicPr/>
          <p:nvPr/>
        </p:nvPicPr>
        <p:blipFill>
          <a:blip r:embed="rId1"/>
          <a:stretch/>
        </p:blipFill>
        <p:spPr>
          <a:xfrm>
            <a:off x="457200" y="1447920"/>
            <a:ext cx="3886200" cy="47498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" descr="I:\DCIM\100MSDCF\DSC03119.JPG"/>
          <p:cNvPicPr/>
          <p:nvPr/>
        </p:nvPicPr>
        <p:blipFill>
          <a:blip r:embed="rId2"/>
          <a:stretch/>
        </p:blipFill>
        <p:spPr>
          <a:xfrm>
            <a:off x="4724280" y="1447920"/>
            <a:ext cx="3954600" cy="4724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0e80"/>
                </a:solidFill>
                <a:latin typeface="Monotype Corsiva"/>
                <a:ea typeface="Times New Roman"/>
              </a:rPr>
              <a:t>Структура за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готовительный этап (10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роить группу на совместную работу, установ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контакт между всеми участниками, активизировать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ц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3" descr="C:\Users\Admin\Desktop\Эмоции детей\DSC03142.JPG"/>
          <p:cNvPicPr/>
          <p:nvPr/>
        </p:nvPicPr>
        <p:blipFill>
          <a:blip r:embed="rId1"/>
          <a:stretch/>
        </p:blipFill>
        <p:spPr>
          <a:xfrm>
            <a:off x="1905120" y="21718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: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ые, упражнения для глаз, релаксационная гимнастика, упражнения  на развитие межполушарного взаимодействия, на гармонизацию взаимоотношений.</a:t>
            </a:r>
            <a:br>
              <a:rPr sz="24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28240" y="1676520"/>
            <a:ext cx="3616200" cy="30477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" descr="H:\IMG_0428.JPG"/>
          <p:cNvPicPr/>
          <p:nvPr/>
        </p:nvPicPr>
        <p:blipFill>
          <a:blip r:embed="rId2"/>
          <a:stretch/>
        </p:blipFill>
        <p:spPr>
          <a:xfrm>
            <a:off x="228600" y="175248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3" descr="I:\DCIM\100MSDCF\DSC03174.JPG"/>
          <p:cNvPicPr/>
          <p:nvPr/>
        </p:nvPicPr>
        <p:blipFill>
          <a:blip r:embed="rId3"/>
          <a:stretch/>
        </p:blipFill>
        <p:spPr>
          <a:xfrm>
            <a:off x="4724280" y="1676520"/>
            <a:ext cx="3618000" cy="27129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7" descr="C:\Users\Admin\Desktop\Эмоции детей\DSC03169.JPG"/>
          <p:cNvPicPr/>
          <p:nvPr/>
        </p:nvPicPr>
        <p:blipFill>
          <a:blip r:embed="rId4"/>
          <a:stretch/>
        </p:blipFill>
        <p:spPr>
          <a:xfrm>
            <a:off x="2895480" y="37339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Основной этап (20 минут)</a:t>
            </a: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вышение чувствительности к себе, к другому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у, развитие умений понять и передать свое эмоциональное состояние и почувствовать эмоциональное состояние другого. Преодоление негативных личностных проявлений: агрессивности, неуверенности, обидчивости, неорганизованности и др.</a:t>
            </a:r>
            <a:br>
              <a:rPr sz="24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79" name="Picture 2" descr="H:\IMG_0405.JPG"/>
          <p:cNvPicPr/>
          <p:nvPr/>
        </p:nvPicPr>
        <p:blipFill>
          <a:blip r:embed="rId1"/>
          <a:stretch/>
        </p:blipFill>
        <p:spPr>
          <a:xfrm>
            <a:off x="4572000" y="2971800"/>
            <a:ext cx="4383000" cy="32004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5" descr="C:\Users\Admin\Desktop\Эмоции детей\DSC03136.JPG"/>
          <p:cNvPicPr/>
          <p:nvPr/>
        </p:nvPicPr>
        <p:blipFill>
          <a:blip r:embed="rId2"/>
          <a:stretch/>
        </p:blipFill>
        <p:spPr>
          <a:xfrm>
            <a:off x="228600" y="2971800"/>
            <a:ext cx="4078440" cy="335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: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юды, игры на воспроизведение отдельных черт характера, игры на развитие рефлексии, эмпатии, сказкотерапия, музыкотерапия, релаксационные упражнения, обучение навыкам самопомощи 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пряженных ситуациях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837720" y="312372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7" descr="C:\Users\Admin\Desktop\Эмоции детей\DSC03096.JPG"/>
          <p:cNvPicPr/>
          <p:nvPr/>
        </p:nvPicPr>
        <p:blipFill>
          <a:blip r:embed="rId2"/>
          <a:stretch/>
        </p:blipFill>
        <p:spPr>
          <a:xfrm>
            <a:off x="5334120" y="182880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9" descr="I:\IMG_0433.JPG"/>
          <p:cNvPicPr/>
          <p:nvPr/>
        </p:nvPicPr>
        <p:blipFill>
          <a:blip r:embed="rId3"/>
          <a:stretch/>
        </p:blipFill>
        <p:spPr>
          <a:xfrm>
            <a:off x="3733920" y="403848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8" descr="C:\Users\Admin\Desktop\НАШИ ФОТКИ\ДЕТСКИЙ САД\P1030358.JPG"/>
          <p:cNvPicPr/>
          <p:nvPr/>
        </p:nvPicPr>
        <p:blipFill>
          <a:blip r:embed="rId4"/>
          <a:stretch/>
        </p:blipFill>
        <p:spPr>
          <a:xfrm>
            <a:off x="228600" y="25909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15328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6000" spc="-1" strike="noStrike">
                <a:solidFill>
                  <a:srgbClr val="0de917"/>
                </a:solidFill>
                <a:latin typeface="Monotype Corsiva"/>
              </a:rPr>
              <a:t>Удивл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3" descr="C:\Users\Admin\Desktop\Эмоции детей\DSC03115.JPG"/>
          <p:cNvPicPr/>
          <p:nvPr/>
        </p:nvPicPr>
        <p:blipFill>
          <a:blip r:embed="rId1"/>
          <a:stretch/>
        </p:blipFill>
        <p:spPr>
          <a:xfrm>
            <a:off x="380880" y="53352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C:\Users\Admin\Desktop\Эмоции детей\DSC03095.JPG"/>
          <p:cNvPicPr/>
          <p:nvPr/>
        </p:nvPicPr>
        <p:blipFill>
          <a:blip r:embed="rId2"/>
          <a:stretch/>
        </p:blipFill>
        <p:spPr>
          <a:xfrm>
            <a:off x="4165560" y="2438280"/>
            <a:ext cx="4521240" cy="3391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детство – очень короткий отрезок в жизни человека, всего первые семь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ребенок не умеет управлять эмоциями. Его чувства быстро возникают и так же быстро исчезают. С развитием эмоциональной сферы у дошкольника чувства становятся более рациональными, подчиняются мышле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задача помочь маленькому человеку познать и испытать разные чувства и эмо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60e80"/>
                </a:solidFill>
                <a:latin typeface="Monotype Corsiva"/>
              </a:rPr>
              <a:t>Злость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90" name="Picture 3" descr="C:\Users\Admin\Desktop\Эмоции детей\DSC03112.JPG"/>
          <p:cNvPicPr/>
          <p:nvPr/>
        </p:nvPicPr>
        <p:blipFill>
          <a:blip r:embed="rId1"/>
          <a:stretch/>
        </p:blipFill>
        <p:spPr>
          <a:xfrm>
            <a:off x="1143000" y="1676520"/>
            <a:ext cx="3486240" cy="46479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C:\Users\Admin\Desktop\НАШИ ФОТКИ\ДЕТСКИЙ САД\P1030394.JPG"/>
          <p:cNvPicPr/>
          <p:nvPr/>
        </p:nvPicPr>
        <p:blipFill>
          <a:blip r:embed="rId2"/>
          <a:stretch/>
        </p:blipFill>
        <p:spPr>
          <a:xfrm>
            <a:off x="4876920" y="1219320"/>
            <a:ext cx="3504960" cy="467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Monotype Corsiva"/>
              </a:rPr>
              <a:t>Радость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93" name="Picture 2" descr="C:\Users\Admin\Desktop\Эмоции детей\DSC03099.JPG"/>
          <p:cNvPicPr/>
          <p:nvPr/>
        </p:nvPicPr>
        <p:blipFill>
          <a:blip r:embed="rId1"/>
          <a:stretch/>
        </p:blipFill>
        <p:spPr>
          <a:xfrm>
            <a:off x="4724280" y="1219320"/>
            <a:ext cx="3373560" cy="44971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C:\Users\Admin\Desktop\НАШИ ФОТКИ\ДЕТСКИЙ САД\P1030395.JPG"/>
          <p:cNvPicPr/>
          <p:nvPr/>
        </p:nvPicPr>
        <p:blipFill>
          <a:blip r:embed="rId2"/>
          <a:stretch/>
        </p:blipFill>
        <p:spPr>
          <a:xfrm>
            <a:off x="990720" y="1828800"/>
            <a:ext cx="3429000" cy="4586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Monotype Corsiva"/>
              </a:rPr>
              <a:t>Грусть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96" name="Picture 3" descr="C:\Users\Admin\Desktop\НАШИ ФОТКИ\ДЕТСКИЙ САД\P1030392.JPG"/>
          <p:cNvPicPr/>
          <p:nvPr/>
        </p:nvPicPr>
        <p:blipFill>
          <a:blip r:embed="rId1"/>
          <a:stretch/>
        </p:blipFill>
        <p:spPr>
          <a:xfrm>
            <a:off x="4419720" y="1371600"/>
            <a:ext cx="3714480" cy="4952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5" descr="C:\Users\Admin\Desktop\Эмоции детей\DSC03131.JPG"/>
          <p:cNvPicPr/>
          <p:nvPr/>
        </p:nvPicPr>
        <p:blipFill>
          <a:blip r:embed="rId2"/>
          <a:stretch/>
        </p:blipFill>
        <p:spPr>
          <a:xfrm>
            <a:off x="609480" y="609480"/>
            <a:ext cx="3353040" cy="4496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6729"/>
                </a:solidFill>
                <a:latin typeface="Monotype Corsiva"/>
              </a:rPr>
              <a:t>Страх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99" name="Picture 6" descr="C:\Users\Admin\Desktop\Эмоции детей\DSC03130.JPG"/>
          <p:cNvPicPr/>
          <p:nvPr/>
        </p:nvPicPr>
        <p:blipFill>
          <a:blip r:embed="rId1"/>
          <a:stretch/>
        </p:blipFill>
        <p:spPr>
          <a:xfrm>
            <a:off x="2209680" y="1295280"/>
            <a:ext cx="4130640" cy="5334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1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de917"/>
                </a:solidFill>
                <a:latin typeface="Monotype Corsiva"/>
              </a:rPr>
              <a:t>Все такие разные!</a:t>
            </a:r>
            <a:endParaRPr b="0" lang="en-US" sz="6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01" name="Picture 2" descr="C:\Users\Admin\Desktop\Новая папка\DSC0310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932520" cy="4878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Пескотерап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есочной терапии согласуются с внутренним стремлением ребенка к самоактуализации.  Они ориентированы на то, чтобы помочь ребенку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ь более позитивную Я-концепцию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ботать больш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самопринятию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большей степени полаг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мого себ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владеть чувством контрол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ь сензитивность к процесс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ния трудност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ь самооценку и обре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у в самого себя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4" descr="C:\Users\Admin\Desktop\Эмоции детей\DSC03162.JPG"/>
          <p:cNvPicPr/>
          <p:nvPr/>
        </p:nvPicPr>
        <p:blipFill>
          <a:blip r:embed="rId1"/>
          <a:stretch/>
        </p:blipFill>
        <p:spPr>
          <a:xfrm>
            <a:off x="4648320" y="2362320"/>
            <a:ext cx="4114800" cy="3314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39625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e917"/>
                </a:solidFill>
                <a:latin typeface="Monotype Corsiva"/>
                <a:ea typeface="Microsoft Yi Baiti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i Baiti"/>
              </a:rPr>
              <a:t>   такой терапии — не менять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i Baiti"/>
              </a:rPr>
              <a:t>переделывать ребенка, не учить его каким-то специальным поведенческим навыкам, а дать возможность ребенку быть самим собо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C:\Users\Admin\Desktop\Новая папка\DSC03107.JPG"/>
          <p:cNvPicPr/>
          <p:nvPr/>
        </p:nvPicPr>
        <p:blipFill>
          <a:blip r:embed="rId1"/>
          <a:stretch/>
        </p:blipFill>
        <p:spPr>
          <a:xfrm>
            <a:off x="4572000" y="685800"/>
            <a:ext cx="4081320" cy="54403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e80"/>
                </a:solidFill>
                <a:latin typeface="Monotype Corsiva"/>
              </a:rPr>
              <a:t>Специфика работы по данной те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e80"/>
                </a:solidFill>
                <a:latin typeface="Monotype Corsiva"/>
              </a:rPr>
              <a:t>определила необходимость использования разнообразных методов исследования эмоциональной сферы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3f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3f0d"/>
                </a:solidFill>
                <a:latin typeface="Times New Roman"/>
                <a:ea typeface="Times New Roman"/>
              </a:rPr>
              <a:t>Теоретический анализ педагогической, психологической литерату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3f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3f0d"/>
                </a:solidFill>
                <a:latin typeface="Times New Roman"/>
                <a:ea typeface="Times New Roman"/>
              </a:rPr>
              <a:t>Наблюдение за процессом развития эмоциональной сферы до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3f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3f0d"/>
                </a:solidFill>
                <a:latin typeface="Times New Roman"/>
                <a:ea typeface="Times New Roman"/>
              </a:rPr>
              <a:t>Использование тестов для выявления уровня развития эмоциональной 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226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113f0d"/>
                </a:solidFill>
                <a:latin typeface="Times New Roman"/>
                <a:ea typeface="Times New Roman"/>
              </a:rPr>
              <a:t>4.  </a:t>
            </a:r>
            <a:r>
              <a:rPr b="1" lang="ru-RU" sz="2400" spc="-1" strike="noStrike">
                <a:solidFill>
                  <a:srgbClr val="113f0d"/>
                </a:solidFill>
                <a:latin typeface="Times New Roman"/>
                <a:ea typeface="Times New Roman"/>
              </a:rPr>
              <a:t>Использование различных педагогических технологий по развитию у детей эмоций в игре, в повседневной деятельности, в процессе специально организованных коррекционно-развивающих занятий.</a:t>
            </a:r>
            <a:br>
              <a:rPr sz="20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2971440" y="2133720"/>
            <a:ext cx="3886200" cy="39621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4" descr="C:\Users\Admin\Desktop\НАШИ ФОТКИ\дети\DSC02738.JPG"/>
          <p:cNvPicPr/>
          <p:nvPr/>
        </p:nvPicPr>
        <p:blipFill>
          <a:blip r:embed="rId2"/>
          <a:stretch/>
        </p:blipFill>
        <p:spPr>
          <a:xfrm>
            <a:off x="160020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0e80"/>
                </a:solidFill>
                <a:latin typeface="Monotype Corsiva"/>
              </a:rPr>
              <a:t>Диагностический инструментари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63520" y="685800"/>
            <a:ext cx="849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. Детский тест тревожности. Р. Тэммл, М. Дорки, В. Ам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. Анкетный метод оценки эмоциональной и нервно-психической сферы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. Диагностика дезадаптации ребенка в раннем возра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турный С.А.Т. – Н». Э. Крис (авторская модификация Н.Я.Сема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. Тест «Выбери нужное лиц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. Графическая методика «Какту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. Тест «Рисунок семь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. Тест «Нарисуй человека, которого ты любишь больше все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. Тест «Несуществующее животно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Прямоугольник 1"/>
          <p:cNvSpPr/>
          <p:nvPr/>
        </p:nvSpPr>
        <p:spPr>
          <a:xfrm>
            <a:off x="304920" y="304920"/>
            <a:ext cx="853416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0e80"/>
                </a:solidFill>
                <a:latin typeface="Comic Sans MS"/>
                <a:ea typeface="Arial"/>
              </a:rPr>
              <a:t>Бывают чувства у зверей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0e80"/>
                </a:solidFill>
                <a:latin typeface="Comic Sans MS"/>
                <a:ea typeface="Arial"/>
              </a:rPr>
              <a:t>У рыбок, птичек и люде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0e80"/>
                </a:solidFill>
                <a:latin typeface="Comic Sans MS"/>
                <a:ea typeface="Arial"/>
              </a:rPr>
              <a:t>Влияет без сомнения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0e80"/>
                </a:solidFill>
                <a:latin typeface="Comic Sans MS"/>
                <a:ea typeface="Arial"/>
              </a:rPr>
              <a:t>На всех нас настрое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1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de917"/>
                </a:solidFill>
                <a:latin typeface="Monotype Corsiva"/>
              </a:rPr>
              <a:t>Тест «Рисунок семьи»</a:t>
            </a:r>
            <a:endParaRPr b="0" lang="en-US" sz="5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14" name="Picture 2" descr="C:\Users\Admin\Desktop\Эмоции детей\DSC03192.JPG"/>
          <p:cNvPicPr/>
          <p:nvPr/>
        </p:nvPicPr>
        <p:blipFill>
          <a:blip r:embed="rId1"/>
          <a:stretch/>
        </p:blipFill>
        <p:spPr>
          <a:xfrm>
            <a:off x="304920" y="120024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C:\Users\Admin\Desktop\Эмоции детей\DSC03193.JPG"/>
          <p:cNvPicPr/>
          <p:nvPr/>
        </p:nvPicPr>
        <p:blipFill>
          <a:blip r:embed="rId2"/>
          <a:stretch/>
        </p:blipFill>
        <p:spPr>
          <a:xfrm>
            <a:off x="4572000" y="3200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de917"/>
                </a:solidFill>
                <a:latin typeface="Monotype Corsiva"/>
                <a:ea typeface="Times New Roman"/>
              </a:rPr>
              <a:t>Тест «Несуществующее животное»</a:t>
            </a:r>
            <a:br>
              <a:rPr sz="3600"/>
            </a:br>
            <a:r>
              <a:rPr b="1" lang="ru-RU" sz="3600" spc="-1" strike="noStrike">
                <a:solidFill>
                  <a:srgbClr val="0de917"/>
                </a:solidFill>
                <a:latin typeface="Monotype Corsiva"/>
                <a:ea typeface="Times New Roman"/>
              </a:rPr>
              <a:t>Тест «Нарисуй человека, которого ты любишь больше всего».</a:t>
            </a:r>
            <a:br>
              <a:rPr sz="3600"/>
            </a:b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17" name="Picture 2" descr="C:\Users\Admin\Desktop\Эмоции детей\DSC03191.JPG"/>
          <p:cNvPicPr/>
          <p:nvPr/>
        </p:nvPicPr>
        <p:blipFill>
          <a:blip r:embed="rId1"/>
          <a:stretch/>
        </p:blipFill>
        <p:spPr>
          <a:xfrm>
            <a:off x="457200" y="2057400"/>
            <a:ext cx="3714840" cy="44956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3" descr="C:\Users\Admin\Desktop\Эмоции детей\DSC03190.JPG"/>
          <p:cNvPicPr/>
          <p:nvPr/>
        </p:nvPicPr>
        <p:blipFill>
          <a:blip r:embed="rId2"/>
          <a:stretch/>
        </p:blipFill>
        <p:spPr>
          <a:xfrm>
            <a:off x="5219640" y="1828800"/>
            <a:ext cx="3505320" cy="467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0" y="32767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ю качества работы по развитию эмоций способствует рациональная организация развивающей среды в группах и кабинете педагога-психолога, создающая условия для совместной деятельности детей и педагогов, позволяющая варьировать формы и способы организации жизне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" descr="C:\Users\Admin\Desktop\Эмоции детей\DSC03189.JPG"/>
          <p:cNvPicPr/>
          <p:nvPr/>
        </p:nvPicPr>
        <p:blipFill>
          <a:blip r:embed="rId1"/>
          <a:stretch/>
        </p:blipFill>
        <p:spPr>
          <a:xfrm>
            <a:off x="304920" y="53352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" descr="C:\Users\Admin\Desktop\Эмоции детей\DSC03188.JPG"/>
          <p:cNvPicPr/>
          <p:nvPr/>
        </p:nvPicPr>
        <p:blipFill>
          <a:blip r:embed="rId2"/>
          <a:stretch/>
        </p:blipFill>
        <p:spPr>
          <a:xfrm>
            <a:off x="4724280" y="49536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Oval 4"/>
          <p:cNvSpPr/>
          <p:nvPr/>
        </p:nvSpPr>
        <p:spPr>
          <a:xfrm>
            <a:off x="2160720" y="2060640"/>
            <a:ext cx="504036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оциональное развити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школьн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457200" y="4724280"/>
            <a:ext cx="16002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гры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ж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3941640" y="4756320"/>
            <a:ext cx="141768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масс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8"/>
          <p:cNvSpPr/>
          <p:nvPr/>
        </p:nvSpPr>
        <p:spPr>
          <a:xfrm>
            <a:off x="2411280" y="1341360"/>
            <a:ext cx="1417680" cy="57636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395280" y="333360"/>
            <a:ext cx="141768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тод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2124000" y="333360"/>
            <a:ext cx="141768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тод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ди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228600" y="1371600"/>
            <a:ext cx="17064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мообраз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AutoShape 14"/>
          <p:cNvCxnSpPr>
            <a:endCxn id="727" idx="2"/>
          </p:cNvCxnSpPr>
          <p:nvPr/>
        </p:nvCxnSpPr>
        <p:spPr>
          <a:xfrm flipH="1" flipV="1">
            <a:off x="2832840" y="909000"/>
            <a:ext cx="299160" cy="43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30" name="AutoShape 15"/>
          <p:cNvCxnSpPr>
            <a:stCxn id="725" idx="1"/>
          </p:cNvCxnSpPr>
          <p:nvPr/>
        </p:nvCxnSpPr>
        <p:spPr>
          <a:xfrm flipH="1" flipV="1">
            <a:off x="1042200" y="907200"/>
            <a:ext cx="1369080" cy="723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31" name="AutoShape 16"/>
          <p:cNvCxnSpPr/>
          <p:nvPr/>
        </p:nvCxnSpPr>
        <p:spPr>
          <a:xfrm flipV="1">
            <a:off x="6803640" y="907560"/>
            <a:ext cx="1305720" cy="65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32" name="AutoShape 17"/>
          <p:cNvCxnSpPr/>
          <p:nvPr/>
        </p:nvCxnSpPr>
        <p:spPr>
          <a:xfrm>
            <a:off x="3809880" y="1626840"/>
            <a:ext cx="889920" cy="43092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733" name="Rectangle 18"/>
          <p:cNvSpPr/>
          <p:nvPr/>
        </p:nvSpPr>
        <p:spPr>
          <a:xfrm>
            <a:off x="2971800" y="3124080"/>
            <a:ext cx="2952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ррекционно-развивающ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9"/>
          <p:cNvSpPr/>
          <p:nvPr/>
        </p:nvSpPr>
        <p:spPr>
          <a:xfrm>
            <a:off x="216000" y="3141720"/>
            <a:ext cx="2052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ние с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рстн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0"/>
          <p:cNvSpPr/>
          <p:nvPr/>
        </p:nvSpPr>
        <p:spPr>
          <a:xfrm>
            <a:off x="3657600" y="5486400"/>
            <a:ext cx="198108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ение литератур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изведен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AutoShape 21"/>
          <p:cNvCxnSpPr>
            <a:stCxn id="722" idx="2"/>
            <a:endCxn id="734" idx="0"/>
          </p:cNvCxnSpPr>
          <p:nvPr/>
        </p:nvCxnSpPr>
        <p:spPr>
          <a:xfrm flipH="1">
            <a:off x="1242360" y="2517480"/>
            <a:ext cx="918360" cy="6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7" name="AutoShape 22"/>
          <p:cNvCxnSpPr/>
          <p:nvPr/>
        </p:nvCxnSpPr>
        <p:spPr>
          <a:xfrm>
            <a:off x="4716000" y="2997360"/>
            <a:ext cx="108036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8" name="AutoShape 23"/>
          <p:cNvCxnSpPr/>
          <p:nvPr/>
        </p:nvCxnSpPr>
        <p:spPr>
          <a:xfrm flipH="1">
            <a:off x="3511080" y="2997000"/>
            <a:ext cx="11138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9" name="AutoShape 24"/>
          <p:cNvCxnSpPr/>
          <p:nvPr/>
        </p:nvCxnSpPr>
        <p:spPr>
          <a:xfrm flipH="1">
            <a:off x="1402560" y="2852640"/>
            <a:ext cx="1477080" cy="10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0" name="Rectangle 26"/>
          <p:cNvSpPr/>
          <p:nvPr/>
        </p:nvSpPr>
        <p:spPr>
          <a:xfrm>
            <a:off x="7162920" y="4724280"/>
            <a:ext cx="16761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чинение 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7"/>
          <p:cNvSpPr/>
          <p:nvPr/>
        </p:nvSpPr>
        <p:spPr>
          <a:xfrm>
            <a:off x="5581800" y="4756320"/>
            <a:ext cx="14173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слуши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8"/>
          <p:cNvSpPr/>
          <p:nvPr/>
        </p:nvSpPr>
        <p:spPr>
          <a:xfrm>
            <a:off x="2133720" y="4724280"/>
            <a:ext cx="141768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ту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9"/>
          <p:cNvCxnSpPr/>
          <p:nvPr/>
        </p:nvCxnSpPr>
        <p:spPr>
          <a:xfrm flipH="1">
            <a:off x="2971080" y="4266720"/>
            <a:ext cx="16563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AutoShape 30"/>
          <p:cNvCxnSpPr>
            <a:stCxn id="745" idx="2"/>
          </p:cNvCxnSpPr>
          <p:nvPr/>
        </p:nvCxnSpPr>
        <p:spPr>
          <a:xfrm>
            <a:off x="4519440" y="4365360"/>
            <a:ext cx="178200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AutoShape 31"/>
          <p:cNvCxnSpPr/>
          <p:nvPr/>
        </p:nvCxnSpPr>
        <p:spPr>
          <a:xfrm>
            <a:off x="4419720" y="4343040"/>
            <a:ext cx="720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7" name="AutoShape 33"/>
          <p:cNvCxnSpPr/>
          <p:nvPr/>
        </p:nvCxnSpPr>
        <p:spPr>
          <a:xfrm>
            <a:off x="5486400" y="4114440"/>
            <a:ext cx="190584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8" name="AutoShape 35"/>
          <p:cNvCxnSpPr/>
          <p:nvPr/>
        </p:nvCxnSpPr>
        <p:spPr>
          <a:xfrm flipH="1">
            <a:off x="1904400" y="4114440"/>
            <a:ext cx="1656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9" name="Rectangle 37"/>
          <p:cNvSpPr/>
          <p:nvPr/>
        </p:nvSpPr>
        <p:spPr>
          <a:xfrm>
            <a:off x="6877080" y="3141720"/>
            <a:ext cx="20527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лакс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0" name="AutoShape 38"/>
          <p:cNvCxnSpPr>
            <a:endCxn id="749" idx="0"/>
          </p:cNvCxnSpPr>
          <p:nvPr/>
        </p:nvCxnSpPr>
        <p:spPr>
          <a:xfrm>
            <a:off x="7164000" y="2565000"/>
            <a:ext cx="7405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1" name="AutoShape 39"/>
          <p:cNvCxnSpPr>
            <a:endCxn id="722" idx="0"/>
          </p:cNvCxnSpPr>
          <p:nvPr/>
        </p:nvCxnSpPr>
        <p:spPr>
          <a:xfrm flipH="1">
            <a:off x="4680720" y="1628640"/>
            <a:ext cx="754920" cy="43272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752" name="Rectangle 40"/>
          <p:cNvSpPr/>
          <p:nvPr/>
        </p:nvSpPr>
        <p:spPr>
          <a:xfrm>
            <a:off x="5334120" y="1295280"/>
            <a:ext cx="1417680" cy="57636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41"/>
          <p:cNvSpPr/>
          <p:nvPr/>
        </p:nvSpPr>
        <p:spPr>
          <a:xfrm>
            <a:off x="7086600" y="304920"/>
            <a:ext cx="180036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одитель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3"/>
          <p:cNvSpPr/>
          <p:nvPr/>
        </p:nvSpPr>
        <p:spPr>
          <a:xfrm>
            <a:off x="395280" y="3933720"/>
            <a:ext cx="2052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вседневная 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4"/>
          <p:cNvSpPr/>
          <p:nvPr/>
        </p:nvSpPr>
        <p:spPr>
          <a:xfrm>
            <a:off x="5334120" y="304920"/>
            <a:ext cx="143964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ульт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AutoShape 45"/>
          <p:cNvCxnSpPr>
            <a:stCxn id="752" idx="0"/>
            <a:endCxn id="755" idx="2"/>
          </p:cNvCxnSpPr>
          <p:nvPr/>
        </p:nvCxnSpPr>
        <p:spPr>
          <a:xfrm flipV="1">
            <a:off x="6043320" y="880200"/>
            <a:ext cx="11880" cy="415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757" name="Rectangle 46"/>
          <p:cNvSpPr/>
          <p:nvPr/>
        </p:nvSpPr>
        <p:spPr>
          <a:xfrm>
            <a:off x="7010280" y="1295280"/>
            <a:ext cx="180036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ендов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8" name="AutoShape 47"/>
          <p:cNvCxnSpPr>
            <a:stCxn id="752" idx="3"/>
            <a:endCxn id="757" idx="1"/>
          </p:cNvCxnSpPr>
          <p:nvPr/>
        </p:nvCxnSpPr>
        <p:spPr>
          <a:xfrm>
            <a:off x="6751800" y="1584000"/>
            <a:ext cx="2592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59" name="AutoShape 49"/>
          <p:cNvCxnSpPr>
            <a:stCxn id="725" idx="1"/>
          </p:cNvCxnSpPr>
          <p:nvPr/>
        </p:nvCxnSpPr>
        <p:spPr>
          <a:xfrm flipH="1" flipV="1">
            <a:off x="1812960" y="1320480"/>
            <a:ext cx="598680" cy="310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760" name="Rectangle 50"/>
          <p:cNvSpPr/>
          <p:nvPr/>
        </p:nvSpPr>
        <p:spPr>
          <a:xfrm>
            <a:off x="6156360" y="3860640"/>
            <a:ext cx="2052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дивидуальная раб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1" name="AutoShape 51"/>
          <p:cNvCxnSpPr>
            <a:endCxn id="760" idx="0"/>
          </p:cNvCxnSpPr>
          <p:nvPr/>
        </p:nvCxnSpPr>
        <p:spPr>
          <a:xfrm>
            <a:off x="6443280" y="2852640"/>
            <a:ext cx="74052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5" name="Rectangle 52"/>
          <p:cNvSpPr/>
          <p:nvPr/>
        </p:nvSpPr>
        <p:spPr>
          <a:xfrm>
            <a:off x="3492360" y="3933720"/>
            <a:ext cx="2052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2" name="AutoShape 53"/>
          <p:cNvCxnSpPr>
            <a:stCxn id="722" idx="4"/>
            <a:endCxn id="745" idx="0"/>
          </p:cNvCxnSpPr>
          <p:nvPr/>
        </p:nvCxnSpPr>
        <p:spPr>
          <a:xfrm flipH="1">
            <a:off x="4519080" y="2974680"/>
            <a:ext cx="162720" cy="95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AutoShape 54"/>
          <p:cNvCxnSpPr>
            <a:endCxn id="745" idx="1"/>
          </p:cNvCxnSpPr>
          <p:nvPr/>
        </p:nvCxnSpPr>
        <p:spPr>
          <a:xfrm>
            <a:off x="2410920" y="4149360"/>
            <a:ext cx="1081800" cy="1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764" name="AutoShape 55"/>
          <p:cNvCxnSpPr>
            <a:stCxn id="745" idx="3"/>
            <a:endCxn id="760" idx="1"/>
          </p:cNvCxnSpPr>
          <p:nvPr/>
        </p:nvCxnSpPr>
        <p:spPr>
          <a:xfrm flipV="1">
            <a:off x="5545080" y="4075920"/>
            <a:ext cx="612000" cy="7380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765" name="AutoShape 56"/>
          <p:cNvCxnSpPr>
            <a:stCxn id="734" idx="2"/>
            <a:endCxn id="754" idx="0"/>
          </p:cNvCxnSpPr>
          <p:nvPr/>
        </p:nvCxnSpPr>
        <p:spPr>
          <a:xfrm>
            <a:off x="1243080" y="3573000"/>
            <a:ext cx="180000" cy="361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766" name="AutoShape 57"/>
          <p:cNvCxnSpPr>
            <a:stCxn id="760" idx="0"/>
            <a:endCxn id="749" idx="2"/>
          </p:cNvCxnSpPr>
          <p:nvPr/>
        </p:nvCxnSpPr>
        <p:spPr>
          <a:xfrm flipV="1">
            <a:off x="7183440" y="3573000"/>
            <a:ext cx="721440" cy="28800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767" name="AutoShape 58"/>
          <p:cNvCxnSpPr>
            <a:stCxn id="725" idx="3"/>
            <a:endCxn id="752" idx="1"/>
          </p:cNvCxnSpPr>
          <p:nvPr/>
        </p:nvCxnSpPr>
        <p:spPr>
          <a:xfrm flipV="1">
            <a:off x="3828600" y="1581840"/>
            <a:ext cx="1505880" cy="4860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0e80"/>
                </a:solidFill>
                <a:latin typeface="Monotype Corsiva"/>
              </a:rPr>
              <a:t>Мониторинг </a:t>
            </a:r>
            <a:endParaRPr b="0" lang="en-US" sz="4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коррекционно-развивающей работы у  детей, вырабатываются положительные черты характера, им становится легче общаться со сверстниками, они лучше понимают чувства, эмоции других и легче выражают свои,   формируется чувство сотрудничества, самоуважения, уверенности в своих силах и в себе, повышается самооц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уровня готовности к обучению в школе свидетельствует об эффективности используемых  методов. Индивидуальная и групповая коррекционная работа позволяет сформировать функциональную готов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ников к обучению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0e80"/>
                </a:solidFill>
                <a:latin typeface="Monotype Corsiva"/>
              </a:rPr>
              <a:t>Перспективы и возможности использования опы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e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e917"/>
                </a:solidFill>
                <a:latin typeface="Monotype Corsiva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Опыт рассчитан на педагогов-психологов и воспита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опыта или дополнении опыта другими методами и приёмами необходимо соблюдать следующие пра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проведением занятий установить тесный контакт с детьми и родителя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1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на занятиях методы и приёмы, которы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ют у детей интерес с сам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х минут  и буду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еспечивать его сохране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кончания занятия; </a:t>
            </a:r>
            <a:br>
              <a:rPr sz="2400"/>
            </a:b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73" name="Picture 3" descr="C:\Users\Admin\Desktop\фотоапарат\2012-06-28\DSC01878.JPG"/>
          <p:cNvPicPr/>
          <p:nvPr/>
        </p:nvPicPr>
        <p:blipFill>
          <a:blip r:embed="rId1"/>
          <a:stretch/>
        </p:blipFill>
        <p:spPr>
          <a:xfrm>
            <a:off x="380880" y="30481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" descr="H:\DCIM\100MSDCF\DSC02387.JPG"/>
          <p:cNvPicPr/>
          <p:nvPr/>
        </p:nvPicPr>
        <p:blipFill>
          <a:blip r:embed="rId2"/>
          <a:stretch/>
        </p:blipFill>
        <p:spPr>
          <a:xfrm>
            <a:off x="4267080" y="1120680"/>
            <a:ext cx="4467240" cy="3160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1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различных педагогических ситуаций давать возможность каждому ребенку высказать свою точку зрения и аргументировать ее.</a:t>
            </a: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76" name="Picture 6" descr="C:\Users\Admin\Desktop\фотоапарат\2012-06-29\DSC01891.JPG"/>
          <p:cNvPicPr/>
          <p:nvPr/>
        </p:nvPicPr>
        <p:blipFill>
          <a:blip r:embed="rId1"/>
          <a:stretch/>
        </p:blipFill>
        <p:spPr>
          <a:xfrm>
            <a:off x="4648320" y="3409920"/>
            <a:ext cx="4195800" cy="314316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" descr="C:\Users\Admin\Desktop\фотоапарат\2012-06-29\DSC01885.JPG"/>
          <p:cNvPicPr/>
          <p:nvPr/>
        </p:nvPicPr>
        <p:blipFill>
          <a:blip r:embed="rId2"/>
          <a:stretch/>
        </p:blipFill>
        <p:spPr>
          <a:xfrm>
            <a:off x="533520" y="1600200"/>
            <a:ext cx="3943080" cy="3124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3574800" y="1599840"/>
            <a:ext cx="5111640" cy="434340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32004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ть упражнения по развитию методов саморегуляции и самосознания  в любые занятия в качестве физкультминуток, а также использовать в свободной деятельности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H:\IMG_0415.JPG"/>
          <p:cNvPicPr/>
          <p:nvPr/>
        </p:nvPicPr>
        <p:blipFill>
          <a:blip r:embed="rId2"/>
          <a:stretch/>
        </p:blipFill>
        <p:spPr>
          <a:xfrm>
            <a:off x="3581280" y="16002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6672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160e80"/>
                </a:solidFill>
                <a:latin typeface="Monotype Corsiva"/>
              </a:rPr>
              <a:t>Эмоционально-волевая сфера играет большую роль в усвоении знаний, умений и навыков, также в установлении контактов с окружающими, и в социальной адаптации детей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782" name="Picture 3" descr="H:\DCIM\100MSDCF\DSC02343.JPG"/>
          <p:cNvPicPr/>
          <p:nvPr/>
        </p:nvPicPr>
        <p:blipFill>
          <a:blip r:embed="rId1"/>
          <a:srcRect l="-1963" t="0" r="0" b="0"/>
          <a:stretch/>
        </p:blipFill>
        <p:spPr>
          <a:xfrm>
            <a:off x="228600" y="27432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" descr="H:\DCIM\100MSDCF\DSC02339.JPG"/>
          <p:cNvPicPr/>
          <p:nvPr/>
        </p:nvPicPr>
        <p:blipFill>
          <a:blip r:embed="rId2"/>
          <a:stretch/>
        </p:blipFill>
        <p:spPr>
          <a:xfrm>
            <a:off x="4572000" y="3352680"/>
            <a:ext cx="4267080" cy="3143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5257440" y="0"/>
            <a:ext cx="3886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de917"/>
                </a:solidFill>
                <a:latin typeface="Monotype Corsiva"/>
                <a:ea typeface="Times New Roman"/>
              </a:rPr>
              <a:t>Эмоц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de917"/>
                </a:solidFill>
                <a:latin typeface="Monotype Corsiv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цесс - деятельность оценивания поступающей в мозг информации о внешнем и внутреннем ми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C:\Users\Admin\Desktop\фотоапарат\2012-07-03\DSC01992.JPG"/>
          <p:cNvPicPr/>
          <p:nvPr/>
        </p:nvPicPr>
        <p:blipFill>
          <a:blip r:embed="rId1"/>
          <a:stretch/>
        </p:blipFill>
        <p:spPr>
          <a:xfrm>
            <a:off x="304920" y="137160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27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e917"/>
                </a:solidFill>
                <a:latin typeface="Arial"/>
              </a:rPr>
              <a:t>- Старайтесь не создавать таких ситуаций, в которых ребенок может проявить свое негативное поведени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 Как можно больше хвалите ребенка за малейшие успех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0e80"/>
                </a:solidFill>
                <a:latin typeface="Arial"/>
              </a:rPr>
              <a:t>- Не будьте равнодушны к внутреннему миру и переживаниям  детей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46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 Старайтесь не показывать детям свои отрицательные эмоции;</a:t>
            </a:r>
            <a:br>
              <a:rPr sz="4000"/>
            </a:b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8423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e917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0de917"/>
                </a:solidFill>
                <a:latin typeface="Monotype Corsiva"/>
              </a:rPr>
              <a:t>Если вы хотите развить у ребенка те или иные качества, старайтесь относиться к нему так, словно они у него уже ес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353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de917"/>
                </a:solidFill>
                <a:latin typeface="Monotype Corsiva"/>
              </a:rPr>
              <a:t>   </a:t>
            </a:r>
            <a:r>
              <a:rPr b="0" lang="ru-RU" sz="5400" spc="-1" strike="noStrike">
                <a:solidFill>
                  <a:srgbClr val="0de917"/>
                </a:solidFill>
                <a:latin typeface="Monotype Corsiva"/>
              </a:rPr>
              <a:t>Эмоция</a:t>
            </a:r>
            <a:r>
              <a:rPr b="0" lang="ru-RU" sz="4800" spc="-1" strike="noStrike">
                <a:solidFill>
                  <a:srgbClr val="0de917"/>
                </a:solidFill>
                <a:latin typeface="Monotype Corsiva"/>
              </a:rPr>
              <a:t>– </a:t>
            </a:r>
            <a:r>
              <a:rPr b="0" lang="ru-RU" sz="6000" spc="-1" strike="noStrike">
                <a:solidFill>
                  <a:srgbClr val="0de917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14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т действительность и доводит свою оценку до сведения организма на языке переживаний. Эмоции плохо поддаются волевой регулировке, их трудно вызвать по своему желанию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C:\Users\Eddy\Desktop\абэвэгэдейка\3e6a2981e119.jpg"/>
          <p:cNvPicPr/>
          <p:nvPr/>
        </p:nvPicPr>
        <p:blipFill>
          <a:blip r:embed="rId1"/>
          <a:stretch/>
        </p:blipFill>
        <p:spPr>
          <a:xfrm>
            <a:off x="3992400" y="334800"/>
            <a:ext cx="4865760" cy="5602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de917"/>
                </a:solidFill>
                <a:latin typeface="Monotype Corsiva"/>
              </a:rPr>
              <a:t>Актуальность </a:t>
            </a:r>
            <a:br>
              <a:rPr sz="5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необходимости изучения развития психики ребенка, в частности эмоциональной сферы дошкольника с целью эффективного осуществления работы по развитию эмоций через  комплекс коррекционно-развивающих занятий с детьми, а также в повседневной деятельности. 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457200" y="-193680"/>
            <a:ext cx="830592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Причины отклонений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эмоционального развития детей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ъективный рост внешних факторов, способных стать причиной нарушения эмоционального развит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одовые и послеродовые  травм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3. неблагоприятная психологическая обстановка в семь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. чрезмерная занятость род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истема проведения специально организованных занятий, повседневной деятельности  является эффективным способом развития и  коррекции эмоциональной сферы дошколь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Новизна 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новизны опыт является поисков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м, т. к. при разработке авторских занят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й и различных мероприятий мн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новые сочетания известных метод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ов, по-новому рассматривается степень 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я на создание интереса к развит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й сферы детей у родителей,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У и у детей  в процессе специ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х занятий с детьми а такж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седнев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Гипотеза 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витие эмоциональной сферы у детей дошкольного возраста будет более успешным при следующих услов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 раннего возраста дети совместно с родителями будут обучаться способам выражения эмоций и приемам саморегу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работе будут активно использоваться разнообразные формы и методы развития эмоциональной сферы в процессе воспитания и обучения, а также в повседнев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процессе развития эмоций будут задействованы все участники воспитательно-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07:35:28Z</dcterms:created>
  <dc:creator>Анюта</dc:creator>
  <dc:description/>
  <dc:language>en-US</dc:language>
  <cp:lastModifiedBy>Пользователь</cp:lastModifiedBy>
  <dcterms:modified xsi:type="dcterms:W3CDTF">2020-11-29T14:49:03Z</dcterms:modified>
  <cp:revision>1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